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Ден" initials="Д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9-04-03T21:21:19.241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753-023D-437A-A5D2-DD71B711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B08-2B94-4490-9270-6E0465B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6F8-8FF0-427A-8F02-62325916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BCE-CDD1-45EF-A883-2A187BE2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0A9-54B9-4AA2-8BC7-D459386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A5B-D8BE-4B67-A74E-8E91473E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0A0-0A97-4FBA-901F-2C082DCB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D66-E75F-43B3-9E08-7D4584F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875-A37B-48CB-8059-6A4184D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95F-3D9D-43DC-A2BD-010CFE9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C35-09C6-4868-A4B3-9432552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AF-1436-436A-9196-96EF9D1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B12E-D945-4930-BF07-BEFAB4C5C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Рамка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24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24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Материалы\Наглядноть\школьные картинки\J0233966.WMF"/>
          <p:cNvPicPr/>
          <p:nvPr/>
        </p:nvPicPr>
        <p:blipFill>
          <a:blip r:embed="rId1"/>
          <a:stretch/>
        </p:blipFill>
        <p:spPr>
          <a:xfrm>
            <a:off x="500040" y="2571840"/>
            <a:ext cx="4853160" cy="3835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071720" y="571680"/>
            <a:ext cx="692928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143680" y="4786200"/>
            <a:ext cx="3571560" cy="703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че сыйны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85880" y="6072120"/>
            <a:ext cx="778680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Прямоугольник: скругленные углы 3"/>
          <p:cNvGrpSpPr/>
          <p:nvPr/>
        </p:nvGrpSpPr>
        <p:grpSpPr>
          <a:xfrm>
            <a:off x="3852720" y="-19080"/>
            <a:ext cx="2084400" cy="884160"/>
            <a:chOff x="3852720" y="-19080"/>
            <a:chExt cx="2084400" cy="884160"/>
          </a:xfrm>
        </p:grpSpPr>
        <p:pic>
          <p:nvPicPr>
            <p:cNvPr id="157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852720" y="-19080"/>
              <a:ext cx="2084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951360" y="214200"/>
              <a:ext cx="1888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????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оугольник: скругленные углы 2"/>
          <p:cNvGrpSpPr/>
          <p:nvPr/>
        </p:nvGrpSpPr>
        <p:grpSpPr>
          <a:xfrm>
            <a:off x="146160" y="1047600"/>
            <a:ext cx="8437320" cy="1976760"/>
            <a:chOff x="146160" y="1047600"/>
            <a:chExt cx="8437320" cy="1976760"/>
          </a:xfrm>
        </p:grpSpPr>
        <p:pic>
          <p:nvPicPr>
            <p:cNvPr id="160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46160" y="1047600"/>
              <a:ext cx="8437320" cy="19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93840" y="1243080"/>
              <a:ext cx="803736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27 марта 2019 года выпало на среду. Какой день недели будет 9 апреля, если в марте 31 день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оугольник: скругленные углы 5"/>
          <p:cNvGrpSpPr/>
          <p:nvPr/>
        </p:nvGrpSpPr>
        <p:grpSpPr>
          <a:xfrm>
            <a:off x="5505480" y="6040440"/>
            <a:ext cx="2571840" cy="787320"/>
            <a:chOff x="5505480" y="6040440"/>
            <a:chExt cx="2571840" cy="787320"/>
          </a:xfrm>
        </p:grpSpPr>
        <p:pic>
          <p:nvPicPr>
            <p:cNvPr id="163" name="Прямоугольник: скругленные углы 5" descr=""/>
            <p:cNvPicPr/>
            <p:nvPr/>
          </p:nvPicPr>
          <p:blipFill>
            <a:blip r:embed="rId3"/>
            <a:stretch/>
          </p:blipFill>
          <p:spPr>
            <a:xfrm>
              <a:off x="5505480" y="6040440"/>
              <a:ext cx="25718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608800" y="6184800"/>
              <a:ext cx="237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втор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http://www.sevadvokat.org/images/big707.png"/>
          <p:cNvPicPr/>
          <p:nvPr/>
        </p:nvPicPr>
        <p:blipFill>
          <a:blip r:embed="rId4"/>
          <a:stretch/>
        </p:blipFill>
        <p:spPr>
          <a:xfrm>
            <a:off x="4572000" y="3139920"/>
            <a:ext cx="4140360" cy="2930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6" name="Picture 2" descr="http://www.sevadvokat.org/images/big703.png"/>
          <p:cNvPicPr/>
          <p:nvPr/>
        </p:nvPicPr>
        <p:blipFill>
          <a:blip r:embed="rId5"/>
          <a:stretch/>
        </p:blipFill>
        <p:spPr>
          <a:xfrm>
            <a:off x="307800" y="3160800"/>
            <a:ext cx="4104000" cy="2906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Прямоугольник: скругленные углы 3"/>
          <p:cNvGrpSpPr/>
          <p:nvPr/>
        </p:nvGrpSpPr>
        <p:grpSpPr>
          <a:xfrm>
            <a:off x="3273480" y="-19080"/>
            <a:ext cx="2706480" cy="878040"/>
            <a:chOff x="3273480" y="-19080"/>
            <a:chExt cx="2706480" cy="878040"/>
          </a:xfrm>
        </p:grpSpPr>
        <p:pic>
          <p:nvPicPr>
            <p:cNvPr id="168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273480" y="-19080"/>
              <a:ext cx="2706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376440" y="212760"/>
              <a:ext cx="250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?????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: скругленные углы 2"/>
          <p:cNvGrpSpPr/>
          <p:nvPr/>
        </p:nvGrpSpPr>
        <p:grpSpPr>
          <a:xfrm>
            <a:off x="993600" y="1438200"/>
            <a:ext cx="7266240" cy="1513080"/>
            <a:chOff x="993600" y="1438200"/>
            <a:chExt cx="7266240" cy="1513080"/>
          </a:xfrm>
        </p:grpSpPr>
        <p:pic>
          <p:nvPicPr>
            <p:cNvPr id="171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993600" y="1438200"/>
              <a:ext cx="726624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33640" y="1550880"/>
              <a:ext cx="69958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Чмс ршт лгчск зд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" descr="http://img0.liveinternet.ru/images/attach/c/2/69/490/69490760_06.png"/>
          <p:cNvPicPr/>
          <p:nvPr/>
        </p:nvPicPr>
        <p:blipFill>
          <a:blip r:embed="rId3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Прямоугольник: скругленные углы 3"/>
          <p:cNvGrpSpPr/>
          <p:nvPr/>
        </p:nvGrpSpPr>
        <p:grpSpPr>
          <a:xfrm>
            <a:off x="3346560" y="92160"/>
            <a:ext cx="3450960" cy="914400"/>
            <a:chOff x="3346560" y="92160"/>
            <a:chExt cx="3450960" cy="914400"/>
          </a:xfrm>
        </p:grpSpPr>
        <p:pic>
          <p:nvPicPr>
            <p:cNvPr id="17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346560" y="92160"/>
              <a:ext cx="3450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451320" y="291960"/>
              <a:ext cx="3249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Тема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: скругленные углы 2"/>
          <p:cNvGrpSpPr/>
          <p:nvPr/>
        </p:nvGrpSpPr>
        <p:grpSpPr>
          <a:xfrm>
            <a:off x="1620720" y="1292400"/>
            <a:ext cx="6548400" cy="2597040"/>
            <a:chOff x="1620720" y="1292400"/>
            <a:chExt cx="6548400" cy="2597040"/>
          </a:xfrm>
        </p:grpSpPr>
        <p:pic>
          <p:nvPicPr>
            <p:cNvPr id="178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620720" y="1292400"/>
              <a:ext cx="654840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811160" y="1460520"/>
              <a:ext cx="61693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Учимся решать логические задач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4" descr="http://img0.liveinternet.ru/images/attach/c/2/69/490/69490760_06.png"/>
          <p:cNvPicPr/>
          <p:nvPr/>
        </p:nvPicPr>
        <p:blipFill>
          <a:blip r:embed="rId3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: скругленные углы 3"/>
          <p:cNvGrpSpPr/>
          <p:nvPr/>
        </p:nvGrpSpPr>
        <p:grpSpPr>
          <a:xfrm>
            <a:off x="2724120" y="-19080"/>
            <a:ext cx="3689280" cy="884160"/>
            <a:chOff x="2724120" y="-19080"/>
            <a:chExt cx="3689280" cy="884160"/>
          </a:xfrm>
        </p:grpSpPr>
        <p:pic>
          <p:nvPicPr>
            <p:cNvPr id="182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2724120" y="-19080"/>
              <a:ext cx="36892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908440" y="217440"/>
              <a:ext cx="3327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Задачи уро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Прямоугольник: скругленные углы 2"/>
          <p:cNvGrpSpPr/>
          <p:nvPr/>
        </p:nvGrpSpPr>
        <p:grpSpPr>
          <a:xfrm>
            <a:off x="1908000" y="907920"/>
            <a:ext cx="4426200" cy="1176480"/>
            <a:chOff x="1908000" y="907920"/>
            <a:chExt cx="4426200" cy="1176480"/>
          </a:xfrm>
        </p:grpSpPr>
        <p:pic>
          <p:nvPicPr>
            <p:cNvPr id="185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908000" y="907920"/>
              <a:ext cx="4426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46400" y="1030320"/>
              <a:ext cx="396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Уметь 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: скругленные углы 7"/>
          <p:cNvGrpSpPr/>
          <p:nvPr/>
        </p:nvGrpSpPr>
        <p:grpSpPr>
          <a:xfrm>
            <a:off x="1908000" y="2133720"/>
            <a:ext cx="4426200" cy="1176120"/>
            <a:chOff x="1908000" y="2133720"/>
            <a:chExt cx="4426200" cy="1176120"/>
          </a:xfrm>
        </p:grpSpPr>
        <p:pic>
          <p:nvPicPr>
            <p:cNvPr id="188" name="Прямоугольник: скругленные углы 7" descr=""/>
            <p:cNvPicPr/>
            <p:nvPr/>
          </p:nvPicPr>
          <p:blipFill>
            <a:blip r:embed="rId3"/>
            <a:stretch/>
          </p:blipFill>
          <p:spPr>
            <a:xfrm>
              <a:off x="1908000" y="2133720"/>
              <a:ext cx="44262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46400" y="2254320"/>
              <a:ext cx="3970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Развивать 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4" descr="http://img0.liveinternet.ru/images/attach/c/2/69/490/69490760_06.png"/>
          <p:cNvPicPr/>
          <p:nvPr/>
        </p:nvPicPr>
        <p:blipFill>
          <a:blip r:embed="rId4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Прямоугольник: скругленные углы 3"/>
          <p:cNvGrpSpPr/>
          <p:nvPr/>
        </p:nvGrpSpPr>
        <p:grpSpPr>
          <a:xfrm>
            <a:off x="3706920" y="-60480"/>
            <a:ext cx="2047680" cy="878040"/>
            <a:chOff x="3706920" y="-60480"/>
            <a:chExt cx="2047680" cy="878040"/>
          </a:xfrm>
        </p:grpSpPr>
        <p:pic>
          <p:nvPicPr>
            <p:cNvPr id="192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706920" y="-60480"/>
              <a:ext cx="204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808440" y="168120"/>
              <a:ext cx="18511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№</a:t>
              </a: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24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: скругленные углы 2"/>
          <p:cNvGrpSpPr/>
          <p:nvPr/>
        </p:nvGrpSpPr>
        <p:grpSpPr>
          <a:xfrm>
            <a:off x="237960" y="762120"/>
            <a:ext cx="7064640" cy="1036440"/>
            <a:chOff x="237960" y="762120"/>
            <a:chExt cx="7064640" cy="1036440"/>
          </a:xfrm>
        </p:grpSpPr>
        <p:pic>
          <p:nvPicPr>
            <p:cNvPr id="195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237960" y="762120"/>
              <a:ext cx="7064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74560" y="1015920"/>
              <a:ext cx="6626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1. «Круглое»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оугольник: скругленные углы 7"/>
          <p:cNvGrpSpPr/>
          <p:nvPr/>
        </p:nvGrpSpPr>
        <p:grpSpPr>
          <a:xfrm>
            <a:off x="237960" y="1700280"/>
            <a:ext cx="7064640" cy="1036440"/>
            <a:chOff x="237960" y="1700280"/>
            <a:chExt cx="7064640" cy="1036440"/>
          </a:xfrm>
        </p:grpSpPr>
        <p:pic>
          <p:nvPicPr>
            <p:cNvPr id="198" name="Прямоугольник: скругленные углы 7" descr=""/>
            <p:cNvPicPr/>
            <p:nvPr/>
          </p:nvPicPr>
          <p:blipFill>
            <a:blip r:embed="rId3"/>
            <a:stretch/>
          </p:blipFill>
          <p:spPr>
            <a:xfrm>
              <a:off x="237960" y="1700280"/>
              <a:ext cx="7064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74560" y="1952640"/>
              <a:ext cx="6626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2. В записи 6 циф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4" descr="http://img0.liveinternet.ru/images/attach/c/2/69/490/69490760_06.png"/>
          <p:cNvPicPr/>
          <p:nvPr/>
        </p:nvPicPr>
        <p:blipFill>
          <a:blip r:embed="rId4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01" name="Прямоугольник: скругленные углы 5"/>
          <p:cNvGrpSpPr/>
          <p:nvPr/>
        </p:nvGrpSpPr>
        <p:grpSpPr>
          <a:xfrm>
            <a:off x="255600" y="2633760"/>
            <a:ext cx="7066080" cy="1036440"/>
            <a:chOff x="255600" y="2633760"/>
            <a:chExt cx="7066080" cy="1036440"/>
          </a:xfrm>
        </p:grpSpPr>
        <p:pic>
          <p:nvPicPr>
            <p:cNvPr id="202" name="Прямоугольник: скругленные углы 5" descr=""/>
            <p:cNvPicPr/>
            <p:nvPr/>
          </p:nvPicPr>
          <p:blipFill>
            <a:blip r:embed="rId5"/>
            <a:stretch/>
          </p:blipFill>
          <p:spPr>
            <a:xfrm>
              <a:off x="255600" y="2633760"/>
              <a:ext cx="70660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92200" y="2887560"/>
              <a:ext cx="66261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3. Меньше, чем 10001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оугольник: скругленные углы 8"/>
          <p:cNvGrpSpPr/>
          <p:nvPr/>
        </p:nvGrpSpPr>
        <p:grpSpPr>
          <a:xfrm>
            <a:off x="3346560" y="3943440"/>
            <a:ext cx="2444760" cy="884160"/>
            <a:chOff x="3346560" y="3943440"/>
            <a:chExt cx="2444760" cy="884160"/>
          </a:xfrm>
        </p:grpSpPr>
        <p:pic>
          <p:nvPicPr>
            <p:cNvPr id="205" name="Прямоугольник: скругленные углы 8" descr=""/>
            <p:cNvPicPr/>
            <p:nvPr/>
          </p:nvPicPr>
          <p:blipFill>
            <a:blip r:embed="rId6"/>
            <a:stretch/>
          </p:blipFill>
          <p:spPr>
            <a:xfrm>
              <a:off x="3346560" y="3943440"/>
              <a:ext cx="2444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448080" y="4176720"/>
              <a:ext cx="22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1000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Прямоугольник: скругленные углы 3"/>
          <p:cNvGrpSpPr/>
          <p:nvPr/>
        </p:nvGrpSpPr>
        <p:grpSpPr>
          <a:xfrm>
            <a:off x="3706920" y="-60480"/>
            <a:ext cx="2047680" cy="878040"/>
            <a:chOff x="3706920" y="-60480"/>
            <a:chExt cx="2047680" cy="878040"/>
          </a:xfrm>
        </p:grpSpPr>
        <p:pic>
          <p:nvPicPr>
            <p:cNvPr id="208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706920" y="-60480"/>
              <a:ext cx="20476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808440" y="168120"/>
              <a:ext cx="18511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№</a:t>
              </a: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24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ик: скругленные углы 2"/>
          <p:cNvGrpSpPr/>
          <p:nvPr/>
        </p:nvGrpSpPr>
        <p:grpSpPr>
          <a:xfrm>
            <a:off x="262080" y="652320"/>
            <a:ext cx="7040520" cy="1756080"/>
            <a:chOff x="262080" y="652320"/>
            <a:chExt cx="7040520" cy="1756080"/>
          </a:xfrm>
        </p:grpSpPr>
        <p:pic>
          <p:nvPicPr>
            <p:cNvPr id="211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262080" y="652320"/>
              <a:ext cx="704052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00120" y="1039680"/>
              <a:ext cx="657684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Круглые двузначные, меньше 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4" descr="http://img0.liveinternet.ru/images/attach/c/2/69/490/69490760_06.png"/>
          <p:cNvPicPr/>
          <p:nvPr/>
        </p:nvPicPr>
        <p:blipFill>
          <a:blip r:embed="rId3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14" name="Прямоугольник: скругленные углы 9"/>
          <p:cNvGrpSpPr/>
          <p:nvPr/>
        </p:nvGrpSpPr>
        <p:grpSpPr>
          <a:xfrm>
            <a:off x="237960" y="3181320"/>
            <a:ext cx="7858440" cy="1036800"/>
            <a:chOff x="237960" y="3181320"/>
            <a:chExt cx="7858440" cy="1036800"/>
          </a:xfrm>
        </p:grpSpPr>
        <p:pic>
          <p:nvPicPr>
            <p:cNvPr id="215" name="Прямоугольник: скругленные углы 9" descr=""/>
            <p:cNvPicPr/>
            <p:nvPr/>
          </p:nvPicPr>
          <p:blipFill>
            <a:blip r:embed="rId4"/>
            <a:stretch/>
          </p:blipFill>
          <p:spPr>
            <a:xfrm>
              <a:off x="237960" y="3181320"/>
              <a:ext cx="78584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1680" y="3435480"/>
              <a:ext cx="74214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Двузначные, меньше 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оугольник: скругленные углы 10"/>
          <p:cNvGrpSpPr/>
          <p:nvPr/>
        </p:nvGrpSpPr>
        <p:grpSpPr>
          <a:xfrm>
            <a:off x="3067200" y="2286000"/>
            <a:ext cx="1272960" cy="878040"/>
            <a:chOff x="3067200" y="2286000"/>
            <a:chExt cx="1272960" cy="878040"/>
          </a:xfrm>
        </p:grpSpPr>
        <p:pic>
          <p:nvPicPr>
            <p:cNvPr id="218" name="Прямоугольник: скругленные углы 10" descr=""/>
            <p:cNvPicPr/>
            <p:nvPr/>
          </p:nvPicPr>
          <p:blipFill>
            <a:blip r:embed="rId5"/>
            <a:stretch/>
          </p:blipFill>
          <p:spPr>
            <a:xfrm>
              <a:off x="3067200" y="2286000"/>
              <a:ext cx="12729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168720" y="2516040"/>
              <a:ext cx="1074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Прямоугольник: скругленные углы 11"/>
          <p:cNvGrpSpPr/>
          <p:nvPr/>
        </p:nvGrpSpPr>
        <p:grpSpPr>
          <a:xfrm>
            <a:off x="3048120" y="4376880"/>
            <a:ext cx="4273560" cy="884160"/>
            <a:chOff x="3048120" y="4376880"/>
            <a:chExt cx="4273560" cy="884160"/>
          </a:xfrm>
        </p:grpSpPr>
        <p:pic>
          <p:nvPicPr>
            <p:cNvPr id="221" name="Прямоугольник: скругленные углы 11" descr=""/>
            <p:cNvPicPr/>
            <p:nvPr/>
          </p:nvPicPr>
          <p:blipFill>
            <a:blip r:embed="rId6"/>
            <a:stretch/>
          </p:blipFill>
          <p:spPr>
            <a:xfrm>
              <a:off x="3048120" y="4376880"/>
              <a:ext cx="4273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168720" y="4608360"/>
              <a:ext cx="4040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14, 13, 12, 11, 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оугольник: скругленные углы 3"/>
          <p:cNvGrpSpPr/>
          <p:nvPr/>
        </p:nvGrpSpPr>
        <p:grpSpPr>
          <a:xfrm>
            <a:off x="4108320" y="-19080"/>
            <a:ext cx="2030400" cy="884160"/>
            <a:chOff x="4108320" y="-19080"/>
            <a:chExt cx="2030400" cy="884160"/>
          </a:xfrm>
        </p:grpSpPr>
        <p:pic>
          <p:nvPicPr>
            <p:cNvPr id="224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4108320" y="-1908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240080" y="217440"/>
              <a:ext cx="177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№</a:t>
              </a: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2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4" descr="http://img0.liveinternet.ru/images/attach/c/2/69/490/69490760_06.png"/>
          <p:cNvPicPr/>
          <p:nvPr/>
        </p:nvPicPr>
        <p:blipFill>
          <a:blip r:embed="rId2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ый треугольник 1"/>
          <p:cNvSpPr/>
          <p:nvPr/>
        </p:nvSpPr>
        <p:spPr>
          <a:xfrm>
            <a:off x="1116000" y="1324080"/>
            <a:ext cx="2451240" cy="252072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ручной ввод 5"/>
          <p:cNvSpPr/>
          <p:nvPr/>
        </p:nvSpPr>
        <p:spPr>
          <a:xfrm flipH="1" flipV="1" rot="16200000">
            <a:off x="5034600" y="559800"/>
            <a:ext cx="2171880" cy="439272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олилиния: фигура 8"/>
          <p:cNvSpPr/>
          <p:nvPr/>
        </p:nvSpPr>
        <p:spPr>
          <a:xfrm>
            <a:off x="3963960" y="3432240"/>
            <a:ext cx="363600" cy="36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лилиния: фигура 9"/>
          <p:cNvSpPr/>
          <p:nvPr/>
        </p:nvSpPr>
        <p:spPr>
          <a:xfrm rot="5400000">
            <a:off x="4001040" y="1629360"/>
            <a:ext cx="398520" cy="4824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лилиния: фигура 10"/>
          <p:cNvSpPr/>
          <p:nvPr/>
        </p:nvSpPr>
        <p:spPr>
          <a:xfrm>
            <a:off x="1136520" y="3462480"/>
            <a:ext cx="363600" cy="3618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: скругленные углы 3"/>
          <p:cNvGrpSpPr/>
          <p:nvPr/>
        </p:nvGrpSpPr>
        <p:grpSpPr>
          <a:xfrm>
            <a:off x="2401920" y="-19080"/>
            <a:ext cx="4327560" cy="884160"/>
            <a:chOff x="2401920" y="-19080"/>
            <a:chExt cx="4327560" cy="884160"/>
          </a:xfrm>
        </p:grpSpPr>
        <p:pic>
          <p:nvPicPr>
            <p:cNvPr id="48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2401920" y="-19080"/>
              <a:ext cx="4327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55720" y="217440"/>
              <a:ext cx="383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Настрой на ур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: скругленные углы 2"/>
          <p:cNvGrpSpPr/>
          <p:nvPr/>
        </p:nvGrpSpPr>
        <p:grpSpPr>
          <a:xfrm>
            <a:off x="828720" y="1292400"/>
            <a:ext cx="7304040" cy="1658880"/>
            <a:chOff x="828720" y="1292400"/>
            <a:chExt cx="7304040" cy="1658880"/>
          </a:xfrm>
        </p:grpSpPr>
        <p:pic>
          <p:nvPicPr>
            <p:cNvPr id="51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828720" y="1292400"/>
              <a:ext cx="73040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973080" y="1414440"/>
              <a:ext cx="701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Ученики нашего класса не только….., но и 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4" descr="http://img0.liveinternet.ru/images/attach/c/2/69/490/69490760_06.png"/>
          <p:cNvPicPr/>
          <p:nvPr/>
        </p:nvPicPr>
        <p:blipFill>
          <a:blip r:embed="rId3"/>
          <a:stretch/>
        </p:blipFill>
        <p:spPr>
          <a:xfrm>
            <a:off x="345960" y="3259080"/>
            <a:ext cx="167652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Прямоугольник: скругленные углы 3"/>
          <p:cNvGrpSpPr/>
          <p:nvPr/>
        </p:nvGrpSpPr>
        <p:grpSpPr>
          <a:xfrm>
            <a:off x="212760" y="212760"/>
            <a:ext cx="8712000" cy="1371600"/>
            <a:chOff x="212760" y="212760"/>
            <a:chExt cx="8712000" cy="1371600"/>
          </a:xfrm>
        </p:grpSpPr>
        <p:pic>
          <p:nvPicPr>
            <p:cNvPr id="5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212760" y="212760"/>
              <a:ext cx="8712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7760" y="320760"/>
              <a:ext cx="84484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Назови числа, которые являются не только трёхзначными, но и нечётным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рямоугольник: скругленные углы 2"/>
          <p:cNvGrpSpPr/>
          <p:nvPr/>
        </p:nvGrpSpPr>
        <p:grpSpPr>
          <a:xfrm>
            <a:off x="1189080" y="1987560"/>
            <a:ext cx="2371680" cy="1176480"/>
            <a:chOff x="1189080" y="1987560"/>
            <a:chExt cx="2371680" cy="1176480"/>
          </a:xfrm>
        </p:grpSpPr>
        <p:pic>
          <p:nvPicPr>
            <p:cNvPr id="58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189080" y="1987560"/>
              <a:ext cx="23716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08240" y="2109960"/>
              <a:ext cx="213516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66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Прямоугольник: скругленные углы 7"/>
          <p:cNvGrpSpPr/>
          <p:nvPr/>
        </p:nvGrpSpPr>
        <p:grpSpPr>
          <a:xfrm>
            <a:off x="4138560" y="1994040"/>
            <a:ext cx="2371680" cy="1176120"/>
            <a:chOff x="4138560" y="1994040"/>
            <a:chExt cx="2371680" cy="1176120"/>
          </a:xfrm>
        </p:grpSpPr>
        <p:pic>
          <p:nvPicPr>
            <p:cNvPr id="61" name="Прямоугольник: скругленные углы 7" descr=""/>
            <p:cNvPicPr/>
            <p:nvPr/>
          </p:nvPicPr>
          <p:blipFill>
            <a:blip r:embed="rId3"/>
            <a:stretch/>
          </p:blipFill>
          <p:spPr>
            <a:xfrm>
              <a:off x="4138560" y="1994040"/>
              <a:ext cx="23716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260960" y="2114640"/>
              <a:ext cx="2133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48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: скругленные углы 8"/>
          <p:cNvGrpSpPr/>
          <p:nvPr/>
        </p:nvGrpSpPr>
        <p:grpSpPr>
          <a:xfrm>
            <a:off x="1689120" y="3425760"/>
            <a:ext cx="2376360" cy="1182600"/>
            <a:chOff x="1689120" y="3425760"/>
            <a:chExt cx="2376360" cy="1182600"/>
          </a:xfrm>
        </p:grpSpPr>
        <p:pic>
          <p:nvPicPr>
            <p:cNvPr id="64" name="Прямоугольник: скругленные углы 8" descr=""/>
            <p:cNvPicPr/>
            <p:nvPr/>
          </p:nvPicPr>
          <p:blipFill>
            <a:blip r:embed="rId4"/>
            <a:stretch/>
          </p:blipFill>
          <p:spPr>
            <a:xfrm>
              <a:off x="1689120" y="3425760"/>
              <a:ext cx="23763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12960" y="3549600"/>
              <a:ext cx="21337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67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: скругленные углы 9"/>
          <p:cNvGrpSpPr/>
          <p:nvPr/>
        </p:nvGrpSpPr>
        <p:grpSpPr>
          <a:xfrm>
            <a:off x="4857840" y="3578400"/>
            <a:ext cx="2371680" cy="1182600"/>
            <a:chOff x="4857840" y="3578400"/>
            <a:chExt cx="2371680" cy="1182600"/>
          </a:xfrm>
        </p:grpSpPr>
        <p:pic>
          <p:nvPicPr>
            <p:cNvPr id="67" name="Прямоугольник: скругленные углы 9" descr=""/>
            <p:cNvPicPr/>
            <p:nvPr/>
          </p:nvPicPr>
          <p:blipFill>
            <a:blip r:embed="rId5"/>
            <a:stretch/>
          </p:blipFill>
          <p:spPr>
            <a:xfrm>
              <a:off x="4857840" y="3578400"/>
              <a:ext cx="23716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81680" y="3703680"/>
              <a:ext cx="21333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6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: скругленные углы 10"/>
          <p:cNvGrpSpPr/>
          <p:nvPr/>
        </p:nvGrpSpPr>
        <p:grpSpPr>
          <a:xfrm>
            <a:off x="2305080" y="5010120"/>
            <a:ext cx="2370240" cy="1182600"/>
            <a:chOff x="2305080" y="5010120"/>
            <a:chExt cx="2370240" cy="1182600"/>
          </a:xfrm>
        </p:grpSpPr>
        <p:pic>
          <p:nvPicPr>
            <p:cNvPr id="70" name="Прямоугольник: скругленные углы 10" descr=""/>
            <p:cNvPicPr/>
            <p:nvPr/>
          </p:nvPicPr>
          <p:blipFill>
            <a:blip r:embed="rId6"/>
            <a:stretch/>
          </p:blipFill>
          <p:spPr>
            <a:xfrm>
              <a:off x="2305080" y="5010120"/>
              <a:ext cx="2370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425680" y="5133960"/>
              <a:ext cx="21337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21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: скругленные углы 11"/>
          <p:cNvGrpSpPr/>
          <p:nvPr/>
        </p:nvGrpSpPr>
        <p:grpSpPr>
          <a:xfrm>
            <a:off x="5005440" y="5048280"/>
            <a:ext cx="2370240" cy="1176480"/>
            <a:chOff x="5005440" y="5048280"/>
            <a:chExt cx="2370240" cy="1176480"/>
          </a:xfrm>
        </p:grpSpPr>
        <p:pic>
          <p:nvPicPr>
            <p:cNvPr id="73" name="Прямоугольник: скругленные углы 11" descr=""/>
            <p:cNvPicPr/>
            <p:nvPr/>
          </p:nvPicPr>
          <p:blipFill>
            <a:blip r:embed="rId7"/>
            <a:stretch/>
          </p:blipFill>
          <p:spPr>
            <a:xfrm>
              <a:off x="5005440" y="5048280"/>
              <a:ext cx="23702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126040" y="5170320"/>
              <a:ext cx="21337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39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Прямоугольник: скругленные углы 3"/>
          <p:cNvGrpSpPr/>
          <p:nvPr/>
        </p:nvGrpSpPr>
        <p:grpSpPr>
          <a:xfrm>
            <a:off x="2444760" y="-19080"/>
            <a:ext cx="3711600" cy="884160"/>
            <a:chOff x="2444760" y="-19080"/>
            <a:chExt cx="3711600" cy="884160"/>
          </a:xfrm>
        </p:grpSpPr>
        <p:pic>
          <p:nvPicPr>
            <p:cNvPr id="76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2444760" y="-19080"/>
              <a:ext cx="37116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584440" y="217440"/>
              <a:ext cx="3435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Назови числ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: скругленные углы 5"/>
          <p:cNvGrpSpPr/>
          <p:nvPr/>
        </p:nvGrpSpPr>
        <p:grpSpPr>
          <a:xfrm>
            <a:off x="237960" y="1006560"/>
            <a:ext cx="8217000" cy="2590560"/>
            <a:chOff x="237960" y="1006560"/>
            <a:chExt cx="8217000" cy="2590560"/>
          </a:xfrm>
        </p:grpSpPr>
        <p:pic>
          <p:nvPicPr>
            <p:cNvPr id="79" name="Прямоугольник: скругленные углы 5" descr=""/>
            <p:cNvPicPr/>
            <p:nvPr/>
          </p:nvPicPr>
          <p:blipFill>
            <a:blip r:embed="rId2"/>
            <a:stretch/>
          </p:blipFill>
          <p:spPr>
            <a:xfrm>
              <a:off x="237960" y="1006560"/>
              <a:ext cx="821700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14440" y="1171440"/>
              <a:ext cx="775476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Назови самое маленькое число, которое может делиться без остатка не только на 5, но и на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: скругленные углы 6"/>
          <p:cNvGrpSpPr/>
          <p:nvPr/>
        </p:nvGrpSpPr>
        <p:grpSpPr>
          <a:xfrm>
            <a:off x="3346560" y="3651120"/>
            <a:ext cx="3035160" cy="878040"/>
            <a:chOff x="3346560" y="3651120"/>
            <a:chExt cx="3035160" cy="878040"/>
          </a:xfrm>
        </p:grpSpPr>
        <p:pic>
          <p:nvPicPr>
            <p:cNvPr id="82" name="Прямоугольник: скругленные углы 6" descr=""/>
            <p:cNvPicPr/>
            <p:nvPr/>
          </p:nvPicPr>
          <p:blipFill>
            <a:blip r:embed="rId3"/>
            <a:stretch/>
          </p:blipFill>
          <p:spPr>
            <a:xfrm>
              <a:off x="3346560" y="3651120"/>
              <a:ext cx="3035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48080" y="3881520"/>
              <a:ext cx="2841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20 : 4 =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: скругленные углы 7"/>
          <p:cNvGrpSpPr/>
          <p:nvPr/>
        </p:nvGrpSpPr>
        <p:grpSpPr>
          <a:xfrm>
            <a:off x="3346560" y="4578480"/>
            <a:ext cx="3127320" cy="877680"/>
            <a:chOff x="3346560" y="4578480"/>
            <a:chExt cx="3127320" cy="877680"/>
          </a:xfrm>
        </p:grpSpPr>
        <p:pic>
          <p:nvPicPr>
            <p:cNvPr id="85" name="Прямоугольник: скругленные углы 7" descr=""/>
            <p:cNvPicPr/>
            <p:nvPr/>
          </p:nvPicPr>
          <p:blipFill>
            <a:blip r:embed="rId4"/>
            <a:stretch/>
          </p:blipFill>
          <p:spPr>
            <a:xfrm>
              <a:off x="3346560" y="4578480"/>
              <a:ext cx="31273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448080" y="4808520"/>
              <a:ext cx="293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20 : 5 =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" descr="http://img0.liveinternet.ru/images/attach/c/2/69/490/69490760_06.png"/>
          <p:cNvPicPr/>
          <p:nvPr/>
        </p:nvPicPr>
        <p:blipFill>
          <a:blip r:embed="rId5"/>
          <a:stretch/>
        </p:blipFill>
        <p:spPr>
          <a:xfrm>
            <a:off x="179280" y="3933720"/>
            <a:ext cx="13780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: скругленные углы 3"/>
          <p:cNvGrpSpPr/>
          <p:nvPr/>
        </p:nvGrpSpPr>
        <p:grpSpPr>
          <a:xfrm>
            <a:off x="2444760" y="-19080"/>
            <a:ext cx="3711600" cy="884160"/>
            <a:chOff x="2444760" y="-19080"/>
            <a:chExt cx="3711600" cy="884160"/>
          </a:xfrm>
        </p:grpSpPr>
        <p:pic>
          <p:nvPicPr>
            <p:cNvPr id="89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2444760" y="-19080"/>
              <a:ext cx="37116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584440" y="217440"/>
              <a:ext cx="3435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Назови числ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оугольник: скругленные углы 5"/>
          <p:cNvGrpSpPr/>
          <p:nvPr/>
        </p:nvGrpSpPr>
        <p:grpSpPr>
          <a:xfrm>
            <a:off x="237960" y="1006560"/>
            <a:ext cx="8217000" cy="2590560"/>
            <a:chOff x="237960" y="1006560"/>
            <a:chExt cx="8217000" cy="2590560"/>
          </a:xfrm>
        </p:grpSpPr>
        <p:pic>
          <p:nvPicPr>
            <p:cNvPr id="92" name="Прямоугольник: скругленные углы 5" descr=""/>
            <p:cNvPicPr/>
            <p:nvPr/>
          </p:nvPicPr>
          <p:blipFill>
            <a:blip r:embed="rId2"/>
            <a:stretch/>
          </p:blipFill>
          <p:spPr>
            <a:xfrm>
              <a:off x="237960" y="1006560"/>
              <a:ext cx="821700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171440"/>
              <a:ext cx="775476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Назови самое маленькое число, которое может делиться без остатка не только на 15, но и на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оугольник: скругленные углы 6"/>
          <p:cNvGrpSpPr/>
          <p:nvPr/>
        </p:nvGrpSpPr>
        <p:grpSpPr>
          <a:xfrm>
            <a:off x="3346560" y="3651120"/>
            <a:ext cx="3035160" cy="878040"/>
            <a:chOff x="3346560" y="3651120"/>
            <a:chExt cx="3035160" cy="878040"/>
          </a:xfrm>
        </p:grpSpPr>
        <p:pic>
          <p:nvPicPr>
            <p:cNvPr id="95" name="Прямоугольник: скругленные углы 6" descr=""/>
            <p:cNvPicPr/>
            <p:nvPr/>
          </p:nvPicPr>
          <p:blipFill>
            <a:blip r:embed="rId3"/>
            <a:stretch/>
          </p:blipFill>
          <p:spPr>
            <a:xfrm>
              <a:off x="3346560" y="3651120"/>
              <a:ext cx="3035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448080" y="3881520"/>
              <a:ext cx="2841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30 : 15 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: скругленные углы 7"/>
          <p:cNvGrpSpPr/>
          <p:nvPr/>
        </p:nvGrpSpPr>
        <p:grpSpPr>
          <a:xfrm>
            <a:off x="3346560" y="4578480"/>
            <a:ext cx="3127320" cy="877680"/>
            <a:chOff x="3346560" y="4578480"/>
            <a:chExt cx="3127320" cy="877680"/>
          </a:xfrm>
        </p:grpSpPr>
        <p:pic>
          <p:nvPicPr>
            <p:cNvPr id="98" name="Прямоугольник: скругленные углы 7" descr=""/>
            <p:cNvPicPr/>
            <p:nvPr/>
          </p:nvPicPr>
          <p:blipFill>
            <a:blip r:embed="rId4"/>
            <a:stretch/>
          </p:blipFill>
          <p:spPr>
            <a:xfrm>
              <a:off x="3346560" y="4578480"/>
              <a:ext cx="31273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448080" y="4808520"/>
              <a:ext cx="293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30 : 6 =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4" descr="http://img0.liveinternet.ru/images/attach/c/2/69/490/69490760_06.png"/>
          <p:cNvPicPr/>
          <p:nvPr/>
        </p:nvPicPr>
        <p:blipFill>
          <a:blip r:embed="rId5"/>
          <a:stretch/>
        </p:blipFill>
        <p:spPr>
          <a:xfrm>
            <a:off x="179280" y="3933720"/>
            <a:ext cx="13780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ур язу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     15      15       15     15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Прямоугольник: скругленные углы 3"/>
          <p:cNvGrpSpPr/>
          <p:nvPr/>
        </p:nvGrpSpPr>
        <p:grpSpPr>
          <a:xfrm>
            <a:off x="3273480" y="-19080"/>
            <a:ext cx="2706480" cy="878040"/>
            <a:chOff x="3273480" y="-19080"/>
            <a:chExt cx="2706480" cy="878040"/>
          </a:xfrm>
        </p:grpSpPr>
        <p:pic>
          <p:nvPicPr>
            <p:cNvPr id="103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273480" y="-19080"/>
              <a:ext cx="2706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76440" y="212760"/>
              <a:ext cx="250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Вычисл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рямоугольник: скругленные углы 2"/>
          <p:cNvGrpSpPr/>
          <p:nvPr/>
        </p:nvGrpSpPr>
        <p:grpSpPr>
          <a:xfrm>
            <a:off x="176040" y="907920"/>
            <a:ext cx="5900760" cy="1176480"/>
            <a:chOff x="176040" y="907920"/>
            <a:chExt cx="5900760" cy="1176480"/>
          </a:xfrm>
        </p:grpSpPr>
        <p:pic>
          <p:nvPicPr>
            <p:cNvPr id="106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76040" y="907920"/>
              <a:ext cx="5900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17680" y="1030320"/>
              <a:ext cx="5445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(14 + 26) : 4 + 35 =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ик: скругленные углы 6"/>
          <p:cNvGrpSpPr/>
          <p:nvPr/>
        </p:nvGrpSpPr>
        <p:grpSpPr>
          <a:xfrm>
            <a:off x="6156360" y="890640"/>
            <a:ext cx="1865160" cy="1182600"/>
            <a:chOff x="6156360" y="890640"/>
            <a:chExt cx="1865160" cy="1182600"/>
          </a:xfrm>
        </p:grpSpPr>
        <p:pic>
          <p:nvPicPr>
            <p:cNvPr id="109" name="Прямоугольник: скругленные углы 6" descr=""/>
            <p:cNvPicPr/>
            <p:nvPr/>
          </p:nvPicPr>
          <p:blipFill>
            <a:blip r:embed="rId3"/>
            <a:stretch/>
          </p:blipFill>
          <p:spPr>
            <a:xfrm>
              <a:off x="6156360" y="890640"/>
              <a:ext cx="1865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76960" y="1014480"/>
              <a:ext cx="1494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45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Прямоугольник: скругленные углы 7"/>
          <p:cNvGrpSpPr/>
          <p:nvPr/>
        </p:nvGrpSpPr>
        <p:grpSpPr>
          <a:xfrm>
            <a:off x="152280" y="1951200"/>
            <a:ext cx="5900760" cy="1182600"/>
            <a:chOff x="152280" y="1951200"/>
            <a:chExt cx="5900760" cy="1182600"/>
          </a:xfrm>
        </p:grpSpPr>
        <p:pic>
          <p:nvPicPr>
            <p:cNvPr id="112" name="Прямоугольник: скругленные углы 7" descr=""/>
            <p:cNvPicPr/>
            <p:nvPr/>
          </p:nvPicPr>
          <p:blipFill>
            <a:blip r:embed="rId4"/>
            <a:stretch/>
          </p:blipFill>
          <p:spPr>
            <a:xfrm>
              <a:off x="152280" y="1951200"/>
              <a:ext cx="59007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90680" y="2073240"/>
              <a:ext cx="544644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(56 + 14) х 3 + 8 =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: скругленные углы 8"/>
          <p:cNvGrpSpPr/>
          <p:nvPr/>
        </p:nvGrpSpPr>
        <p:grpSpPr>
          <a:xfrm>
            <a:off x="152280" y="3078000"/>
            <a:ext cx="5900760" cy="1176480"/>
            <a:chOff x="152280" y="3078000"/>
            <a:chExt cx="5900760" cy="1176480"/>
          </a:xfrm>
        </p:grpSpPr>
        <p:pic>
          <p:nvPicPr>
            <p:cNvPr id="115" name="Прямоугольник: скругленные углы 8" descr=""/>
            <p:cNvPicPr/>
            <p:nvPr/>
          </p:nvPicPr>
          <p:blipFill>
            <a:blip r:embed="rId5"/>
            <a:stretch/>
          </p:blipFill>
          <p:spPr>
            <a:xfrm>
              <a:off x="152280" y="3078000"/>
              <a:ext cx="5900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90680" y="3198960"/>
              <a:ext cx="544644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15 х 2 + 15 х 6 =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: скругленные углы 9"/>
          <p:cNvGrpSpPr/>
          <p:nvPr/>
        </p:nvGrpSpPr>
        <p:grpSpPr>
          <a:xfrm>
            <a:off x="6132600" y="1951200"/>
            <a:ext cx="2047680" cy="1182600"/>
            <a:chOff x="6132600" y="1951200"/>
            <a:chExt cx="2047680" cy="1182600"/>
          </a:xfrm>
        </p:grpSpPr>
        <p:pic>
          <p:nvPicPr>
            <p:cNvPr id="118" name="Прямоугольник: скругленные углы 9" descr=""/>
            <p:cNvPicPr/>
            <p:nvPr/>
          </p:nvPicPr>
          <p:blipFill>
            <a:blip r:embed="rId6"/>
            <a:stretch/>
          </p:blipFill>
          <p:spPr>
            <a:xfrm>
              <a:off x="6132600" y="1951200"/>
              <a:ext cx="20476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276960" y="2073240"/>
              <a:ext cx="14940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218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рямоугольник: скругленные углы 10"/>
          <p:cNvGrpSpPr/>
          <p:nvPr/>
        </p:nvGrpSpPr>
        <p:grpSpPr>
          <a:xfrm>
            <a:off x="6162840" y="3071880"/>
            <a:ext cx="2054160" cy="1176120"/>
            <a:chOff x="6162840" y="3071880"/>
            <a:chExt cx="2054160" cy="1176120"/>
          </a:xfrm>
        </p:grpSpPr>
        <p:pic>
          <p:nvPicPr>
            <p:cNvPr id="121" name="Прямоугольник: скругленные углы 10" descr=""/>
            <p:cNvPicPr/>
            <p:nvPr/>
          </p:nvPicPr>
          <p:blipFill>
            <a:blip r:embed="rId7"/>
            <a:stretch/>
          </p:blipFill>
          <p:spPr>
            <a:xfrm>
              <a:off x="6162840" y="3071880"/>
              <a:ext cx="20541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313320" y="3193920"/>
              <a:ext cx="1494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120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4" descr="http://img0.liveinternet.ru/images/attach/c/2/69/490/69490760_06.png"/>
          <p:cNvPicPr/>
          <p:nvPr/>
        </p:nvPicPr>
        <p:blipFill>
          <a:blip r:embed="rId8"/>
          <a:stretch/>
        </p:blipFill>
        <p:spPr>
          <a:xfrm>
            <a:off x="108000" y="4313160"/>
            <a:ext cx="122076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Прямоугольник: скругленные углы 3"/>
          <p:cNvGrpSpPr/>
          <p:nvPr/>
        </p:nvGrpSpPr>
        <p:grpSpPr>
          <a:xfrm>
            <a:off x="3273480" y="-19080"/>
            <a:ext cx="2706480" cy="878040"/>
            <a:chOff x="3273480" y="-19080"/>
            <a:chExt cx="2706480" cy="878040"/>
          </a:xfrm>
        </p:grpSpPr>
        <p:pic>
          <p:nvPicPr>
            <p:cNvPr id="125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273480" y="-19080"/>
              <a:ext cx="2706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376440" y="212760"/>
              <a:ext cx="250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Вычисл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: скругленные углы 2"/>
          <p:cNvGrpSpPr/>
          <p:nvPr/>
        </p:nvGrpSpPr>
        <p:grpSpPr>
          <a:xfrm>
            <a:off x="176040" y="907920"/>
            <a:ext cx="5900760" cy="1176480"/>
            <a:chOff x="176040" y="907920"/>
            <a:chExt cx="5900760" cy="1176480"/>
          </a:xfrm>
        </p:grpSpPr>
        <p:pic>
          <p:nvPicPr>
            <p:cNvPr id="128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76040" y="907920"/>
              <a:ext cx="5900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17680" y="1030320"/>
              <a:ext cx="5445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25 + 5 х 6 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: скругленные углы 6"/>
          <p:cNvGrpSpPr/>
          <p:nvPr/>
        </p:nvGrpSpPr>
        <p:grpSpPr>
          <a:xfrm>
            <a:off x="6156360" y="890640"/>
            <a:ext cx="1731960" cy="1182600"/>
            <a:chOff x="6156360" y="890640"/>
            <a:chExt cx="1731960" cy="1182600"/>
          </a:xfrm>
        </p:grpSpPr>
        <p:pic>
          <p:nvPicPr>
            <p:cNvPr id="131" name="Прямоугольник: скругленные углы 6" descr=""/>
            <p:cNvPicPr/>
            <p:nvPr/>
          </p:nvPicPr>
          <p:blipFill>
            <a:blip r:embed="rId3"/>
            <a:stretch/>
          </p:blipFill>
          <p:spPr>
            <a:xfrm>
              <a:off x="6156360" y="890640"/>
              <a:ext cx="17319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276960" y="1014480"/>
              <a:ext cx="1494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7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Прямоугольник: скругленные углы 7"/>
          <p:cNvGrpSpPr/>
          <p:nvPr/>
        </p:nvGrpSpPr>
        <p:grpSpPr>
          <a:xfrm>
            <a:off x="152280" y="2066760"/>
            <a:ext cx="5900760" cy="1182960"/>
            <a:chOff x="152280" y="2066760"/>
            <a:chExt cx="5900760" cy="1182960"/>
          </a:xfrm>
        </p:grpSpPr>
        <p:pic>
          <p:nvPicPr>
            <p:cNvPr id="134" name="Прямоугольник: скругленные углы 7" descr=""/>
            <p:cNvPicPr/>
            <p:nvPr/>
          </p:nvPicPr>
          <p:blipFill>
            <a:blip r:embed="rId4"/>
            <a:stretch/>
          </p:blipFill>
          <p:spPr>
            <a:xfrm>
              <a:off x="152280" y="2066760"/>
              <a:ext cx="59007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90680" y="2190600"/>
              <a:ext cx="5446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28 + 2 х 9 + 2 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Прямоугольник: скругленные углы 8"/>
          <p:cNvGrpSpPr/>
          <p:nvPr/>
        </p:nvGrpSpPr>
        <p:grpSpPr>
          <a:xfrm>
            <a:off x="79200" y="3206880"/>
            <a:ext cx="5900760" cy="1176120"/>
            <a:chOff x="79200" y="3206880"/>
            <a:chExt cx="5900760" cy="1176120"/>
          </a:xfrm>
        </p:grpSpPr>
        <p:pic>
          <p:nvPicPr>
            <p:cNvPr id="137" name="Прямоугольник: скругленные углы 8" descr=""/>
            <p:cNvPicPr/>
            <p:nvPr/>
          </p:nvPicPr>
          <p:blipFill>
            <a:blip r:embed="rId5"/>
            <a:stretch/>
          </p:blipFill>
          <p:spPr>
            <a:xfrm>
              <a:off x="79200" y="3206880"/>
              <a:ext cx="59007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19040" y="3327480"/>
              <a:ext cx="54468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30 : 5 + 40 : 5 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Прямоугольник: скругленные углы 9"/>
          <p:cNvGrpSpPr/>
          <p:nvPr/>
        </p:nvGrpSpPr>
        <p:grpSpPr>
          <a:xfrm>
            <a:off x="6156360" y="2017800"/>
            <a:ext cx="1738440" cy="1176120"/>
            <a:chOff x="6156360" y="2017800"/>
            <a:chExt cx="1738440" cy="1176120"/>
          </a:xfrm>
        </p:grpSpPr>
        <p:pic>
          <p:nvPicPr>
            <p:cNvPr id="140" name="Прямоугольник: скругленные углы 9" descr=""/>
            <p:cNvPicPr/>
            <p:nvPr/>
          </p:nvPicPr>
          <p:blipFill>
            <a:blip r:embed="rId6"/>
            <a:stretch/>
          </p:blipFill>
          <p:spPr>
            <a:xfrm>
              <a:off x="6156360" y="2017800"/>
              <a:ext cx="17384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278400" y="2138400"/>
              <a:ext cx="1494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4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: скругленные углы 10"/>
          <p:cNvGrpSpPr/>
          <p:nvPr/>
        </p:nvGrpSpPr>
        <p:grpSpPr>
          <a:xfrm>
            <a:off x="6156360" y="3206880"/>
            <a:ext cx="1738440" cy="1176120"/>
            <a:chOff x="6156360" y="3206880"/>
            <a:chExt cx="1738440" cy="1176120"/>
          </a:xfrm>
        </p:grpSpPr>
        <p:pic>
          <p:nvPicPr>
            <p:cNvPr id="143" name="Прямоугольник: скругленные углы 10" descr=""/>
            <p:cNvPicPr/>
            <p:nvPr/>
          </p:nvPicPr>
          <p:blipFill>
            <a:blip r:embed="rId7"/>
            <a:stretch/>
          </p:blipFill>
          <p:spPr>
            <a:xfrm>
              <a:off x="6156360" y="3206880"/>
              <a:ext cx="17384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276960" y="3327480"/>
              <a:ext cx="1494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4" descr="http://img0.liveinternet.ru/images/attach/c/2/69/490/69490760_06.png"/>
          <p:cNvPicPr/>
          <p:nvPr/>
        </p:nvPicPr>
        <p:blipFill>
          <a:blip r:embed="rId8"/>
          <a:stretch/>
        </p:blipFill>
        <p:spPr>
          <a:xfrm>
            <a:off x="324000" y="4414680"/>
            <a:ext cx="113328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Прямоугольник: скругленные углы 3"/>
          <p:cNvGrpSpPr/>
          <p:nvPr/>
        </p:nvGrpSpPr>
        <p:grpSpPr>
          <a:xfrm>
            <a:off x="3852720" y="-19080"/>
            <a:ext cx="2084400" cy="884160"/>
            <a:chOff x="3852720" y="-19080"/>
            <a:chExt cx="2084400" cy="884160"/>
          </a:xfrm>
        </p:grpSpPr>
        <p:pic>
          <p:nvPicPr>
            <p:cNvPr id="147" name="Прямоугольник: скругленные углы 3" descr=""/>
            <p:cNvPicPr/>
            <p:nvPr/>
          </p:nvPicPr>
          <p:blipFill>
            <a:blip r:embed="rId1"/>
            <a:stretch/>
          </p:blipFill>
          <p:spPr>
            <a:xfrm>
              <a:off x="3852720" y="-19080"/>
              <a:ext cx="2084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51360" y="214200"/>
              <a:ext cx="1888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????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: скругленные углы 2"/>
          <p:cNvGrpSpPr/>
          <p:nvPr/>
        </p:nvGrpSpPr>
        <p:grpSpPr>
          <a:xfrm>
            <a:off x="146160" y="1109520"/>
            <a:ext cx="8437320" cy="1914840"/>
            <a:chOff x="146160" y="1109520"/>
            <a:chExt cx="8437320" cy="1914840"/>
          </a:xfrm>
        </p:grpSpPr>
        <p:pic>
          <p:nvPicPr>
            <p:cNvPr id="150" name="Прямоугольник: скругленные углы 2" descr=""/>
            <p:cNvPicPr/>
            <p:nvPr/>
          </p:nvPicPr>
          <p:blipFill>
            <a:blip r:embed="rId2"/>
            <a:stretch/>
          </p:blipFill>
          <p:spPr>
            <a:xfrm>
              <a:off x="146160" y="1109520"/>
              <a:ext cx="843732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93840" y="1243080"/>
              <a:ext cx="803736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4 апреля 2019 года выпало на четверг. Какой день недели будет 14 апреля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: скругленные углы 5"/>
          <p:cNvGrpSpPr/>
          <p:nvPr/>
        </p:nvGrpSpPr>
        <p:grpSpPr>
          <a:xfrm>
            <a:off x="5364000" y="4992840"/>
            <a:ext cx="2878200" cy="785520"/>
            <a:chOff x="5364000" y="4992840"/>
            <a:chExt cx="2878200" cy="785520"/>
          </a:xfrm>
        </p:grpSpPr>
        <p:pic>
          <p:nvPicPr>
            <p:cNvPr id="153" name="Прямоугольник: скругленные углы 5" descr=""/>
            <p:cNvPicPr/>
            <p:nvPr/>
          </p:nvPicPr>
          <p:blipFill>
            <a:blip r:embed="rId3"/>
            <a:stretch/>
          </p:blipFill>
          <p:spPr>
            <a:xfrm>
              <a:off x="5364000" y="4992840"/>
              <a:ext cx="287820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464080" y="5130720"/>
              <a:ext cx="2679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воскресень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2" descr="http://www.sevadvokat.org/images/big707.png"/>
          <p:cNvPicPr/>
          <p:nvPr/>
        </p:nvPicPr>
        <p:blipFill>
          <a:blip r:embed="rId4"/>
          <a:stretch/>
        </p:blipFill>
        <p:spPr>
          <a:xfrm>
            <a:off x="755640" y="3303720"/>
            <a:ext cx="4140360" cy="29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3T05:03:26Z</dcterms:created>
  <dc:creator>Admin</dc:creator>
  <dc:description/>
  <dc:language>en-US</dc:language>
  <cp:lastModifiedBy>D</cp:lastModifiedBy>
  <dcterms:modified xsi:type="dcterms:W3CDTF">2020-04-08T09:51:32Z</dcterms:modified>
  <cp:revision>69</cp:revision>
  <dc:subject/>
  <dc:title>Презентация PowerPoint</dc:title>
</cp:coreProperties>
</file>