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7B4-9C71-47EB-9E60-9C2C8C16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2EB0-55DE-458C-AFDD-6B2700D5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4CE3-08E8-4B4B-B4F4-8FAD8292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D05F-3B69-4AA5-AB1B-320966C0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7D42-9E95-44AB-B29B-99E178B7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FCCE-78D6-476B-8F6A-4EDC20D6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EBAB-310F-4A6A-9956-F503AED4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CE40-CA2A-4C44-9079-C0A3E845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E64B-9CAE-4AF6-9564-E8D0B17C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8151-63ED-4C5B-90A6-0F590DB5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B26A-E50E-435B-B795-86E0FE36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8AF3-4406-4BC5-B3A0-5E81E244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A791-A5C9-4F8B-896B-CE311E50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0EB9-1B0C-469D-A611-03FB8BE8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8F54-AD1E-4C0A-BF96-1DBB9BBC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0FF9-C6CA-4932-9D52-321084D5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D391-ACDD-4B2E-A80B-7D6EC73E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777EA-5738-4FBD-AA48-63AFF947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E5329-5F7D-4CA1-A083-4A6B398C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49EDE-C2E1-41B5-B95F-81B8C8C8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58492-B3CC-44CC-82DE-AEE67B2D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AE62E-76C0-474D-95B1-8B3888CE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0C5F-CC17-461C-8F40-846FCD92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75A8D-D19C-4F6A-B28A-9402EC72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3F05E-A04F-4FAC-B0E5-AD86509A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D7BBA-B638-491A-B378-B02A932D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7BE8D-89FB-4C63-9523-225C77A5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F930D-D529-44ED-9690-8EED3494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732FB-B899-492D-92FE-D2845F03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A9875-DA1C-4FB1-B48F-A998B92E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1A5F4-452F-4AA0-B267-9FDEB053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6238D-C522-4B1B-AD06-7F2D4267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2CED2-1C96-4728-A4BE-6247277C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AE74-F51C-407F-9843-C885E34A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A48DF-DFB8-4EA4-A499-47F484B0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F0A11-9C87-447E-9CD2-D409E732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7A84A-05FF-4BDD-AE36-25B771DA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0FA96-3EB6-4D04-8F8E-CF35DF27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04AB1-CACB-4A40-8488-C7BBBBA5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497DB-59DB-42C2-AB0D-36BBFDDD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15EC1-E0E2-4A24-99E9-1547CF2C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4C722-8247-432A-8227-A1658909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C6082-78FC-464B-8128-77030FD2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836-125D-43F2-A65C-59646FF1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540-428D-4B0D-BAC3-802CAB25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F7C-F500-402E-8684-2E905BCD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73E-B264-454F-89A3-58342BAC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7AB4-7521-4C1A-9C81-9598AD55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A1B8-AE6D-4AA1-A209-F0D6C26DC696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BDB8-05D3-4FCE-BD62-14782EBB354E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1FB3-3C27-42EE-AC79-9B248BFDC87D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A1CF-7DCC-4B3D-8896-F631B4446C23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51280" y="4495680"/>
            <a:ext cx="46814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СТАВИЛА: СИЗОВА М.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07720" y="141768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18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entury Gothic"/>
              </a:rPr>
              <a:t>Рыбы.</a:t>
            </a:r>
            <a:endParaRPr b="0" lang="en-US" sz="72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194" name="Picture 2" descr="ÐÐ¾Ð´Ð¾ÐµÐ¼Ñ ÐÐ¾ÑÐ´Ð¾Ð²Ð¸Ð¸! - Ð¡ÑÑÐ°Ð½Ð¸ÑÐ° 3 - Ð ÑÐ±Ð°Ð»ÐºÐ° Ð¸ ÐÑÐ¾ÑÐ° - Ð¡Ð°ÑÐ°Ð½ÑÐºÐ¸Ð¹ ..."/>
          <p:cNvPicPr/>
          <p:nvPr/>
        </p:nvPicPr>
        <p:blipFill>
          <a:blip r:embed="rId1"/>
          <a:stretch/>
        </p:blipFill>
        <p:spPr>
          <a:xfrm>
            <a:off x="4433760" y="1639800"/>
            <a:ext cx="351648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3789000"/>
            <a:ext cx="65545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АЛИМ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6184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1773000"/>
            <a:ext cx="8070840" cy="3168360"/>
          </a:xfrm>
          <a:prstGeom prst="rect">
            <a:avLst/>
          </a:prstGeom>
          <a:solidFill>
            <a:srgbClr val="f1b18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404640"/>
            <a:ext cx="81421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ЫБЫ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557000"/>
            <a:ext cx="81421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Рыбы — это водные жители, тело которых покрыто чешуёй. Тело рыбы состоит из головы, туловища, хвоста и плавников. При помощи плавников рыбы поворачиваются в воде и меняют направление. Рулём для них служит хвост. У большинства рыб глаза расположены по обе стороны от головы, причём рыба умеет видеть каждым глазом по отдельности: она видит сразу и перед собой и над собой, и сзади, и под собой. Дышат рыбы при помощи жабр. Они закрывают жабры и набирают полный рот воды, а потом открывают жабры и выпускают через них воду, «забирая» из воды кислород. Большинство рыб мечут икру. Из каждой икринки потом появляются мальки. Они не совсем похожи на взрослых рыб. Но пройдёт немного времени и мальки превратятся во взрослых рыб. Зимой, когда вода замерзает, рыбы опускаются на дно. В это время они ведут малоподвижный образ жизни, мало едят. Но в воде подо льдом очень мало кислорода, поэтому люди делают проруби, чтобы рыбам было легче.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260280"/>
            <a:ext cx="81421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ЕЧНЫЕ РЫБЫ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1699920"/>
            <a:ext cx="81421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Речные рыбы Карась – речная рыба, размером от 30 до 50 см. Бывает золотой и серебряный караси. Окунь – небольшая речная рыбка длиной до 30 см. Несмотря на то, что она маленькая, окунь- хищная рыба. Ёрш – небольшая рыбка, питающаяся мелкими организмами- рачками и др. Водится ёрш в реках и озёрах, и является добычей для более крупных рыб. Сом – очень крупная рыба, длиной до 5м и весом до 300 кг. Обитает сом в реках и озёрах. У этой рыбы нет чешуи. Сом – хищник. Щука – речная хищная рыба, она достигает в длину до 2 м и имеет массу более 60 кг. Окрас у щуки серо-зелёный в крапинку. Щука очень прожорлива. Питается в основном рыбой, лягушками, насекомыми.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Ð ÑÐ±Ñ [Pisces] â Ð¶Ð¸Ð²Ð¾ÑÐ½Ð¾Ðµ, Ð¾Ð¿Ð¸ÑÐ°Ð½Ð¸Ðµ, ÑÐ°ÑÐ°ÐºÑÐµÑÐ¸ÑÑÐ¸ÐºÐ°, ÑÑÑÐ¾ÐµÐ½Ð¸Ðµ ..."/>
          <p:cNvPicPr/>
          <p:nvPr/>
        </p:nvPicPr>
        <p:blipFill>
          <a:blip r:embed="rId1"/>
          <a:stretch/>
        </p:blipFill>
        <p:spPr>
          <a:xfrm>
            <a:off x="395280" y="1125360"/>
            <a:ext cx="81313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71640" y="9000"/>
            <a:ext cx="6696000" cy="21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РЫБЫ НАШЕГО КРАЯ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КАРП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2" name="Picture 4" descr="ÐÐ°ÑÐ¿: Ð¾Ð¿Ð¸ÑÐ°Ð½Ð¸Ðµ ÑÑÐ±Ñ, ÑÑÐµÐ´Ð° Ð¾Ð±Ð¸ÑÐ°Ð½Ð¸Ñ, Ð²Ð¸Ð´Ñ ÐºÐ°ÑÐ¿Ð¾Ð², ÑÐµÐ¼ Ð¿Ð¸ÑÐ°ÐµÑÑÑ"/>
          <p:cNvPicPr/>
          <p:nvPr/>
        </p:nvPicPr>
        <p:blipFill>
          <a:blip r:embed="rId1"/>
          <a:stretch/>
        </p:blipFill>
        <p:spPr>
          <a:xfrm>
            <a:off x="468360" y="2133720"/>
            <a:ext cx="85644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3" descr=""/>
          <p:cNvPicPr/>
          <p:nvPr/>
        </p:nvPicPr>
        <p:blipFill>
          <a:blip r:embed="rId1"/>
          <a:srcRect l="5160" t="0" r="6252" b="0"/>
          <a:stretch/>
        </p:blipFill>
        <p:spPr>
          <a:xfrm>
            <a:off x="168120" y="333360"/>
            <a:ext cx="8815680" cy="4838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5373720"/>
            <a:ext cx="6554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М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0920" y="4495680"/>
            <a:ext cx="50371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ЛЕЩ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6" name="Picture 7" descr="ÐÐµÑ: Ð¾Ð¿Ð¸ÑÐ°Ð½Ð¸Ðµ ÑÑÐ±Ñ, Ð¼ÐµÑÑÐ° Ð¾Ð±Ð¸ÑÐ°Ð½Ð¸Ñ, Ð½ÐµÑÐµÑÑ, Ð»ÑÑÑÐ¸Ð¹ Ð¿ÐµÑÐ¸Ð¾Ð´ ÐºÐ»ÐµÐ²Ð°"/>
          <p:cNvPicPr/>
          <p:nvPr/>
        </p:nvPicPr>
        <p:blipFill>
          <a:blip r:embed="rId1"/>
          <a:stretch/>
        </p:blipFill>
        <p:spPr>
          <a:xfrm>
            <a:off x="1258920" y="549360"/>
            <a:ext cx="723564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33160" y="533520"/>
            <a:ext cx="6554520" cy="3767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-131760" y="0"/>
            <a:ext cx="927576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87480" y="1341360"/>
            <a:ext cx="8665920" cy="2664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4149360"/>
            <a:ext cx="65545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ЩУКА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3T16:23:13Z</dcterms:created>
  <dc:creator>Natasha</dc:creator>
  <dc:description/>
  <dc:language>en-US</dc:language>
  <cp:lastModifiedBy>Admin</cp:lastModifiedBy>
  <dcterms:modified xsi:type="dcterms:W3CDTF">2020-04-08T06:52:00Z</dcterms:modified>
  <cp:revision>13</cp:revision>
  <dc:subject/>
  <dc:title>Обитатели воды-рыбы</dc:title>
</cp:coreProperties>
</file>