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746-BD87-4B03-B571-6BA9985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BC5-A59E-47C9-A9E5-73E3147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985-53D1-43F6-913B-4C909E54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DB3-2594-4ADF-BEEC-6D6E7BBF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ABE-AD0D-4B2E-B186-9A5708DA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10D-457A-491D-9201-59CD3E3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F1D-53B7-44F3-87BF-CA0D45C2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A56-F56E-4D06-A11A-EE4D24F3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95E8-9CE0-4DF4-8F1E-02D2300C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5571-D88C-4E4D-B331-E467C590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87F9-7F2C-48AA-9333-DF26C51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20F-C92B-4290-A915-D66AFCE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1CC-84CE-4FD8-B711-466526BB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EC7-3546-492E-A506-591BE7CA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487A-5F5A-4675-9A6F-5284218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24A-9606-46FF-B2C0-13A4B6BB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B44-AE26-4247-B7C1-538AFE03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7E6D-2505-4C69-ABC0-FB44A240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F52B-00E4-4AF7-AC5C-4A78233B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30CE-C508-4F2F-B5C2-7B6D56C9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B11B-8E58-41F9-A220-A5D5EE6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8EBC-88FB-472D-8F8C-BEBAEBB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F40-DBFC-415D-85C2-7428572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2A5F-D912-4AC6-8785-4CA2390A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BFDB-3295-42EE-AFC5-21A6F36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877C-736C-4EE3-9302-AC8464E8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F74C-43F3-4C66-A3A3-C8B674F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9661-3E33-44C0-9636-A30ACDC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C883-753E-43A1-A4E8-A4264F2F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C678-773D-4DBA-B374-A80DE391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F5A2-71E1-461F-A58D-5B59317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34DB-BA28-4C5A-A1CD-97C1CE5A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59FA-318B-43FE-B949-0F78494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AAD-4219-4D80-AEAC-FAE6540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0FC7-FDB4-449D-8178-FBDE4E0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1F18-3E12-4F2E-B890-1254FF0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823A-B11E-4E84-8721-DECD07B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146D-E08C-4668-BC7C-7D7F09A0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66B8-9503-45F9-817C-BD42281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468F-DC5B-40AC-9B67-8D7B19E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24423-4506-46BF-9D42-70C98F8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9B2A-057B-49DC-8E19-FB9D7F2D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D3BA-8A6B-41B0-A6CF-70A6EDD2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A3F-DF9C-4238-862B-5F183D3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031-9005-4CD6-BBA8-C2CC868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AC3-1861-41C9-9E8D-A2E93A8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869-DC9F-4B79-AF55-E6C0800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3BD-5099-4A1A-A158-AB2B8DA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258-D4C9-418C-8044-F74AE9FA522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38C2-188E-4914-A756-7C6F9B2AC0B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C7DE-590A-4305-BC48-2F6561D3981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E4AD-F11A-4DDD-BBF5-2E6E7212508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51280" y="4495680"/>
            <a:ext cx="4681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СТАВИЛА: СИЗОВА М.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7720" y="141768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8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entury Gothic"/>
              </a:rPr>
              <a:t>Рыбы.</a:t>
            </a:r>
            <a:endParaRPr b="0" lang="en-US" sz="7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2" descr="ÐÐ¾Ð´Ð¾ÐµÐ¼Ñ ÐÐ¾ÑÐ´Ð¾Ð²Ð¸Ð¸! - Ð¡ÑÑÐ°Ð½Ð¸ÑÐ° 3 - Ð ÑÐ±Ð°Ð»ÐºÐ° Ð¸ ÐÑÐ¾ÑÐ° - Ð¡Ð°ÑÐ°Ð½ÑÐºÐ¸Ð¹ ..."/>
          <p:cNvPicPr/>
          <p:nvPr/>
        </p:nvPicPr>
        <p:blipFill>
          <a:blip r:embed="rId1"/>
          <a:stretch/>
        </p:blipFill>
        <p:spPr>
          <a:xfrm>
            <a:off x="4433760" y="1639800"/>
            <a:ext cx="35164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789000"/>
            <a:ext cx="655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ЛИ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184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1773000"/>
            <a:ext cx="8070840" cy="3168360"/>
          </a:xfrm>
          <a:prstGeom prst="rect">
            <a:avLst/>
          </a:prstGeom>
          <a:solidFill>
            <a:srgbClr val="f1b18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81421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ЫБ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57000"/>
            <a:ext cx="8142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ыбы — это водные жители, тело которых покрыто чешуёй. Тело рыбы состоит из головы, туловища, хвоста и плавников. При помощи плавников рыбы поворачиваются в воде и меняют направление. Рулём для них служит хвост. У большинства рыб глаза расположены по обе стороны от головы, причём рыба умеет видеть каждым глазом по отдельности: она видит сразу и перед собой и над собой, и сзади, и под собой. Дышат рыбы при помощи жабр. Они закрывают жабры и набирают полный рот воды, а потом открывают жабры и выпускают через них воду, «забирая» из воды кислород. Большинство рыб мечут икру. Из каждой икринки потом появляются мальки. Они не совсем похожи на взрослых рыб. Но пройдёт немного времени и мальки превратятся во взрослых рыб. Зимой, когда вода замерзает, рыбы опускаются на дно. В это время они ведут малоподвижный образ жизни, мало едят. Но в воде подо льдом очень мало кислорода, поэтому люди делают проруби, чтобы рыбам было легче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8142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ЕЧНЫЕ РЫБ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142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чные рыбы Карась – речная рыба, размером от 30 до 50 см. Бывает золотой и серебряный караси. Окунь – небольшая речная рыбка длиной до 30 см. Несмотря на то, что она маленькая, окунь- хищная рыба. Ёрш – небольшая рыбка, питающаяся мелкими организмами- рачками и др. Водится ёрш в реках и озёрах, и является добычей для более крупных рыб. Сом – очень крупная рыба, длиной до 5м и весом до 300 кг. Обитает сом в реках и озёрах. У этой рыбы нет чешуи. Сом – хищник. Щука – речная хищная рыба, она достигает в длину до 2 м и имеет массу более 60 кг. Окрас у щуки серо-зелёный в крапинку. Щука очень прожорлива. Питается в основном рыбой, лягушками, насекомыми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Ð ÑÐ±Ñ [Pisces] â Ð¶Ð¸Ð²Ð¾ÑÐ½Ð¾Ðµ, Ð¾Ð¿Ð¸ÑÐ°Ð½Ð¸Ðµ, ÑÐ°ÑÐ°ÐºÑÐµÑÐ¸ÑÑÐ¸ÐºÐ°, ÑÑÑÐ¾ÐµÐ½Ð¸Ðµ ..."/>
          <p:cNvPicPr/>
          <p:nvPr/>
        </p:nvPicPr>
        <p:blipFill>
          <a:blip r:embed="rId1"/>
          <a:stretch/>
        </p:blipFill>
        <p:spPr>
          <a:xfrm>
            <a:off x="395280" y="1125360"/>
            <a:ext cx="8131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640" y="9000"/>
            <a:ext cx="669600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ЫБЫ НАШЕГО КРАЯ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КАРП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2" name="Picture 4" descr="ÐÐ°ÑÐ¿: Ð¾Ð¿Ð¸ÑÐ°Ð½Ð¸Ðµ ÑÑÐ±Ñ, ÑÑÐµÐ´Ð° Ð¾Ð±Ð¸ÑÐ°Ð½Ð¸Ñ, Ð²Ð¸Ð´Ñ ÐºÐ°ÑÐ¿Ð¾Ð², ÑÐµÐ¼ Ð¿Ð¸ÑÐ°ÐµÑÑÑ"/>
          <p:cNvPicPr/>
          <p:nvPr/>
        </p:nvPicPr>
        <p:blipFill>
          <a:blip r:embed="rId1"/>
          <a:stretch/>
        </p:blipFill>
        <p:spPr>
          <a:xfrm>
            <a:off x="468360" y="2133720"/>
            <a:ext cx="8564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"/>
          <p:cNvPicPr/>
          <p:nvPr/>
        </p:nvPicPr>
        <p:blipFill>
          <a:blip r:embed="rId1"/>
          <a:srcRect l="5160" t="0" r="6252" b="0"/>
          <a:stretch/>
        </p:blipFill>
        <p:spPr>
          <a:xfrm>
            <a:off x="168120" y="333360"/>
            <a:ext cx="8815680" cy="4838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5373720"/>
            <a:ext cx="6554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920" y="4495680"/>
            <a:ext cx="5037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ЛЕЩ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Picture 7" descr="ÐÐµÑ: Ð¾Ð¿Ð¸ÑÐ°Ð½Ð¸Ðµ ÑÑÐ±Ñ, Ð¼ÐµÑÑÐ° Ð¾Ð±Ð¸ÑÐ°Ð½Ð¸Ñ, Ð½ÐµÑÐµÑÑ, Ð»ÑÑÑÐ¸Ð¹ Ð¿ÐµÑÐ¸Ð¾Ð´ ÐºÐ»ÐµÐ²Ð°"/>
          <p:cNvPicPr/>
          <p:nvPr/>
        </p:nvPicPr>
        <p:blipFill>
          <a:blip r:embed="rId1"/>
          <a:stretch/>
        </p:blipFill>
        <p:spPr>
          <a:xfrm>
            <a:off x="1258920" y="549360"/>
            <a:ext cx="723564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-131760" y="0"/>
            <a:ext cx="92757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7480" y="1341360"/>
            <a:ext cx="86659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149360"/>
            <a:ext cx="6554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ЩУК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16:23:13Z</dcterms:created>
  <dc:creator>Natasha</dc:creator>
  <dc:description/>
  <dc:language>en-US</dc:language>
  <cp:lastModifiedBy>Admin</cp:lastModifiedBy>
  <dcterms:modified xsi:type="dcterms:W3CDTF">2020-04-08T06:52:00Z</dcterms:modified>
  <cp:revision>13</cp:revision>
  <dc:subject/>
  <dc:title>Обитатели воды-рыбы</dc:title>
</cp:coreProperties>
</file>