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197B-EAE1-40B6-9AC3-20300B5E2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B7A8-13F1-4941-ABD7-96E75DCBF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86A5-4313-4E42-9E8D-E0985C58F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6C4F-9236-410C-8956-CA0E2ACEA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F645-12B9-45B2-AE3D-2DC82CF9C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5C3D-FAA2-467C-AF5C-F7314449E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7177-1915-4E8F-ABCC-4495056E9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6C17-3907-4270-BDE1-5B62D2F44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793160" y="4372200"/>
            <a:ext cx="651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DDF5-32FA-4223-9528-9DCCCAE35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87FA-ED83-4C7D-9E30-B4CF7962B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EE45-F793-4D3C-920E-F5783F081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DB84-661D-45C9-AD04-31834369C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d4ff"/>
            </a:gs>
            <a:gs pos="100000">
              <a:srgbClr val="5bb9ff"/>
            </a:gs>
          </a:gsLst>
          <a:path path="circle">
            <a:fillToRect l="50000" t="25000" r="50000" b="7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5105520"/>
            <a:ext cx="9143640" cy="1752120"/>
          </a:xfrm>
          <a:prstGeom prst="rect">
            <a:avLst/>
          </a:prstGeom>
          <a:gradFill rotWithShape="0">
            <a:gsLst>
              <a:gs pos="0">
                <a:srgbClr val="ffffff">
                  <a:alpha val="91372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0"/>
            <a:ext cx="9143640" cy="5105160"/>
          </a:xfrm>
          <a:prstGeom prst="rect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0" y="3768480"/>
            <a:ext cx="9143640" cy="2285640"/>
          </a:xfrm>
          <a:prstGeom prst="rect">
            <a:avLst/>
          </a:prstGeom>
          <a:gradFill rotWithShape="0">
            <a:gsLst>
              <a:gs pos="0">
                <a:srgbClr val="b4dcfa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3" name="Oval 9"/>
          <p:cNvSpPr/>
          <p:nvPr/>
        </p:nvSpPr>
        <p:spPr>
          <a:xfrm>
            <a:off x="0" y="1600200"/>
            <a:ext cx="9143640" cy="5105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20040" indent="-320040" algn="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</a:pPr>
            <a:r>
              <a:rPr b="1" lang="ru-RU" sz="4600" spc="-1" strike="noStrike">
                <a:solidFill>
                  <a:srgbClr val="000000"/>
                </a:solidFill>
                <a:latin typeface="Trebuchet MS"/>
              </a:rPr>
              <a:t>Образец заголовка</a:t>
            </a:r>
            <a:endParaRPr b="0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172200" y="6172200"/>
            <a:ext cx="25142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ru-RU" sz="11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ru-RU" sz="1100" spc="-1" strike="noStrike">
                <a:solidFill>
                  <a:srgbClr val="808080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457200" y="617220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2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5AD76C66-0958-4BB0-9AAB-B7103C5509A7}" type="slidenum">
              <a:rPr b="1" lang="ru-RU" sz="12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ru-RU" sz="1600" spc="-1" strike="noStrike">
              <a:solidFill>
                <a:srgbClr val="404040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ru-RU" sz="1400" spc="-1" strike="noStrike">
              <a:solidFill>
                <a:srgbClr val="404040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2"/>
          <p:cNvSpPr/>
          <p:nvPr/>
        </p:nvSpPr>
        <p:spPr>
          <a:xfrm>
            <a:off x="107640" y="260640"/>
            <a:ext cx="892872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САМОИЗОЛЯ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792000" y="2349000"/>
            <a:ext cx="824400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Чем занять детей старшего дошкольного возраста дом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4140000" y="5805360"/>
            <a:ext cx="4248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Автор: воспитатель Репина Г.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2"/>
          <p:cNvSpPr/>
          <p:nvPr/>
        </p:nvSpPr>
        <p:spPr>
          <a:xfrm>
            <a:off x="467640" y="1780920"/>
            <a:ext cx="457164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пробуйте играть в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ат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Создайте его с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 rot="999600">
            <a:off x="4314960" y="2046600"/>
            <a:ext cx="3164400" cy="1683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"/>
          <p:cNvPicPr/>
          <p:nvPr/>
        </p:nvPicPr>
        <p:blipFill>
          <a:blip r:embed="rId2"/>
          <a:stretch/>
        </p:blipFill>
        <p:spPr>
          <a:xfrm rot="21161400">
            <a:off x="1515240" y="3750840"/>
            <a:ext cx="2917800" cy="19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2"/>
          <p:cNvSpPr/>
          <p:nvPr/>
        </p:nvSpPr>
        <p:spPr>
          <a:xfrm>
            <a:off x="726840" y="1413720"/>
            <a:ext cx="45716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скажите о свое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емь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ее истории. Создайте фамильное древо и герб семь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3564000" y="2637000"/>
            <a:ext cx="3456000" cy="25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Прямоугольник 2"/>
          <p:cNvSpPr/>
          <p:nvPr/>
        </p:nvSpPr>
        <p:spPr>
          <a:xfrm>
            <a:off x="899640" y="1052640"/>
            <a:ext cx="338400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ймитесь разбором шкафа 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ведением порядк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детской комна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ъясните как правильно хранить, стирать, надевать вещи. Почему нужно поддерживать порядок, как часто убирать и проветрив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4982040" y="2133000"/>
            <a:ext cx="2804760" cy="186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Прямоугольник 2"/>
          <p:cNvSpPr/>
          <p:nvPr/>
        </p:nvSpPr>
        <p:spPr>
          <a:xfrm>
            <a:off x="899640" y="1620000"/>
            <a:ext cx="457164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отовьт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ростые блюда вместе, украшайте 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 rot="641400">
            <a:off x="6012000" y="1792080"/>
            <a:ext cx="2061360" cy="21992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 rot="21044400">
            <a:off x="1985760" y="3595680"/>
            <a:ext cx="3112560" cy="17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2"/>
          <p:cNvSpPr/>
          <p:nvPr/>
        </p:nvSpPr>
        <p:spPr>
          <a:xfrm>
            <a:off x="467640" y="980640"/>
            <a:ext cx="4571640" cy="30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забывайте, что в течение дня детям необходимы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изкультурные пауз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ремя прыжков или крика, танцы или вверх ногами на диване, преодоление полосы препятствий и хождение по неровной поверх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4356000" y="3875400"/>
            <a:ext cx="26884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2"/>
          <p:cNvSpPr/>
          <p:nvPr/>
        </p:nvSpPr>
        <p:spPr>
          <a:xfrm>
            <a:off x="0" y="116640"/>
            <a:ext cx="9143640" cy="76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4000" spc="-1" strike="noStrike">
                <a:solidFill>
                  <a:srgbClr val="000000"/>
                </a:solidFill>
                <a:latin typeface="Trebuchet MS"/>
              </a:rPr>
              <a:t>Мамы и папы, устройте вечер пиццы или караоке, салон красоты или создайте вместе книгу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Trebuchet MS"/>
              </a:rPr>
              <a:t>Просто поиграйте с детьми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4000" spc="-1" strike="noStrike">
                <a:solidFill>
                  <a:srgbClr val="000000"/>
                </a:solidFill>
                <a:latin typeface="Trebuchet MS"/>
              </a:rPr>
              <a:t>Если Ваш ребенок постоянно говорит, что ему скучно, научите его находить для себя интересное в окружающих предмета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2"/>
          <p:cNvSpPr/>
          <p:nvPr/>
        </p:nvSpPr>
        <p:spPr>
          <a:xfrm>
            <a:off x="539640" y="404640"/>
            <a:ext cx="4571640" cy="33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чень часто родители не знают чем занять ребенка, поэтому, включив любимый мультфильм, ребенок, проводит долгое время перед телевизором или компьютером. Это вредно. Необходимо  занять ребенка полезными и интересными игр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http://roditelistavropol.ru/assets/images_cache/2bda110d76cfc3055155cdea35d7c408.jpg"/>
          <p:cNvPicPr/>
          <p:nvPr/>
        </p:nvPicPr>
        <p:blipFill>
          <a:blip r:embed="rId1"/>
          <a:stretch/>
        </p:blipFill>
        <p:spPr>
          <a:xfrm>
            <a:off x="5364000" y="1845000"/>
            <a:ext cx="2881440" cy="2160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395640" y="4581000"/>
            <a:ext cx="8229240" cy="168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2"/>
          <p:cNvSpPr/>
          <p:nvPr/>
        </p:nvSpPr>
        <p:spPr>
          <a:xfrm>
            <a:off x="611640" y="1052640"/>
            <a:ext cx="820872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грайте в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чевые игр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зови 5 слов и составь с ними расск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зови 10 слов на букву «Л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 начну, а ты закончишь расск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думай предложение из 10 с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накомьте его с разнообразием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кружающего мир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Расскажите интересно о предмете мебели или событ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читайте, решайте простые задачки, поучите ориентироваться на листе бума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2"/>
          <p:cNvSpPr/>
          <p:nvPr/>
        </p:nvSpPr>
        <p:spPr>
          <a:xfrm>
            <a:off x="9360" y="620640"/>
            <a:ext cx="914364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исование, лепка, аппликаци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увлекательные занятия. Применяйте нестандартные метод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рисуй одной линией, не отрывая карандаш от лис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исование штампами из картошк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епка из соленого тест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рывная апплика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 rot="20434200">
            <a:off x="1535760" y="4120920"/>
            <a:ext cx="2817720" cy="1847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"/>
          <p:cNvPicPr/>
          <p:nvPr/>
        </p:nvPicPr>
        <p:blipFill>
          <a:blip r:embed="rId2"/>
          <a:stretch/>
        </p:blipFill>
        <p:spPr>
          <a:xfrm rot="423000">
            <a:off x="5245200" y="2863080"/>
            <a:ext cx="26218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5"/>
          <p:cNvSpPr/>
          <p:nvPr/>
        </p:nvSpPr>
        <p:spPr>
          <a:xfrm>
            <a:off x="827640" y="1628640"/>
            <a:ext cx="511236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грайте или экспериментируйте с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д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 rot="1315200">
            <a:off x="3534840" y="2466360"/>
            <a:ext cx="3550680" cy="31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2"/>
          <p:cNvSpPr/>
          <p:nvPr/>
        </p:nvSpPr>
        <p:spPr>
          <a:xfrm>
            <a:off x="1220400" y="1196640"/>
            <a:ext cx="525636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грайте с нитками, крупными пуговицами, крышечками, резинками, прищепкам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ля развития мелкой моторик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3492000" y="3573000"/>
            <a:ext cx="2603520" cy="22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2"/>
          <p:cNvSpPr/>
          <p:nvPr/>
        </p:nvSpPr>
        <p:spPr>
          <a:xfrm>
            <a:off x="1331640" y="1144440"/>
            <a:ext cx="457164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адит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город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ли поухаживайте за питомц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2123640" y="2709000"/>
            <a:ext cx="2952000" cy="1660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"/>
          <p:cNvPicPr/>
          <p:nvPr/>
        </p:nvPicPr>
        <p:blipFill>
          <a:blip r:embed="rId2"/>
          <a:stretch/>
        </p:blipFill>
        <p:spPr>
          <a:xfrm rot="625200">
            <a:off x="5190480" y="4091040"/>
            <a:ext cx="2684520" cy="15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2"/>
          <p:cNvSpPr/>
          <p:nvPr/>
        </p:nvSpPr>
        <p:spPr>
          <a:xfrm>
            <a:off x="882000" y="1124640"/>
            <a:ext cx="457164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учите ребен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шить, вышивать или вязат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А можно попробовать бисероплетение или валя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3492000" y="2844000"/>
            <a:ext cx="3240000" cy="24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2"/>
          <p:cNvSpPr/>
          <p:nvPr/>
        </p:nvSpPr>
        <p:spPr>
          <a:xfrm>
            <a:off x="683640" y="1412640"/>
            <a:ext cx="457164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то не любил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роить домик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детстве? Таких нет! Из чего построить – зависит только от фантаз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"/>
          <p:cNvPicPr/>
          <p:nvPr/>
        </p:nvPicPr>
        <p:blipFill>
          <a:blip r:embed="rId1"/>
          <a:stretch/>
        </p:blipFill>
        <p:spPr>
          <a:xfrm>
            <a:off x="4140000" y="3233520"/>
            <a:ext cx="288036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Воздушный поток">
  <a:themeElements>
    <a:clrScheme name="Воздушный поток">
      <a:dk1>
        <a:srgbClr val="000000"/>
      </a:dk1>
      <a:lt1>
        <a:srgbClr val="ffffff"/>
      </a:lt1>
      <a:dk2>
        <a:srgbClr val="212745"/>
      </a:dk2>
      <a:lt2>
        <a:srgbClr val="b4dcfa"/>
      </a:lt2>
      <a:accent1>
        <a:srgbClr val="4e67c8"/>
      </a:accent1>
      <a:accent2>
        <a:srgbClr val="5eccf3"/>
      </a:accent2>
      <a:accent3>
        <a:srgbClr val="a7ea52"/>
      </a:accent3>
      <a:accent4>
        <a:srgbClr val="5dceaf"/>
      </a:accent4>
      <a:accent5>
        <a:srgbClr val="ff8021"/>
      </a:accent5>
      <a:accent6>
        <a:srgbClr val="f14124"/>
      </a:accent6>
      <a:hlink>
        <a:srgbClr val="56c7aa"/>
      </a:hlink>
      <a:folHlink>
        <a:srgbClr val="59a8d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Slipstream</Template>
  <TotalTime>247</TotalTime>
  <Application>LibreOffice/7.4.7.2$Linux_X86_64 LibreOffice_project/40$Build-2</Application>
  <AppVersion>15.0000</AppVersion>
  <Words>327</Words>
  <Paragraphs>3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-</cp:lastModifiedBy>
  <dcterms:modified xsi:type="dcterms:W3CDTF">2020-04-08T18:11:58Z</dcterms:modified>
  <cp:revision>38</cp:revision>
  <dc:subject/>
  <dc:title>  Государственное бюджетное дошкольное образовательное учреждение  детский сад № 4 Петродворцового района Санкт-Петербурга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5</vt:r8>
  </property>
</Properties>
</file>