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0B9-29C1-48A2-8F43-B3B70D9E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8FF-4427-43A9-9D1D-1A1FF71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383-8314-48C4-82A6-5854742D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4B9-7641-460D-9EB7-3902B82B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A51-FB6F-4256-86EF-3F1668E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09A-CC32-4CE7-9A9A-EFD0315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6F5-A376-41B9-8612-C69267D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48C-E9FA-459E-B052-B482363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C7F-F5D3-4818-936E-89CC9D3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FAC-C820-4FD5-8040-51B1D30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DFC-CA6A-45AC-BDB5-21F63E9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8A4-98E2-4F11-A292-4F71A9F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822476-0945-4B36-BB9D-B68BAC977976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107640" y="260640"/>
            <a:ext cx="8928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АМОИЗОЛЯ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92000" y="2349000"/>
            <a:ext cx="8244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занять детей старшего дошкольного возраста до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140000" y="5805360"/>
            <a:ext cx="42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втор: воспитатель Репина Г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467640" y="178092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обуйте играть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а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здайте его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 rot="999600">
            <a:off x="4314960" y="2046600"/>
            <a:ext cx="3164400" cy="168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 rot="21161400">
            <a:off x="1515240" y="3750840"/>
            <a:ext cx="2917800" cy="19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726840" y="141372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кажите о сво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е истории. Создайте фамильное древо и герб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3456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899640" y="1052640"/>
            <a:ext cx="3384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митесь разбором шкафа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ведением поряд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тской ком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 как правильно хранить, стирать, надевать вещи. Почему нужно поддерживать порядок, как часто убирать и проветр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982040" y="2133000"/>
            <a:ext cx="2804760" cy="18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899640" y="162000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ь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стые блюда вместе, украша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 rot="641400">
            <a:off x="6012000" y="1792080"/>
            <a:ext cx="2061360" cy="219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 rot="21044400">
            <a:off x="1985760" y="3595680"/>
            <a:ext cx="311256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467640" y="980640"/>
            <a:ext cx="45716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, что в течение дня детям необходим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культурные пау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прыжков или крика, танцы или вверх ногами на диване, преодоление полосы препятствий и хождение по неровн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356000" y="3875400"/>
            <a:ext cx="268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0" y="116640"/>
            <a:ext cx="9143640" cy="76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Мамы и папы, устройте вечер пиццы или караоке, салон красоты или создайте вместе книг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Просто поиграйте с детьм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Если Ваш ребенок постоянно говорит, что ему скучно, научите его находить для себя интересное в окружающих предме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04640"/>
            <a:ext cx="45716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часто родители не знают чем занять ребенка, поэтому, включив любимый мультфильм, ребенок, проводит долгое время перед телевизором или компьютером. Это вредно. Необходимо  занять ребенка полезными и интерес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roditelistavropol.ru/assets/images_cache/2bda110d76cfc3055155cdea35d7c408.jpg"/>
          <p:cNvPicPr/>
          <p:nvPr/>
        </p:nvPicPr>
        <p:blipFill>
          <a:blip r:embed="rId1"/>
          <a:stretch/>
        </p:blipFill>
        <p:spPr>
          <a:xfrm>
            <a:off x="5364000" y="1845000"/>
            <a:ext cx="2881440" cy="216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95640" y="4581000"/>
            <a:ext cx="8229240" cy="168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611640" y="1052640"/>
            <a:ext cx="8208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чевые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5 слов и составь с ними 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10 слов на букву «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начну, а ты закончишь рас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й предложение из 1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ьте его с разнообраз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ужающего ми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асскажите интересно о предмете мебели или собы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йте, решайте простые задачки, поучите ориентироваться на листе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9360" y="620640"/>
            <a:ext cx="9143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ование, лепка, апплик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влекательные занятия. Применяйте нестандартные мет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 одной линией, не отрывая карандаш от л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ование штампами из картош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пка из соленого те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ывная апплик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 rot="20434200">
            <a:off x="1535760" y="4120920"/>
            <a:ext cx="2817720" cy="184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 rot="423000">
            <a:off x="5245200" y="2863080"/>
            <a:ext cx="26218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827640" y="1628640"/>
            <a:ext cx="5112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или экспериментируйте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 rot="1315200">
            <a:off x="3534840" y="2466360"/>
            <a:ext cx="35506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1220400" y="1196640"/>
            <a:ext cx="5256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йте с нитками, крупными пуговицами, крышечками, резинками, прищепк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звития мелкой мотор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492000" y="3573000"/>
            <a:ext cx="26035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331640" y="114444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ади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ор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поухаживайте за питом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23640" y="2709000"/>
            <a:ext cx="2952000" cy="16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 rot="625200">
            <a:off x="5190480" y="4091040"/>
            <a:ext cx="26845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882000" y="112464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е ребен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ть, вышивать или вяз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А можно попробовать бисероплетение или вал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492000" y="2844000"/>
            <a:ext cx="3240000" cy="24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683640" y="1412640"/>
            <a:ext cx="45716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не люби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 дом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етстве? Таких нет! Из чего построить – зависит только от фант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4140000" y="3233520"/>
            <a:ext cx="288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47</TotalTime>
  <Application>LibreOffice/7.4.7.2$Linux_X86_64 LibreOffice_project/40$Build-2</Application>
  <AppVersion>15.0000</AppVersion>
  <Words>327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20-04-08T18:11:58Z</dcterms:modified>
  <cp:revision>38</cp:revision>
  <dc:subject/>
  <dc:title>  Государственное бюджетное дошкольное образовательное учреждение  детский сад № 4 Петродворцового района Санкт-Петербург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