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B96-5BCF-47E6-AC52-8E29A597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0BB-EE8C-4B52-AE22-6CB968AF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E8C-F0FC-43C2-8651-DFC3C3A5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4EE-8FC2-48AD-9E29-16F9EBE4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7277-5835-4ECD-B258-DA3D0634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EC720-148A-4FC1-8CC0-7569160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128F1-8417-4426-AAC5-B389784C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A2885-5837-4777-8257-0AC5DEE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7DA40-81BF-4FF1-82FE-5358F147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28E2-73AD-4172-8C43-7070527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C07E-6D47-4E66-B29F-F836936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FE6-A89F-4A3E-AE11-F79A933D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2E440-6E4D-4757-91E0-856AA76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6C969-994A-4D88-8371-921FFA6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A41A-1627-4A8B-B2F3-DB28934B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D7B7E-913C-4A56-B314-8B857131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AF472-4538-48C7-98F5-8CD66B0C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A82A-AE71-4B38-A0E2-8C6FC8B7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FF2B-67DE-4086-9528-D39C9E22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B6B2-6466-4512-97D9-C3FA512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D361-7BB6-44E5-8DBA-F0680EA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4B33-5EF0-4BB0-9ED2-D2CF3667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DE3-206B-4D3D-8615-AB7D018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F97D-22F4-49ED-BCB1-3B8FED8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EF11-1057-46E2-AD77-FA67A14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82C3-775B-462D-8472-22B72A14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34F5-D768-4C0A-96C1-7A16A3E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A508-4FD1-46D3-BD7B-C3CBFEA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AFE4-E5B8-46AB-B4E1-CEC464CE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3F71-4565-457B-B845-271A9014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190-59D1-47C0-9263-B981C910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C9C-0495-4A85-8555-2AD53056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DA0-F254-4C22-989C-1A539D3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38C-0CF7-49D2-ACEF-B4FBAC6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0FF-BE44-4FEB-AF1E-37E7245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4AA-4D5A-4F16-A710-1F26D3A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fe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E98B-DB4B-4561-AC13-A76BFD748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fe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F5C-4B5A-4490-9A02-D2CD28175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fe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F718-8949-407B-A594-E11003BD67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403280" y="1557360"/>
            <a:ext cx="590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Слово и слог» – 1 урок.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.с.31-33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615960"/>
            <a:ext cx="8229600" cy="974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817560" y="4724280"/>
            <a:ext cx="7508880" cy="96840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 слове столько слогов, сколько в нем гласных звук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http://www.maaam.ru/images/users/photos/medium/12e3448452248978860292a08d11dbf7.jpg"/>
          <p:cNvPicPr/>
          <p:nvPr/>
        </p:nvPicPr>
        <p:blipFill>
          <a:blip r:embed="rId2"/>
          <a:stretch/>
        </p:blipFill>
        <p:spPr>
          <a:xfrm>
            <a:off x="2916360" y="2205000"/>
            <a:ext cx="2520720" cy="189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rcRect l="0" t="0" r="12164" b="0"/>
          <a:stretch/>
        </p:blipFill>
        <p:spPr>
          <a:xfrm>
            <a:off x="458640" y="657360"/>
            <a:ext cx="82267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в учебнике с.32 упр.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гон, вафли, дрова, сли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 flipH="1">
            <a:off x="1511280" y="1927080"/>
            <a:ext cx="1440" cy="84312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 flipH="1">
            <a:off x="3699000" y="1909800"/>
            <a:ext cx="1440" cy="84276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 flipH="1">
            <a:off x="5608800" y="1901880"/>
            <a:ext cx="1440" cy="84276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Прямая соединительная линия 12"/>
          <p:cNvSpPr/>
          <p:nvPr/>
        </p:nvSpPr>
        <p:spPr>
          <a:xfrm flipH="1">
            <a:off x="7394040" y="1870200"/>
            <a:ext cx="1800" cy="84276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Прямая соединительная линия 13"/>
          <p:cNvSpPr/>
          <p:nvPr/>
        </p:nvSpPr>
        <p:spPr>
          <a:xfrm flipH="1">
            <a:off x="1928520" y="1755720"/>
            <a:ext cx="214200" cy="34308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H="1">
            <a:off x="3178080" y="1825560"/>
            <a:ext cx="169920" cy="30312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Прямая соединительная линия 18"/>
          <p:cNvSpPr/>
          <p:nvPr/>
        </p:nvSpPr>
        <p:spPr>
          <a:xfrm flipH="1">
            <a:off x="6086160" y="1882800"/>
            <a:ext cx="214200" cy="27144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Прямая соединительная линия 19"/>
          <p:cNvSpPr/>
          <p:nvPr/>
        </p:nvSpPr>
        <p:spPr>
          <a:xfrm flipH="1">
            <a:off x="7215120" y="1909800"/>
            <a:ext cx="214560" cy="27144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0" t="0" r="9389" b="5208"/>
          <a:stretch/>
        </p:blipFill>
        <p:spPr>
          <a:xfrm>
            <a:off x="1609560" y="2908440"/>
            <a:ext cx="56772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517680" y="4078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141" name="Заголовок 1" descr=""/>
          <p:cNvPicPr/>
          <p:nvPr/>
        </p:nvPicPr>
        <p:blipFill>
          <a:blip r:embed="rId2"/>
          <a:stretch/>
        </p:blipFill>
        <p:spPr>
          <a:xfrm>
            <a:off x="549360" y="339552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42" name="Содержимое 2"/>
          <p:cNvSpPr/>
          <p:nvPr/>
        </p:nvSpPr>
        <p:spPr>
          <a:xfrm>
            <a:off x="900000" y="4946760"/>
            <a:ext cx="6167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bfe"/>
                </a:solidFill>
                <a:latin typeface="Trebuchet MS"/>
              </a:rPr>
              <a:t>Д</a:t>
            </a:r>
            <a:r>
              <a:rPr b="0" lang="ru-RU" sz="2000" spc="-1" strike="noStrike">
                <a:solidFill>
                  <a:srgbClr val="2b2bfe"/>
                </a:solidFill>
                <a:latin typeface="Tahoma"/>
              </a:rPr>
              <a:t>ождь</a:t>
            </a:r>
            <a:r>
              <a:rPr b="0" lang="ru-RU" sz="2000" spc="-1" strike="noStrike">
                <a:solidFill>
                  <a:srgbClr val="2b2bfe"/>
                </a:solidFill>
                <a:latin typeface="Trebuchet MS"/>
              </a:rPr>
              <a:t> – 5 букв, 4 звука.</a:t>
            </a:r>
            <a:r>
              <a:rPr b="0" lang="ru-RU" sz="2000" spc="-1" strike="noStrike">
                <a:solidFill>
                  <a:srgbClr val="2b2bfe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195640" y="1728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ждь, радуга, слив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02920" y="4365360"/>
            <a:ext cx="59706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imes New Roman"/>
                <a:ea typeface="Times New Roman"/>
              </a:rPr>
              <a:t>Лист, утюг, ос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0" t="0" r="1570" b="12284"/>
          <a:stretch/>
        </p:blipFill>
        <p:spPr>
          <a:xfrm>
            <a:off x="395280" y="836640"/>
            <a:ext cx="81010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6028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c6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дели слова на слоги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зима,  зарядка,  спор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8840" y="1699920"/>
            <a:ext cx="804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кажи цифрой количество слогов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анки -              шайба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нежинка -        стадион 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9280" y="4149360"/>
            <a:ext cx="8147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600"/>
                </a:solidFill>
                <a:latin typeface="Tahoma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пиши слог, чтобы получилось новое слово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вол</a:t>
            </a:r>
            <a:r>
              <a:rPr b="0" lang="en-US" sz="4000" spc="-1" strike="noStrike">
                <a:solidFill>
                  <a:srgbClr val="010199"/>
                </a:solidFill>
                <a:latin typeface="Arial"/>
                <a:ea typeface="Arial"/>
              </a:rPr>
              <a:t>__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  <a:ea typeface="Arial"/>
              </a:rPr>
              <a:t>         ли</a:t>
            </a:r>
            <a:r>
              <a:rPr b="0" lang="en-US" sz="4000" spc="-1" strike="noStrike">
                <a:solidFill>
                  <a:srgbClr val="010199"/>
                </a:solidFill>
                <a:latin typeface="Arial"/>
                <a:ea typeface="Arial"/>
              </a:rPr>
              <a:t>__</a:t>
            </a:r>
            <a:r>
              <a:rPr b="0" lang="ru-RU" sz="4000" spc="-1" strike="noStrike">
                <a:solidFill>
                  <a:srgbClr val="010199"/>
                </a:solidFill>
                <a:latin typeface="Arial"/>
                <a:ea typeface="Arial"/>
              </a:rPr>
              <a:t>              </a:t>
            </a:r>
            <a:r>
              <a:rPr b="0" lang="en-US" sz="4000" spc="-1" strike="noStrike">
                <a:solidFill>
                  <a:srgbClr val="010199"/>
                </a:solidFill>
                <a:latin typeface="Arial"/>
                <a:ea typeface="Arial"/>
              </a:rPr>
              <a:t>__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  <a:ea typeface="Arial"/>
              </a:rPr>
              <a:t>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692360" y="2276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  <a:ea typeface="Arial"/>
              </a:rPr>
              <a:t>Спасибо!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0:48:04Z</dcterms:created>
  <dc:creator>OLGA</dc:creator>
  <dc:description/>
  <dc:language>en-US</dc:language>
  <cp:lastModifiedBy>АРСЕНТЬЕВЫ</cp:lastModifiedBy>
  <dcterms:modified xsi:type="dcterms:W3CDTF">2020-04-08T18:43:37Z</dcterms:modified>
  <cp:revision>40</cp:revision>
  <dc:subject/>
  <dc:title>Презентация PowerPoint</dc:title>
</cp:coreProperties>
</file>