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4873-714A-4839-B82B-87DB7835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AF9-F13E-421E-A3E4-D6501495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29E-C32D-48C5-89A7-69EEFF59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A21-D2EE-485A-9C48-34E0202A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509-6DD9-4026-B02F-64843891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403-381E-410C-98AB-9A7EB066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6DB-E061-4653-90D9-D3D61E18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010-F2CD-498C-85F0-E84B6D0E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4D7-5B79-4BB2-9A0A-CFD5D028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849-6C83-4E3E-A57C-6E9C86DA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0F8-2FD9-45AD-B1F6-275E2136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D59-5B29-4164-A4EE-256B11BE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F507-4A45-4768-ABD0-4C575628AD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Nata\Desktop\tt_masha_i_medved_screenshot_8.jpg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66600" y="487440"/>
            <a:ext cx="9302760" cy="1549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Nata\Desktop\484586606.gif"/>
          <p:cNvPicPr/>
          <p:nvPr/>
        </p:nvPicPr>
        <p:blipFill>
          <a:blip r:embed="rId3"/>
          <a:stretch/>
        </p:blipFill>
        <p:spPr>
          <a:xfrm flipH="1">
            <a:off x="7524720" y="52560"/>
            <a:ext cx="1419120" cy="4646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Nata\Desktop\484586606.gif"/>
          <p:cNvPicPr/>
          <p:nvPr/>
        </p:nvPicPr>
        <p:blipFill>
          <a:blip r:embed="rId4"/>
          <a:stretch/>
        </p:blipFill>
        <p:spPr>
          <a:xfrm>
            <a:off x="539640" y="347832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Nata\Desktop\484586606.gif"/>
          <p:cNvPicPr/>
          <p:nvPr/>
        </p:nvPicPr>
        <p:blipFill>
          <a:blip r:embed="rId5"/>
          <a:stretch/>
        </p:blipFill>
        <p:spPr>
          <a:xfrm>
            <a:off x="4572000" y="549360"/>
            <a:ext cx="52380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Nata\Desktop\484586606.gif"/>
          <p:cNvPicPr/>
          <p:nvPr/>
        </p:nvPicPr>
        <p:blipFill>
          <a:blip r:embed="rId6"/>
          <a:stretch/>
        </p:blipFill>
        <p:spPr>
          <a:xfrm>
            <a:off x="7331040" y="5230800"/>
            <a:ext cx="196920" cy="641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Users\Nata\Desktop\484586606.gif"/>
          <p:cNvPicPr/>
          <p:nvPr/>
        </p:nvPicPr>
        <p:blipFill>
          <a:blip r:embed="rId7"/>
          <a:stretch/>
        </p:blipFill>
        <p:spPr>
          <a:xfrm flipH="1">
            <a:off x="2627280" y="5835600"/>
            <a:ext cx="277920" cy="90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:\Users\Nata\Desktop\484586606.gif"/>
          <p:cNvPicPr/>
          <p:nvPr/>
        </p:nvPicPr>
        <p:blipFill>
          <a:blip r:embed="rId8"/>
          <a:stretch/>
        </p:blipFill>
        <p:spPr>
          <a:xfrm flipH="1">
            <a:off x="1186920" y="692280"/>
            <a:ext cx="217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Nata\Desktop\3.gif"/>
          <p:cNvPicPr/>
          <p:nvPr/>
        </p:nvPicPr>
        <p:blipFill>
          <a:blip r:embed="rId1"/>
          <a:stretch/>
        </p:blipFill>
        <p:spPr>
          <a:xfrm>
            <a:off x="-1116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468360" y="53802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alibri"/>
              </a:rPr>
              <a:t>Снежинки - это кристаллы льда, точнее сростки простейших кристалликов льда - иголочек и пластинок. Высоко в небе зимой плавают перистые облака, состоящие из множества таких кристалликов. Они растут, превращаются в снежинки, тяжелеют - и целыми стаями устремляются вниз. Идет сне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Nata\Desktop\1294324018_53475712mashaimedvedsle.jpg"/>
          <p:cNvPicPr/>
          <p:nvPr/>
        </p:nvPicPr>
        <p:blipFill>
          <a:blip r:embed="rId1"/>
          <a:stretch/>
        </p:blipFill>
        <p:spPr>
          <a:xfrm>
            <a:off x="-19080" y="0"/>
            <a:ext cx="57895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5770440" y="692280"/>
            <a:ext cx="3373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Снежинка - очень нежное, капризное создание. Малейшее изменение температуры, ветра или влажности влияет на ее размер и «телосложение». Например, если дует влажный ветер, снежинки слегка подтаивают по концам и слепляются при полете в хлопь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По форме снежинок метеорологи научились даже предсказывать погоду на завтр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Nata\Desktop\johnny_large_snowflakes_falling_hg_clr.gif"/>
          <p:cNvPicPr/>
          <p:nvPr/>
        </p:nvPicPr>
        <p:blipFill>
          <a:blip r:embed="rId1"/>
          <a:stretch/>
        </p:blipFill>
        <p:spPr>
          <a:xfrm>
            <a:off x="5076720" y="1700280"/>
            <a:ext cx="3684600" cy="4537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971640" y="6350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Откуда же берутся кристаллики льда в облаках? Они образуются из водяного пара. Помните, как в холодную погоду намерзает иней на воротнике или на варежке, если на нее подышать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 снежинках сокрыта великая тайна. В самом деле, не волшебно ли это, не удивительно ли: пар из чайника, из лохани с бельем, дым из труб - все это лохматое и бесформенное, поднявшись наверх, в облака, и претерпев какое-то превращение, сыплется к нам обратно не бесформенными комками, не скучной пылью, а в виде кружевных шестиугольных кристалл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Как будто сама Природа хочет намекнуть нам, что в основе ее лежит не хаос, не беспорядок, а какие-то очень точные и красивые математические зако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09:11:20Z</dcterms:created>
  <dc:creator>Nata</dc:creator>
  <dc:description/>
  <dc:language>en-US</dc:language>
  <cp:lastModifiedBy>Nata</cp:lastModifiedBy>
  <dcterms:modified xsi:type="dcterms:W3CDTF">2013-01-20T09:22:20Z</dcterms:modified>
  <cp:revision>2</cp:revision>
  <dc:subject/>
  <dc:title>Презентация PowerPoint</dc:title>
</cp:coreProperties>
</file>