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557-44D9-46F7-8618-4E4A024939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C23-1F80-4095-8EC5-BBD399999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5FB-6537-4964-9BE5-9AD45B6B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61F-3EC2-4824-B335-8EBCE93C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695-DEE4-43E9-9250-F340BB38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ED1-F44E-48B8-AA91-D505FB0B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A77-B5A2-4D07-A0B7-45DEB4E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DC0-0406-406B-9A53-AE42B3B8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6E5-E28D-4785-830C-5146C67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114-92DB-45FE-9397-F0613DCA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1C4-0482-440F-9700-479CE4DE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A52-2376-4A48-B686-115DAD4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FDB-CF9A-4051-8764-9692E5D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E6C-CC6D-41E4-856C-F15584E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038-01B8-4C3C-9F6D-3E8DC36A4FE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E22-E2C8-424E-8624-992009B8C1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396720" y="2998800"/>
            <a:ext cx="8229600" cy="208584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A06-9E98-493B-B011-EF42BF8089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3600360" cy="2781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7347240" cy="190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84000" y="1915920"/>
            <a:ext cx="8002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"/>
          <p:cNvSpPr/>
          <p:nvPr/>
        </p:nvSpPr>
        <p:spPr>
          <a:xfrm flipV="1">
            <a:off x="179280" y="-4593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Helvetica Neue"/>
                <a:ea typeface="Arial"/>
              </a:rPr>
              <a:t>(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5"/>
          <p:cNvSpPr/>
          <p:nvPr/>
        </p:nvSpPr>
        <p:spPr>
          <a:xfrm>
            <a:off x="684360" y="1341360"/>
            <a:ext cx="7704000" cy="5112000"/>
          </a:xfrm>
          <a:prstGeom prst="horizontalScroll">
            <a:avLst>
              <a:gd name="adj" fmla="val 12500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27130e"/>
                </a:solidFill>
                <a:latin typeface="Verdana"/>
              </a:rPr>
              <a:t>Звучишь, думаешь, слышишь, дышим, пищат, знакомишь, вертят, хрустят, дарят, смотришь, кладете, жаришь, терпят, трясет, держат, жар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E05-75CB-4F4D-8D82-3E0D5A309B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иться определять спряжение глагола с безударным личным оконча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Начать формировать навык написания безударных личных окончаний глаг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ививать любовь к языку через    нестандартное проведение уро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314D-1E21-4585-80FF-B6CA6E75EC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592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Глаго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самостоятельная часть речи, которая обозначает действие предмета и отвечает на вопросы:  что делать?   что сдел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Постоянные морфологические признаки глагола</a:t>
            </a:r>
            <a:r>
              <a:rPr b="0" lang="ru-RU" sz="2000" spc="-1" strike="noStrike">
                <a:solidFill>
                  <a:srgbClr val="c32d2e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ид (совершенный или несоверш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озврат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Перехо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пря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32d2e"/>
                </a:solidFill>
                <a:latin typeface="Verdana"/>
              </a:rPr>
              <a:t>Непостоянные морфологические признаки глагол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клон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Вр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Лицо ( настоящее и будущее врем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Числ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од (прошедшее время, единственное числ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Горизонтальный свиток 5"/>
          <p:cNvSpPr/>
          <p:nvPr/>
        </p:nvSpPr>
        <p:spPr>
          <a:xfrm>
            <a:off x="1763640" y="0"/>
            <a:ext cx="5472360" cy="1484280"/>
          </a:xfrm>
          <a:prstGeom prst="horizontalScroll">
            <a:avLst>
              <a:gd name="adj" fmla="val 125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ВСПОМН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F578-55CC-4F36-86E5-FD8D4B23C5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6264000"/>
            <a:ext cx="763272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298440" y="165240"/>
            <a:ext cx="8693280" cy="624816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E78-3314-403D-8F92-F821BAA512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2"/>
          <a:stretch/>
        </p:blipFill>
        <p:spPr>
          <a:xfrm>
            <a:off x="1822320" y="347760"/>
            <a:ext cx="541980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611617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95640" y="213372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необходимо для тог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равильно напис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d2e"/>
                </a:solidFill>
                <a:latin typeface="Verdana"/>
              </a:rPr>
              <a:t>      </a:t>
            </a:r>
            <a:r>
              <a:rPr b="1" lang="ru-RU" sz="2400" spc="-1" strike="noStrike" u="sng">
                <a:solidFill>
                  <a:srgbClr val="c32d2e"/>
                </a:solidFill>
                <a:uFillTx/>
                <a:latin typeface="Verdana"/>
              </a:rPr>
              <a:t>безударное личное окон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ru-RU" sz="2800" spc="-1" strike="noStrike">
                <a:solidFill>
                  <a:srgbClr val="27130e"/>
                </a:solidFill>
                <a:latin typeface="Verdana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ш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 ? 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 ? 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Рисунок 3" descr="фото думающего.jpg"/>
          <p:cNvPicPr/>
          <p:nvPr/>
        </p:nvPicPr>
        <p:blipFill>
          <a:blip r:embed="rId1"/>
          <a:stretch/>
        </p:blipFill>
        <p:spPr>
          <a:xfrm>
            <a:off x="0" y="550800"/>
            <a:ext cx="2658960" cy="280836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0B96-6CD5-4346-98FB-9B002495C0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-облако 5"/>
          <p:cNvSpPr/>
          <p:nvPr/>
        </p:nvSpPr>
        <p:spPr>
          <a:xfrm>
            <a:off x="1042920" y="115920"/>
            <a:ext cx="6769080" cy="1838160"/>
          </a:xfrm>
          <a:prstGeom prst="cloudCallout">
            <a:avLst>
              <a:gd name="adj1" fmla="val -41388"/>
              <a:gd name="adj2" fmla="val 66805"/>
            </a:avLst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d47"/>
                </a:solidFill>
                <a:latin typeface="Verdana"/>
              </a:rPr>
              <a:t>Зачем нам определять спряжение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лаго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609480" y="-49320"/>
            <a:ext cx="8358480" cy="224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26560" y="191592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тавим глагол в инфинитив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неопределенную форму), сохраняя вид: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что делать? –игрА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мотрим, на что заканчивается инфинити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 наш глаго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на 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кроме брить, стелит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есл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этот глагол -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сключение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слышать, дышать,    держать, гнать, видеть, обидеть, смотреть, зависеть, вертеть, терпеть, ненавиде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, то он –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2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о всех остальных случаях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1900" spc="-1" strike="noStrike">
                <a:solidFill>
                  <a:srgbClr val="002060"/>
                </a:solidFill>
                <a:latin typeface="Verdana"/>
              </a:rPr>
              <a:t>брить, стелить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– это  глагол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1 спря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Итак,   игрАть – на АТЬ – 1 спр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Смотрим в таблицу 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ыбираем нужное личное окончан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Стрелка вниз 4"/>
          <p:cNvSpPr/>
          <p:nvPr/>
        </p:nvSpPr>
        <p:spPr>
          <a:xfrm>
            <a:off x="4427640" y="5877000"/>
            <a:ext cx="485640" cy="7920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300-C94A-4CA1-BA7A-F4FFC1A845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G:\презентация по глаголу\conjugation (1).gif"/>
          <p:cNvPicPr/>
          <p:nvPr/>
        </p:nvPicPr>
        <p:blipFill>
          <a:blip r:embed="rId2"/>
          <a:stretch/>
        </p:blipFill>
        <p:spPr>
          <a:xfrm>
            <a:off x="468360" y="1268280"/>
            <a:ext cx="8211960" cy="5329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C13-5102-4162-9C93-29A4223EFC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11280" y="585720"/>
            <a:ext cx="58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Arial"/>
              <a:ea typeface="Arial"/>
            </a:endParaRPr>
          </a:p>
        </p:txBody>
      </p:sp>
      <p:pic>
        <p:nvPicPr>
          <p:cNvPr id="76" name="Picture 2" descr="G:\презентация по глаголу\i (7).jpg"/>
          <p:cNvPicPr/>
          <p:nvPr/>
        </p:nvPicPr>
        <p:blipFill>
          <a:blip r:embed="rId1"/>
          <a:stretch/>
        </p:blipFill>
        <p:spPr>
          <a:xfrm>
            <a:off x="306360" y="260280"/>
            <a:ext cx="2033640" cy="20066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077320" cy="402264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12E7-F7DF-4379-AB5B-3852490D31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носка-облако 3"/>
          <p:cNvSpPr/>
          <p:nvPr/>
        </p:nvSpPr>
        <p:spPr>
          <a:xfrm>
            <a:off x="3429000" y="42840"/>
            <a:ext cx="5076720" cy="2266920"/>
          </a:xfrm>
          <a:prstGeom prst="cloudCallout">
            <a:avLst>
              <a:gd name="adj1" fmla="val -86513"/>
              <a:gd name="adj2" fmla="val -4999"/>
            </a:avLst>
          </a:prstGeom>
          <a:solidFill>
            <a:srgbClr val="3891a7"/>
          </a:solidFill>
          <a:ln w="2556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гр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ть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-1 спр., поэтому пишем - 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ИГРА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600" spc="-1" strike="noStrike">
                <a:solidFill>
                  <a:srgbClr val="475a8d"/>
                </a:solidFill>
                <a:latin typeface="Comic Sans MS"/>
              </a:rPr>
              <a:t>. Вычеркните лишнее слово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Пишем, вяжем, стираем, друж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Строим, клеим, отвечаем,  говорим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Молчат, посеют, думают, живу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Читать, делать, лететь, накрыл, пе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Брить, стелить, ненавидеть, слышать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роить, гнать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2" descr="G:\презентация по глаголу\i (5).jpg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55736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AE0F-6710-4413-8D63-507C6D97B8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1T11:58:35Z</dcterms:created>
  <dc:creator>U</dc:creator>
  <dc:description/>
  <dc:language>en-US</dc:language>
  <cp:lastModifiedBy>Гайфуллина ЭТ</cp:lastModifiedBy>
  <dcterms:modified xsi:type="dcterms:W3CDTF">2020-04-08T09:10:46Z</dcterms:modified>
  <cp:revision>64</cp:revision>
  <dc:subject/>
  <dc:title>СПРЯЖЕНИЕ ГЛАГОЛА</dc:title>
</cp:coreProperties>
</file>