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C2A-2D17-4F89-B3DC-466F7708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EBD-2DC1-4336-8A07-2EE5DF39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C0B-F582-4D42-9246-08DCBCF7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121-27A8-467E-BE40-D21FBA3A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656B-ACC8-4E47-8673-944AAD18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2279-8A26-4FD3-9028-F2027BB4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542D-B3BA-43FD-BFFF-CDB745B3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7344-7B91-4127-8132-A49386AD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008A-CD69-4F15-8103-9E13F84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3596-9F95-4BC3-9163-05D94FE5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5FCC-F67E-4695-98AA-0FAFD951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DE6-D6DF-4E00-881E-08BBA48A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0AF4-54B2-41A4-A235-C0C9B9BC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8CC9-F5D0-4067-A3E4-040B27F5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4581-6C55-4C65-8224-6F4B3AFB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2A6A-BBB3-43E6-A096-F9BFF845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6EDF-E71F-4661-AF52-4BBE285F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103-7E1E-4441-B33C-E446DAB9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BD4-A443-40C2-BED4-E9AF3C2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9D6-BBE0-4E3D-AD4F-552592A3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718-AB7B-49B4-AD67-82BB4881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50B-B08A-4B33-A894-31E1B058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F6B-F19D-49A2-944B-55108E05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657-50E4-41B9-97ED-BB61220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B6A7-4C7A-4BFD-9FB6-148614A671B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80CD-0956-4BAD-8650-FA7277EF885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42920" y="393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buClr>
                <a:srgbClr val="2342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34271"/>
                </a:solidFill>
                <a:latin typeface="Arial"/>
                <a:ea typeface="Arial"/>
              </a:rPr>
              <a:t>Государственное устройство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buClr>
                <a:srgbClr val="2342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34271"/>
                </a:solidFill>
                <a:latin typeface="Arial"/>
                <a:ea typeface="Arial"/>
              </a:rPr>
              <a:t>Географическое положение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buClr>
                <a:srgbClr val="2342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34271"/>
                </a:solidFill>
                <a:latin typeface="Arial"/>
                <a:ea typeface="Arial"/>
              </a:rPr>
              <a:t>Природа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buClr>
                <a:srgbClr val="2342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34271"/>
                </a:solidFill>
                <a:latin typeface="Arial"/>
                <a:ea typeface="Arial"/>
              </a:rPr>
              <a:t>Население и экономика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71640" y="1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897"/>
                </a:solidFill>
                <a:latin typeface="Calibri"/>
              </a:rPr>
              <a:t>География 7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D:\mygeography\Презентации\США\map5.png"/>
          <p:cNvPicPr/>
          <p:nvPr/>
        </p:nvPicPr>
        <p:blipFill>
          <a:blip r:embed="rId1"/>
          <a:stretch/>
        </p:blipFill>
        <p:spPr>
          <a:xfrm>
            <a:off x="4405320" y="1557360"/>
            <a:ext cx="4281480" cy="265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USA"/>
          <p:cNvPicPr/>
          <p:nvPr/>
        </p:nvPicPr>
        <p:blipFill>
          <a:blip r:embed="rId2"/>
          <a:stretch/>
        </p:blipFill>
        <p:spPr>
          <a:xfrm>
            <a:off x="6372360" y="372960"/>
            <a:ext cx="1079280" cy="10573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95280" y="901800"/>
            <a:ext cx="41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234271"/>
                </a:solidFill>
                <a:latin typeface="Arial"/>
              </a:rPr>
              <a:t>оединен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Ш</a:t>
            </a:r>
            <a:r>
              <a:rPr b="1" lang="ru-RU" sz="4000" spc="-1" strike="noStrike">
                <a:solidFill>
                  <a:srgbClr val="234271"/>
                </a:solidFill>
                <a:latin typeface="Arial"/>
              </a:rPr>
              <a:t>тат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234271"/>
                </a:solidFill>
                <a:latin typeface="Arial"/>
              </a:rPr>
              <a:t>мери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Внутренние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вод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3640" y="764640"/>
            <a:ext cx="5327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ьшая часть Соединенных Штатов Америки покрыты реками и озерами разной величины, но есть и участки страны, на которых полностью отсутствуют реки и озера. Самой большой рекой в Северной Америке является река Миссисипи. Она как раз протекает по территории США, как бы разделяя страну на восточную и западную часть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7" name="Picture 2" descr="внутренние воды США"/>
          <p:cNvPicPr/>
          <p:nvPr/>
        </p:nvPicPr>
        <p:blipFill>
          <a:blip r:embed="rId1"/>
          <a:stretch/>
        </p:blipFill>
        <p:spPr>
          <a:xfrm>
            <a:off x="5651640" y="620640"/>
            <a:ext cx="336060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Объект 2"/>
          <p:cNvSpPr/>
          <p:nvPr/>
        </p:nvSpPr>
        <p:spPr>
          <a:xfrm>
            <a:off x="333360" y="3716280"/>
            <a:ext cx="84153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самым крупным рекам США можно отнести следующие реки: Миссисипи, Огайо, Колорадо, Миссури, Рио-Гранде и другие. Все реки, расположенные на территории США относятся к бассейнам Тихого, Атлантического и Северного Ледовитого океанов. Также на территории страны расположено много озер, в том числе к самым крупным озерам относят Великое озеро, Гурон, Эри, Онтарио, Мичиган, Большое соленое озеро и многие другие. Таким образом, страна США богата на внутренние воды, которые неравномерно расположены по всей ее территории, но все же есть и огромные участки суши без водое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Миссисип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0" name="Picture 2" descr="C:\Documents and Settings\Admin\Мои документы\Мои рисунки\2925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75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dmin\Мои документы\Мои рисунки\f1508gqu.jpg"/>
          <p:cNvPicPr/>
          <p:nvPr/>
        </p:nvPicPr>
        <p:blipFill>
          <a:blip r:embed="rId2"/>
          <a:stretch/>
        </p:blipFill>
        <p:spPr>
          <a:xfrm>
            <a:off x="0" y="2133720"/>
            <a:ext cx="5560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Природные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зон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560" y="692280"/>
            <a:ext cx="509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территории США можно встретить хвойные леса, тундру, тайгу, лиственные леса, смешанные леса, а также степи, пустыни и даже тропические леса. Такое разнообразие природных зон обуславливает и огромное разнообразие животного мира на территории всей страны. Много животных есть таких, которые проживают на материке Евразия, например: медведи, лоси, олени, волки, еноты, барсуки и т.д. Также есть и уникальные животные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территории США можно встретить бизонов, разнообразных грызунов, пресмыкающихся, огромное разнообразие птиц. Обитают опоссумы, аллигаторовая черепаха, ягуары, пумы и многие други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2" descr="природные зоны США"/>
          <p:cNvPicPr/>
          <p:nvPr/>
        </p:nvPicPr>
        <p:blipFill>
          <a:blip r:embed="rId1"/>
          <a:stretch/>
        </p:blipFill>
        <p:spPr>
          <a:xfrm>
            <a:off x="5551560" y="692280"/>
            <a:ext cx="35701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71600" y="144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Природные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зон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9810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же благодаря разнообразию природных зон, в США и очень разнообразен растительный мир. На севере страны преобладают лиственные и смешанные леса. Где наиболее часто встречаются такие деревья как дуб, береза, сосна, кедры и другие лиственные виды деревьев. В южной части страны можно встретить каучуковые деревья, магнолии и т.д. А вот в засушливых регионах встречаются больше кустарники, полукустарники, кактусы и другие растения, которые приспособлены к засухе. На побережье Мексиканского залива встречаются пальмы, цитрусовые деревья, манговые деревья, а также известные секвойи. Именно на территории США растет самое большое в мире дерево, которое тоже относится к секвойям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7" name="Picture 2" descr="https://i.pinimg.com/736x/a2/64/5e/a2645e4e71a38767ce737cb4dd57b24a.jpg"/>
          <p:cNvPicPr/>
          <p:nvPr/>
        </p:nvPicPr>
        <p:blipFill>
          <a:blip r:embed="rId1"/>
          <a:stretch/>
        </p:blipFill>
        <p:spPr>
          <a:xfrm>
            <a:off x="6404040" y="1214280"/>
            <a:ext cx="2636640" cy="3961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6781680" y="51260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квой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Население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СШ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5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prousa.ru/images/states/colorado/arapaho_1898.jpg"/>
          <p:cNvPicPr/>
          <p:nvPr/>
        </p:nvPicPr>
        <p:blipFill>
          <a:blip r:embed="rId1"/>
          <a:stretch/>
        </p:blipFill>
        <p:spPr>
          <a:xfrm>
            <a:off x="900000" y="333360"/>
            <a:ext cx="7143840" cy="53722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1783080" y="5877000"/>
            <a:ext cx="59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ейцы- коренной народ С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Arial"/>
                <a:ea typeface="Arial"/>
              </a:rPr>
              <a:t>Население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85840" y="71424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йские племена заселили территорию США около 10 тыс. лет назад, а их потомки оставались преобладающим этническим компонентом до конца XVII века. Современные жители — потомки относительно недавних (XVII—XX веков) переселенцев из Европы (преимущественно Западной) и Африки. Необходимо отметить, что полное право называться американцами получают лишь дети иммигрантов, родившиеся в США. В стране сохраняется чёткое разделение на иностранцев и уроженцев, между которыми имеется значительная культурно-языковая дистанция. Доминирующей во всех отношениях и регионах (кроме штата Гавайи) в настоящее время является европеоидная раса — выходцы из Соединённого Королевства, Германии, Ирландии и других европейских стран. Далее выделяются афроамериканцы, латиноамериканцы, азиаты, индейцы и прочие, на которых приходится свыше трети насел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8" descr="D:\mygeography\Презентации\США\indeici3.jpg"/>
          <p:cNvPicPr/>
          <p:nvPr/>
        </p:nvPicPr>
        <p:blipFill>
          <a:blip r:embed="rId1"/>
          <a:stretch/>
        </p:blipFill>
        <p:spPr>
          <a:xfrm>
            <a:off x="6286680" y="4632480"/>
            <a:ext cx="2500200" cy="19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D:\mygeography\Презентации\США\people6.jpg"/>
          <p:cNvPicPr/>
          <p:nvPr/>
        </p:nvPicPr>
        <p:blipFill>
          <a:blip r:embed="rId2"/>
          <a:stretch/>
        </p:blipFill>
        <p:spPr>
          <a:xfrm>
            <a:off x="357120" y="4643280"/>
            <a:ext cx="2865600" cy="2000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D:\mygeography\Презентации\США\people1.jpg"/>
          <p:cNvPicPr/>
          <p:nvPr/>
        </p:nvPicPr>
        <p:blipFill>
          <a:blip r:embed="rId3"/>
          <a:stretch/>
        </p:blipFill>
        <p:spPr>
          <a:xfrm>
            <a:off x="3500280" y="4619520"/>
            <a:ext cx="2500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Население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СШ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836280"/>
            <a:ext cx="5423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США очень разноплановое по этническому и национальному признаку, поэтому США достаточно обоснованно называют нацией иммигрантов — с 1790 по 1994 гг. в страну прибыло из Европы, Латинской Америки,  Азии  и  Африки   почти  64 млн иммигрантов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коло 90 % чернокожих и 60 % индейцев проживают в городах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Объект 2"/>
          <p:cNvSpPr/>
          <p:nvPr/>
        </p:nvSpPr>
        <p:spPr>
          <a:xfrm>
            <a:off x="0" y="4005360"/>
            <a:ext cx="896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плотность населения - 28 чел./км2. Но размещено неравномерно. Так в северо-восточных районах плотность населения составляет свыше 100 чел./км2, в аграрных районах и слабо заселенных горных штатах от 2 до 11, а на Аляске - еще меньше. Наибольшая численность населения характерна для штатов Калифорния (31,2 млн. человек, 1993 г.), Нью-Йорка (18,2 млн.), Техаса (18 млн.), Флориды (13,7 млн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ША десять городов-миллионников, 4 из которых имеют численность более 2 млн. человек: Нью-Йорк, Лос-Анджелес, Чикаго и Хьюсто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https://avatars.mds.yandex.net/get-zen_doc/1577695/pub_5d76149f98930900ae483334_5d76183523bf4800adab18bb/scale_1200"/>
          <p:cNvPicPr/>
          <p:nvPr/>
        </p:nvPicPr>
        <p:blipFill>
          <a:blip r:embed="rId1"/>
          <a:stretch/>
        </p:blipFill>
        <p:spPr>
          <a:xfrm>
            <a:off x="5111640" y="1257480"/>
            <a:ext cx="4032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547640" y="18900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е большие города США: Нью-Йорк, Хьюстон, Чикаго, Лос-Анджеле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File:New York Midtown Skyline at night - Jan 2006 edit1.jpg"/>
          <p:cNvPicPr/>
          <p:nvPr/>
        </p:nvPicPr>
        <p:blipFill>
          <a:blip r:embed="rId1"/>
          <a:stretch/>
        </p:blipFill>
        <p:spPr>
          <a:xfrm>
            <a:off x="611280" y="1052640"/>
            <a:ext cx="7812000" cy="273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File:Lower Manhattan from Staten Island Ferry Corrected Jan 2006.jpg"/>
          <p:cNvPicPr/>
          <p:nvPr/>
        </p:nvPicPr>
        <p:blipFill>
          <a:blip r:embed="rId2"/>
          <a:stretch/>
        </p:blipFill>
        <p:spPr>
          <a:xfrm>
            <a:off x="395280" y="4005360"/>
            <a:ext cx="8353440" cy="20876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3719520" y="6237360"/>
            <a:ext cx="22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</a:rPr>
              <a:t>Нью-Йор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4427640" y="620640"/>
            <a:ext cx="43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яется крупнейшей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Arial"/>
              </a:rPr>
              <a:t>экономикой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3780000" y="2540160"/>
            <a:ext cx="51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ью-Йорк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важнейший экономический центр Соединённых Штатов и всего мира. Нью-Йорк, наряду с Лондоном и Токио, называют одним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ёх основных центров мировой экономики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320760" y="499752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олл-стр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символ финансового могущества Амер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http://www.profi-forex.org/system/news/31_16.jpg"/>
          <p:cNvPicPr/>
          <p:nvPr/>
        </p:nvPicPr>
        <p:blipFill>
          <a:blip r:embed="rId1"/>
          <a:stretch/>
        </p:blipFill>
        <p:spPr>
          <a:xfrm>
            <a:off x="295200" y="836640"/>
            <a:ext cx="3024360" cy="4033800"/>
          </a:xfrm>
          <a:prstGeom prst="rect">
            <a:avLst/>
          </a:prstGeom>
          <a:ln w="0">
            <a:noFill/>
          </a:ln>
        </p:spPr>
      </p:pic>
      <p:sp>
        <p:nvSpPr>
          <p:cNvPr id="150" name="Заголовок 1"/>
          <p:cNvSpPr/>
          <p:nvPr/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</a:rPr>
              <a:t>Экономика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</a:rPr>
              <a:t>С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3132000" y="817560"/>
            <a:ext cx="5616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f5897"/>
                </a:solidFill>
                <a:latin typeface="Arial"/>
              </a:rPr>
              <a:t>США</a:t>
            </a:r>
            <a:r>
              <a:rPr b="0" lang="ru-RU" sz="2600" spc="-1" strike="noStrike">
                <a:solidFill>
                  <a:srgbClr val="2f5897"/>
                </a:solidFill>
                <a:latin typeface="Arial"/>
              </a:rPr>
              <a:t> - государство в Северной Америке, площадью  9,8 млн км² (3-е место в мире, уступая Канаде и России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f5897"/>
                </a:solidFill>
                <a:latin typeface="Arial"/>
              </a:rPr>
              <a:t>Население</a:t>
            </a:r>
            <a:r>
              <a:rPr b="0" lang="ru-RU" sz="2600" spc="-1" strike="noStrike">
                <a:solidFill>
                  <a:srgbClr val="2f5897"/>
                </a:solidFill>
                <a:latin typeface="Arial"/>
              </a:rPr>
              <a:t> — 329 210 630 человек (данные на январь 2020 года)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f5897"/>
                </a:solidFill>
                <a:latin typeface="Arial"/>
              </a:rPr>
              <a:t>Столица</a:t>
            </a:r>
            <a:r>
              <a:rPr b="0" lang="ru-RU" sz="2600" spc="-1" strike="noStrike">
                <a:solidFill>
                  <a:srgbClr val="2f5897"/>
                </a:solidFill>
                <a:latin typeface="Arial"/>
              </a:rPr>
              <a:t> — город Вашингт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9" descr="D:\mygeography\Презентации\США\st-svobody02.jpg"/>
          <p:cNvPicPr/>
          <p:nvPr/>
        </p:nvPicPr>
        <p:blipFill>
          <a:blip r:embed="rId1"/>
          <a:stretch/>
        </p:blipFill>
        <p:spPr>
          <a:xfrm>
            <a:off x="369720" y="260280"/>
            <a:ext cx="2519640" cy="1738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D:\mygeography\Презентации\США\Grizzly.jpg"/>
          <p:cNvPicPr/>
          <p:nvPr/>
        </p:nvPicPr>
        <p:blipFill>
          <a:blip r:embed="rId2"/>
          <a:stretch/>
        </p:blipFill>
        <p:spPr>
          <a:xfrm>
            <a:off x="338040" y="2286000"/>
            <a:ext cx="2519640" cy="210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D:\mygeography\Презентации\США\vashington02.jpg"/>
          <p:cNvPicPr/>
          <p:nvPr/>
        </p:nvPicPr>
        <p:blipFill>
          <a:blip r:embed="rId3"/>
          <a:stretch/>
        </p:blipFill>
        <p:spPr>
          <a:xfrm>
            <a:off x="338040" y="4643280"/>
            <a:ext cx="25196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36320" y="836640"/>
            <a:ext cx="8528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же более 100 лет США занимают 1 ме­сто в мире по объёму промышленного производства, уровню развития сельского хозяйств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о характеризуется индустриально-аграрной моделью хозяйства. Это означает, что наряду с промышленностью в государстве равно хорошо развит аграрный комплекс. Однако в последние десять лет по мере роста промышленности, в стране отмечается сокращение темпов и объемов развития в сельскохозяйственном секторе экономики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аграрном комплексе доминирует земледелие. Центральные равнины, охватывающие территории от границ с Канадой до Техаса служат для выращивания преимущественно зерновых культур (сорго, ячменя, пшеницы, риса и кукурузы). Почти половина страны занята обрабатываемыми землями, лугами и пастбищами. Пшеница является главной продовольственной культурой, тем не менее, ее превышают объемы кормовых растений, а также масличных, волокнистых, сахароносных культур, овощей и фруктов. Именно экспорт злаковых составляет фундамент американского продовольственного экспорт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</a:rPr>
              <a:t>Экономика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</a:rPr>
              <a:t>С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179280" y="18900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улярные американские марки маш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http://www.fordlist.ru/fordfocus/fotofocus/focus_hb04_big.jpg"/>
          <p:cNvPicPr/>
          <p:nvPr/>
        </p:nvPicPr>
        <p:blipFill>
          <a:blip r:embed="rId1"/>
          <a:stretch/>
        </p:blipFill>
        <p:spPr>
          <a:xfrm>
            <a:off x="179280" y="765000"/>
            <a:ext cx="4129200" cy="3095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rewalls.com/large/201108/42948.jpg"/>
          <p:cNvPicPr/>
          <p:nvPr/>
        </p:nvPicPr>
        <p:blipFill>
          <a:blip r:embed="rId2"/>
          <a:stretch/>
        </p:blipFill>
        <p:spPr>
          <a:xfrm>
            <a:off x="4427640" y="765000"/>
            <a:ext cx="446076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117440" y="3933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6"/>
          <p:cNvSpPr/>
          <p:nvPr/>
        </p:nvSpPr>
        <p:spPr>
          <a:xfrm>
            <a:off x="6663960" y="386064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жи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8" descr="http://auto.vesti.ru/p/bg800_355667.jpg"/>
          <p:cNvPicPr/>
          <p:nvPr/>
        </p:nvPicPr>
        <p:blipFill>
          <a:blip r:embed="rId3"/>
          <a:stretch/>
        </p:blipFill>
        <p:spPr>
          <a:xfrm>
            <a:off x="2843280" y="3933720"/>
            <a:ext cx="3457440" cy="2590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8"/>
          <p:cNvSpPr/>
          <p:nvPr/>
        </p:nvSpPr>
        <p:spPr>
          <a:xfrm>
            <a:off x="3927240" y="6488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вр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Домашнее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задание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§ 47,48.  задание 1-2 стр. 140-141 РТ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787320" y="83808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ённые Штаты Америки были образованы в 1776 году при объединении 13 британских колоний, объявивших о своей независимости (13 красно-белых полос на флаге). Война за независимость продолжалась до 1783 года и окончилась победой колонист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787320" y="3141720"/>
            <a:ext cx="806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ённые Штаты Америки состоят из 50 штатов, являющихся равноправными субъектами федерации (50 звезд на синем фоне флага). Каждый штат имеет свою конституцию, законодательную, исполнительную и судебную власти. Большинство названий штатов происходят от названий индейских племён и имён королей Англии и Фран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аты делятся на округа — более мелкие административные единицы, меньшие, чем штат, и не меньшие, чем город, за исключением пяти округов в составе города Нью-Йорка. Наименьшее количество округов в штате Делавэр (3), наибольшее в штате   Техас (254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File:Flag of the United States.svg"/>
          <p:cNvPicPr/>
          <p:nvPr/>
        </p:nvPicPr>
        <p:blipFill>
          <a:blip r:embed="rId1"/>
          <a:stretch/>
        </p:blipFill>
        <p:spPr>
          <a:xfrm>
            <a:off x="5718240" y="923760"/>
            <a:ext cx="3230640" cy="2016360"/>
          </a:xfrm>
          <a:prstGeom prst="rect">
            <a:avLst/>
          </a:prstGeom>
          <a:ln w="0">
            <a:noFill/>
          </a:ln>
        </p:spPr>
      </p:pic>
      <p:sp>
        <p:nvSpPr>
          <p:cNvPr id="101" name="Заголовок 1"/>
          <p:cNvSpPr/>
          <p:nvPr/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</a:rPr>
              <a:t>Государственное устрой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Географическое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положение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1052280"/>
            <a:ext cx="5602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ерритория США (называемая 48 континентальных штатов) расположена на Северо-Американском континенте и простирается от Атлантического океана на востоке до Тихого океана на западе. На юге США граничат с Мексикой, на севере — с Канадой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роме того, в состав США входят ещё 2 штата. На крайнем северо-западе континента находится штат Аляска, также граничащий с Канадой. В Тихом океане находится штат Гавайи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раница с Россией проходит через Берингов пролив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ША также принадлежит ряд островов в Карибском море (например, Пуэрто-Рико) и в Тихом океане (Американское Самоа, Мидуэй, Гуам и др.)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территории США выделяется несколько крупных физико-географических регионов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https://2.bp.blogspot.com/-cpnHncE0W_4/WQCF3UOwM1I/AAAAAAAAl7I/4PckVv6f3bsh-xWsaSOhTjHvvEiooXnwwCLcB/s1600/%25E1%2583%259E%25E1%2583%259D%25E1%2583%259A%25E1%2583%2598%25E1%2583%25A2%25E1%2583%2598%25E1%2583%2599%25E1%2583%25A3%25E1%2583%25A0%25E1%2583%2598.jpg"/>
          <p:cNvPicPr/>
          <p:nvPr/>
        </p:nvPicPr>
        <p:blipFill>
          <a:blip r:embed="rId1"/>
          <a:stretch/>
        </p:blipFill>
        <p:spPr>
          <a:xfrm>
            <a:off x="5781600" y="1052640"/>
            <a:ext cx="33339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s://ds04.infourok.ru/uploads/ex/11c3/000f5402-fc6d3663/img4.jpg"/>
          <p:cNvPicPr/>
          <p:nvPr/>
        </p:nvPicPr>
        <p:blipFill>
          <a:blip r:embed="rId1"/>
          <a:stretch/>
        </p:blipFill>
        <p:spPr>
          <a:xfrm>
            <a:off x="-25560" y="115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s://ds04.infourok.ru/uploads/ex/11c3/000f5402-fc6d3663/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Климат</a:t>
            </a: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3600" spc="-1" strike="noStrike">
                <a:solidFill>
                  <a:srgbClr val="2f5897"/>
                </a:solidFill>
                <a:latin typeface="Arial"/>
                <a:ea typeface="Arial"/>
              </a:rPr>
              <a:t>СШ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765000"/>
            <a:ext cx="8497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громная территория США охватывает почти все климатические зоны. В Штатах есть регионы с полярным климатом, есть места, больше похожие на тропики, чем на привычные земли СШ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меренный климат – это тот тип климата, который преобладает в Америке. Например, Нью-Йорк находится под влиянием умеренного и морского климата, что характеризует мегаполис, как влажное место с выраженными сезонами, частыми снегопадами и скачками температур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281160" indent="-2811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авайи, Флорида и Калифорния относятся к тропической зоне. Жара там сменяется легким похолоданием только в зимние месяцы. Осадки случаются часто, бывают шторма на побережье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западе страны климат всегда более сухой, чем на востоке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281160" indent="-281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барктические и полярные условия характерны для американской Аляски. Для Великих равнин, а также штатов, которые там расположены, характерен климат полупустынь. Средиземноморский климат преобладает на востоке США по всему побережь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5897"/>
                </a:solidFill>
                <a:latin typeface="Arial"/>
                <a:ea typeface="Arial"/>
              </a:rPr>
              <a:t>Особенности большого количества климатических зон в Штатах сводятся к стихийным бедствиям и негативным природным явлениям.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Arial"/>
                <a:ea typeface="Arial"/>
              </a:rPr>
              <a:t>Засух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лучается в штатах, где преобладают условия полупустыни. Сильнейшая засуха, уничтожившая многие фермерские хозяйства, случилась в Америке в 1931 году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Arial"/>
                <a:ea typeface="Arial"/>
              </a:rPr>
              <a:t>Навод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На побережье нередко случаются шторма, приводящие к наводнениям в прибрежных городах. Регулярно топит и Калифорнию из-за дождей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Arial"/>
                <a:ea typeface="Arial"/>
              </a:rPr>
              <a:t>Торнад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 числу смерчей и ураганов Америка находится впереди планеты всей. Техас, Оклахома, Канзас и Миссури образуют «аллею торнадо». Там из-за частого столкновения разных воздушных масс смерчи случаются чаще всего. Гавайи тоже подвержены разрушительным ураганам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2f58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897"/>
                </a:solidFill>
                <a:latin typeface="Arial"/>
                <a:ea typeface="Arial"/>
              </a:rPr>
              <a:t>Землетряс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Вулканы и тектонические разломы на территории Штатов способствуют тому, что на этих землях периодически случаются землетрясения. Калифорния, Аляска, Гавайи испытывают капризы природы на своей территории циклично и регулярно. Следствием постоянных землетрясений на западном побережье США становятся цунам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s://usamagazine.ru/wp-content/uploads/2019/04/klimat3.jpg"/>
          <p:cNvPicPr/>
          <p:nvPr/>
        </p:nvPicPr>
        <p:blipFill>
          <a:blip r:embed="rId1"/>
          <a:stretch/>
        </p:blipFill>
        <p:spPr>
          <a:xfrm>
            <a:off x="5102280" y="260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s://im0-tub-ru.yandex.net/i?id=09cf83d2d6f72910762759c5945a874f-l&amp;n=13"/>
          <p:cNvPicPr/>
          <p:nvPr/>
        </p:nvPicPr>
        <p:blipFill>
          <a:blip r:embed="rId2"/>
          <a:stretch/>
        </p:blipFill>
        <p:spPr>
          <a:xfrm>
            <a:off x="324000" y="295200"/>
            <a:ext cx="4516200" cy="2989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s://u-f.ru/sites/default/files/file_0.jpg"/>
          <p:cNvPicPr/>
          <p:nvPr/>
        </p:nvPicPr>
        <p:blipFill>
          <a:blip r:embed="rId3"/>
          <a:stretch/>
        </p:blipFill>
        <p:spPr>
          <a:xfrm>
            <a:off x="4356000" y="3573360"/>
            <a:ext cx="4759560" cy="288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https://fb.ru/misc/i/gallery/47097/2693025.jpg?1545574539"/>
          <p:cNvPicPr/>
          <p:nvPr/>
        </p:nvPicPr>
        <p:blipFill>
          <a:blip r:embed="rId4"/>
          <a:stretch/>
        </p:blipFill>
        <p:spPr>
          <a:xfrm>
            <a:off x="341280" y="3605040"/>
            <a:ext cx="3799080" cy="28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Татьяна</cp:lastModifiedBy>
  <dcterms:modified xsi:type="dcterms:W3CDTF">2020-04-08T00:05:23Z</dcterms:modified>
  <cp:revision>62</cp:revision>
  <dc:subject/>
  <dc:title>Презентация PowerPoint</dc:title>
</cp:coreProperties>
</file>