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3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9.png" ContentType="image/png"/>
  <Override PartName="/ppt/media/image7.png" ContentType="image/png"/>
  <Override PartName="/ppt/media/CAMERA.WAV" ContentType="audio/x-wav"/>
  <Override PartName="/ppt/media/image24.wmf" ContentType="image/x-wmf"/>
  <Override PartName="/ppt/media/image8.png" ContentType="image/png"/>
  <Override PartName="/ppt/media/image9.png" ContentType="image/png"/>
  <Override PartName="/ppt/media/image27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11.png" ContentType="image/png"/>
  <Override PartName="/ppt/media/image12.png" ContentType="image/png"/>
  <Override PartName="/ppt/media/image13.png" ContentType="image/png"/>
  <Override PartName="/ppt/media/CASHREG.WAV" ContentType="audio/x-wav"/>
  <Override PartName="/ppt/media/image1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media/PROJCTOR.WAV" ContentType="audio/x-wav"/>
  <Override PartName="/ppt/media/image2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e-B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e-B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3793-7E17-4F45-B1AB-1D076129981B}" type="slidenum">
              <a:rPr b="0" lang="be-B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74CD-6A1C-4E2E-92BF-81C58495A8E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FA7F-C206-4E36-81FB-3EE00F73594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C097-64A6-49A2-9D82-C825BE4FBA7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DFC9-4A7A-4C42-9024-2D5F8F24364C}" type="slidenum">
              <a:rPr b="0" lang="be-B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60C4-4E9A-44D6-98C4-F7BCA48C6BB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ргументами функций могут быть числовые и текстовые значения, логические значения, массивы, значения ошибок, или они могут вовсе отсутствовать для некоторых функций. Например, функция СУММ(А1:А10) суммирует значения диапазона ячеек А1:А10; ЧИСТРАБДНИ("10.05.1999";"20.05.1999") вычисляет количество рабочих дней между двумя датами, а функция СЕГОДНЯ() – текущую дату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A4DD-5B46-4FE5-9169-2F6F602D4B3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бязательным при вводе функции является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едшествующий ей знак равняется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руглые скобки, в которые заключаются аргументы функции, причем скобки нужны даже в том случае, если для функции не требуется задавать список аргументов, как для функции СЕГОДНЯ(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тсутствие пробела между именем функции и списком аргументов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спользование латинского режима клавиатуры при вводе ссылок на адреса ячеек в формулах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FD48-4CE7-4B43-81A8-1C51A6EC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21E-B85C-4B76-92FE-E6A225AB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84AD-F3A5-4E65-9199-62E8E6EA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B24-78BB-4872-9339-1B9F0575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557D-A7E6-42ED-99F5-E328AE45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576C-0DFE-4AB6-AB15-9CE0D87A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2C11-E7A0-4D40-9A14-04C0A8FB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F48A-5AEC-4A05-ADA0-FA0589A5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F6CE-2540-4944-A3DB-A4070349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97E1-9D96-4F24-8610-80589262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2597-186C-43B5-B921-4B4BFACF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DFEC-DB77-40AE-92D1-18DC1B29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43C9-4752-4858-A21D-4A9B1678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6B64-3286-459A-B159-0EA72A29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D4A2-89D0-40C8-A647-58401222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67DA-1F4E-4CEB-9FBA-C7214791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34D2-844C-4F54-80EA-D34C566B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D59F3-C579-42CA-909D-6CB783E8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59ED1-1209-4241-A92E-D33DB0EA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274DA-101D-42C3-8AED-1193F34E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48FED-ECA5-4C17-AABA-9E523B12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FC652-C972-4441-93E0-6C55A7EE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E10-D5C0-4554-9424-E1AE49C4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390E3-CB1E-44FF-A44A-A718BEC5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E8D45-2BE3-4476-A111-D8356997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EF804-D053-4DAE-A14B-C904921E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D8E99-0172-4A84-9030-DC98C2BD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A8278-383B-4351-A8CA-F7694D51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D63F4-66D2-4293-BAED-19155F73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7CCA9-4157-446B-B37E-C36B880D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D8DE-82E7-4AD0-A37B-2B2AEA5A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F98-78A2-4479-A943-7341E35D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132-09AF-4E74-B97F-D826FC78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BD6-D3CE-47E4-8D7C-36D3C76B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FBC1-7120-4C9B-96EF-FE92B188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2FA5-FB72-47B3-A410-413798F4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e-BY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e-BY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9603-C13D-49C2-A540-F89400833F17}" type="slidenum">
              <a:rPr b="0" lang="be-BY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6583-2155-4D2D-BD05-BDDD6167538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8607-4014-4175-A0CC-36CD4CECF76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CASHREG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680" y="2349360"/>
            <a:ext cx="7858080" cy="18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231d1a"/>
                </a:solidFill>
                <a:latin typeface="Calibri"/>
              </a:rPr>
              <a:t>Табличные процесс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Основные понятия </a:t>
            </a:r>
            <a:r>
              <a:rPr b="1" lang="en-US" sz="4400" spc="-1" strike="noStrike">
                <a:solidFill>
                  <a:srgbClr val="373d54"/>
                </a:solidFill>
                <a:latin typeface="Calibri"/>
              </a:rPr>
              <a:t>MS Ex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</a:rPr>
              <a:t>Ячей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— 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базовый элемент ЭТ, область рабочей таблицы, находящаяся на пересечении столбца и строки, имеющая свое уникальное им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Сначала пишется </a:t>
            </a:r>
            <a:r>
              <a:rPr b="1" lang="ru-RU" sz="2400" spc="-1" strike="noStrike">
                <a:solidFill>
                  <a:srgbClr val="473a35"/>
                </a:solidFill>
                <a:latin typeface="Calibri"/>
              </a:rPr>
              <a:t>бук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столбц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а потом </a:t>
            </a:r>
            <a:r>
              <a:rPr b="1" lang="ru-RU" sz="2400" spc="-1" strike="noStrike">
                <a:solidFill>
                  <a:srgbClr val="660066"/>
                </a:solidFill>
                <a:latin typeface="Calibri"/>
              </a:rPr>
              <a:t>номер стро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ru-RU" sz="2400" spc="-1" strike="noStrike">
                <a:solidFill>
                  <a:srgbClr val="473a35"/>
                </a:solidFill>
                <a:latin typeface="Calibri"/>
              </a:rPr>
              <a:t>A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ru-RU" sz="2400" spc="-1" strike="noStrike">
                <a:solidFill>
                  <a:srgbClr val="473a35"/>
                </a:solidFill>
                <a:latin typeface="Calibri"/>
              </a:rPr>
              <a:t>BZ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56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   </a:t>
            </a:r>
            <a:r>
              <a:rPr b="1" lang="ru-RU" sz="2400" spc="-1" strike="noStrike">
                <a:solidFill>
                  <a:srgbClr val="473a35"/>
                </a:solidFill>
                <a:latin typeface="Calibri"/>
              </a:rPr>
              <a:t>B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9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Сначала пишут букву R (сокращение от слова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Row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— стро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номер строки, затем букву С (сокращение от слова </a:t>
            </a:r>
            <a:r>
              <a:rPr b="1" lang="ru-RU" sz="2400" spc="-1" strike="noStrike">
                <a:solidFill>
                  <a:srgbClr val="473a35"/>
                </a:solidFill>
                <a:latin typeface="Calibri"/>
              </a:rPr>
              <a:t>Column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— столбец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и номер столбц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 же ячейки, что и в предыдущем примере, будут иметь при такой записи име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R4</a:t>
            </a:r>
            <a:r>
              <a:rPr b="1" lang="ru-RU" sz="2400" spc="-1" strike="noStrike">
                <a:solidFill>
                  <a:srgbClr val="473a35"/>
                </a:solidFill>
                <a:latin typeface="Calibri"/>
              </a:rPr>
              <a:t>C1</a:t>
            </a:r>
            <a:r>
              <a:rPr b="1" lang="ru-RU" sz="2400" spc="-1" strike="noStrike">
                <a:solidFill>
                  <a:srgbClr val="464653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R56</a:t>
            </a:r>
            <a:r>
              <a:rPr b="1" lang="ru-RU" sz="2400" spc="-1" strike="noStrike">
                <a:solidFill>
                  <a:srgbClr val="473a35"/>
                </a:solidFill>
                <a:latin typeface="Calibri"/>
              </a:rPr>
              <a:t>C78</a:t>
            </a:r>
            <a:r>
              <a:rPr b="1" lang="ru-RU" sz="2400" spc="-1" strike="noStrike">
                <a:solidFill>
                  <a:srgbClr val="464653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R99</a:t>
            </a:r>
            <a:r>
              <a:rPr b="1" lang="ru-RU" sz="2400" spc="-1" strike="noStrike">
                <a:solidFill>
                  <a:srgbClr val="473a35"/>
                </a:solidFill>
                <a:latin typeface="Calibri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01"/>
              </a:spcBef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3928680" y="3071880"/>
            <a:ext cx="500040" cy="2858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4429080" y="3071880"/>
            <a:ext cx="14292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4429080" y="3071880"/>
            <a:ext cx="1000080" cy="2858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 flipH="1">
            <a:off x="5857560" y="3143160"/>
            <a:ext cx="857160" cy="2145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8676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Основные понятия </a:t>
            </a:r>
            <a:r>
              <a:rPr b="1" lang="en-US" sz="4400" spc="-1" strike="noStrike">
                <a:solidFill>
                  <a:srgbClr val="373d54"/>
                </a:solidFill>
                <a:latin typeface="Calibri"/>
              </a:rPr>
              <a:t>MS Ex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14200" y="1142640"/>
            <a:ext cx="51120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Смежная группа (блок) ячее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связанная прямоугольная часть Э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Адрес бло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стоит из координат противоположных углов, разделенных двоеточием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D1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есмежная группа (диапазон) ячее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совокупность ячеек и связанных групп ячеек. Обозначают перечисляя имена, разделенные символом “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” (точка с запято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Содержимое ячейк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это данные, которые в нее записаны (числа, текст, формулы или может быть пустой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 u="sng">
                <a:solidFill>
                  <a:srgbClr val="cc3300"/>
                </a:solidFill>
                <a:uFillTx/>
                <a:latin typeface="Calibri"/>
              </a:rPr>
              <a:t>Текущая (активная) ячейка</a:t>
            </a:r>
            <a:r>
              <a:rPr b="1" lang="be-BY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be-BY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be-BY" sz="2400" spc="-1" strike="noStrike">
                <a:solidFill>
                  <a:srgbClr val="000000"/>
                </a:solidFill>
                <a:latin typeface="Calibri"/>
              </a:rPr>
              <a:t>ячейка ЭТ, в которой в данный момент находится курсо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1" descr=""/>
          <p:cNvPicPr/>
          <p:nvPr/>
        </p:nvPicPr>
        <p:blipFill>
          <a:blip r:embed="rId1"/>
          <a:stretch/>
        </p:blipFill>
        <p:spPr>
          <a:xfrm>
            <a:off x="5429160" y="1785960"/>
            <a:ext cx="34671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Основные понятия </a:t>
            </a:r>
            <a:r>
              <a:rPr b="1" lang="en-US" sz="4400" spc="-1" strike="noStrike">
                <a:solidFill>
                  <a:srgbClr val="373d54"/>
                </a:solidFill>
                <a:latin typeface="Calibri"/>
              </a:rPr>
              <a:t>MS Ex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000" spc="-1" strike="noStrike">
                <a:solidFill>
                  <a:srgbClr val="000066"/>
                </a:solidFill>
                <a:latin typeface="Calibri"/>
              </a:rPr>
              <a:t>лист</a:t>
            </a:r>
            <a:r>
              <a:rPr b="1" i="1" lang="be-BY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e-BY" sz="3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be-BY" sz="3000" spc="-1" strike="noStrike">
                <a:solidFill>
                  <a:srgbClr val="000000"/>
                </a:solidFill>
                <a:latin typeface="Calibri"/>
              </a:rPr>
              <a:t>основа для выполнения вычислений,</a:t>
            </a:r>
            <a:r>
              <a:rPr b="0" lang="be-BY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e-BY" sz="3000" spc="-1" strike="noStrike">
                <a:solidFill>
                  <a:srgbClr val="000000"/>
                </a:solidFill>
                <a:latin typeface="Calibri"/>
              </a:rPr>
              <a:t>разделен на строки и столбц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000" spc="-1" strike="noStrike">
                <a:solidFill>
                  <a:srgbClr val="000066"/>
                </a:solidFill>
                <a:latin typeface="Calibri"/>
              </a:rPr>
              <a:t>книга</a:t>
            </a:r>
            <a:r>
              <a:rPr b="0" lang="be-BY" sz="30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e-BY" sz="3000" spc="-1" strike="noStrike">
                <a:solidFill>
                  <a:srgbClr val="000000"/>
                </a:solidFill>
                <a:latin typeface="Calibri"/>
              </a:rPr>
              <a:t>файл, используемый для обработки и хранения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данных</a:t>
            </a:r>
            <a:r>
              <a:rPr b="1" lang="be-BY" sz="3000" spc="-1" strike="noStrike">
                <a:solidFill>
                  <a:srgbClr val="000000"/>
                </a:solidFill>
                <a:latin typeface="Calibri"/>
              </a:rPr>
              <a:t>, состоящий из отдельных листо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Calibri"/>
              </a:rPr>
              <a:t>ячейка </a:t>
            </a:r>
            <a:r>
              <a:rPr b="0" lang="ru-RU" sz="3000" spc="-1" strike="noStrike">
                <a:solidFill>
                  <a:srgbClr val="000066"/>
                </a:solidFill>
                <a:latin typeface="Calibri"/>
              </a:rPr>
              <a:t>—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базовый элемент ЭТ, область рабочей таблицы, находящаяся на пересечении столбца и строки, имеющая свое уникальное им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оугольник 3"/>
          <p:cNvSpPr/>
          <p:nvPr/>
        </p:nvSpPr>
        <p:spPr>
          <a:xfrm>
            <a:off x="7346880" y="6237360"/>
            <a:ext cx="1511280" cy="287280"/>
          </a:xfrm>
          <a:prstGeom prst="rect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Данные, формулы, фун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Группа 4"/>
          <p:cNvGrpSpPr/>
          <p:nvPr/>
        </p:nvGrpSpPr>
        <p:grpSpPr>
          <a:xfrm>
            <a:off x="695160" y="1571760"/>
            <a:ext cx="8066160" cy="3786120"/>
            <a:chOff x="695160" y="1571760"/>
            <a:chExt cx="8066160" cy="3786120"/>
          </a:xfrm>
        </p:grpSpPr>
        <p:pic>
          <p:nvPicPr>
            <p:cNvPr id="222" name="Picture 2" descr=""/>
            <p:cNvPicPr/>
            <p:nvPr/>
          </p:nvPicPr>
          <p:blipFill>
            <a:blip r:embed="rId1"/>
            <a:srcRect l="51955" t="28472" r="9766" b="39584"/>
            <a:stretch/>
          </p:blipFill>
          <p:spPr>
            <a:xfrm>
              <a:off x="695160" y="1571760"/>
              <a:ext cx="8066160" cy="37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Box 3"/>
            <p:cNvSpPr/>
            <p:nvPr/>
          </p:nvSpPr>
          <p:spPr>
            <a:xfrm>
              <a:off x="3642840" y="2000160"/>
              <a:ext cx="29289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alibri"/>
                  <a:ea typeface="Arial"/>
                </a:rPr>
                <a:t>- типы данны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3d54"/>
                </a:solidFill>
                <a:latin typeface="Calibri"/>
              </a:rPr>
              <a:t>Типы данн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6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libri"/>
              </a:rPr>
              <a:t>Числ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ловая конста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alibri"/>
              </a:rPr>
              <a:t>-123</a:t>
            </a:r>
            <a:r>
              <a:rPr b="0" i="1" lang="ru-RU" sz="2800" spc="-1" strike="noStrike">
                <a:solidFill>
                  <a:srgbClr val="b292ca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b292ca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b292ca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целое числ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alibri"/>
              </a:rPr>
              <a:t>3856,5657</a:t>
            </a:r>
            <a:r>
              <a:rPr b="0" i="1" lang="ru-RU" sz="2800" spc="-1" strike="noStrike">
                <a:solidFill>
                  <a:srgbClr val="b292ca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дробное числ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alibri"/>
              </a:rPr>
              <a:t>1,2E+09 </a:t>
            </a:r>
            <a:r>
              <a:rPr b="0" i="1" lang="ru-RU" sz="2800" spc="-1" strike="noStrike">
                <a:solidFill>
                  <a:srgbClr val="b292ca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число в экспоненциальной форм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alibri"/>
              </a:rPr>
              <a:t>5,9Е-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3d54"/>
                </a:solidFill>
                <a:latin typeface="Calibri"/>
              </a:rPr>
              <a:t>Типы данн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4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4349"/>
                </a:solidFill>
                <a:latin typeface="Calibri"/>
              </a:rPr>
              <a:t>Текст</a:t>
            </a:r>
            <a:r>
              <a:rPr b="0" lang="ru-RU" sz="3200" spc="-1" strike="noStrike">
                <a:solidFill>
                  <a:srgbClr val="29434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ока не более 32000 символов, содержащая буквы, цифры и специальные симво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alibri"/>
              </a:rPr>
              <a:t>Информат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alibri"/>
              </a:rPr>
              <a:t>21-37-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Calibri"/>
              </a:rPr>
              <a:t>‘</a:t>
            </a:r>
            <a:r>
              <a:rPr b="1" i="1" lang="en-US" sz="2800" spc="-1" strike="noStrike">
                <a:solidFill>
                  <a:srgbClr val="660033"/>
                </a:solidFill>
                <a:latin typeface="Calibri"/>
              </a:rPr>
              <a:t>7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alibri"/>
              </a:rPr>
              <a:t>2002-й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3d54"/>
                </a:solidFill>
                <a:latin typeface="Calibri"/>
              </a:rPr>
              <a:t>Типы данн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440" y="17521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6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libri"/>
              </a:rPr>
              <a:t>Дата</a:t>
            </a:r>
            <a:r>
              <a:rPr b="0" lang="ru-RU" sz="3200" spc="-1" strike="noStrike">
                <a:solidFill>
                  <a:srgbClr val="464653"/>
                </a:solidFill>
                <a:latin typeface="Calibri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 быть представлена в различных форма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alibri"/>
              </a:rPr>
              <a:t>20.03.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alibri"/>
              </a:rPr>
              <a:t>20 марта 2002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alibri"/>
              </a:rPr>
              <a:t>20.03.02 14:4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576360" y="2063880"/>
            <a:ext cx="3800520" cy="3598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5760720" cy="33940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3"/>
          <p:cNvSpPr/>
          <p:nvPr/>
        </p:nvSpPr>
        <p:spPr>
          <a:xfrm>
            <a:off x="285840" y="3786120"/>
            <a:ext cx="35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3d54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373d54"/>
                </a:solidFill>
                <a:latin typeface="Calibri"/>
              </a:rPr>
              <a:t>Форматирование ячейки электронной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7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Данные, формулы, фун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rcRect l="11329" t="36808" r="51955" b="20140"/>
          <a:stretch/>
        </p:blipFill>
        <p:spPr>
          <a:xfrm>
            <a:off x="1143000" y="1571760"/>
            <a:ext cx="67150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Данные, формулы, фун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3333cc"/>
                </a:solidFill>
                <a:latin typeface="Calibri"/>
              </a:rPr>
              <a:t>Формулы - </a:t>
            </a:r>
            <a:r>
              <a:rPr b="1" i="1" lang="be-BY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ражения, начинающиеся со знака равенства (=) и состоящие из числовых величин, адресов ячеек, функций и знаков арифметических операций.</a:t>
            </a:r>
            <a:r>
              <a:rPr b="1" i="1" lang="be-BY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Calibri"/>
              </a:rPr>
              <a:t>=330+2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Calibri"/>
              </a:rPr>
              <a:t>=А5+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Calibri"/>
              </a:rPr>
              <a:t>=А1-</a:t>
            </a:r>
            <a:r>
              <a:rPr b="1" i="1" lang="en-US" sz="2600" spc="-1" strike="noStrike">
                <a:solidFill>
                  <a:srgbClr val="800000"/>
                </a:solidFill>
                <a:latin typeface="Calibri"/>
              </a:rPr>
              <a:t>B</a:t>
            </a:r>
            <a:r>
              <a:rPr b="1" i="1" lang="ru-RU" sz="2600" spc="-1" strike="noStrike">
                <a:solidFill>
                  <a:srgbClr val="800000"/>
                </a:solidFill>
                <a:latin typeface="Calibri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Calibri"/>
              </a:rPr>
              <a:t>=A1-2*C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Содержимое 2"/>
          <p:cNvSpPr/>
          <p:nvPr/>
        </p:nvSpPr>
        <p:spPr>
          <a:xfrm>
            <a:off x="4857840" y="1571760"/>
            <a:ext cx="418608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Функции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запрограммированные формулы, позволяющие проводить часто встречающиеся последовательности вычислен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alibri"/>
                <a:ea typeface="Arial"/>
              </a:rPr>
              <a:t>=СУММ(</a:t>
            </a:r>
            <a:r>
              <a:rPr b="0" i="1" lang="en-US" sz="2000" spc="-1" strike="noStrike">
                <a:solidFill>
                  <a:srgbClr val="800000"/>
                </a:solidFill>
                <a:latin typeface="Calibri"/>
                <a:ea typeface="Arial"/>
              </a:rPr>
              <a:t>A4:A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Calibri"/>
                <a:ea typeface="Arial"/>
              </a:rPr>
              <a:t>=</a:t>
            </a:r>
            <a:r>
              <a:rPr b="0" i="1" lang="ru-RU" sz="2000" spc="-1" strike="noStrike">
                <a:solidFill>
                  <a:srgbClr val="800000"/>
                </a:solidFill>
                <a:latin typeface="Calibri"/>
                <a:ea typeface="Arial"/>
              </a:rPr>
              <a:t>СРЗНАЧ(</a:t>
            </a:r>
            <a:r>
              <a:rPr b="0" i="1" lang="en-US" sz="2000" spc="-1" strike="noStrike">
                <a:solidFill>
                  <a:srgbClr val="800000"/>
                </a:solidFill>
                <a:latin typeface="Calibri"/>
                <a:ea typeface="Arial"/>
              </a:rPr>
              <a:t>D2:D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alibri"/>
                <a:ea typeface="Arial"/>
              </a:rPr>
              <a:t>=МАХ(</a:t>
            </a:r>
            <a:r>
              <a:rPr b="0" i="1" lang="en-US" sz="2000" spc="-1" strike="noStrike">
                <a:solidFill>
                  <a:srgbClr val="800000"/>
                </a:solidFill>
                <a:latin typeface="Calibri"/>
                <a:ea typeface="Arial"/>
              </a:rPr>
              <a:t>C2:C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Calibri"/>
                <a:ea typeface="Arial"/>
              </a:rPr>
              <a:t>=MIN(B2:B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Группа 6"/>
          <p:cNvGrpSpPr/>
          <p:nvPr/>
        </p:nvGrpSpPr>
        <p:grpSpPr>
          <a:xfrm>
            <a:off x="5357880" y="4643280"/>
            <a:ext cx="2928960" cy="792360"/>
            <a:chOff x="5357880" y="4643280"/>
            <a:chExt cx="2928960" cy="792360"/>
          </a:xfrm>
        </p:grpSpPr>
        <p:sp>
          <p:nvSpPr>
            <p:cNvPr id="239" name="Rectangle 4"/>
            <p:cNvSpPr/>
            <p:nvPr/>
          </p:nvSpPr>
          <p:spPr>
            <a:xfrm>
              <a:off x="5357880" y="4738680"/>
              <a:ext cx="292896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СРЗНАЧ (B3:B9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5"/>
            <p:cNvSpPr/>
            <p:nvPr/>
          </p:nvSpPr>
          <p:spPr>
            <a:xfrm>
              <a:off x="5357880" y="4643280"/>
              <a:ext cx="428400" cy="72108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15000" y="4643280"/>
              <a:ext cx="1285920" cy="792360"/>
            </a:xfrm>
            <a:prstGeom prst="ellipse">
              <a:avLst/>
            </a:prstGeom>
            <a:noFill/>
            <a:ln w="57240">
              <a:solidFill>
                <a:srgbClr val="7d8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9"/>
            <p:cNvSpPr/>
            <p:nvPr/>
          </p:nvSpPr>
          <p:spPr>
            <a:xfrm>
              <a:off x="6929640" y="4643280"/>
              <a:ext cx="1143000" cy="792360"/>
            </a:xfrm>
            <a:prstGeom prst="ellipse">
              <a:avLst/>
            </a:prstGeom>
            <a:noFill/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3"/>
          <p:cNvSpPr/>
          <p:nvPr/>
        </p:nvSpPr>
        <p:spPr>
          <a:xfrm>
            <a:off x="5500800" y="5214960"/>
            <a:ext cx="22860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Times New Roman"/>
                <a:ea typeface="Arial"/>
              </a:rPr>
              <a:t>Знак равен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5500800" y="5500800"/>
            <a:ext cx="22860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7d85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d852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7d8525"/>
                </a:solidFill>
                <a:latin typeface="Times New Roman"/>
              </a:rPr>
              <a:t>Имя фун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5500800" y="5786280"/>
            <a:ext cx="300024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Arial"/>
              </a:rPr>
              <a:t>Аргу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0000"/>
                </a:solidFill>
                <a:latin typeface="Calibri"/>
              </a:rPr>
              <a:t>Вопросы для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3840" y="150012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alibri"/>
              </a:rPr>
              <a:t>Табличные процессоры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alibri"/>
              </a:rPr>
              <a:t>Табличный процессор </a:t>
            </a: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Exc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alibri"/>
              </a:rPr>
              <a:t>Типы данных в Exc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Calibri"/>
              </a:rPr>
              <a:t>Автозаполнение данных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alibri"/>
              </a:rPr>
              <a:t>Возможности деловой графики Exc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alibri"/>
              </a:rPr>
              <a:t>Технология связывания таблиц в Exc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alibri"/>
              </a:rPr>
              <a:t>Возможности Excel по работе со  спискам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Calibri"/>
              </a:rPr>
              <a:t>Надстройки Excel: Анализ данных, Поиск решени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Ссыл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0" t="0" r="56135" b="53631"/>
          <a:stretch/>
        </p:blipFill>
        <p:spPr>
          <a:xfrm>
            <a:off x="214200" y="1071720"/>
            <a:ext cx="5508720" cy="40003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4481640" y="664236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571680" y="4143240"/>
            <a:ext cx="2143080" cy="785880"/>
          </a:xfrm>
          <a:prstGeom prst="wedgeEllipseCallout">
            <a:avLst>
              <a:gd name="adj1" fmla="val 78921"/>
              <a:gd name="adj2" fmla="val -152217"/>
            </a:avLst>
          </a:prstGeom>
          <a:solidFill>
            <a:srgbClr val="ffff66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Относительные ссы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3214800" y="4286160"/>
            <a:ext cx="1857240" cy="785880"/>
          </a:xfrm>
          <a:prstGeom prst="wedgeEllipseCallout">
            <a:avLst>
              <a:gd name="adj1" fmla="val 12199"/>
              <a:gd name="adj2" fmla="val -154875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Абсолютные ссы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9"/>
          <p:cNvSpPr/>
          <p:nvPr/>
        </p:nvSpPr>
        <p:spPr>
          <a:xfrm>
            <a:off x="5715000" y="1928880"/>
            <a:ext cx="3429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носительная ссылка на ячейку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473a35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473a35"/>
                </a:solidFill>
                <a:latin typeface="Calibri"/>
              </a:rPr>
              <a:t>D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бсолютная ссылка на ячейку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473a35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473a35"/>
                </a:solidFill>
                <a:latin typeface="Calibri"/>
              </a:rPr>
              <a:t>$D$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сылка на ячейку в пределах листа:    </a:t>
            </a:r>
            <a:r>
              <a:rPr b="1" lang="ru-RU" sz="1800" spc="-1" strike="noStrike">
                <a:solidFill>
                  <a:srgbClr val="473a35"/>
                </a:solidFill>
                <a:latin typeface="Calibri"/>
              </a:rPr>
              <a:t>=E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сылка на ячейку на другом листе</a:t>
            </a:r>
            <a:r>
              <a:rPr b="1" lang="ru-RU" sz="1800" spc="-1" strike="noStrike">
                <a:solidFill>
                  <a:srgbClr val="473a35"/>
                </a:solidFill>
                <a:latin typeface="Calibri"/>
              </a:rPr>
              <a:t>:    =Лист2!E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сылка на ячейку в другой рабочей книг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73a35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473a35"/>
                </a:solidFill>
                <a:latin typeface="Calibri"/>
              </a:rPr>
              <a:t>[</a:t>
            </a:r>
            <a:r>
              <a:rPr b="1" lang="ru-RU" sz="1800" spc="-1" strike="noStrike">
                <a:solidFill>
                  <a:srgbClr val="473a35"/>
                </a:solidFill>
                <a:latin typeface="Calibri"/>
              </a:rPr>
              <a:t>Книга1</a:t>
            </a:r>
            <a:r>
              <a:rPr b="1" lang="en-US" sz="1800" spc="-1" strike="noStrike">
                <a:solidFill>
                  <a:srgbClr val="473a35"/>
                </a:solidFill>
                <a:latin typeface="Calibri"/>
              </a:rPr>
              <a:t>.xls]</a:t>
            </a:r>
            <a:r>
              <a:rPr b="1" lang="ru-RU" sz="1800" spc="-1" strike="noStrike">
                <a:solidFill>
                  <a:srgbClr val="473a35"/>
                </a:solidFill>
                <a:latin typeface="Calibri"/>
              </a:rPr>
              <a:t>лист2!E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Принципы построения функ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Аргументами функций могут быть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19080">
              <a:lnSpc>
                <a:spcPct val="90000"/>
              </a:lnSpc>
              <a:spcBef>
                <a:spcPts val="55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660033"/>
                </a:solidFill>
                <a:latin typeface="Calibri"/>
              </a:rPr>
              <a:t>числовые или текстовые значени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19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19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02b"/>
                </a:solidFill>
                <a:latin typeface="Calibri"/>
              </a:rPr>
              <a:t>=СУММ(А1:А10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ммирует значения диапазона ячеек А1:А10</a:t>
            </a:r>
            <a:r>
              <a:rPr b="0" lang="ru-RU" sz="20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19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02b"/>
                </a:solidFill>
                <a:latin typeface="Calibri"/>
              </a:rPr>
              <a:t>=ЧИСТРАБДНИ("10.05.1999";"20.05.1999"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ычисляет количество рабочих дней между двумя да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19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19080">
              <a:lnSpc>
                <a:spcPct val="90000"/>
              </a:lnSpc>
              <a:spcBef>
                <a:spcPts val="55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660033"/>
                </a:solidFill>
                <a:latin typeface="Calibri"/>
              </a:rPr>
              <a:t>логические знач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19080">
              <a:lnSpc>
                <a:spcPct val="90000"/>
              </a:lnSpc>
              <a:spcBef>
                <a:spcPts val="55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660033"/>
                </a:solidFill>
                <a:latin typeface="Calibri"/>
              </a:rPr>
              <a:t>массив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19080">
              <a:lnSpc>
                <a:spcPct val="90000"/>
              </a:lnSpc>
              <a:spcBef>
                <a:spcPts val="55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660033"/>
                </a:solidFill>
                <a:latin typeface="Calibri"/>
              </a:rPr>
              <a:t>пустой аргумент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19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19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02b"/>
                </a:solidFill>
                <a:latin typeface="Calibri"/>
              </a:rPr>
              <a:t>=</a:t>
            </a:r>
            <a:r>
              <a:rPr b="1" lang="ru-RU" sz="2000" spc="-1" strike="noStrike">
                <a:solidFill>
                  <a:srgbClr val="00602b"/>
                </a:solidFill>
                <a:latin typeface="Calibri"/>
              </a:rPr>
              <a:t>СЕГОДНЯ(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вычисляет  текущую дат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Принципы построения функ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55700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Обязательным при вводе функции является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предшествующий ей </a:t>
            </a:r>
            <a:r>
              <a:rPr b="0" lang="ru-RU" sz="2800" spc="-1" strike="noStrike">
                <a:solidFill>
                  <a:srgbClr val="ff3300"/>
                </a:solidFill>
                <a:latin typeface="Calibri"/>
              </a:rPr>
              <a:t>знак равен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круглые скобки, в которые заключаются аргументы функ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alibri"/>
              </a:rPr>
              <a:t>отсутствие пробела</a:t>
            </a: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 между именем функции и списком аргумен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использование </a:t>
            </a:r>
            <a:r>
              <a:rPr b="0" lang="ru-RU" sz="2800" spc="-1" strike="noStrike">
                <a:solidFill>
                  <a:srgbClr val="ff3300"/>
                </a:solidFill>
                <a:latin typeface="Calibri"/>
              </a:rPr>
              <a:t>латинского режима</a:t>
            </a: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 клавиатуры при вводе ссылок на адреса ячеек в формул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3d54"/>
                </a:solidFill>
                <a:latin typeface="Calibri"/>
              </a:rPr>
              <a:t>Встроенные функции </a:t>
            </a:r>
            <a:r>
              <a:rPr b="1" lang="en-US" sz="4000" spc="-1" strike="noStrike">
                <a:solidFill>
                  <a:srgbClr val="373d54"/>
                </a:solidFill>
                <a:latin typeface="Calibri"/>
              </a:rPr>
              <a:t>MS Exc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428760" y="714960"/>
            <a:ext cx="850104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ce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имеется много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Arial Black"/>
                <a:ea typeface="Times New Roman"/>
              </a:rPr>
              <a:t>встроенных функций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4481640" y="5087160"/>
            <a:ext cx="1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5"/>
          <p:cNvSpPr/>
          <p:nvPr/>
        </p:nvSpPr>
        <p:spPr>
          <a:xfrm>
            <a:off x="428760" y="1143000"/>
            <a:ext cx="64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02b"/>
                </a:solidFill>
                <a:latin typeface="Calibri"/>
                <a:ea typeface="Arial"/>
              </a:rPr>
              <a:t>Мастер функций </a:t>
            </a:r>
            <a:r>
              <a:rPr b="1" lang="ru-RU" sz="2800" spc="-1" strike="noStrike">
                <a:solidFill>
                  <a:srgbClr val="cc0066"/>
                </a:solidFill>
                <a:latin typeface="Calibri"/>
                <a:ea typeface="Arial"/>
              </a:rPr>
              <a:t>вызыв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  <a:ea typeface="Arial"/>
              </a:rPr>
              <a:t>Вставка </a:t>
            </a:r>
            <a:r>
              <a:rPr b="1" lang="ru-RU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  <a:ea typeface="Arial"/>
              </a:rPr>
              <a:t> Форм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rcRect l="18117" t="44926" r="3915" b="6250"/>
          <a:stretch/>
        </p:blipFill>
        <p:spPr>
          <a:xfrm>
            <a:off x="214200" y="2286000"/>
            <a:ext cx="8723520" cy="4000680"/>
          </a:xfrm>
          <a:prstGeom prst="rect">
            <a:avLst/>
          </a:prstGeom>
          <a:ln w="0">
            <a:noFill/>
          </a:ln>
        </p:spPr>
      </p:pic>
      <p:sp>
        <p:nvSpPr>
          <p:cNvPr id="261" name="Полилиния 7"/>
          <p:cNvSpPr/>
          <p:nvPr/>
        </p:nvSpPr>
        <p:spPr>
          <a:xfrm>
            <a:off x="1879560" y="2160720"/>
            <a:ext cx="995400" cy="771480"/>
          </a:xfrm>
          <a:custGeom>
            <a:avLst/>
            <a:gdLst/>
            <a:ahLst/>
            <a:rect l="l" t="t" r="r" b="b"/>
            <a:pathLst>
              <a:path w="996286" h="771099">
                <a:moveTo>
                  <a:pt x="168322" y="118281"/>
                </a:moveTo>
                <a:cubicBezTo>
                  <a:pt x="237698" y="59140"/>
                  <a:pt x="307074" y="0"/>
                  <a:pt x="441277" y="50042"/>
                </a:cubicBezTo>
                <a:cubicBezTo>
                  <a:pt x="575480" y="100084"/>
                  <a:pt x="950794" y="300252"/>
                  <a:pt x="973540" y="418532"/>
                </a:cubicBezTo>
                <a:cubicBezTo>
                  <a:pt x="996286" y="536812"/>
                  <a:pt x="730155" y="748353"/>
                  <a:pt x="577755" y="759726"/>
                </a:cubicBezTo>
                <a:cubicBezTo>
                  <a:pt x="425355" y="771099"/>
                  <a:pt x="118280" y="602777"/>
                  <a:pt x="59140" y="486771"/>
                </a:cubicBezTo>
                <a:cubicBezTo>
                  <a:pt x="0" y="370765"/>
                  <a:pt x="195618" y="156950"/>
                  <a:pt x="222913" y="63690"/>
                </a:cubicBezTo>
              </a:path>
            </a:pathLst>
          </a:custGeom>
          <a:noFill/>
          <a:ln w="50760">
            <a:solidFill>
              <a:srgbClr val="6e78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1"/>
          <a:srcRect l="11329" t="40280" r="51955" b="22915"/>
          <a:stretch/>
        </p:blipFill>
        <p:spPr>
          <a:xfrm>
            <a:off x="428760" y="1071720"/>
            <a:ext cx="8410320" cy="52149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3d54"/>
                </a:solidFill>
                <a:latin typeface="Calibri"/>
              </a:rPr>
              <a:t>Встроенные функции </a:t>
            </a:r>
            <a:r>
              <a:rPr b="1" lang="en-US" sz="4000" spc="-1" strike="noStrike">
                <a:solidFill>
                  <a:srgbClr val="373d54"/>
                </a:solidFill>
                <a:latin typeface="Calibri"/>
              </a:rPr>
              <a:t>MS Exc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Заголовок 1"/>
          <p:cNvSpPr/>
          <p:nvPr/>
        </p:nvSpPr>
        <p:spPr>
          <a:xfrm>
            <a:off x="428760" y="627552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и разработанные пользовател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Технология связывания таблиц в </a:t>
            </a:r>
            <a:r>
              <a:rPr b="1" lang="en-US" sz="3600" spc="-1" strike="noStrike">
                <a:solidFill>
                  <a:srgbClr val="373d54"/>
                </a:solidFill>
                <a:latin typeface="Calibri"/>
              </a:rPr>
              <a:t>MS Exc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Связывание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– совместное использование данных и формул из нескольких таблиц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Есть </a:t>
            </a:r>
            <a:r>
              <a:rPr b="1" lang="ru-RU" sz="3000" spc="-1" strike="noStrike">
                <a:solidFill>
                  <a:srgbClr val="00602b"/>
                </a:solidFill>
                <a:latin typeface="Calibri"/>
              </a:rPr>
              <a:t>два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основных </a:t>
            </a:r>
            <a:r>
              <a:rPr b="1" lang="ru-RU" sz="3000" spc="-1" strike="noStrike">
                <a:solidFill>
                  <a:srgbClr val="00602b"/>
                </a:solidFill>
                <a:latin typeface="Calibri"/>
              </a:rPr>
              <a:t>способа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установления связи между ячейками таблиц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остроение формулы, использующей </a:t>
            </a:r>
            <a:r>
              <a:rPr b="1" lang="ru-RU" sz="3000" spc="-1" strike="noStrike">
                <a:solidFill>
                  <a:srgbClr val="00602b"/>
                </a:solidFill>
                <a:latin typeface="Calibri"/>
              </a:rPr>
              <a:t>ссылки на ячейки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из других листов и книг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слайд 23 «Ссылки»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Копирование и вставка данных с помощью команды:</a:t>
            </a:r>
            <a:r>
              <a:rPr b="1" lang="ru-RU" sz="3000" spc="-1" strike="noStrike">
                <a:solidFill>
                  <a:srgbClr val="00602b"/>
                </a:solidFill>
                <a:latin typeface="Calibri"/>
              </a:rPr>
              <a:t>Правка►Специальная вставка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(лекция «Системное программное обеспечение», слайд 63-64 «Технологии   обмена  данными между приложениями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»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714240" y="1214280"/>
            <a:ext cx="7809120" cy="50724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87868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Технология связывания таблиц в </a:t>
            </a:r>
            <a:r>
              <a:rPr b="1" lang="en-US" sz="3600" spc="-1" strike="noStrike">
                <a:solidFill>
                  <a:srgbClr val="373d54"/>
                </a:solidFill>
                <a:latin typeface="Calibri"/>
              </a:rPr>
              <a:t>MS Excel</a:t>
            </a: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.</a:t>
            </a:r>
            <a:br>
              <a:rPr sz="3600"/>
            </a:b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Специальная вставк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88652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ТЕХНОЛОГИИ   ОБМЕНА  ДАННЫМИ между приложениями</a:t>
            </a:r>
            <a:r>
              <a:rPr b="1" lang="en-US" sz="3600" spc="-1" strike="noStrike">
                <a:solidFill>
                  <a:srgbClr val="373d54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в </a:t>
            </a:r>
            <a:r>
              <a:rPr b="1" lang="en-US" sz="3600" spc="-1" strike="noStrike">
                <a:solidFill>
                  <a:srgbClr val="373d54"/>
                </a:solidFill>
                <a:latin typeface="Calibri"/>
              </a:rPr>
              <a:t>Windows</a:t>
            </a: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1643040"/>
            <a:ext cx="7696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ханизм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DDE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Dynamic Data Exchange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динамический обмен данными состоит в том, что при установлении связи с объектом создается ссылка на документ-источник, содержащий необходимую информац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лгоритм связывания фрагмен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делить фрагмент в файле-источник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пировать этот фрагмент в буфер обме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зиционировать курсор для вставки в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йле-приемнике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ить команд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авка</a:t>
            </a:r>
            <a:r>
              <a:rPr b="1" lang="ru-RU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ециальная встав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оявившемся окн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ециальная встав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становить переключатель в полож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за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бласт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ыбрать в качестве чего будет связываться  объект,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таблица – и нажать [ОК]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3840" y="500040"/>
            <a:ext cx="8929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Возможности Excel по работе со  списками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928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Чтобы использовать таблицу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Excel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как </a:t>
            </a: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базу данных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, ее надо рассматривать как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списки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100" spc="-1" strike="noStrike">
                <a:solidFill>
                  <a:srgbClr val="ff0000"/>
                </a:solidFill>
                <a:latin typeface="Calibri"/>
              </a:rPr>
              <a:t>Список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– непрерывный диапазон ячеек, содержащий данные одной определенной структур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i="1" lang="ru-RU" sz="2700" spc="-1" strike="noStrike">
                <a:solidFill>
                  <a:srgbClr val="00602b"/>
                </a:solidFill>
                <a:latin typeface="Calibri"/>
              </a:rPr>
              <a:t>фамилии, телефоны</a:t>
            </a:r>
            <a:r>
              <a:rPr b="1" lang="ru-RU" sz="2700" spc="-1" strike="noStrike">
                <a:solidFill>
                  <a:srgbClr val="00602b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Excel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имеются следующие </a:t>
            </a:r>
            <a:r>
              <a:rPr b="1" lang="ru-RU" sz="2700" spc="-1" strike="noStrike" u="sng">
                <a:solidFill>
                  <a:srgbClr val="00602b"/>
                </a:solidFill>
                <a:uFillTx/>
                <a:latin typeface="Calibri"/>
              </a:rPr>
              <a:t>средства работы с таблицей как с базой данных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ортировка данных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Фильтрация данных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Использование фор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одведение итогов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водные таблиц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1. Сортировка данн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ортировать можно как </a:t>
            </a:r>
            <a:r>
              <a:rPr b="1" i="1" lang="ru-RU" sz="2700" spc="-1" strike="noStrike">
                <a:solidFill>
                  <a:srgbClr val="00602b"/>
                </a:solidFill>
                <a:latin typeface="Calibri"/>
              </a:rPr>
              <a:t>числовые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(по возрастанию или убыванию), так и </a:t>
            </a:r>
            <a:r>
              <a:rPr b="1" i="1" lang="ru-RU" sz="2700" spc="-1" strike="noStrike">
                <a:solidFill>
                  <a:srgbClr val="00602b"/>
                </a:solidFill>
                <a:latin typeface="Calibri"/>
              </a:rPr>
              <a:t>текстовые</a:t>
            </a:r>
            <a:r>
              <a:rPr b="1" lang="ru-RU" sz="2700" spc="-1" strike="noStrike">
                <a:solidFill>
                  <a:srgbClr val="00602b"/>
                </a:solidFill>
                <a:latin typeface="Calibri"/>
              </a:rPr>
              <a:t> данные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(по алфавиту или в обратном порядке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Можно задавать несколько уровней сортировки одновременн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700" spc="-1" strike="noStrike">
                <a:solidFill>
                  <a:srgbClr val="00602b"/>
                </a:solidFill>
                <a:latin typeface="Calibri"/>
              </a:rPr>
              <a:t>студентов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можно рассортировать </a:t>
            </a:r>
            <a:r>
              <a:rPr b="1" i="1" lang="ru-RU" sz="2700" spc="-1" strike="noStrike">
                <a:solidFill>
                  <a:srgbClr val="00602b"/>
                </a:solidFill>
                <a:latin typeface="Calibri"/>
              </a:rPr>
              <a:t>по факультетам, затем внутри факультета –  по группам, а внутри группы – по фамилия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Алгоритм сортировк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ыделить в списке какую-нибудь ячейку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ыполнить команду </a:t>
            </a: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Данные&gt;Сортиров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13840" y="907560"/>
            <a:ext cx="8472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373d54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Прикладное П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часть ПО, представляющая собой совокупность программ, предназначенных для решения задач пользователя в различных предметных областя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Группа 18"/>
          <p:cNvGrpSpPr/>
          <p:nvPr/>
        </p:nvGrpSpPr>
        <p:grpSpPr>
          <a:xfrm>
            <a:off x="949320" y="3281400"/>
            <a:ext cx="6985080" cy="2135160"/>
            <a:chOff x="949320" y="3281400"/>
            <a:chExt cx="6985080" cy="2135160"/>
          </a:xfrm>
        </p:grpSpPr>
        <p:sp>
          <p:nvSpPr>
            <p:cNvPr id="135" name="Rectangle 2"/>
            <p:cNvSpPr/>
            <p:nvPr/>
          </p:nvSpPr>
          <p:spPr>
            <a:xfrm>
              <a:off x="2550960" y="3281400"/>
              <a:ext cx="4727520" cy="71892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73d54"/>
                  </a:solidFill>
                  <a:latin typeface="Times New Roman"/>
                </a:rPr>
                <a:t>ППП общего назначения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(офисные пакеты) </a:t>
              </a:r>
              <a:r>
                <a:rPr b="1" lang="ru-RU" sz="1600" spc="-1" strike="noStrike">
                  <a:solidFill>
                    <a:srgbClr val="373d54"/>
                  </a:solidFill>
                  <a:latin typeface="Times New Roman"/>
                </a:rPr>
                <a:t>-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наиболее популяр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"/>
            <p:cNvSpPr/>
            <p:nvPr/>
          </p:nvSpPr>
          <p:spPr>
            <a:xfrm>
              <a:off x="949320" y="4691520"/>
              <a:ext cx="1181520" cy="72504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кстовые процессо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2249280" y="4691520"/>
              <a:ext cx="1106280" cy="72504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Табличные </a:t>
              </a: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роцессо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5"/>
            <p:cNvSpPr/>
            <p:nvPr/>
          </p:nvSpPr>
          <p:spPr>
            <a:xfrm>
              <a:off x="6031080" y="4691520"/>
              <a:ext cx="1299960" cy="72504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Системы управления базами данны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3430800" y="4691520"/>
              <a:ext cx="1140480" cy="72504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Системы создания  презент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4685040" y="4691520"/>
              <a:ext cx="1255320" cy="72504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Графические редакто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8"/>
            <p:cNvSpPr/>
            <p:nvPr/>
          </p:nvSpPr>
          <p:spPr>
            <a:xfrm>
              <a:off x="1894680" y="4395240"/>
              <a:ext cx="6039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>
              <a:off x="1894680" y="4395240"/>
              <a:ext cx="0" cy="281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0"/>
            <p:cNvSpPr/>
            <p:nvPr/>
          </p:nvSpPr>
          <p:spPr>
            <a:xfrm>
              <a:off x="2958120" y="4395240"/>
              <a:ext cx="0" cy="281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1"/>
            <p:cNvSpPr/>
            <p:nvPr/>
          </p:nvSpPr>
          <p:spPr>
            <a:xfrm>
              <a:off x="4140000" y="4395240"/>
              <a:ext cx="0" cy="281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2"/>
            <p:cNvSpPr/>
            <p:nvPr/>
          </p:nvSpPr>
          <p:spPr>
            <a:xfrm>
              <a:off x="5203800" y="4395240"/>
              <a:ext cx="0" cy="281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6385320" y="4395240"/>
              <a:ext cx="0" cy="281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" name="Прямая со стрелкой 17"/>
            <p:cNvCxnSpPr>
              <a:stCxn id="135" idx="2"/>
            </p:cNvCxnSpPr>
            <p:nvPr/>
          </p:nvCxnSpPr>
          <p:spPr>
            <a:xfrm flipH="1">
              <a:off x="4914360" y="4000320"/>
              <a:ext cx="1080" cy="383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48" name="Rectangle 5"/>
          <p:cNvSpPr/>
          <p:nvPr/>
        </p:nvSpPr>
        <p:spPr>
          <a:xfrm>
            <a:off x="7451640" y="4676760"/>
            <a:ext cx="1300320" cy="7239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и другие  прикладные программы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7934400" y="4410000"/>
            <a:ext cx="0" cy="281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7840" y="333000"/>
            <a:ext cx="87868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Табличные процессо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7346880" y="6237360"/>
            <a:ext cx="1511280" cy="287280"/>
          </a:xfrm>
          <a:prstGeom prst="rect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2. Фильт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02b"/>
                </a:solidFill>
                <a:latin typeface="Calibri"/>
              </a:rPr>
              <a:t>Фильтры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назначены для упрощения процесса поиска и удаления данн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500" spc="-1" strike="noStrike">
                <a:solidFill>
                  <a:srgbClr val="00602b"/>
                </a:solidFill>
                <a:latin typeface="Calibri"/>
              </a:rPr>
              <a:t>из списка  жильцов надо выбрать записи, которые удовлетворяют заданному месту прожива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0000"/>
                </a:solidFill>
                <a:uFillTx/>
                <a:latin typeface="Calibri"/>
              </a:rPr>
              <a:t>Запомнить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и фильтрации записи не переупорядочиваются физически (!) – результат применения этой функции – 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скрытие записей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не соответствующих критерию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ожно устанавливать фильтры по нескольким полям списк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3d54"/>
                </a:solidFill>
                <a:latin typeface="Calibri"/>
              </a:rPr>
              <a:t>Типы фильтр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785880"/>
            <a:ext cx="88581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ществует два типа фильтров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втофильтр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Расширенный фильтр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оритм использования команды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втофильт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делить любую ячейку в спис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полнить команду: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анные ► Фильтр ► Автофиль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оритм использования команды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Расширенный фильт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Данные►Филь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►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Расширенный фильт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3929040" y="3214800"/>
            <a:ext cx="4905360" cy="36432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142920" y="4193280"/>
            <a:ext cx="37148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отличие от команды </a:t>
            </a:r>
            <a:r>
              <a:rPr b="1" lang="ru-RU" sz="1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Автофильтр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манда </a:t>
            </a:r>
            <a:r>
              <a:rPr b="1" lang="ru-RU" sz="1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Расширенный фильтр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требует</a:t>
            </a:r>
            <a:r>
              <a:rPr b="1" lang="ru-RU" sz="14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задания в отдельном диапазоне рабочего листа условий отбора строк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что позволя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ть условия для нескольких столбцов, соединенные логическим оператором </a:t>
            </a:r>
            <a:r>
              <a:rPr b="1" lang="ru-RU" sz="1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ИЛ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ть три и более условий для одного конкретного столбца с использованием оператора </a:t>
            </a:r>
            <a:r>
              <a:rPr b="1" lang="ru-RU" sz="1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ИЛ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ть вычисляемые условия.</a:t>
            </a:r>
            <a:r>
              <a:rPr b="0" lang="be-BY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3. Фор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Форм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позволяют представить данные таблицы построчно, что удобно, когда таблицы больших размеров, а работать требуется с каждой строкой отде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жим реализуется командой: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анные►Фор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1" descr=""/>
          <p:cNvPicPr/>
          <p:nvPr/>
        </p:nvPicPr>
        <p:blipFill>
          <a:blip r:embed="rId1"/>
          <a:srcRect l="0" t="15723" r="12297" b="19546"/>
          <a:stretch/>
        </p:blipFill>
        <p:spPr>
          <a:xfrm>
            <a:off x="4429080" y="3286080"/>
            <a:ext cx="4438800" cy="357192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2"/>
          <p:cNvSpPr/>
          <p:nvPr/>
        </p:nvSpPr>
        <p:spPr>
          <a:xfrm>
            <a:off x="0" y="3509280"/>
            <a:ext cx="44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 Black"/>
                <a:ea typeface="Times New Roman"/>
              </a:rPr>
              <a:t>Форм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удобно использовать дл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мот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бавл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даления записей спис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иска записей, удовлетворяющих заданным услови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3d54"/>
                </a:solidFill>
                <a:latin typeface="Calibri"/>
              </a:rPr>
              <a:t>4. Ито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14200" y="642600"/>
            <a:ext cx="87868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тоги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для данных, представленных в виде списка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el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позволяет суммировать данные, получая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ромежуточны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окончательные итог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результате получения итогов таблица дополняется строками, содержащими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итоговые данные для каждого выбранного элемент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последнюю вставляемую строку таблицы будет помещена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информация об общем итоге для всех элементов спис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Ит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02b"/>
                </a:solidFill>
                <a:latin typeface="Calibri"/>
              </a:rPr>
              <a:t>Алгоритм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реализации операции </a:t>
            </a:r>
            <a:r>
              <a:rPr b="1" lang="ru-RU" sz="3000" spc="-1" strike="noStrike">
                <a:solidFill>
                  <a:srgbClr val="00602b"/>
                </a:solidFill>
                <a:latin typeface="Calibri"/>
              </a:rPr>
              <a:t>получения итогов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рассортировать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список по тому элементу, по которому следует подвести </a:t>
            </a:r>
            <a:r>
              <a:rPr b="1" lang="ru-RU" sz="3000" spc="-1" strike="noStrike">
                <a:solidFill>
                  <a:srgbClr val="00602b"/>
                </a:solidFill>
                <a:latin typeface="Calibri"/>
              </a:rPr>
              <a:t>итоги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ыделить любую ячейку рассортированного списк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ыполнить команду: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анные &gt; Итоги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ыбрать столбец, по которому надо подвести </a:t>
            </a:r>
            <a:r>
              <a:rPr b="1" lang="ru-RU" sz="3000" spc="-1" strike="noStrike">
                <a:solidFill>
                  <a:srgbClr val="00602b"/>
                </a:solidFill>
                <a:latin typeface="Calibri"/>
              </a:rPr>
              <a:t>итоги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ыбрать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функцию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для подведения </a:t>
            </a:r>
            <a:r>
              <a:rPr b="1" lang="ru-RU" sz="3000" spc="-1" strike="noStrike">
                <a:solidFill>
                  <a:srgbClr val="00602b"/>
                </a:solidFill>
                <a:latin typeface="Calibri"/>
              </a:rPr>
              <a:t>итогов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одвести </a:t>
            </a:r>
            <a:r>
              <a:rPr b="1" lang="ru-RU" sz="3000" spc="-1" strike="noStrike">
                <a:solidFill>
                  <a:srgbClr val="00602b"/>
                </a:solidFill>
                <a:latin typeface="Calibri"/>
              </a:rPr>
              <a:t>итоги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, нажав [ОК]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, можно получить промежуточный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итог выпуска по цеху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, а затем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окончательный – по завод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0" y="1071720"/>
            <a:ext cx="4357800" cy="42955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0250" r="0" b="0"/>
          <a:stretch/>
        </p:blipFill>
        <p:spPr>
          <a:xfrm>
            <a:off x="4429080" y="2286000"/>
            <a:ext cx="45720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5. Сводные таблиц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14200" y="85680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водн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яет собой интерактивный метод быстрого суммирования больших объемов данных и используется для подробного анализа числовых данны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и запросов к большим массивам данны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ведения промежуточных итогов и применения статистических функций к числовым данным, суммирования данных по категориям и подкатегориям, а также для создания дополнительных вычислений и формул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вертывания и свертывания уровней представления данных для привлечения внимания к результатам по нужным областям (срезы данных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емещения строк в столбцы или столбцов в строки для просмотра различных сводных данных по исходным данным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ильтрации, сортировки, группировки наиболее важных и часто используемых подмножеств данны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3d54"/>
                </a:solidFill>
                <a:latin typeface="Calibri"/>
              </a:rPr>
              <a:t>Сводные табл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rcRect l="32394" t="23440" r="22586" b="36526"/>
          <a:stretch/>
        </p:blipFill>
        <p:spPr>
          <a:xfrm>
            <a:off x="642960" y="928800"/>
            <a:ext cx="7572240" cy="3786120"/>
          </a:xfrm>
          <a:prstGeom prst="rect">
            <a:avLst/>
          </a:prstGeom>
          <a:ln w="0">
            <a:noFill/>
          </a:ln>
        </p:spPr>
      </p:pic>
      <p:sp>
        <p:nvSpPr>
          <p:cNvPr id="296" name="Прямоугольник 4"/>
          <p:cNvSpPr/>
          <p:nvPr/>
        </p:nvSpPr>
        <p:spPr>
          <a:xfrm>
            <a:off x="571680" y="4786200"/>
            <a:ext cx="82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иведенном примере отчета сводной таблицы можно легко сравнить объем продаж клюшек для гольфа за третий квартал в ячейке F3 с продажами по другому товару или за другой квартал, либо вычислить общий итог прода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9144000" cy="14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Способы работы с отчетом сводной таблицы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02b"/>
                </a:solidFill>
                <a:latin typeface="Calibri"/>
              </a:rPr>
              <a:t>Изучение данных.</a:t>
            </a:r>
            <a:r>
              <a:rPr b="0" lang="ru-RU" sz="1800" spc="-1" strike="noStrike">
                <a:solidFill>
                  <a:srgbClr val="00602b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Для этого используются следующие средств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ертывание и свертывание данных и отображение подробных сведений о значения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ртировка, фильтрация и группировка полей и элемент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есение изменений в функции подведения итогов и добавление дополнительных вычислений и форму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02b"/>
                </a:solidFill>
                <a:latin typeface="Calibri"/>
              </a:rPr>
              <a:t>Изменение макета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Для этого используются следующие средств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менение формы отчета сводной таблицы: компактной, табличной или структурн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ображение итогов над или под строками данны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емещение поля столбца в область строк или поля строки в область столбц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менение отображения ошибок, пустых ячеек, а также элементов и подписей, не содержащих данны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менение порядка полей или элементов; добавление, изменение расположения и удаление поле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ние ширины столбца при обновлен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ключение или включение отображения заголовков полей столбцов и строк, а также отображение или скрытие пустых стро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02b"/>
                </a:solidFill>
                <a:latin typeface="Calibri"/>
              </a:rPr>
              <a:t>Изменение формата.</a:t>
            </a:r>
            <a:r>
              <a:rPr b="0" lang="ru-RU" sz="1800" spc="-1" strike="noStrike">
                <a:solidFill>
                  <a:srgbClr val="00602b"/>
                </a:solidFill>
                <a:latin typeface="Calibri"/>
              </a:rPr>
              <a:t> 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этого используются следующие метод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словное форматирование и форматирование вручную ячеек и диапазон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менение общего стиля форматирования сводной таблиц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менение числа форматов для полей, а также форматирования сервера OLAP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6756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Возможности деловой графики </a:t>
            </a:r>
            <a:r>
              <a:rPr b="1" lang="en-US" sz="3600" spc="-1" strike="noStrike">
                <a:solidFill>
                  <a:srgbClr val="373d54"/>
                </a:solidFill>
                <a:latin typeface="Calibri"/>
              </a:rPr>
              <a:t>Exce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57120" y="1071360"/>
            <a:ext cx="832968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иаграмма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– графически представленная зависимость одной величины от другой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оздание диаграммы осуществляется Мастером построения диаграмм, который вызывается командой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Вставка►Диаграммы.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000" spc="-1" strike="noStrike">
                <a:solidFill>
                  <a:srgbClr val="660066"/>
                </a:solidFill>
                <a:latin typeface="Calibri"/>
              </a:rPr>
              <a:t>Диаграммы размещаютс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000000"/>
                </a:solidFill>
                <a:latin typeface="Calibri"/>
              </a:rPr>
              <a:t>на отдельном листе диаграмм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e-BY" sz="3000" spc="-1" strike="noStrike">
                <a:solidFill>
                  <a:srgbClr val="000000"/>
                </a:solidFill>
                <a:latin typeface="Calibri"/>
              </a:rPr>
              <a:t>как графический объект на рабочем лис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000" spc="-1" strike="noStrike">
                <a:solidFill>
                  <a:srgbClr val="660066"/>
                </a:solidFill>
                <a:latin typeface="Calibri"/>
              </a:rPr>
              <a:t>Диаграмма </a:t>
            </a:r>
            <a:r>
              <a:rPr b="0" lang="be-BY" sz="3000" spc="-1" strike="noStrike">
                <a:solidFill>
                  <a:srgbClr val="000000"/>
                </a:solidFill>
                <a:latin typeface="Calibri"/>
              </a:rPr>
              <a:t>имеет определенный </a:t>
            </a:r>
            <a:r>
              <a:rPr b="0" lang="be-BY" sz="3000" spc="-1" strike="noStrike" u="sng">
                <a:solidFill>
                  <a:srgbClr val="000000"/>
                </a:solidFill>
                <a:uFillTx/>
                <a:latin typeface="Calibri"/>
              </a:rPr>
              <a:t>тип</a:t>
            </a:r>
            <a:r>
              <a:rPr b="0" lang="be-BY" sz="3000" spc="-1" strike="noStrike">
                <a:solidFill>
                  <a:srgbClr val="000000"/>
                </a:solidFill>
                <a:latin typeface="Calibri"/>
              </a:rPr>
              <a:t>, состоит из </a:t>
            </a:r>
            <a:r>
              <a:rPr b="0" lang="be-BY" sz="3000" spc="-1" strike="noStrike" u="sng">
                <a:solidFill>
                  <a:srgbClr val="000000"/>
                </a:solidFill>
                <a:uFillTx/>
                <a:latin typeface="Calibri"/>
              </a:rPr>
              <a:t>рядов данных </a:t>
            </a:r>
            <a:r>
              <a:rPr b="0" lang="be-BY" sz="3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be-BY" sz="3000" spc="-1" strike="noStrike" u="sng">
                <a:solidFill>
                  <a:srgbClr val="000000"/>
                </a:solidFill>
                <a:uFillTx/>
                <a:latin typeface="Calibri"/>
              </a:rPr>
              <a:t>оформительских элементов </a:t>
            </a:r>
            <a:r>
              <a:rPr b="0" lang="be-BY" sz="3000" spc="-1" strike="noStrike">
                <a:solidFill>
                  <a:srgbClr val="000000"/>
                </a:solidFill>
                <a:latin typeface="Calibri"/>
              </a:rPr>
              <a:t>(заголовка, осей, меток, легенды, произвольного текста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7120" y="475920"/>
            <a:ext cx="87868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Табличные процессоры разных производителе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rcRect l="22511" t="19532" r="21487" b="40315"/>
          <a:stretch/>
        </p:blipFill>
        <p:spPr>
          <a:xfrm>
            <a:off x="565200" y="1557360"/>
            <a:ext cx="8286840" cy="342108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6"/>
          <p:cNvSpPr/>
          <p:nvPr/>
        </p:nvSpPr>
        <p:spPr>
          <a:xfrm>
            <a:off x="7346880" y="6237360"/>
            <a:ext cx="1511280" cy="287280"/>
          </a:xfrm>
          <a:prstGeom prst="rect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7543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Типы диа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3333cc"/>
                </a:solidFill>
                <a:latin typeface="Calibri"/>
              </a:rPr>
              <a:t>Гистограмма</a:t>
            </a:r>
            <a:r>
              <a:rPr b="0" lang="be-BY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be-BY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e-BY" sz="2800" spc="-1" strike="noStrike">
                <a:solidFill>
                  <a:srgbClr val="000000"/>
                </a:solidFill>
                <a:latin typeface="Calibri"/>
              </a:rPr>
              <a:t>отдельные значения представлены вертикальными</a:t>
            </a:r>
            <a:r>
              <a:rPr b="1" lang="be-BY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e-BY" sz="2800" spc="-1" strike="noStrike">
                <a:solidFill>
                  <a:srgbClr val="000000"/>
                </a:solidFill>
                <a:latin typeface="Calibri"/>
              </a:rPr>
              <a:t>столбиками различной выс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3333cc"/>
                </a:solidFill>
                <a:latin typeface="Calibri"/>
              </a:rPr>
              <a:t>Линейчатая</a:t>
            </a:r>
            <a:r>
              <a:rPr b="0" lang="be-BY" sz="2800" spc="-1" strike="noStrike">
                <a:solidFill>
                  <a:srgbClr val="000000"/>
                </a:solidFill>
                <a:latin typeface="Calibri"/>
              </a:rPr>
              <a:t> - полосами разной длины, расположенными горизонтально вдоль оси О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3333cc"/>
                </a:solidFill>
                <a:latin typeface="Calibri"/>
              </a:rPr>
              <a:t>Круговая</a:t>
            </a:r>
            <a:r>
              <a:rPr b="0" lang="be-BY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be-BY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e-BY" sz="2800" spc="-1" strike="noStrike">
                <a:solidFill>
                  <a:srgbClr val="000000"/>
                </a:solidFill>
                <a:latin typeface="Calibri"/>
              </a:rPr>
              <a:t>сумма всех значений принимается за 100%, а процентное соотношение величины изображается в виде круга, разбитого на несколько секторов разного цвета. </a:t>
            </a:r>
            <a:r>
              <a:rPr b="0" lang="be-BY" sz="2800" spc="-1" strike="noStrike" u="sng">
                <a:solidFill>
                  <a:srgbClr val="000000"/>
                </a:solidFill>
                <a:uFillTx/>
                <a:latin typeface="Calibri"/>
              </a:rPr>
              <a:t>Допускается только один ряд дан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3333cc"/>
                </a:solidFill>
                <a:latin typeface="Calibri"/>
              </a:rPr>
              <a:t>Кольцевая</a:t>
            </a:r>
            <a:r>
              <a:rPr b="0" lang="be-BY" sz="2800" spc="-1" strike="noStrike">
                <a:solidFill>
                  <a:srgbClr val="000000"/>
                </a:solidFill>
                <a:latin typeface="Calibri"/>
              </a:rPr>
              <a:t>: форма круговой диаграммы. Сумма всех значений принимается за 100%, а ряды данных представляют собой вложенные кольца, разделенные на сегменты в процентном соотнош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1214280"/>
            <a:ext cx="8400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3333cc"/>
                </a:solidFill>
                <a:latin typeface="Calibri"/>
              </a:rPr>
              <a:t>Диаграмма с областями:</a:t>
            </a:r>
            <a:r>
              <a:rPr b="1" lang="be-BY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e-BY" sz="2600" spc="-1" strike="noStrike">
                <a:solidFill>
                  <a:srgbClr val="000000"/>
                </a:solidFill>
                <a:latin typeface="Calibri"/>
              </a:rPr>
              <a:t>отдельные ряды данных представлены в виде закрашенных разными цветами областе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3333cc"/>
                </a:solidFill>
                <a:latin typeface="Calibri"/>
              </a:rPr>
              <a:t>График</a:t>
            </a:r>
            <a:r>
              <a:rPr b="0" lang="be-BY" sz="2600" spc="-1" strike="noStrike">
                <a:solidFill>
                  <a:srgbClr val="000000"/>
                </a:solidFill>
                <a:latin typeface="Calibri"/>
              </a:rPr>
              <a:t> (в т.ч. объемный):</a:t>
            </a:r>
            <a:r>
              <a:rPr b="1" lang="be-BY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e-BY" sz="2600" spc="-1" strike="noStrike">
                <a:solidFill>
                  <a:srgbClr val="000000"/>
                </a:solidFill>
                <a:latin typeface="Calibri"/>
              </a:rPr>
              <a:t>все отдельные значения будут соединены между собой линиям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alibri"/>
              </a:rPr>
              <a:t>XY</a:t>
            </a:r>
            <a:r>
              <a:rPr b="1" lang="be-BY" sz="2600" spc="-1" strike="noStrike">
                <a:solidFill>
                  <a:srgbClr val="3333cc"/>
                </a:solidFill>
                <a:latin typeface="Calibri"/>
              </a:rPr>
              <a:t> (Точечная)</a:t>
            </a:r>
            <a:r>
              <a:rPr b="0" lang="be-BY" sz="2600" spc="-1" strike="noStrike">
                <a:solidFill>
                  <a:srgbClr val="000000"/>
                </a:solidFill>
                <a:latin typeface="Calibri"/>
              </a:rPr>
              <a:t> : отдельные значения таблицы представлены в декартовой системе координ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3333cc"/>
                </a:solidFill>
                <a:latin typeface="Calibri"/>
              </a:rPr>
              <a:t>Объемная поверхностная</a:t>
            </a:r>
            <a:r>
              <a:rPr b="0" lang="be-BY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be-BY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e-BY" sz="2600" spc="-1" strike="noStrike">
                <a:solidFill>
                  <a:srgbClr val="000000"/>
                </a:solidFill>
                <a:latin typeface="Calibri"/>
              </a:rPr>
              <a:t>совокупность всех значений отображается на диаграмме в виде некоторой поверхности, области которой представляют собой ряды данны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Прямоугольник 2"/>
          <p:cNvSpPr/>
          <p:nvPr/>
        </p:nvSpPr>
        <p:spPr>
          <a:xfrm>
            <a:off x="1928880" y="35712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3d54"/>
                </a:solidFill>
                <a:latin typeface="Calibri"/>
              </a:rPr>
              <a:t>Типы диа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98040" y="132840"/>
            <a:ext cx="706284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Типы диаграм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28760" y="928440"/>
            <a:ext cx="8424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Гистограмм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обычная, с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накопление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нормированная,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объем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трехмер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7" name="Object 4"/>
          <p:cNvGraphicFramePr/>
          <p:nvPr/>
        </p:nvGraphicFramePr>
        <p:xfrm>
          <a:off x="785880" y="4475160"/>
          <a:ext cx="356868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4475160"/>
                    <a:ext cx="356868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5"/>
          <p:cNvGraphicFramePr/>
          <p:nvPr/>
        </p:nvGraphicFramePr>
        <p:xfrm>
          <a:off x="714240" y="2214720"/>
          <a:ext cx="3257640" cy="21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2214720"/>
                    <a:ext cx="3257640" cy="21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6"/>
          <p:cNvGraphicFramePr/>
          <p:nvPr/>
        </p:nvGraphicFramePr>
        <p:xfrm>
          <a:off x="4572000" y="2286000"/>
          <a:ext cx="3780000" cy="252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286000"/>
                    <a:ext cx="378000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98040" y="132840"/>
            <a:ext cx="706284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Типы диаграм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425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Кругов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обыч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бъемная,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вторич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разрез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рехмерна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455760" y="2266920"/>
          <a:ext cx="3166920" cy="21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2266920"/>
                    <a:ext cx="316692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5"/>
          <p:cNvGraphicFramePr/>
          <p:nvPr/>
        </p:nvGraphicFramePr>
        <p:xfrm>
          <a:off x="1143000" y="4500720"/>
          <a:ext cx="3257640" cy="21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500720"/>
                    <a:ext cx="325764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6"/>
          <p:cNvGraphicFramePr/>
          <p:nvPr/>
        </p:nvGraphicFramePr>
        <p:xfrm>
          <a:off x="4500720" y="2428920"/>
          <a:ext cx="4176720" cy="27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2428920"/>
                    <a:ext cx="417672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98040" y="133200"/>
            <a:ext cx="706284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Типы диа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0040" y="10000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alibri"/>
              </a:rPr>
              <a:t>График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обычны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 накоплением, нормированный,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с маркера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объемны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28760" y="1857240"/>
          <a:ext cx="339696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857240"/>
                    <a:ext cx="339696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5"/>
          <p:cNvGraphicFramePr/>
          <p:nvPr/>
        </p:nvGraphicFramePr>
        <p:xfrm>
          <a:off x="5143680" y="2071800"/>
          <a:ext cx="3076560" cy="20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3680" y="2071800"/>
                    <a:ext cx="307656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6"/>
          <p:cNvGraphicFramePr/>
          <p:nvPr/>
        </p:nvGraphicFramePr>
        <p:xfrm>
          <a:off x="2500200" y="4286160"/>
          <a:ext cx="3672000" cy="235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0200" y="4286160"/>
                    <a:ext cx="367200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98040" y="133200"/>
            <a:ext cx="706284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Типы диа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3024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Calibri"/>
              </a:rPr>
              <a:t>Лепесткова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1" name="Object 4"/>
          <p:cNvGraphicFramePr/>
          <p:nvPr/>
        </p:nvGraphicFramePr>
        <p:xfrm>
          <a:off x="684360" y="1916280"/>
          <a:ext cx="3603600" cy="23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16280"/>
                    <a:ext cx="360360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5"/>
          <p:cNvGraphicFramePr/>
          <p:nvPr/>
        </p:nvGraphicFramePr>
        <p:xfrm>
          <a:off x="5435640" y="2205000"/>
          <a:ext cx="3257640" cy="21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2205000"/>
                    <a:ext cx="32576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6"/>
          <p:cNvSpPr/>
          <p:nvPr/>
        </p:nvSpPr>
        <p:spPr>
          <a:xfrm>
            <a:off x="5508720" y="1268280"/>
            <a:ext cx="2950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buClr>
                <a:srgbClr val="46465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Calibri"/>
                <a:ea typeface="Arial"/>
              </a:rPr>
              <a:t>С областя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539640" y="4797360"/>
            <a:ext cx="3095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46465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Calibri"/>
                <a:ea typeface="Arial"/>
              </a:rPr>
              <a:t>Кольцев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46465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Calibri"/>
                <a:ea typeface="Arial"/>
              </a:rPr>
              <a:t>Пузырьков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46465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Calibri"/>
                <a:ea typeface="Arial"/>
              </a:rPr>
              <a:t>Биржев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5651640" y="4724280"/>
            <a:ext cx="28080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46465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Calibri"/>
                <a:ea typeface="Arial"/>
              </a:rPr>
              <a:t>Точечн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46465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Calibri"/>
                <a:ea typeface="Arial"/>
              </a:rPr>
              <a:t>Линейчат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46465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Calibri"/>
                <a:ea typeface="Arial"/>
              </a:rPr>
              <a:t>Поверх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Технология построения диаграмм в </a:t>
            </a:r>
            <a:r>
              <a:rPr b="1" lang="en-US" sz="3600" spc="-1" strike="noStrike">
                <a:solidFill>
                  <a:srgbClr val="373d54"/>
                </a:solidFill>
                <a:latin typeface="Calibri"/>
              </a:rPr>
              <a:t>MS Exc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600" spc="-1" strike="noStrike">
                <a:solidFill>
                  <a:srgbClr val="000000"/>
                </a:solidFill>
                <a:latin typeface="Calibri"/>
              </a:rPr>
              <a:t>1.      Выделить блок ячеек данных  (область данных диаграммы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600" spc="-1" strike="noStrike">
                <a:solidFill>
                  <a:srgbClr val="000000"/>
                </a:solidFill>
                <a:latin typeface="Calibri"/>
              </a:rPr>
              <a:t>2.      </a:t>
            </a:r>
            <a:r>
              <a:rPr b="1" lang="be-BY" sz="2600" spc="-1" strike="noStrike">
                <a:solidFill>
                  <a:srgbClr val="cc3300"/>
                </a:solidFill>
                <a:latin typeface="Calibri"/>
              </a:rPr>
              <a:t>Вставка► Диаграмма</a:t>
            </a:r>
            <a:r>
              <a:rPr b="1" lang="be-BY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e-BY" sz="2600" spc="-1" strike="noStrike">
                <a:solidFill>
                  <a:srgbClr val="000000"/>
                </a:solidFill>
                <a:latin typeface="Calibri"/>
              </a:rPr>
              <a:t>или            [Мастер диаграмм]  на панели инструмент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600" spc="-1" strike="noStrike">
                <a:solidFill>
                  <a:srgbClr val="000000"/>
                </a:solidFill>
                <a:latin typeface="Calibri"/>
              </a:rPr>
              <a:t>3.    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брать </a:t>
            </a:r>
            <a:r>
              <a:rPr b="1" lang="be-BY" sz="2600" spc="-1" strike="noStrike">
                <a:solidFill>
                  <a:srgbClr val="cc3300"/>
                </a:solidFill>
                <a:latin typeface="Calibri"/>
              </a:rPr>
              <a:t>тип диаграммы</a:t>
            </a:r>
            <a:r>
              <a:rPr b="0" lang="be-BY" sz="2600" spc="-1" strike="noStrike">
                <a:solidFill>
                  <a:srgbClr val="000000"/>
                </a:solidFill>
                <a:latin typeface="Calibri"/>
              </a:rPr>
              <a:t> [Далее]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ff0000"/>
                </a:solidFill>
                <a:latin typeface="Calibri"/>
              </a:rPr>
              <a:t>Запомнить!</a:t>
            </a:r>
            <a:r>
              <a:rPr b="1" lang="be-BY" sz="2600" spc="-1" strike="noStrike">
                <a:solidFill>
                  <a:srgbClr val="3333cc"/>
                </a:solidFill>
                <a:latin typeface="Calibri"/>
              </a:rPr>
              <a:t> Изменения в исходной таблице автоматически приводят к изменениям в диаграмм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Picture 4" descr="tema5v11"/>
          <p:cNvPicPr/>
          <p:nvPr/>
        </p:nvPicPr>
        <p:blipFill>
          <a:blip r:embed="rId1"/>
          <a:stretch/>
        </p:blipFill>
        <p:spPr>
          <a:xfrm>
            <a:off x="5214960" y="2500200"/>
            <a:ext cx="57636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7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Табличные процесс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нцепция электронной таблицы  была впервые реализована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 начале 80-х годов  ХХ век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в системе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VisiCalc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годня ситуация на рынке электронных таблиц характеризуется </a:t>
            </a:r>
            <a:r>
              <a:rPr b="1" i="1" lang="ru-RU" sz="3200" spc="-1" strike="noStrike">
                <a:solidFill>
                  <a:srgbClr val="525b7e"/>
                </a:solidFill>
                <a:latin typeface="Calibri"/>
              </a:rPr>
              <a:t>лидирующим положением продукта фирмы </a:t>
            </a:r>
            <a:r>
              <a:rPr b="1" i="1" lang="en-US" sz="3200" spc="-1" strike="noStrike">
                <a:solidFill>
                  <a:srgbClr val="525b7e"/>
                </a:solidFill>
                <a:latin typeface="Calibri"/>
              </a:rPr>
              <a:t>Microsoft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–  до </a:t>
            </a:r>
            <a:r>
              <a:rPr b="1" i="1" lang="ru-RU" sz="3200" spc="-1" strike="noStrike">
                <a:solidFill>
                  <a:srgbClr val="525b7e"/>
                </a:solidFill>
                <a:latin typeface="Calibri"/>
              </a:rPr>
              <a:t>80%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всех пользователей предпочитают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el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525b7e"/>
                </a:solidFill>
                <a:latin typeface="Calibri"/>
              </a:rPr>
              <a:t>На втором месте</a:t>
            </a:r>
            <a:r>
              <a:rPr b="1" lang="ru-RU" sz="3200" spc="-1" strike="noStrike">
                <a:solidFill>
                  <a:srgbClr val="525b7e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объему продаж – </a:t>
            </a:r>
            <a:r>
              <a:rPr b="1" lang="en-US" sz="3200" spc="-1" strike="noStrike">
                <a:solidFill>
                  <a:srgbClr val="525b7e"/>
                </a:solidFill>
                <a:latin typeface="Calibri"/>
              </a:rPr>
              <a:t>Lotus</a:t>
            </a:r>
            <a:r>
              <a:rPr b="1" lang="ru-RU" sz="3200" spc="-1" strike="noStrike">
                <a:solidFill>
                  <a:srgbClr val="525b7e"/>
                </a:solidFill>
                <a:latin typeface="Calibri"/>
              </a:rPr>
              <a:t> 1-2-3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затем </a:t>
            </a:r>
            <a:r>
              <a:rPr b="1" lang="en-US" sz="3200" spc="-1" strike="noStrike">
                <a:solidFill>
                  <a:srgbClr val="525b7e"/>
                </a:solidFill>
                <a:latin typeface="Calibri"/>
              </a:rPr>
              <a:t>Quattro Pro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корректироват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7346880" y="6237360"/>
            <a:ext cx="1511280" cy="287280"/>
          </a:xfrm>
          <a:prstGeom prst="rect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1420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1" lang="ru-RU" sz="15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Табличный процессор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(ТП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лекс взаимосвязанных программ, предназначенный для обработки электронных таблиц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294349"/>
                </a:solidFill>
                <a:uFillTx/>
                <a:latin typeface="Calibri"/>
              </a:rPr>
              <a:t>Функциональные возмож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числения в таблиц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троенные функции и алгоритмы  статистической обработки данны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редства для связи таблиц между собо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редства создания и редактирования электронных баз данных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та с формой, фильтрация, подведение итог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здание сводных таблиц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троенная справочная систе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ичие средств автоматического создания отчетов  с использованием многих таблиц, графиков, диаграмм и д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3"/>
          <p:cNvSpPr/>
          <p:nvPr/>
        </p:nvSpPr>
        <p:spPr>
          <a:xfrm>
            <a:off x="7346880" y="6381720"/>
            <a:ext cx="1511280" cy="287280"/>
          </a:xfrm>
          <a:prstGeom prst="rect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3d54"/>
                </a:solidFill>
                <a:latin typeface="Calibri"/>
              </a:rPr>
              <a:t>Табличный процессор </a:t>
            </a:r>
            <a:r>
              <a:rPr b="1" lang="en-US" sz="4000" spc="-1" strike="noStrike">
                <a:solidFill>
                  <a:srgbClr val="373d54"/>
                </a:solidFill>
                <a:latin typeface="Calibri"/>
              </a:rPr>
              <a:t>MS Exc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294349"/>
                </a:solidFill>
                <a:uFillTx/>
                <a:latin typeface="Calibri"/>
              </a:rPr>
              <a:t>Основные понятия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нига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ист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лектронная таблица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ячейка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дрес ячейки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раница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сылки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иды ссылок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бственные имена ячеек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7346880" y="6237360"/>
            <a:ext cx="1511280" cy="287280"/>
          </a:xfrm>
          <a:prstGeom prst="rect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Табличный процессор </a:t>
            </a:r>
            <a:r>
              <a:rPr b="1" lang="en-US" sz="4400" spc="-1" strike="noStrike">
                <a:solidFill>
                  <a:srgbClr val="373d54"/>
                </a:solidFill>
                <a:latin typeface="Calibri"/>
              </a:rPr>
              <a:t>MS Excel</a:t>
            </a: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6019920" cy="3657600"/>
          </a:xfrm>
          <a:prstGeom prst="rect">
            <a:avLst/>
          </a:prstGeom>
          <a:ln w="12600">
            <a:solidFill>
              <a:srgbClr val="464653"/>
            </a:solidFill>
            <a:miter/>
          </a:ln>
        </p:spPr>
      </p:pic>
      <p:grpSp>
        <p:nvGrpSpPr>
          <p:cNvPr id="165" name="Group 4"/>
          <p:cNvGrpSpPr/>
          <p:nvPr/>
        </p:nvGrpSpPr>
        <p:grpSpPr>
          <a:xfrm>
            <a:off x="533520" y="1447920"/>
            <a:ext cx="1674720" cy="841320"/>
            <a:chOff x="533520" y="1447920"/>
            <a:chExt cx="1674720" cy="841320"/>
          </a:xfrm>
        </p:grpSpPr>
        <p:sp>
          <p:nvSpPr>
            <p:cNvPr id="166" name="Line 5"/>
            <p:cNvSpPr/>
            <p:nvPr/>
          </p:nvSpPr>
          <p:spPr>
            <a:xfrm>
              <a:off x="1143000" y="1982880"/>
              <a:ext cx="1065240" cy="30636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6"/>
            <p:cNvSpPr/>
            <p:nvPr/>
          </p:nvSpPr>
          <p:spPr>
            <a:xfrm>
              <a:off x="533520" y="1447920"/>
              <a:ext cx="121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Строка заголов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7"/>
          <p:cNvGrpSpPr/>
          <p:nvPr/>
        </p:nvGrpSpPr>
        <p:grpSpPr>
          <a:xfrm>
            <a:off x="7238880" y="1447920"/>
            <a:ext cx="1447920" cy="841320"/>
            <a:chOff x="7238880" y="1447920"/>
            <a:chExt cx="1447920" cy="841320"/>
          </a:xfrm>
        </p:grpSpPr>
        <p:sp>
          <p:nvSpPr>
            <p:cNvPr id="169" name="Text Box 8"/>
            <p:cNvSpPr/>
            <p:nvPr/>
          </p:nvSpPr>
          <p:spPr>
            <a:xfrm>
              <a:off x="7238880" y="144792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Кнопки упра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9"/>
            <p:cNvSpPr/>
            <p:nvPr/>
          </p:nvSpPr>
          <p:spPr>
            <a:xfrm flipH="1">
              <a:off x="7542360" y="1981080"/>
              <a:ext cx="458640" cy="30816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0"/>
          <p:cNvGrpSpPr/>
          <p:nvPr/>
        </p:nvGrpSpPr>
        <p:grpSpPr>
          <a:xfrm>
            <a:off x="1752480" y="1143000"/>
            <a:ext cx="1371600" cy="1295280"/>
            <a:chOff x="1752480" y="1143000"/>
            <a:chExt cx="1371600" cy="1295280"/>
          </a:xfrm>
        </p:grpSpPr>
        <p:sp>
          <p:nvSpPr>
            <p:cNvPr id="172" name="Text Box 11"/>
            <p:cNvSpPr/>
            <p:nvPr/>
          </p:nvSpPr>
          <p:spPr>
            <a:xfrm>
              <a:off x="1752480" y="114300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C</a:t>
              </a:r>
              <a:r>
                <a:rPr b="1" lang="ru-RU" sz="1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трока основного мен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2"/>
            <p:cNvSpPr/>
            <p:nvPr/>
          </p:nvSpPr>
          <p:spPr>
            <a:xfrm>
              <a:off x="2590920" y="1828800"/>
              <a:ext cx="380880" cy="609480"/>
            </a:xfrm>
            <a:prstGeom prst="line">
              <a:avLst/>
            </a:prstGeom>
            <a:ln w="25560">
              <a:solidFill>
                <a:srgbClr val="52869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3"/>
          <p:cNvGrpSpPr/>
          <p:nvPr/>
        </p:nvGrpSpPr>
        <p:grpSpPr>
          <a:xfrm>
            <a:off x="3048120" y="1447920"/>
            <a:ext cx="1828800" cy="1523880"/>
            <a:chOff x="3048120" y="1447920"/>
            <a:chExt cx="1828800" cy="1523880"/>
          </a:xfrm>
        </p:grpSpPr>
        <p:sp>
          <p:nvSpPr>
            <p:cNvPr id="175" name="Text Box 14"/>
            <p:cNvSpPr/>
            <p:nvPr/>
          </p:nvSpPr>
          <p:spPr>
            <a:xfrm>
              <a:off x="3048120" y="144792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Панели инструм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15"/>
            <p:cNvGrpSpPr/>
            <p:nvPr/>
          </p:nvGrpSpPr>
          <p:grpSpPr>
            <a:xfrm>
              <a:off x="3733560" y="1981080"/>
              <a:ext cx="457560" cy="990720"/>
              <a:chOff x="3733560" y="1981080"/>
              <a:chExt cx="457560" cy="990720"/>
            </a:xfrm>
          </p:grpSpPr>
          <p:sp>
            <p:nvSpPr>
              <p:cNvPr id="177" name="Line 16"/>
              <p:cNvSpPr/>
              <p:nvPr/>
            </p:nvSpPr>
            <p:spPr>
              <a:xfrm flipH="1">
                <a:off x="3733560" y="1981080"/>
                <a:ext cx="152280" cy="762120"/>
              </a:xfrm>
              <a:prstGeom prst="line">
                <a:avLst/>
              </a:prstGeom>
              <a:ln w="25560">
                <a:solidFill>
                  <a:srgbClr val="464653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7"/>
              <p:cNvSpPr/>
              <p:nvPr/>
            </p:nvSpPr>
            <p:spPr>
              <a:xfrm>
                <a:off x="3886200" y="1982880"/>
                <a:ext cx="304920" cy="988920"/>
              </a:xfrm>
              <a:prstGeom prst="line">
                <a:avLst/>
              </a:prstGeom>
              <a:ln w="25560">
                <a:solidFill>
                  <a:srgbClr val="464653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Group 18"/>
          <p:cNvGrpSpPr/>
          <p:nvPr/>
        </p:nvGrpSpPr>
        <p:grpSpPr>
          <a:xfrm>
            <a:off x="4495680" y="1447920"/>
            <a:ext cx="1447920" cy="1676160"/>
            <a:chOff x="4495680" y="1447920"/>
            <a:chExt cx="1447920" cy="1676160"/>
          </a:xfrm>
        </p:grpSpPr>
        <p:sp>
          <p:nvSpPr>
            <p:cNvPr id="180" name="Text Box 19"/>
            <p:cNvSpPr/>
            <p:nvPr/>
          </p:nvSpPr>
          <p:spPr>
            <a:xfrm>
              <a:off x="4952880" y="1447920"/>
              <a:ext cx="99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Строка форму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 flipH="1">
              <a:off x="4495680" y="1982880"/>
              <a:ext cx="911520" cy="114120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21"/>
          <p:cNvGrpSpPr/>
          <p:nvPr/>
        </p:nvGrpSpPr>
        <p:grpSpPr>
          <a:xfrm>
            <a:off x="0" y="3505320"/>
            <a:ext cx="1904400" cy="1218960"/>
            <a:chOff x="0" y="3505320"/>
            <a:chExt cx="1904400" cy="1218960"/>
          </a:xfrm>
        </p:grpSpPr>
        <p:sp>
          <p:nvSpPr>
            <p:cNvPr id="183" name="Text Box 22"/>
            <p:cNvSpPr/>
            <p:nvPr/>
          </p:nvSpPr>
          <p:spPr>
            <a:xfrm>
              <a:off x="0" y="3505320"/>
              <a:ext cx="130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Заголовки стро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3"/>
            <p:cNvSpPr/>
            <p:nvPr/>
          </p:nvSpPr>
          <p:spPr>
            <a:xfrm>
              <a:off x="601200" y="3809880"/>
              <a:ext cx="1303200" cy="38124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4"/>
            <p:cNvSpPr/>
            <p:nvPr/>
          </p:nvSpPr>
          <p:spPr>
            <a:xfrm>
              <a:off x="601200" y="3809880"/>
              <a:ext cx="1303200" cy="91440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5"/>
          <p:cNvGrpSpPr/>
          <p:nvPr/>
        </p:nvGrpSpPr>
        <p:grpSpPr>
          <a:xfrm>
            <a:off x="533520" y="5790960"/>
            <a:ext cx="2133360" cy="459720"/>
            <a:chOff x="533520" y="5790960"/>
            <a:chExt cx="2133360" cy="459720"/>
          </a:xfrm>
        </p:grpSpPr>
        <p:sp>
          <p:nvSpPr>
            <p:cNvPr id="187" name="Text Box 26"/>
            <p:cNvSpPr/>
            <p:nvPr/>
          </p:nvSpPr>
          <p:spPr>
            <a:xfrm>
              <a:off x="533520" y="594360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Строка состоя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7"/>
            <p:cNvSpPr/>
            <p:nvPr/>
          </p:nvSpPr>
          <p:spPr>
            <a:xfrm flipV="1">
              <a:off x="1523880" y="5790960"/>
              <a:ext cx="609840" cy="22860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8"/>
          <p:cNvGrpSpPr/>
          <p:nvPr/>
        </p:nvGrpSpPr>
        <p:grpSpPr>
          <a:xfrm>
            <a:off x="6324480" y="4800240"/>
            <a:ext cx="2286000" cy="1450440"/>
            <a:chOff x="6324480" y="4800240"/>
            <a:chExt cx="2286000" cy="1450440"/>
          </a:xfrm>
        </p:grpSpPr>
        <p:sp>
          <p:nvSpPr>
            <p:cNvPr id="190" name="Text Box 29"/>
            <p:cNvSpPr/>
            <p:nvPr/>
          </p:nvSpPr>
          <p:spPr>
            <a:xfrm>
              <a:off x="6324480" y="594360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Линейки прокрут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0"/>
            <p:cNvSpPr/>
            <p:nvPr/>
          </p:nvSpPr>
          <p:spPr>
            <a:xfrm flipV="1">
              <a:off x="7467480" y="4800240"/>
              <a:ext cx="152640" cy="121932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1"/>
            <p:cNvSpPr/>
            <p:nvPr/>
          </p:nvSpPr>
          <p:spPr>
            <a:xfrm flipH="1" flipV="1">
              <a:off x="6629400" y="5562720"/>
              <a:ext cx="838080" cy="45720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324000" y="2349360"/>
            <a:ext cx="3581280" cy="936000"/>
            <a:chOff x="324000" y="2349360"/>
            <a:chExt cx="3581280" cy="936000"/>
          </a:xfrm>
        </p:grpSpPr>
        <p:sp>
          <p:nvSpPr>
            <p:cNvPr id="194" name="Text Box 33"/>
            <p:cNvSpPr/>
            <p:nvPr/>
          </p:nvSpPr>
          <p:spPr>
            <a:xfrm>
              <a:off x="324000" y="234936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Заголовки столбц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4"/>
            <p:cNvSpPr/>
            <p:nvPr/>
          </p:nvSpPr>
          <p:spPr>
            <a:xfrm>
              <a:off x="933480" y="2723760"/>
              <a:ext cx="1495440" cy="56160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5"/>
            <p:cNvSpPr/>
            <p:nvPr/>
          </p:nvSpPr>
          <p:spPr>
            <a:xfrm>
              <a:off x="933480" y="2723760"/>
              <a:ext cx="2971800" cy="56160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36"/>
          <p:cNvGrpSpPr/>
          <p:nvPr/>
        </p:nvGrpSpPr>
        <p:grpSpPr>
          <a:xfrm>
            <a:off x="457200" y="2971800"/>
            <a:ext cx="1828800" cy="533520"/>
            <a:chOff x="457200" y="2971800"/>
            <a:chExt cx="1828800" cy="533520"/>
          </a:xfrm>
        </p:grpSpPr>
        <p:sp>
          <p:nvSpPr>
            <p:cNvPr id="198" name="Text Box 37"/>
            <p:cNvSpPr/>
            <p:nvPr/>
          </p:nvSpPr>
          <p:spPr>
            <a:xfrm>
              <a:off x="457200" y="297180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Текущая ячей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8"/>
            <p:cNvSpPr/>
            <p:nvPr/>
          </p:nvSpPr>
          <p:spPr>
            <a:xfrm flipV="1">
              <a:off x="990720" y="3429000"/>
              <a:ext cx="1295280" cy="7632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39"/>
          <p:cNvGrpSpPr/>
          <p:nvPr/>
        </p:nvGrpSpPr>
        <p:grpSpPr>
          <a:xfrm>
            <a:off x="2590560" y="5562720"/>
            <a:ext cx="2133720" cy="687960"/>
            <a:chOff x="2590560" y="5562720"/>
            <a:chExt cx="2133720" cy="687960"/>
          </a:xfrm>
        </p:grpSpPr>
        <p:sp>
          <p:nvSpPr>
            <p:cNvPr id="201" name="Text Box 40"/>
            <p:cNvSpPr/>
            <p:nvPr/>
          </p:nvSpPr>
          <p:spPr>
            <a:xfrm>
              <a:off x="2743200" y="594360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Ярлычки лис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41"/>
            <p:cNvSpPr/>
            <p:nvPr/>
          </p:nvSpPr>
          <p:spPr>
            <a:xfrm flipH="1" flipV="1">
              <a:off x="2590560" y="5638320"/>
              <a:ext cx="1143000" cy="38124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42"/>
            <p:cNvSpPr/>
            <p:nvPr/>
          </p:nvSpPr>
          <p:spPr>
            <a:xfrm flipH="1" flipV="1">
              <a:off x="3428640" y="5562720"/>
              <a:ext cx="304920" cy="45720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43"/>
          <p:cNvGrpSpPr/>
          <p:nvPr/>
        </p:nvGrpSpPr>
        <p:grpSpPr>
          <a:xfrm>
            <a:off x="2514240" y="3123720"/>
            <a:ext cx="1448280" cy="1054080"/>
            <a:chOff x="2514240" y="3123720"/>
            <a:chExt cx="1448280" cy="1054080"/>
          </a:xfrm>
        </p:grpSpPr>
        <p:sp>
          <p:nvSpPr>
            <p:cNvPr id="205" name="Text Box 44"/>
            <p:cNvSpPr/>
            <p:nvPr/>
          </p:nvSpPr>
          <p:spPr>
            <a:xfrm>
              <a:off x="2819520" y="365760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Поле имен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45"/>
            <p:cNvSpPr/>
            <p:nvPr/>
          </p:nvSpPr>
          <p:spPr>
            <a:xfrm flipH="1" flipV="1">
              <a:off x="2514240" y="3123720"/>
              <a:ext cx="609480" cy="685800"/>
            </a:xfrm>
            <a:prstGeom prst="line">
              <a:avLst/>
            </a:prstGeom>
            <a:ln w="25560">
              <a:solidFill>
                <a:srgbClr val="52869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Электронная таблиц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(ЭТ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—  компьютерный эквивалент обычной таблицы, состоящей из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ок и столбцов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на пересечении которых располагаются ячейки, в которых содержатся данные различного тип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Способы  обозначения строк и столбцов Э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Столбцы обозначаются буквами английского алфавита - A,B,C,D... ,а строки числами — 1,2,3....; после столбца с именем Z будут следовать столбцы с именами AA, AB, AC ... AZ, BA, BB, BC ... BZ, 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Столбцы и строки обозначаются числ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ереключение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ервис-Параметры-Общие-Стиль ссыл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7:46:50Z</dcterms:created>
  <dc:creator>aly</dc:creator>
  <dc:description/>
  <dc:language>en-US</dc:language>
  <cp:lastModifiedBy>Юля Дунаева</cp:lastModifiedBy>
  <dcterms:modified xsi:type="dcterms:W3CDTF">2020-04-08T15:44:00Z</dcterms:modified>
  <cp:revision>92</cp:revision>
  <dc:subject/>
  <dc:title>Сервисное ПО</dc:title>
</cp:coreProperties>
</file>