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7.png" ContentType="image/png"/>
  <Override PartName="/ppt/media/CAMERA.WAV" ContentType="audio/x-wav"/>
  <Override PartName="/ppt/media/image24.wmf" ContentType="image/x-wmf"/>
  <Override PartName="/ppt/media/image8.png" ContentType="image/png"/>
  <Override PartName="/ppt/media/image9.png" ContentType="image/png"/>
  <Override PartName="/ppt/media/image27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CASHREG.WAV" ContentType="audio/x-wav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PROJCTOR.WAV" ContentType="audio/x-wav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E9C-12AD-4FF1-B99A-CF08BB0677C0}" type="slidenum">
              <a:rPr b="0" lang="be-B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90D-9A2A-4A15-8692-C4E8B92699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E83-98EB-40C8-8D9B-65AE9DEC3D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9975-B37C-4062-861E-EF6A153912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F35C-736E-46B9-B9F2-47AB6FFEC141}" type="slidenum">
              <a:rPr b="0" lang="be-BY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3509-42E0-40A4-8D72-24FB43E532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гументами функций могут быть числовые и текстовые значения, логические значения, массивы, значения ошибок, или они могут вовсе отсутствовать для некоторых функций. Например, функция СУММ(А1:А10) суммирует значения диапазона ячеек А1:А10; ЧИСТРАБДНИ("10.05.1999";"20.05.1999") вычисляет количество рабочих дней между двумя датами, а функция СЕГОДНЯ() – текущую дату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CB8-CB5B-4589-889D-9CBF8320943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бязательным при вводе функции являетс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шествующий ей знак равняется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руглые скобки, в которые заключаются аргументы функции, причем скобки нужны даже в том случае, если для функции не требуется задавать список аргументов, как для функции СЕГОДНЯ(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сутствие пробела между именем функции и списком аргументов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спользование латинского режима клавиатуры при вводе ссылок на адреса ячеек в формулах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A74-168E-403F-B229-5390D9E8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572-CD85-48C1-B59D-F381A44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979-F210-49D6-9435-60444ED8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BE7-B482-4559-A031-D0F14DAE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DE3-EA5F-4459-BF68-B652E4D0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E21A-CF24-4BB6-AFF6-5A07348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AD8-95F6-43FE-A883-D235483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3F2-342B-4F40-9D73-F1A3664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285-9CDD-462C-BD99-7E23B05E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FBE-9E6B-4169-9F71-801FEAF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854A-BB91-491B-A576-DE89128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10C-430D-4343-8727-2B7604D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D24-DAC1-44F0-A51C-7BA50BE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9B88-5B81-49B0-B061-2BD352D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7D3A-4006-4166-B7DC-C536E75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A16A-3320-4BC7-9A69-E920D00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E24-4DC6-41F9-AC3F-E69B4AC4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AE3A-0CDB-4545-B9BF-35FC9A32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0ED4-4ED4-4C00-B9D8-093324C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A46D-EB91-4590-93B9-B87657B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BBC8-4384-4A73-9BE0-60CF9BC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7509-CEFF-4AEC-A0B9-EC8D62E2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47-F4A4-4224-9EA9-248924E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CF2E-2FEA-4BC5-88E8-C6CE3A1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BE09-2C31-4BC1-883A-FC184222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CC7C-A633-43A1-A610-C130DF6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94DD-729C-4A78-B8CC-77439B3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0641-AF65-4763-B70B-4079FDC1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B63B-457B-4256-B0E4-E6E22926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0F35-6D48-4977-93F8-DAD7348A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CE4-3DA0-4D6D-8AA6-7FD61A3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C7B-67AD-4ECE-A114-9F545C8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D77-7CB9-4FAF-9356-9D23C26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759-0387-4E2B-9B3B-A1FA767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13C-4D8F-42F0-8708-013535F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EFD-D520-4DE6-ABB5-98CCA82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C10-1103-4924-AFE2-57F647A1757F}" type="slidenum">
              <a:rPr b="0" lang="be-BY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E08-714A-4C48-A7F1-FE99DD9BAA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7D4C-2EED-4305-81AE-C0D1E660EB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2349360"/>
            <a:ext cx="785808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31d1a"/>
                </a:solidFill>
                <a:latin typeface="Calibri"/>
              </a:rPr>
              <a:t>Табличные процесс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Ячей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—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базовый элемент ЭТ, область рабочей таблицы, находящаяся на пересечении столбца и строки, имеющая свое уникальное и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начала пишется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бук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олб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потом </a:t>
            </a: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номер ст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BZ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5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  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начала пишут букву R (сокращение от слова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ow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стр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номер строки, затем букву С (сокращение от слова 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olum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столбец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и номер столб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 же ячейки, что и в предыдущем примере, будут иметь при такой записи им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4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1</a:t>
            </a:r>
            <a:r>
              <a:rPr b="1" lang="ru-RU" sz="2400" spc="-1" strike="noStrike">
                <a:solidFill>
                  <a:srgbClr val="464653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56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78</a:t>
            </a:r>
            <a:r>
              <a:rPr b="1" lang="ru-RU" sz="2400" spc="-1" strike="noStrike">
                <a:solidFill>
                  <a:srgbClr val="464653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R99</a:t>
            </a:r>
            <a:r>
              <a:rPr b="1" lang="ru-RU" sz="2400" spc="-1" strike="noStrike">
                <a:solidFill>
                  <a:srgbClr val="473a35"/>
                </a:solidFill>
                <a:latin typeface="Calibri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buClr>
                <a:srgbClr val="473a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3928680" y="3071880"/>
            <a:ext cx="500040" cy="2858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429080" y="3071880"/>
            <a:ext cx="14292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429080" y="3071880"/>
            <a:ext cx="1000080" cy="2858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5857560" y="3143160"/>
            <a:ext cx="857160" cy="2145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4200" y="114264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Смежная группа (блок) ячее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вязанная прямоугольная часть Э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Адрес бло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координат противоположных углов, разделенных двоеточие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D1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смежная группа (диапазон) ячее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овокупность ячеек и связанных групп ячеек. Обозначают перечисляя имена, разделенные символом 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” (точка с запят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держимое ячей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данные, которые в нее записаны (числа, текст, формулы или может быть пусто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 u="sng">
                <a:solidFill>
                  <a:srgbClr val="cc3300"/>
                </a:solidFill>
                <a:uFillTx/>
                <a:latin typeface="Calibri"/>
              </a:rPr>
              <a:t>Текущая (активная) ячейка</a:t>
            </a:r>
            <a:r>
              <a:rPr b="1" lang="be-BY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be-BY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e-BY" sz="2400" spc="-1" strike="noStrike">
                <a:solidFill>
                  <a:srgbClr val="000000"/>
                </a:solidFill>
                <a:latin typeface="Calibri"/>
              </a:rPr>
              <a:t>ячейка ЭТ, в которой в данный момент находится курс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5429160" y="1785960"/>
            <a:ext cx="3467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Основные понятия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0066"/>
                </a:solidFill>
                <a:latin typeface="Calibri"/>
              </a:rPr>
              <a:t>лист</a:t>
            </a:r>
            <a:r>
              <a:rPr b="1" i="1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основа для выполнения вычислений,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разделен на строки и столбц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000066"/>
                </a:solidFill>
                <a:latin typeface="Calibri"/>
              </a:rPr>
              <a:t>книга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файл, используемый для обработки и хранени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1" lang="be-BY" sz="3000" spc="-1" strike="noStrike">
                <a:solidFill>
                  <a:srgbClr val="000000"/>
                </a:solidFill>
                <a:latin typeface="Calibri"/>
              </a:rPr>
              <a:t>, состоящий из отдельных лист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Calibri"/>
              </a:rPr>
              <a:t>ячейка </a:t>
            </a:r>
            <a:r>
              <a:rPr b="0" lang="ru-RU" sz="3000" spc="-1" strike="noStrike">
                <a:solidFill>
                  <a:srgbClr val="000066"/>
                </a:solidFill>
                <a:latin typeface="Calibri"/>
              </a:rPr>
              <a:t>—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базовый элемент ЭТ, область рабочей таблицы, находящаяся на пересечении столбца и строки, имеющая свое уникальное им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Группа 4"/>
          <p:cNvGrpSpPr/>
          <p:nvPr/>
        </p:nvGrpSpPr>
        <p:grpSpPr>
          <a:xfrm>
            <a:off x="695160" y="1571760"/>
            <a:ext cx="8066160" cy="3786120"/>
            <a:chOff x="695160" y="1571760"/>
            <a:chExt cx="8066160" cy="3786120"/>
          </a:xfrm>
        </p:grpSpPr>
        <p:pic>
          <p:nvPicPr>
            <p:cNvPr id="222" name="Picture 2" descr=""/>
            <p:cNvPicPr/>
            <p:nvPr/>
          </p:nvPicPr>
          <p:blipFill>
            <a:blip r:embed="rId1"/>
            <a:srcRect l="51955" t="28472" r="9766" b="39584"/>
            <a:stretch/>
          </p:blipFill>
          <p:spPr>
            <a:xfrm>
              <a:off x="695160" y="1571760"/>
              <a:ext cx="8066160" cy="37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"/>
            <p:cNvSpPr/>
            <p:nvPr/>
          </p:nvSpPr>
          <p:spPr>
            <a:xfrm>
              <a:off x="3642840" y="2000160"/>
              <a:ext cx="2928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- типы данны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libri"/>
              </a:rPr>
              <a:t>Чис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вая конста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-123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целое числ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3856,5657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дробное числ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1,2E+09 </a:t>
            </a:r>
            <a:r>
              <a:rPr b="0" i="1" lang="ru-RU" sz="2800" spc="-1" strike="noStrike">
                <a:solidFill>
                  <a:srgbClr val="b292ca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исло в экспоненциальной форм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5,9Е-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4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4349"/>
                </a:solidFill>
                <a:latin typeface="Calibri"/>
              </a:rPr>
              <a:t>Текст</a:t>
            </a:r>
            <a:r>
              <a:rPr b="0" lang="ru-RU" sz="3200" spc="-1" strike="noStrike">
                <a:solidFill>
                  <a:srgbClr val="29434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ка не более 32000 символов, содержащая буквы, цифры и специальные симв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Инфор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1-37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‘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7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02-й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libri"/>
              </a:rPr>
              <a:t>Дата</a:t>
            </a:r>
            <a:r>
              <a:rPr b="0" lang="ru-RU" sz="3200" spc="-1" strike="noStrike">
                <a:solidFill>
                  <a:srgbClr val="464653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представлена в различных форма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.03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 марта 200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alibri"/>
              </a:rPr>
              <a:t>20.03.02 14: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576360" y="2063880"/>
            <a:ext cx="3800520" cy="359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760720" cy="3394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85840" y="3786120"/>
            <a:ext cx="35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Форматирование ячейки электронной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7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rcRect l="11329" t="36808" r="51955" b="20140"/>
          <a:stretch/>
        </p:blipFill>
        <p:spPr>
          <a:xfrm>
            <a:off x="1143000" y="157176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Данные, формулы,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Формулы - </a:t>
            </a:r>
            <a:r>
              <a:rPr b="1" i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ражения, начинающиеся со знака равенства (=) и состоящие из числовых величин, адресов ячеек, функций и знаков арифметических операций.</a:t>
            </a:r>
            <a:r>
              <a:rPr b="1" i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330+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А5+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=А1-</a:t>
            </a:r>
            <a:r>
              <a:rPr b="1" i="1" lang="en-US" sz="2600" spc="-1" strike="noStrike">
                <a:solidFill>
                  <a:srgbClr val="800000"/>
                </a:solidFill>
                <a:latin typeface="Calibri"/>
              </a:rPr>
              <a:t>B</a:t>
            </a:r>
            <a:r>
              <a:rPr b="1" i="1" lang="ru-RU" sz="2600" spc="-1" strike="noStrike">
                <a:solidFill>
                  <a:srgbClr val="800000"/>
                </a:solidFill>
                <a:latin typeface="Calibri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Calibri"/>
              </a:rPr>
              <a:t>=A1-2*C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4857840" y="1571760"/>
            <a:ext cx="418608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Функции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программированные формулы, позволяющие проводить часто встречающиеся последовательности вычисле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=СУММ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A4:A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=</a:t>
            </a: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СРЗНАЧ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D2:D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=МАХ(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C2:C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Arial"/>
              </a:rPr>
              <a:t>=MIN(B2:B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6"/>
          <p:cNvGrpSpPr/>
          <p:nvPr/>
        </p:nvGrpSpPr>
        <p:grpSpPr>
          <a:xfrm>
            <a:off x="5357880" y="4643280"/>
            <a:ext cx="2928960" cy="792360"/>
            <a:chOff x="5357880" y="4643280"/>
            <a:chExt cx="2928960" cy="792360"/>
          </a:xfrm>
        </p:grpSpPr>
        <p:sp>
          <p:nvSpPr>
            <p:cNvPr id="239" name="Rectangle 4"/>
            <p:cNvSpPr/>
            <p:nvPr/>
          </p:nvSpPr>
          <p:spPr>
            <a:xfrm>
              <a:off x="5357880" y="4738680"/>
              <a:ext cx="29289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РЗНАЧ (B3:B9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5"/>
            <p:cNvSpPr/>
            <p:nvPr/>
          </p:nvSpPr>
          <p:spPr>
            <a:xfrm>
              <a:off x="5357880" y="4643280"/>
              <a:ext cx="428400" cy="72108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15000" y="4643280"/>
              <a:ext cx="1285920" cy="792360"/>
            </a:xfrm>
            <a:prstGeom prst="ellipse">
              <a:avLst/>
            </a:prstGeom>
            <a:noFill/>
            <a:ln w="57240">
              <a:solidFill>
                <a:srgbClr val="7d8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6929640" y="4643280"/>
              <a:ext cx="1143000" cy="792360"/>
            </a:xfrm>
            <a:prstGeom prst="ellipse">
              <a:avLst/>
            </a:prstGeom>
            <a:noFill/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"/>
          <p:cNvSpPr/>
          <p:nvPr/>
        </p:nvSpPr>
        <p:spPr>
          <a:xfrm>
            <a:off x="5500800" y="5214960"/>
            <a:ext cx="22860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Arial"/>
              </a:rPr>
              <a:t>Знак раве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500800" y="5500800"/>
            <a:ext cx="22860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7d8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d852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7d8525"/>
                </a:solidFill>
                <a:latin typeface="Times New Roman"/>
              </a:rPr>
              <a:t>Имя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5500800" y="5786280"/>
            <a:ext cx="3000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Арг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Calibri"/>
              </a:rPr>
              <a:t>Вопросы дл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50012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абличные процессор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абличный процессор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ипы данных в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Автозаполнение данных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Возможности деловой графики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Технология связывания таблиц в Exc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Возможности Excel по работе со  спискам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Надстройки Excel: Анализ данных, Поиск реш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56135" b="53631"/>
          <a:stretch/>
        </p:blipFill>
        <p:spPr>
          <a:xfrm>
            <a:off x="214200" y="1071720"/>
            <a:ext cx="5508720" cy="4000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4481640" y="6642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571680" y="4143240"/>
            <a:ext cx="2143080" cy="785880"/>
          </a:xfrm>
          <a:prstGeom prst="wedgeEllipseCallout">
            <a:avLst>
              <a:gd name="adj1" fmla="val 78921"/>
              <a:gd name="adj2" fmla="val -152217"/>
            </a:avLst>
          </a:prstGeom>
          <a:solidFill>
            <a:srgbClr val="ffff6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носительные ссы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3214800" y="4286160"/>
            <a:ext cx="1857240" cy="785880"/>
          </a:xfrm>
          <a:prstGeom prst="wedgeEllipseCallout">
            <a:avLst>
              <a:gd name="adj1" fmla="val 12199"/>
              <a:gd name="adj2" fmla="val -154875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Абсолютные ссы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5715000" y="1928880"/>
            <a:ext cx="3429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носительная ссылка на ячейку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бсолютная ссылка на ячейку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$D$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в пределах листа:    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на другом листе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:    =Лист2!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а на ячейку в другой рабочей кни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Книга1</a:t>
            </a:r>
            <a:r>
              <a:rPr b="1" lang="en-US" sz="1800" spc="-1" strike="noStrike">
                <a:solidFill>
                  <a:srgbClr val="473a35"/>
                </a:solidFill>
                <a:latin typeface="Calibri"/>
              </a:rPr>
              <a:t>.xls]</a:t>
            </a:r>
            <a:r>
              <a:rPr b="1" lang="ru-RU" sz="1800" spc="-1" strike="noStrike">
                <a:solidFill>
                  <a:srgbClr val="473a35"/>
                </a:solidFill>
                <a:latin typeface="Calibri"/>
              </a:rPr>
              <a:t>лист2!E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Принципы построе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Аргументами функций могут быть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числовые или текстовые значе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=СУММ(А1:А10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ирует значения диапазона ячеек А1:А10</a:t>
            </a:r>
            <a:r>
              <a:rPr b="0" lang="ru-RU" sz="20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=ЧИСТРАБДНИ("10.05.1999";"20.05.1999"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ычисляет количество рабочих дней между двумя д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логические зна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пустой аргумент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1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02b"/>
                </a:solidFill>
                <a:latin typeface="Calibri"/>
              </a:rPr>
              <a:t>=</a:t>
            </a:r>
            <a:r>
              <a:rPr b="1" lang="ru-RU" sz="2000" spc="-1" strike="noStrike">
                <a:solidFill>
                  <a:srgbClr val="00602b"/>
                </a:solidFill>
                <a:latin typeface="Calibri"/>
              </a:rPr>
              <a:t>СЕГОДНЯ(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числяет  текущую да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Принципы построения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язательным при вводе функции являет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редшествующий ей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знак раве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руглые скобки, в которые заключаются аргументы 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отсутствие пробела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между именем функции и списком арг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использование 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латинского режима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клавиатуры при вводе ссылок на адреса ячеек в формул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Встроенные функции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28760" y="714960"/>
            <a:ext cx="85010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ется много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встроенных функций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4481640" y="50871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428760" y="11430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02b"/>
                </a:solidFill>
                <a:latin typeface="Calibri"/>
                <a:ea typeface="Arial"/>
              </a:rPr>
              <a:t>Мастер функций </a:t>
            </a:r>
            <a:r>
              <a:rPr b="1" lang="ru-RU" sz="2800" spc="-1" strike="noStrike">
                <a:solidFill>
                  <a:srgbClr val="cc0066"/>
                </a:solidFill>
                <a:latin typeface="Calibri"/>
                <a:ea typeface="Arial"/>
              </a:rPr>
              <a:t>вы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Вставка </a:t>
            </a:r>
            <a:r>
              <a:rPr b="1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  <a:ea typeface="Arial"/>
              </a:rPr>
              <a:t>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18117" t="44926" r="3915" b="6250"/>
          <a:stretch/>
        </p:blipFill>
        <p:spPr>
          <a:xfrm>
            <a:off x="214200" y="2286000"/>
            <a:ext cx="8723520" cy="4000680"/>
          </a:xfrm>
          <a:prstGeom prst="rect">
            <a:avLst/>
          </a:prstGeom>
          <a:ln w="0">
            <a:noFill/>
          </a:ln>
        </p:spPr>
      </p:pic>
      <p:sp>
        <p:nvSpPr>
          <p:cNvPr id="261" name="Полилиния 7"/>
          <p:cNvSpPr/>
          <p:nvPr/>
        </p:nvSpPr>
        <p:spPr>
          <a:xfrm>
            <a:off x="1879560" y="2160720"/>
            <a:ext cx="995400" cy="771480"/>
          </a:xfrm>
          <a:custGeom>
            <a:avLst/>
            <a:gdLst/>
            <a:ahLst/>
            <a:rect l="l" t="t" r="r" b="b"/>
            <a:pathLst>
              <a:path w="996286" h="771099">
                <a:moveTo>
                  <a:pt x="168322" y="118281"/>
                </a:moveTo>
                <a:cubicBezTo>
                  <a:pt x="237698" y="59140"/>
                  <a:pt x="307074" y="0"/>
                  <a:pt x="441277" y="50042"/>
                </a:cubicBezTo>
                <a:cubicBezTo>
                  <a:pt x="575480" y="100084"/>
                  <a:pt x="950794" y="300252"/>
                  <a:pt x="973540" y="418532"/>
                </a:cubicBezTo>
                <a:cubicBezTo>
                  <a:pt x="996286" y="536812"/>
                  <a:pt x="730155" y="748353"/>
                  <a:pt x="577755" y="759726"/>
                </a:cubicBezTo>
                <a:cubicBezTo>
                  <a:pt x="425355" y="771099"/>
                  <a:pt x="118280" y="602777"/>
                  <a:pt x="59140" y="486771"/>
                </a:cubicBezTo>
                <a:cubicBezTo>
                  <a:pt x="0" y="370765"/>
                  <a:pt x="195618" y="156950"/>
                  <a:pt x="222913" y="63690"/>
                </a:cubicBezTo>
              </a:path>
            </a:pathLst>
          </a:custGeom>
          <a:noFill/>
          <a:ln w="50760">
            <a:solidFill>
              <a:srgbClr val="6e78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rcRect l="11329" t="40280" r="51955" b="22915"/>
          <a:stretch/>
        </p:blipFill>
        <p:spPr>
          <a:xfrm>
            <a:off x="428760" y="1071720"/>
            <a:ext cx="8410320" cy="5214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Встроенные функции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28760" y="62755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разработанные пользовател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связывания таблиц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вязыва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совместное использование данных и формул из нескольких таблиц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Есть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дв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основных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способ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установления связи между ячейками таблиц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строение формулы, использующей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ссылки на ячейк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з других листов и книг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слайд 23 «Ссылки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опирование и вставка данных с помощью команды: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Правка►Специальная вставка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лекция «Системное программное обеспечение», слайд 63-64 «Технологии   обмена  данными между приложениями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»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7809120" cy="50724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связывания таблиц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Специальная встав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88652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И   ОБМЕНА  ДАННЫМИ между приложениями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Windows</a:t>
            </a: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643040"/>
            <a:ext cx="7696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DE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ynamic Data Exchange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инамический обмен данными состоит в том, что при установлении связи с объектом создается ссылка на документ-источник, содержащий необходим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 связывания фрагмен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ить фрагмент в файле-источни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пировать этот фрагмент в буфер об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иционировать курсор для вставки в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йле-приемнике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ть команд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вка</a:t>
            </a:r>
            <a:r>
              <a:rPr b="1" lang="ru-RU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ьная встав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явившемся окн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ьная встав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становить переключатель в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ласт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ыбрать в качестве чего будет связываться  объект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таблица – и нажать [ОК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929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озможности Excel по работе со  спискам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Чтобы использовать таблицу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как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базу данных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ее надо рассматривать как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списки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ff0000"/>
                </a:solidFill>
                <a:latin typeface="Calibri"/>
              </a:rPr>
              <a:t>Список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– непрерывный диапазон ячеек, содержащий данные одной определенной струк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фамилии, телефоны</a:t>
            </a:r>
            <a:r>
              <a:rPr b="1" lang="ru-RU" sz="2700" spc="-1" strike="noStrike">
                <a:solidFill>
                  <a:srgbClr val="00602b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имеются следующие </a:t>
            </a:r>
            <a:r>
              <a:rPr b="1" lang="ru-RU" sz="2700" spc="-1" strike="noStrike" u="sng">
                <a:solidFill>
                  <a:srgbClr val="00602b"/>
                </a:solidFill>
                <a:uFillTx/>
                <a:latin typeface="Calibri"/>
              </a:rPr>
              <a:t>средства работы с таблицей как с базой данны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ка данны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ильтрация данны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спользование фор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дведение итогов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водные таблиц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1. Сортировка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ортировать можно как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числовые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по возрастанию или убыванию), так и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текстовые</a:t>
            </a:r>
            <a:r>
              <a:rPr b="1" lang="ru-RU" sz="2700" spc="-1" strike="noStrike">
                <a:solidFill>
                  <a:srgbClr val="00602b"/>
                </a:solidFill>
                <a:latin typeface="Calibri"/>
              </a:rPr>
              <a:t> данны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по алфавиту или в обратном порядке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жно задавать несколько уровней сортировки одновремен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студентов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жно рассортировать </a:t>
            </a:r>
            <a:r>
              <a:rPr b="1" i="1" lang="ru-RU" sz="2700" spc="-1" strike="noStrike">
                <a:solidFill>
                  <a:srgbClr val="00602b"/>
                </a:solidFill>
                <a:latin typeface="Calibri"/>
              </a:rPr>
              <a:t>по факультетам, затем внутри факультета –  по группам, а внутри группы – по фамили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лгоритм сортировк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делить в списке какую-нибудь ячейку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полнить команду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Данные&gt;Сортиров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3840" y="907560"/>
            <a:ext cx="8472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373d54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икладное П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часть ПО, представляющая собой совокупность программ, предназначенных для решения задач пользователя в различных предметных областя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Группа 18"/>
          <p:cNvGrpSpPr/>
          <p:nvPr/>
        </p:nvGrpSpPr>
        <p:grpSpPr>
          <a:xfrm>
            <a:off x="949320" y="3281400"/>
            <a:ext cx="6985080" cy="2135160"/>
            <a:chOff x="949320" y="3281400"/>
            <a:chExt cx="6985080" cy="2135160"/>
          </a:xfrm>
        </p:grpSpPr>
        <p:sp>
          <p:nvSpPr>
            <p:cNvPr id="135" name="Rectangle 2"/>
            <p:cNvSpPr/>
            <p:nvPr/>
          </p:nvSpPr>
          <p:spPr>
            <a:xfrm>
              <a:off x="2550960" y="3281400"/>
              <a:ext cx="4727520" cy="7189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d54"/>
                  </a:solidFill>
                  <a:latin typeface="Times New Roman"/>
                </a:rPr>
                <a:t>ППП общего назначения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(офисные пакеты) </a:t>
              </a:r>
              <a:r>
                <a:rPr b="1" lang="ru-RU" sz="1600" spc="-1" strike="noStrike">
                  <a:solidFill>
                    <a:srgbClr val="373d54"/>
                  </a:solidFill>
                  <a:latin typeface="Times New Roman"/>
                </a:rPr>
                <a:t>-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иболее популя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"/>
            <p:cNvSpPr/>
            <p:nvPr/>
          </p:nvSpPr>
          <p:spPr>
            <a:xfrm>
              <a:off x="949320" y="4691520"/>
              <a:ext cx="118152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кстовые процесс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49280" y="4691520"/>
              <a:ext cx="110628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абличные 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оцесс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6031080" y="4691520"/>
              <a:ext cx="129996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истемы управления базами данны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430800" y="4691520"/>
              <a:ext cx="114048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истемы создания  презент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685040" y="4691520"/>
              <a:ext cx="1255320" cy="72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рафические редакто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1894680" y="4395240"/>
              <a:ext cx="6039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189468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295812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414000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520380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6385320" y="4395240"/>
              <a:ext cx="0" cy="28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Прямая со стрелкой 17"/>
            <p:cNvCxnSpPr>
              <a:stCxn id="135" idx="2"/>
            </p:cNvCxnSpPr>
            <p:nvPr/>
          </p:nvCxnSpPr>
          <p:spPr>
            <a:xfrm flipH="1">
              <a:off x="4914360" y="4000320"/>
              <a:ext cx="1080" cy="383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48" name="Rectangle 5"/>
          <p:cNvSpPr/>
          <p:nvPr/>
        </p:nvSpPr>
        <p:spPr>
          <a:xfrm>
            <a:off x="7451640" y="4676760"/>
            <a:ext cx="130032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угие  прикладные программ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7934400" y="441000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7840" y="33300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абличные процессо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2. Фильт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02b"/>
                </a:solidFill>
                <a:latin typeface="Calibri"/>
              </a:rPr>
              <a:t>Фильтр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назначены для упрощения процесса поиска и удаления дан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500" spc="-1" strike="noStrike">
                <a:solidFill>
                  <a:srgbClr val="00602b"/>
                </a:solidFill>
                <a:latin typeface="Calibri"/>
              </a:rPr>
              <a:t>из списка  жильцов надо выбрать записи, которые удовлетворяют заданному месту прожив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Запомнить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 фильтрации записи не переупорядочиваются физически (!) – результат применения этой функции – 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скрытие запис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не соответствующих критерию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но устанавливать фильтры по нескольким полям списк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фильт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785880"/>
            <a:ext cx="88581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ществует два типа фильтров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втофильтр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Расширенный фильтр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использования команды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втофильт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делить любую ячейку в спис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ить команду: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анные ► Фильтр ► Автофиль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использования команды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сширенный фильт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Данные►Фильт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►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Расширенный филь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29040" y="3214800"/>
            <a:ext cx="4905360" cy="3643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142920" y="4193280"/>
            <a:ext cx="3714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команды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Автофиль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манда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Расширенный филь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требует</a:t>
            </a:r>
            <a:r>
              <a:rPr b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800080"/>
                </a:solidFill>
                <a:latin typeface="Courier New"/>
                <a:ea typeface="Times New Roman"/>
              </a:rPr>
              <a:t>задания в отдельном диапазоне рабочего листа условий отбора стро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озволя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условия для нескольких столбцов, соединенные логическим оператором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три и более условий для одного конкретного столбца с использованием оператора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вычисляемые условия.</a:t>
            </a:r>
            <a:r>
              <a:rPr b="0" lang="be-BY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3. Фор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орм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зволяют представить данные таблицы построчно, что удобно, когда таблицы больших размеров, а работать требуется с каждой строкой отд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жим реализуется командой: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анные►Фор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rcRect l="0" t="15723" r="12297" b="19546"/>
          <a:stretch/>
        </p:blipFill>
        <p:spPr>
          <a:xfrm>
            <a:off x="4429080" y="3286080"/>
            <a:ext cx="4438800" cy="3571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0" y="35092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Black"/>
                <a:ea typeface="Times New Roman"/>
              </a:rPr>
              <a:t>Фор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добно использовать д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мо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ения записей спис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а записей, удовлетворяющих заданным усло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3d54"/>
                </a:solidFill>
                <a:latin typeface="Calibri"/>
              </a:rPr>
              <a:t>4. Ит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4200" y="642600"/>
            <a:ext cx="8786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тоги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ля данных, представленных в виде списка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зволяет суммировать данные, получая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омежуточ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кончательные ито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езультате получения итогов таблица дополняется строками, содержащими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тоговые данные для каждого выбранного элемен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оследнюю вставляемую строку таблицы будет помещена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нформация об общем итоге для всех элементов спис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Алгоритм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реализации операци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получения итог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ассортирова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список по тому элементу, по которому следует 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делить любую ячейку рассортированного спис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полнить команду: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е &gt; 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брать столбец, по которому надо 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функцию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для подведения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ов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вести </a:t>
            </a:r>
            <a:r>
              <a:rPr b="1" lang="ru-RU" sz="3000" spc="-1" strike="noStrike">
                <a:solidFill>
                  <a:srgbClr val="00602b"/>
                </a:solidFill>
                <a:latin typeface="Calibri"/>
              </a:rPr>
              <a:t>итог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, нажав [ОК]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 можно получить промежуточны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итог выпуска по цеху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 а затем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кончательный – по завод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4295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0250" r="0" b="0"/>
          <a:stretch/>
        </p:blipFill>
        <p:spPr>
          <a:xfrm>
            <a:off x="4429080" y="2286000"/>
            <a:ext cx="4572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5. Сводные табл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4200" y="85680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интерактивный метод быстрого суммирования больших объемов данных и используется для подробного анализа числовых данны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и запросов к большим массивам дан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ведения промежуточных итогов и применения статистических функций к числовым данным, суммирования данных по категориям и подкатегориям, а также для создания дополнительных вычислений и формул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ертывания и свертывания уровней представления данных для привлечения внимания к результатам по нужным областям (срезы данных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мещения строк в столбцы или столбцов в строки для просмотра различных сводных данных по исходным данным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льтрации, сортировки, группировки наиболее важных и часто используемых подмножеств данны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Сводные табл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rcRect l="32394" t="23440" r="22586" b="36526"/>
          <a:stretch/>
        </p:blipFill>
        <p:spPr>
          <a:xfrm>
            <a:off x="642960" y="928800"/>
            <a:ext cx="7572240" cy="378612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4"/>
          <p:cNvSpPr/>
          <p:nvPr/>
        </p:nvSpPr>
        <p:spPr>
          <a:xfrm>
            <a:off x="571680" y="4786200"/>
            <a:ext cx="82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веденном примере отчета сводной таблицы можно легко сравнить объем продаж клюшек для гольфа за третий квартал в ячейке F3 с продажами по другому товару или за другой квартал, либо вычислить общий итог прод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Способы работы с отчетом сводной таблиц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учение данных.</a:t>
            </a:r>
            <a:r>
              <a:rPr b="0" lang="ru-RU" sz="1800" spc="-1" strike="noStrike">
                <a:solidFill>
                  <a:srgbClr val="00602b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ля этого используются следующие средст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ертывание и свертывание данных и отображение подробных сведений о значен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ртировка, фильтрация и группировка полей и элемент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есение изменений в функции подведения итогов и добавление дополнительных вычислений и форму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менение макета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Для этого используются следующие средств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формы отчета сводной таблицы: компактной, табличной или структур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ображение итогов над или под строками данны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мещение поля столбца в область строк или поля строки в область столбц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отображения ошибок, пустых ячеек, а также элементов и подписей, не содержащих данны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порядка полей или элементов; добавление, изменение расположения и удаление поле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 ширины столбца при обновл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ключение или включение отображения заголовков полей столбцов и строк, а также отображение или скрытие пустых ст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02b"/>
                </a:solidFill>
                <a:latin typeface="Calibri"/>
              </a:rPr>
              <a:t>Изменение формата.</a:t>
            </a:r>
            <a:r>
              <a:rPr b="0" lang="ru-RU" sz="1800" spc="-1" strike="noStrike">
                <a:solidFill>
                  <a:srgbClr val="00602b"/>
                </a:solidFill>
                <a:latin typeface="Calibri"/>
              </a:rPr>
              <a:t>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этого используются следующие мето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ловное форматирование и форматирование вручную ячеек и диапазон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общего стиля форматирования сводной таблиц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числа форматов для полей, а также форматирования сервера OLA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Возможности деловой графики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Exc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20" y="1071360"/>
            <a:ext cx="8329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иаграмм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графически представленная зависимость одной величины от друго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здание диаграммы осуществляется Мастером построения диаграмм, который вызывается командой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ставка►Диаграммы.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660066"/>
                </a:solidFill>
                <a:latin typeface="Calibri"/>
              </a:rPr>
              <a:t>Диаграммы размещаю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на отдельном листе диаграмм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как графический объект на рабочем л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660066"/>
                </a:solidFill>
                <a:latin typeface="Calibri"/>
              </a:rPr>
              <a:t>Диаграмма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имеет определенный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тип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, состоит из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рядов данных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e-BY" sz="3000" spc="-1" strike="noStrike" u="sng">
                <a:solidFill>
                  <a:srgbClr val="000000"/>
                </a:solidFill>
                <a:uFillTx/>
                <a:latin typeface="Calibri"/>
              </a:rPr>
              <a:t>оформительских элементов </a:t>
            </a:r>
            <a:r>
              <a:rPr b="0" lang="be-BY" sz="3000" spc="-1" strike="noStrike">
                <a:solidFill>
                  <a:srgbClr val="000000"/>
                </a:solidFill>
                <a:latin typeface="Calibri"/>
              </a:rPr>
              <a:t>(заголовка, осей, меток, легенды, произвольного текста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120" y="475920"/>
            <a:ext cx="8786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абличные процессоры разных производител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22511" t="19532" r="21487" b="40315"/>
          <a:stretch/>
        </p:blipFill>
        <p:spPr>
          <a:xfrm>
            <a:off x="565200" y="1557360"/>
            <a:ext cx="8286840" cy="34210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6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Гистограмма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отдельные значения представлены вертикальными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столбиками различной выс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Линейчат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 - полосами разной длины, расположенными горизонтально вдоль оси О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Кругов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сумма всех значений принимается за 100%, а процентное соотношение величины изображается в виде круга, разбитого на несколько секторов разного цвета. </a:t>
            </a:r>
            <a:r>
              <a:rPr b="0" lang="be-BY" sz="2800" spc="-1" strike="noStrike" u="sng">
                <a:solidFill>
                  <a:srgbClr val="000000"/>
                </a:solidFill>
                <a:uFillTx/>
                <a:latin typeface="Calibri"/>
              </a:rPr>
              <a:t>Допускается только один ря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alibri"/>
              </a:rPr>
              <a:t>Кольцевая</a:t>
            </a:r>
            <a:r>
              <a:rPr b="0" lang="be-BY" sz="2800" spc="-1" strike="noStrike">
                <a:solidFill>
                  <a:srgbClr val="000000"/>
                </a:solidFill>
                <a:latin typeface="Calibri"/>
              </a:rPr>
              <a:t>: форма круговой диаграммы. Сумма всех значений принимается за 100%, а ряды данных представляют собой вложенные кольца, разделенные на сегменты в процентном соотнош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214280"/>
            <a:ext cx="8400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Диаграмма с областями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отдельные ряды данных представлены в виде закрашенных разными цветами обла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График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(в т.ч. объемный)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все отдельные значения будут соединены между собой лини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alibri"/>
              </a:rPr>
              <a:t>XY</a:t>
            </a: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 (Точечная)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: отдельные значения таблицы представлены в декартовой системе координ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Объемная поверхностная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совокупность всех значений отображается на диаграмме в виде некоторой поверхности, области которой представляют собой ряды данны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1928880" y="35712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8040" y="132840"/>
            <a:ext cx="70628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Гист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бычная, с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копл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рмированная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ъем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трехмер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785880" y="4475160"/>
          <a:ext cx="35686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475160"/>
                    <a:ext cx="35686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5"/>
          <p:cNvGraphicFramePr/>
          <p:nvPr/>
        </p:nvGraphicFramePr>
        <p:xfrm>
          <a:off x="714240" y="2214720"/>
          <a:ext cx="3257640" cy="21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2214720"/>
                    <a:ext cx="3257640" cy="21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6"/>
          <p:cNvGraphicFramePr/>
          <p:nvPr/>
        </p:nvGraphicFramePr>
        <p:xfrm>
          <a:off x="4572000" y="2286000"/>
          <a:ext cx="3780000" cy="252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0"/>
                    <a:ext cx="3780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8040" y="132840"/>
            <a:ext cx="70628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425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руг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ы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бъемная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втор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рез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рехмер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455760" y="2266920"/>
          <a:ext cx="316692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266920"/>
                    <a:ext cx="3166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1143000" y="4500720"/>
          <a:ext cx="3257640" cy="21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00720"/>
                    <a:ext cx="32576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6"/>
          <p:cNvGraphicFramePr/>
          <p:nvPr/>
        </p:nvGraphicFramePr>
        <p:xfrm>
          <a:off x="4500720" y="2428920"/>
          <a:ext cx="4176720" cy="27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428920"/>
                    <a:ext cx="41767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8040" y="133200"/>
            <a:ext cx="70628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0040" y="10000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alibri"/>
              </a:rPr>
              <a:t>Графи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ыч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накоплением, нормированный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с маркер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объем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28760" y="1857240"/>
          <a:ext cx="339696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57240"/>
                    <a:ext cx="339696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5"/>
          <p:cNvGraphicFramePr/>
          <p:nvPr/>
        </p:nvGraphicFramePr>
        <p:xfrm>
          <a:off x="5143680" y="2071800"/>
          <a:ext cx="3076560" cy="20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3680" y="2071800"/>
                    <a:ext cx="307656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6"/>
          <p:cNvGraphicFramePr/>
          <p:nvPr/>
        </p:nvGraphicFramePr>
        <p:xfrm>
          <a:off x="2500200" y="4286160"/>
          <a:ext cx="3672000" cy="235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367200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98040" y="133200"/>
            <a:ext cx="70628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ипы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</a:rPr>
              <a:t>Лепестков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684360" y="1916280"/>
          <a:ext cx="360360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360360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"/>
          <p:cNvGraphicFramePr/>
          <p:nvPr/>
        </p:nvGraphicFramePr>
        <p:xfrm>
          <a:off x="5435640" y="2205000"/>
          <a:ext cx="3257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205000"/>
                    <a:ext cx="3257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6"/>
          <p:cNvSpPr/>
          <p:nvPr/>
        </p:nvSpPr>
        <p:spPr>
          <a:xfrm>
            <a:off x="5508720" y="1268280"/>
            <a:ext cx="29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С област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39640" y="4797360"/>
            <a:ext cx="309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Кольц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Пузырьк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Бирже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5651640" y="4724280"/>
            <a:ext cx="2808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Точеч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Линейчат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6465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alibri"/>
                <a:ea typeface="Arial"/>
              </a:rPr>
              <a:t>Поверх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3d54"/>
                </a:solidFill>
                <a:latin typeface="Calibri"/>
              </a:rPr>
              <a:t>Технология построения диаграмм в </a:t>
            </a:r>
            <a:r>
              <a:rPr b="1" lang="en-US" sz="36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1.      Выделить блок ячеек данных  (область данных диаграммы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2.      </a:t>
            </a:r>
            <a:r>
              <a:rPr b="1" lang="be-BY" sz="2600" spc="-1" strike="noStrike">
                <a:solidFill>
                  <a:srgbClr val="cc3300"/>
                </a:solidFill>
                <a:latin typeface="Calibri"/>
              </a:rPr>
              <a:t>Вставка► Диаграмма</a:t>
            </a:r>
            <a:r>
              <a:rPr b="1" lang="be-BY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или            [Мастер диаграмм]  на панели инструмен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3.    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r>
              <a:rPr b="1" lang="be-BY" sz="2600" spc="-1" strike="noStrike">
                <a:solidFill>
                  <a:srgbClr val="cc3300"/>
                </a:solidFill>
                <a:latin typeface="Calibri"/>
              </a:rPr>
              <a:t>тип диаграммы</a:t>
            </a:r>
            <a:r>
              <a:rPr b="0" lang="be-BY" sz="2600" spc="-1" strike="noStrike">
                <a:solidFill>
                  <a:srgbClr val="000000"/>
                </a:solidFill>
                <a:latin typeface="Calibri"/>
              </a:rPr>
              <a:t> [Далее]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Calibri"/>
              </a:rPr>
              <a:t>Запомнить!</a:t>
            </a:r>
            <a:r>
              <a:rPr b="1" lang="be-BY" sz="2600" spc="-1" strike="noStrike">
                <a:solidFill>
                  <a:srgbClr val="3333cc"/>
                </a:solidFill>
                <a:latin typeface="Calibri"/>
              </a:rPr>
              <a:t> Изменения в исходной таблице автоматически приводят к изменениям в диаграм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4" descr="tema5v11"/>
          <p:cNvPicPr/>
          <p:nvPr/>
        </p:nvPicPr>
        <p:blipFill>
          <a:blip r:embed="rId1"/>
          <a:stretch/>
        </p:blipFill>
        <p:spPr>
          <a:xfrm>
            <a:off x="5214960" y="2500200"/>
            <a:ext cx="576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абличные процесс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цепция электронной таблицы  была впервые реализована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начале 80-х годов  ХХ ве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системе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isiCalc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годня ситуация на рынке электронных таблиц характеризуется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лидирующим положением продукта фирмы </a:t>
            </a:r>
            <a:r>
              <a:rPr b="1" i="1" lang="en-US" sz="3200" spc="-1" strike="noStrike">
                <a:solidFill>
                  <a:srgbClr val="525b7e"/>
                </a:solidFill>
                <a:latin typeface="Calibri"/>
              </a:rPr>
              <a:t>Microsoft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 до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80%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сех пользователей предпочитаю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525b7e"/>
                </a:solidFill>
                <a:latin typeface="Calibri"/>
              </a:rPr>
              <a:t>На втором месте</a:t>
            </a:r>
            <a:r>
              <a:rPr b="1" lang="ru-RU" sz="3200" spc="-1" strike="noStrike">
                <a:solidFill>
                  <a:srgbClr val="525b7e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объему продаж – </a:t>
            </a:r>
            <a:r>
              <a:rPr b="1" lang="en-US" sz="3200" spc="-1" strike="noStrike">
                <a:solidFill>
                  <a:srgbClr val="525b7e"/>
                </a:solidFill>
                <a:latin typeface="Calibri"/>
              </a:rPr>
              <a:t>Lotus</a:t>
            </a:r>
            <a:r>
              <a:rPr b="1" lang="ru-RU" sz="3200" spc="-1" strike="noStrike">
                <a:solidFill>
                  <a:srgbClr val="525b7e"/>
                </a:solidFill>
                <a:latin typeface="Calibri"/>
              </a:rPr>
              <a:t> 1-2-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тем </a:t>
            </a:r>
            <a:r>
              <a:rPr b="1" lang="en-US" sz="3200" spc="-1" strike="noStrike">
                <a:solidFill>
                  <a:srgbClr val="525b7e"/>
                </a:solidFill>
                <a:latin typeface="Calibri"/>
              </a:rPr>
              <a:t>Quattro Pro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корректирова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ru-RU" sz="15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Табличный процессо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(ТП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 взаимосвязанных программ, предназначенный для обработки электронных таблиц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94349"/>
                </a:solidFill>
                <a:uFillTx/>
                <a:latin typeface="Calibri"/>
              </a:rPr>
              <a:t>Функциональные возмож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числения в таблиц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роенные функции и алгоритмы  статистической обработки данн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ства для связи таблиц между собо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ства создания и редактирования электронных баз данн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с формой, фильтрация, подведение ито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здание сводных таб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роенная справочная систе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средств автоматического создания отчетов  с использованием многих таблиц, графиков, диаграмм 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7346880" y="638172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3d54"/>
                </a:solidFill>
                <a:latin typeface="Calibri"/>
              </a:rPr>
              <a:t>Табличный процессор </a:t>
            </a:r>
            <a:r>
              <a:rPr b="1" lang="en-US" sz="4000" spc="-1" strike="noStrike">
                <a:solidFill>
                  <a:srgbClr val="373d54"/>
                </a:solidFill>
                <a:latin typeface="Calibri"/>
              </a:rPr>
              <a:t>MS Exc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294349"/>
                </a:solidFill>
                <a:uFillTx/>
                <a:latin typeface="Calibri"/>
              </a:rPr>
              <a:t>Основные понятия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ниг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ст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лектронная таблиц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ячейк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дрес ячейк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аниц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сылк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ы ссылок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бственные имена ячее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7346880" y="6237360"/>
            <a:ext cx="1511280" cy="287280"/>
          </a:xfrm>
          <a:prstGeom prst="rect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Табличный процессор </a:t>
            </a:r>
            <a:r>
              <a:rPr b="1" lang="en-US" sz="4400" spc="-1" strike="noStrike">
                <a:solidFill>
                  <a:srgbClr val="373d54"/>
                </a:solidFill>
                <a:latin typeface="Calibri"/>
              </a:rPr>
              <a:t>MS Excel</a:t>
            </a:r>
            <a:r>
              <a:rPr b="1" lang="ru-RU" sz="4400" spc="-1" strike="noStrike">
                <a:solidFill>
                  <a:srgbClr val="373d54"/>
                </a:solidFill>
                <a:latin typeface="Calibri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657600"/>
          </a:xfrm>
          <a:prstGeom prst="rect">
            <a:avLst/>
          </a:prstGeom>
          <a:ln w="12600">
            <a:solidFill>
              <a:srgbClr val="464653"/>
            </a:solidFill>
            <a:miter/>
          </a:ln>
        </p:spPr>
      </p:pic>
      <p:grpSp>
        <p:nvGrpSpPr>
          <p:cNvPr id="165" name="Group 4"/>
          <p:cNvGrpSpPr/>
          <p:nvPr/>
        </p:nvGrpSpPr>
        <p:grpSpPr>
          <a:xfrm>
            <a:off x="533520" y="1447920"/>
            <a:ext cx="1674720" cy="841320"/>
            <a:chOff x="533520" y="1447920"/>
            <a:chExt cx="1674720" cy="841320"/>
          </a:xfrm>
        </p:grpSpPr>
        <p:sp>
          <p:nvSpPr>
            <p:cNvPr id="166" name="Line 5"/>
            <p:cNvSpPr/>
            <p:nvPr/>
          </p:nvSpPr>
          <p:spPr>
            <a:xfrm>
              <a:off x="1143000" y="1982880"/>
              <a:ext cx="1065240" cy="30636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533520" y="14479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загол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7238880" y="1447920"/>
            <a:ext cx="1447920" cy="841320"/>
            <a:chOff x="7238880" y="1447920"/>
            <a:chExt cx="1447920" cy="841320"/>
          </a:xfrm>
        </p:grpSpPr>
        <p:sp>
          <p:nvSpPr>
            <p:cNvPr id="169" name="Text Box 8"/>
            <p:cNvSpPr/>
            <p:nvPr/>
          </p:nvSpPr>
          <p:spPr>
            <a:xfrm>
              <a:off x="7238880" y="14479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Кнопки у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H="1">
              <a:off x="7542360" y="1981080"/>
              <a:ext cx="458640" cy="30816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1752480" y="1143000"/>
            <a:ext cx="1371600" cy="1295280"/>
            <a:chOff x="1752480" y="1143000"/>
            <a:chExt cx="1371600" cy="1295280"/>
          </a:xfrm>
        </p:grpSpPr>
        <p:sp>
          <p:nvSpPr>
            <p:cNvPr id="172" name="Text Box 11"/>
            <p:cNvSpPr/>
            <p:nvPr/>
          </p:nvSpPr>
          <p:spPr>
            <a:xfrm>
              <a:off x="1752480" y="11430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C</a:t>
              </a: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трока основного мен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590920" y="1828800"/>
              <a:ext cx="380880" cy="609480"/>
            </a:xfrm>
            <a:prstGeom prst="line">
              <a:avLst/>
            </a:prstGeom>
            <a:ln w="25560">
              <a:solidFill>
                <a:srgbClr val="52869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3048120" y="1447920"/>
            <a:ext cx="1828800" cy="1523880"/>
            <a:chOff x="3048120" y="1447920"/>
            <a:chExt cx="1828800" cy="1523880"/>
          </a:xfrm>
        </p:grpSpPr>
        <p:sp>
          <p:nvSpPr>
            <p:cNvPr id="175" name="Text Box 14"/>
            <p:cNvSpPr/>
            <p:nvPr/>
          </p:nvSpPr>
          <p:spPr>
            <a:xfrm>
              <a:off x="3048120" y="14479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Панели инстру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5"/>
            <p:cNvGrpSpPr/>
            <p:nvPr/>
          </p:nvGrpSpPr>
          <p:grpSpPr>
            <a:xfrm>
              <a:off x="3733560" y="1981080"/>
              <a:ext cx="457560" cy="990720"/>
              <a:chOff x="3733560" y="1981080"/>
              <a:chExt cx="457560" cy="990720"/>
            </a:xfrm>
          </p:grpSpPr>
          <p:sp>
            <p:nvSpPr>
              <p:cNvPr id="177" name="Line 16"/>
              <p:cNvSpPr/>
              <p:nvPr/>
            </p:nvSpPr>
            <p:spPr>
              <a:xfrm flipH="1">
                <a:off x="3733560" y="1981080"/>
                <a:ext cx="152280" cy="762120"/>
              </a:xfrm>
              <a:prstGeom prst="line">
                <a:avLst/>
              </a:prstGeom>
              <a:ln w="25560">
                <a:solidFill>
                  <a:srgbClr val="46465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3886200" y="1982880"/>
                <a:ext cx="304920" cy="988920"/>
              </a:xfrm>
              <a:prstGeom prst="line">
                <a:avLst/>
              </a:prstGeom>
              <a:ln w="25560">
                <a:solidFill>
                  <a:srgbClr val="46465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4495680" y="1447920"/>
            <a:ext cx="1447920" cy="1676160"/>
            <a:chOff x="4495680" y="1447920"/>
            <a:chExt cx="1447920" cy="1676160"/>
          </a:xfrm>
        </p:grpSpPr>
        <p:sp>
          <p:nvSpPr>
            <p:cNvPr id="180" name="Text Box 19"/>
            <p:cNvSpPr/>
            <p:nvPr/>
          </p:nvSpPr>
          <p:spPr>
            <a:xfrm>
              <a:off x="4952880" y="14479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форму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>
              <a:off x="4495680" y="1982880"/>
              <a:ext cx="911520" cy="1141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0" y="3505320"/>
            <a:ext cx="1904400" cy="1218960"/>
            <a:chOff x="0" y="3505320"/>
            <a:chExt cx="1904400" cy="1218960"/>
          </a:xfrm>
        </p:grpSpPr>
        <p:sp>
          <p:nvSpPr>
            <p:cNvPr id="183" name="Text Box 22"/>
            <p:cNvSpPr/>
            <p:nvPr/>
          </p:nvSpPr>
          <p:spPr>
            <a:xfrm>
              <a:off x="0" y="3505320"/>
              <a:ext cx="130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Заголовки ст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601200" y="3809880"/>
              <a:ext cx="1303200" cy="38124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601200" y="3809880"/>
              <a:ext cx="1303200" cy="9144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5"/>
          <p:cNvGrpSpPr/>
          <p:nvPr/>
        </p:nvGrpSpPr>
        <p:grpSpPr>
          <a:xfrm>
            <a:off x="533520" y="5790960"/>
            <a:ext cx="2133360" cy="459720"/>
            <a:chOff x="533520" y="5790960"/>
            <a:chExt cx="2133360" cy="459720"/>
          </a:xfrm>
        </p:grpSpPr>
        <p:sp>
          <p:nvSpPr>
            <p:cNvPr id="187" name="Text Box 26"/>
            <p:cNvSpPr/>
            <p:nvPr/>
          </p:nvSpPr>
          <p:spPr>
            <a:xfrm>
              <a:off x="533520" y="5943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Строка состоя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 flipV="1">
              <a:off x="1523880" y="5790960"/>
              <a:ext cx="609840" cy="228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8"/>
          <p:cNvGrpSpPr/>
          <p:nvPr/>
        </p:nvGrpSpPr>
        <p:grpSpPr>
          <a:xfrm>
            <a:off x="6324480" y="4800240"/>
            <a:ext cx="2286000" cy="1450440"/>
            <a:chOff x="6324480" y="4800240"/>
            <a:chExt cx="2286000" cy="1450440"/>
          </a:xfrm>
        </p:grpSpPr>
        <p:sp>
          <p:nvSpPr>
            <p:cNvPr id="190" name="Text Box 29"/>
            <p:cNvSpPr/>
            <p:nvPr/>
          </p:nvSpPr>
          <p:spPr>
            <a:xfrm>
              <a:off x="6324480" y="594360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Линейки прокру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 flipV="1">
              <a:off x="7467480" y="4800240"/>
              <a:ext cx="152640" cy="121932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 flipV="1">
              <a:off x="6629400" y="5562720"/>
              <a:ext cx="838080" cy="457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324000" y="2349360"/>
            <a:ext cx="3581280" cy="936000"/>
            <a:chOff x="324000" y="2349360"/>
            <a:chExt cx="3581280" cy="936000"/>
          </a:xfrm>
        </p:grpSpPr>
        <p:sp>
          <p:nvSpPr>
            <p:cNvPr id="194" name="Text Box 33"/>
            <p:cNvSpPr/>
            <p:nvPr/>
          </p:nvSpPr>
          <p:spPr>
            <a:xfrm>
              <a:off x="324000" y="234936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Заголовки столбц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933480" y="2723760"/>
              <a:ext cx="1495440" cy="561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5"/>
            <p:cNvSpPr/>
            <p:nvPr/>
          </p:nvSpPr>
          <p:spPr>
            <a:xfrm>
              <a:off x="933480" y="2723760"/>
              <a:ext cx="2971800" cy="5616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6"/>
          <p:cNvGrpSpPr/>
          <p:nvPr/>
        </p:nvGrpSpPr>
        <p:grpSpPr>
          <a:xfrm>
            <a:off x="457200" y="2971800"/>
            <a:ext cx="1828800" cy="533520"/>
            <a:chOff x="457200" y="2971800"/>
            <a:chExt cx="1828800" cy="533520"/>
          </a:xfrm>
        </p:grpSpPr>
        <p:sp>
          <p:nvSpPr>
            <p:cNvPr id="198" name="Text Box 37"/>
            <p:cNvSpPr/>
            <p:nvPr/>
          </p:nvSpPr>
          <p:spPr>
            <a:xfrm>
              <a:off x="457200" y="29718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Текущая ячей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8"/>
            <p:cNvSpPr/>
            <p:nvPr/>
          </p:nvSpPr>
          <p:spPr>
            <a:xfrm flipV="1">
              <a:off x="990720" y="3429000"/>
              <a:ext cx="1295280" cy="7632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9"/>
          <p:cNvGrpSpPr/>
          <p:nvPr/>
        </p:nvGrpSpPr>
        <p:grpSpPr>
          <a:xfrm>
            <a:off x="2590560" y="5562720"/>
            <a:ext cx="2133720" cy="687960"/>
            <a:chOff x="2590560" y="5562720"/>
            <a:chExt cx="2133720" cy="687960"/>
          </a:xfrm>
        </p:grpSpPr>
        <p:sp>
          <p:nvSpPr>
            <p:cNvPr id="201" name="Text Box 40"/>
            <p:cNvSpPr/>
            <p:nvPr/>
          </p:nvSpPr>
          <p:spPr>
            <a:xfrm>
              <a:off x="2743200" y="59436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Ярлычки лис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1"/>
            <p:cNvSpPr/>
            <p:nvPr/>
          </p:nvSpPr>
          <p:spPr>
            <a:xfrm flipH="1" flipV="1">
              <a:off x="2590560" y="5638320"/>
              <a:ext cx="1143000" cy="38124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2"/>
            <p:cNvSpPr/>
            <p:nvPr/>
          </p:nvSpPr>
          <p:spPr>
            <a:xfrm flipH="1" flipV="1">
              <a:off x="3428640" y="5562720"/>
              <a:ext cx="304920" cy="457200"/>
            </a:xfrm>
            <a:prstGeom prst="line">
              <a:avLst/>
            </a:prstGeom>
            <a:ln w="25560">
              <a:solidFill>
                <a:srgbClr val="46465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2514240" y="3123720"/>
            <a:ext cx="1448280" cy="1054080"/>
            <a:chOff x="2514240" y="3123720"/>
            <a:chExt cx="1448280" cy="1054080"/>
          </a:xfrm>
        </p:grpSpPr>
        <p:sp>
          <p:nvSpPr>
            <p:cNvPr id="205" name="Text Box 44"/>
            <p:cNvSpPr/>
            <p:nvPr/>
          </p:nvSpPr>
          <p:spPr>
            <a:xfrm>
              <a:off x="2819520" y="36576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Поле име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H="1" flipV="1">
              <a:off x="2514240" y="3123720"/>
              <a:ext cx="609480" cy="685800"/>
            </a:xfrm>
            <a:prstGeom prst="line">
              <a:avLst/>
            </a:prstGeom>
            <a:ln w="25560">
              <a:solidFill>
                <a:srgbClr val="52869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Электронная таблиц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ЭТ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—  компьютерный эквивалент обычной таблицы, состоящей из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 и столбц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на пересечении которых располагаются ячейки, в которых содержатся данные различного ти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Способы  обозначения строк и столбцов Э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толбцы обозначаются буквами английского алфавита - A,B,C,D... ,а строки числами — 1,2,3....; после столбца с именем Z будут следовать столбцы с именами AA, AB, AC ... AZ, BA, BB, BC ... BZ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Столбцы и строки обозначаются чис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ереключение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рвис-Параметры-Общие-Стиль ссы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46:50Z</dcterms:created>
  <dc:creator>aly</dc:creator>
  <dc:description/>
  <dc:language>en-US</dc:language>
  <cp:lastModifiedBy>Юля Дунаева</cp:lastModifiedBy>
  <dcterms:modified xsi:type="dcterms:W3CDTF">2020-04-08T15:44:00Z</dcterms:modified>
  <cp:revision>92</cp:revision>
  <dc:subject/>
  <dc:title>Сервисное ПО</dc:title>
</cp:coreProperties>
</file>