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BA4-21CB-48FE-B6D9-235DC985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856-FBFF-421A-8B61-79F29F95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E17-4D0C-48F7-A541-EC7D1789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135-440A-4191-93C4-F87CFC6A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9D7-9A01-44FE-B40E-E4E1790F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D04-4C1E-463F-BAC1-F73963C7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682-DD41-45AC-A638-65538E29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28D-CA32-451A-8067-0B8AF157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6B4-6062-47C5-BDF5-C0714CF3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446-B223-4F98-B73D-8A468542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E05-A5DF-4C98-BCC9-891AD26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68A-3BFA-4019-8824-49D222E3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7A1F-FA72-4C41-8325-C95E2CFA7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pikabu.ru/img_n/2011-12_6/zm7.jpg"/>
          <p:cNvPicPr/>
          <p:nvPr/>
        </p:nvPicPr>
        <p:blipFill>
          <a:blip r:embed="rId2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ал- мой кр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знавательное занятие для подготовительной 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Селютина М.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чем варить будете? – интересуется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– Без топлива в этом деле не обойдешь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между прочим, обо мне тоже не следует забывать, – говорит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ая руда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оторая дает железо для лопат. – Прежде чем кашу варить, нужно вас всех из земли выкопа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 уже ребята, догадались, что спорили между собой полезные ископаемые. Что бы вы им сказали, если бы участвовали в споре?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сказывания дете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interimport.ru/uploads/posts/2008-11/1226675944_11909924.jpg"/>
          <p:cNvPicPr/>
          <p:nvPr/>
        </p:nvPicPr>
        <p:blipFill>
          <a:blip r:embed="rId1"/>
          <a:stretch/>
        </p:blipFill>
        <p:spPr>
          <a:xfrm>
            <a:off x="5508720" y="404640"/>
            <a:ext cx="3095640" cy="231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cliparts.co/cliparts/pc7/Kax/pc7Kaxpzi.gif"/>
          <p:cNvPicPr/>
          <p:nvPr/>
        </p:nvPicPr>
        <p:blipFill>
          <a:blip r:embed="rId2"/>
          <a:stretch/>
        </p:blipFill>
        <p:spPr>
          <a:xfrm>
            <a:off x="3924360" y="31417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на славится Урал своими поделочными камнями – самоцветами. Посмотрите, какие они разноцветные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soksa.ru/wa-data/public/site/img/samocvety.jpg"/>
          <p:cNvPicPr/>
          <p:nvPr/>
        </p:nvPicPr>
        <p:blipFill>
          <a:blip r:embed="rId1"/>
          <a:stretch/>
        </p:blipFill>
        <p:spPr>
          <a:xfrm>
            <a:off x="1116000" y="1700280"/>
            <a:ext cx="5715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вторимая красота самоцветов вдохновила уральского писателя Павла Бажова  придумать и написать сказы о сокровищах, хранящихся в тайниках Урала. (вспомнить с детьми о прочитанном произведении «Хозяйка – медной горы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я вам приглашаю на выставку «Богатство Уральских гор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mamietitine.m.a.pic.centerblog.net/39dd483efd0ab00236e5a323dae43286.jpg"/>
          <p:cNvPicPr/>
          <p:nvPr/>
        </p:nvPicPr>
        <p:blipFill>
          <a:blip r:embed="rId1"/>
          <a:stretch/>
        </p:blipFill>
        <p:spPr>
          <a:xfrm>
            <a:off x="2916360" y="1773360"/>
            <a:ext cx="33843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Родиной зове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, в котором мы растем, И березки, вдоль которых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вшись за руки, ид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1000listnik.ru/wp-content/uploads/2016/03/56e129c27b71d.jpg"/>
          <p:cNvPicPr/>
          <p:nvPr/>
        </p:nvPicPr>
        <p:blipFill>
          <a:blip r:embed="rId1"/>
          <a:stretch/>
        </p:blipFill>
        <p:spPr>
          <a:xfrm>
            <a:off x="755640" y="14842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Родиной зовем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в небе голубом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шистый, золотистый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за праздничным столом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Родиной зовем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, где мы с тобой живем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anypics.ru/download.php?file=201302/2560x1600/anypics.ru-59284.jpg"/>
          <p:cNvPicPr/>
          <p:nvPr/>
        </p:nvPicPr>
        <p:blipFill>
          <a:blip r:embed="rId1"/>
          <a:stretch/>
        </p:blipFill>
        <p:spPr>
          <a:xfrm>
            <a:off x="1432080" y="1844640"/>
            <a:ext cx="6453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как называется край, в котором мы живем?</a:t>
            </a: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Урал могуч собою, И красив он и велик…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 мы его душою! Да и как же не любить?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mg1.liveinternet.ru/images/attach/c/0/121/96/121096967_9.jpg"/>
          <p:cNvPicPr/>
          <p:nvPr/>
        </p:nvPicPr>
        <p:blipFill>
          <a:blip r:embed="rId1"/>
          <a:stretch/>
        </p:blipFill>
        <p:spPr>
          <a:xfrm>
            <a:off x="1908000" y="1700280"/>
            <a:ext cx="5904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3008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нашей страны расположен удивительный край – Урал. Наш край получил свое название по Уральским горам, пересекающим район с севера на юг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к называются горы нашего края? А ещё ребята, горы издавна называют каменным поясом России, потому что Уральские горы похожи на пояс, который делит Россию на две части. А ещё потому, что раньше люди на Руси носили широкие пояса и за этим поясом хранили деньги и драгоценности, то есть казну свою, своё богатство. Вот и в уральском поясе богатств не сосчита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visitural.info/system/uploads/obj_medium/image/758/big_uzhno-uralskiy-zapovednik.jpg"/>
          <p:cNvPicPr/>
          <p:nvPr/>
        </p:nvPicPr>
        <p:blipFill>
          <a:blip r:embed="rId1"/>
          <a:stretch/>
        </p:blipFill>
        <p:spPr>
          <a:xfrm>
            <a:off x="3851280" y="981000"/>
            <a:ext cx="47037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ге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рал» по-башкирски – пояс. Есть башкирская сказка о великане, который носил пояс с глубокими карманами. Он прятал в них все свои богатства. Пояс был огромный. Однажды великан растянул его и пояс лег через всю землю, от холодного Карского моря дна севере до песчаных берегов южного Каспийского мор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stihi.ru/pics/2013/02/26/4014.jpg"/>
          <p:cNvPicPr/>
          <p:nvPr/>
        </p:nvPicPr>
        <p:blipFill>
          <a:blip r:embed="rId1"/>
          <a:stretch/>
        </p:blipFill>
        <p:spPr>
          <a:xfrm>
            <a:off x="3851280" y="404640"/>
            <a:ext cx="4645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рале знают не только в России, но и в других странах. Люди, живущие на Урале, любят свой край, величают его батюшкой, седым Уралом. Его не зря называют жемчужиной природы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sankurtur.ru/upload/iblock/242/242acf5714f3bff581756d94ed4a6c83.jpg"/>
          <p:cNvPicPr/>
          <p:nvPr/>
        </p:nvPicPr>
        <p:blipFill>
          <a:blip r:embed="rId1"/>
          <a:stretch/>
        </p:blipFill>
        <p:spPr>
          <a:xfrm>
            <a:off x="1547640" y="1773360"/>
            <a:ext cx="5715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лавится земля уральская?(полезными ископаемы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image.slidesharecdn.com/random-131025094337-phpapp02/95/-36-638.jpg?cb=1382694261"/>
          <p:cNvPicPr/>
          <p:nvPr/>
        </p:nvPicPr>
        <p:blipFill>
          <a:blip r:embed="rId1"/>
          <a:stretch/>
        </p:blipFill>
        <p:spPr>
          <a:xfrm>
            <a:off x="1414440" y="1341360"/>
            <a:ext cx="6713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редставим, что мы находимся в подземном царстве и случайно услышали разгово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–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емли, – говорит соль, – без меня кашу не свариш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без меня сваришь? – спрашивает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юминиевая ру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 Кастрюли – то же делают из алюминия. Без кастрюли, конечно, каши не свариш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medvesti.com/uploads/posts/2011-07/1310621377_13.jpg"/>
          <p:cNvPicPr/>
          <p:nvPr/>
        </p:nvPicPr>
        <p:blipFill>
          <a:blip r:embed="rId1"/>
          <a:stretch/>
        </p:blipFill>
        <p:spPr>
          <a:xfrm>
            <a:off x="5003640" y="476280"/>
            <a:ext cx="2859120" cy="2135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vsevse.ru/photo_item/70/photo_sm/photo73798.jpeg"/>
          <p:cNvPicPr/>
          <p:nvPr/>
        </p:nvPicPr>
        <p:blipFill>
          <a:blip r:embed="rId2"/>
          <a:stretch/>
        </p:blipFill>
        <p:spPr>
          <a:xfrm>
            <a:off x="5003640" y="3213000"/>
            <a:ext cx="32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16:56:20Z</dcterms:created>
  <dc:creator>анастасия</dc:creator>
  <dc:description/>
  <dc:language>en-US</dc:language>
  <cp:lastModifiedBy>Анастасия</cp:lastModifiedBy>
  <dcterms:modified xsi:type="dcterms:W3CDTF">2020-04-08T16:11:19Z</dcterms:modified>
  <cp:revision>2</cp:revision>
  <dc:subject/>
  <dc:title>Урал- мой край</dc:title>
</cp:coreProperties>
</file>