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1C2B-093A-4E32-AB94-4A3901035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0D44-BAA8-45CE-903C-4D7F73867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0D08-798D-4EC9-AB79-39E560690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5F2B-97D3-4A7E-BD71-8AEF904BE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3FFE-00D1-4514-9761-0012E6F20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2B9A-874B-4F34-94FB-8C0B2FFBE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B293-25E1-4575-BBA6-63447108A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67DC-0426-49F3-85A1-08A6025EB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5B7C-CA3E-4A0A-B661-676AD8B14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50CC-87A1-4C3A-8C36-EFA85942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62A2-3932-403C-91D7-1D1B651C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3EAF-4A1A-4567-A7DA-708EB228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4655D-D157-4A44-94EA-25AE5A7F24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apikabu.ru/img_n/2011-12_6/zm7.jpg"/>
          <p:cNvPicPr/>
          <p:nvPr/>
        </p:nvPicPr>
        <p:blipFill>
          <a:blip r:embed="rId2"/>
          <a:stretch/>
        </p:blipFill>
        <p:spPr>
          <a:xfrm>
            <a:off x="0" y="-65160"/>
            <a:ext cx="9144000" cy="69231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рал- мой кра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Познавательное занятие для подготовительной  групп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Воспитатель Селютина М.Л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на чем варить будете? – интересуется 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– Без топлива в этом деле не обойдешьс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, между прочим, обо мне тоже не следует забывать, – говорит 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езная руда,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которая дает железо для лопат. – Прежде чем кашу варить, нужно вас всех из земли выкопать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 уже ребята, догадались, что спорили между собой полезные ископаемые. Что бы вы им сказали, если бы участвовали в споре? 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ысказывания детей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http://www.interimport.ru/uploads/posts/2008-11/1226675944_11909924.jpg"/>
          <p:cNvPicPr/>
          <p:nvPr/>
        </p:nvPicPr>
        <p:blipFill>
          <a:blip r:embed="rId1"/>
          <a:stretch/>
        </p:blipFill>
        <p:spPr>
          <a:xfrm>
            <a:off x="5508720" y="404640"/>
            <a:ext cx="3095640" cy="2319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http://cliparts.co/cliparts/pc7/Kax/pc7Kaxpzi.gif"/>
          <p:cNvPicPr/>
          <p:nvPr/>
        </p:nvPicPr>
        <p:blipFill>
          <a:blip r:embed="rId2"/>
          <a:stretch/>
        </p:blipFill>
        <p:spPr>
          <a:xfrm>
            <a:off x="3924360" y="3141720"/>
            <a:ext cx="28796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давна славится Урал своими поделочными камнями – самоцветами. Посмотрите, какие они разноцветные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http://www.soksa.ru/wa-data/public/site/img/samocvety.jpg"/>
          <p:cNvPicPr/>
          <p:nvPr/>
        </p:nvPicPr>
        <p:blipFill>
          <a:blip r:embed="rId1"/>
          <a:stretch/>
        </p:blipFill>
        <p:spPr>
          <a:xfrm>
            <a:off x="1116000" y="1700280"/>
            <a:ext cx="571500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вторимая красота самоцветов вдохновила уральского писателя Павла Бажова  придумать и написать сказы о сокровищах, хранящихся в тайниках Урала. (вспомнить с детьми о прочитанном произведении «Хозяйка – медной горы»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сейчас я вам приглашаю на выставку «Богатство Уральских гор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http://mamietitine.m.a.pic.centerblog.net/39dd483efd0ab00236e5a323dae43286.jpg"/>
          <p:cNvPicPr/>
          <p:nvPr/>
        </p:nvPicPr>
        <p:blipFill>
          <a:blip r:embed="rId1"/>
          <a:stretch/>
        </p:blipFill>
        <p:spPr>
          <a:xfrm>
            <a:off x="2916360" y="1773360"/>
            <a:ext cx="338436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мы Родиной зовем?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й, в котором мы растем, И березки, вдоль которых,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явшись за руки, иде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http://www.1000listnik.ru/wp-content/uploads/2016/03/56e129c27b71d.jpg"/>
          <p:cNvPicPr/>
          <p:nvPr/>
        </p:nvPicPr>
        <p:blipFill>
          <a:blip r:embed="rId1"/>
          <a:stretch/>
        </p:blipFill>
        <p:spPr>
          <a:xfrm>
            <a:off x="755640" y="1484280"/>
            <a:ext cx="676908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мы Родиной зовем?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нце в небе голубом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ушистый, золотистый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еб за праздничным столом.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мы Родиной зовем?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й, где мы с тобой живем…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http://www.anypics.ru/download.php?file=201302/2560x1600/anypics.ru-59284.jpg"/>
          <p:cNvPicPr/>
          <p:nvPr/>
        </p:nvPicPr>
        <p:blipFill>
          <a:blip r:embed="rId1"/>
          <a:stretch/>
        </p:blipFill>
        <p:spPr>
          <a:xfrm>
            <a:off x="1432080" y="1844640"/>
            <a:ext cx="645300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ята, как называется край, в котором мы живем?</a:t>
            </a:r>
            <a:br>
              <a:rPr sz="14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 Урал могуч собою, И красив он и велик…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им мы его душою! Да и как же не любить?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img1.liveinternet.ru/images/attach/c/0/121/96/121096967_9.jpg"/>
          <p:cNvPicPr/>
          <p:nvPr/>
        </p:nvPicPr>
        <p:blipFill>
          <a:blip r:embed="rId1"/>
          <a:stretch/>
        </p:blipFill>
        <p:spPr>
          <a:xfrm>
            <a:off x="1908000" y="1700280"/>
            <a:ext cx="5904000" cy="44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300816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ентре нашей страны расположен удивительный край – Урал. Наш край получил свое название по Уральским горам, пересекающим район с севера на юг.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как называются горы нашего края? А ещё ребята, горы издавна называют каменным поясом России, потому что Уральские горы похожи на пояс, который делит Россию на две части. А ещё потому, что раньше люди на Руси носили широкие пояса и за этим поясом хранили деньги и драгоценности, то есть казну свою, своё богатство. Вот и в уральском поясе богатств не сосчитать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visitural.info/system/uploads/obj_medium/image/758/big_uzhno-uralskiy-zapovednik.jpg"/>
          <p:cNvPicPr/>
          <p:nvPr/>
        </p:nvPicPr>
        <p:blipFill>
          <a:blip r:embed="rId1"/>
          <a:stretch/>
        </p:blipFill>
        <p:spPr>
          <a:xfrm>
            <a:off x="3851280" y="981000"/>
            <a:ext cx="4703760" cy="31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63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Леген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рал» по-башкирски – пояс. Есть башкирская сказка о великане, который носил пояс с глубокими карманами. Он прятал в них все свои богатства. Пояс был огромный. Однажды великан растянул его и пояс лег через всю землю, от холодного Карского моря дна севере до песчаных берегов южного Каспийского мор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http://www.stihi.ru/pics/2013/02/26/4014.jpg"/>
          <p:cNvPicPr/>
          <p:nvPr/>
        </p:nvPicPr>
        <p:blipFill>
          <a:blip r:embed="rId1"/>
          <a:stretch/>
        </p:blipFill>
        <p:spPr>
          <a:xfrm>
            <a:off x="3851280" y="404640"/>
            <a:ext cx="46450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Урале знают не только в России, но и в других странах. Люди, живущие на Урале, любят свой край, величают его батюшкой, седым Уралом. Его не зря называют жемчужиной природы.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://sankurtur.ru/upload/iblock/242/242acf5714f3bff581756d94ed4a6c83.jpg"/>
          <p:cNvPicPr/>
          <p:nvPr/>
        </p:nvPicPr>
        <p:blipFill>
          <a:blip r:embed="rId1"/>
          <a:stretch/>
        </p:blipFill>
        <p:spPr>
          <a:xfrm>
            <a:off x="1547640" y="1773360"/>
            <a:ext cx="571500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славится земля уральская?(полезными ископаемыми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http://image.slidesharecdn.com/random-131025094337-phpapp02/95/-36-638.jpg?cb=1382694261"/>
          <p:cNvPicPr/>
          <p:nvPr/>
        </p:nvPicPr>
        <p:blipFill>
          <a:blip r:embed="rId1"/>
          <a:stretch/>
        </p:blipFill>
        <p:spPr>
          <a:xfrm>
            <a:off x="1414440" y="1341360"/>
            <a:ext cx="67136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айте представим, что мы находимся в подземном царстве и случайно услышали разгово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– 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Земли, – говорит соль, – без меня кашу не сваришь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без меня сваришь? – спрашивает 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юминиевая руд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– Кастрюли – то же делают из алюминия. Без кастрюли, конечно, каши не сваришь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medvesti.com/uploads/posts/2011-07/1310621377_13.jpg"/>
          <p:cNvPicPr/>
          <p:nvPr/>
        </p:nvPicPr>
        <p:blipFill>
          <a:blip r:embed="rId1"/>
          <a:stretch/>
        </p:blipFill>
        <p:spPr>
          <a:xfrm>
            <a:off x="5003640" y="476280"/>
            <a:ext cx="2859120" cy="2135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http://www.vsevse.ru/photo_item/70/photo_sm/photo73798.jpeg"/>
          <p:cNvPicPr/>
          <p:nvPr/>
        </p:nvPicPr>
        <p:blipFill>
          <a:blip r:embed="rId2"/>
          <a:stretch/>
        </p:blipFill>
        <p:spPr>
          <a:xfrm>
            <a:off x="5003640" y="3213000"/>
            <a:ext cx="3240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0T16:56:20Z</dcterms:created>
  <dc:creator>анастасия</dc:creator>
  <dc:description/>
  <dc:language>en-US</dc:language>
  <cp:lastModifiedBy>Анастасия</cp:lastModifiedBy>
  <dcterms:modified xsi:type="dcterms:W3CDTF">2020-04-08T16:11:19Z</dcterms:modified>
  <cp:revision>2</cp:revision>
  <dc:subject/>
  <dc:title>Урал- мой край</dc:title>
</cp:coreProperties>
</file>