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19.jpeg" ContentType="image/jpeg"/>
  <Override PartName="/ppt/media/image7.jpeg" ContentType="image/jpeg"/>
  <Override PartName="/ppt/media/image28.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6.jpeg" ContentType="image/jpeg"/>
  <Override PartName="/ppt/media/image17.jpeg" ContentType="image/jpeg"/>
  <Override PartName="/ppt/media/image15.png" ContentType="image/png"/>
  <Override PartName="/ppt/media/image18.jpeg" ContentType="image/jpeg"/>
  <Override PartName="/ppt/media/image2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A7F72-0DF3-4431-A1E9-6B41AD940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4866B-CB94-4F52-A85B-1D89C92E0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C14A8-E4C9-4170-90B5-85CA69DAA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B8706-764A-4599-9EEB-0022C316B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86D7D-9CB9-4EA3-9C15-C9E1F75F1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8E64C-1D6E-4E3D-8125-B2FE7ACD1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CE35A-0D5B-47E5-8EB9-2ECCCF678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74667-4BE6-4517-ABDE-8B55C2CF5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F8AB4-A1BD-4BDF-AB2D-AF09802E5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1FBCB-7082-4AF8-8779-F57C70448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97641-6632-4640-B136-5E457B6F2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0EC45-FC9B-49B3-93DB-87B19501F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BA5A8-9665-4622-8BFF-3A47CD6BA1A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Урало-сибирская роспись</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98989"/>
                </a:solidFill>
                <a:latin typeface="Calibri"/>
              </a:rPr>
              <a:t>Интегрированное занятие для Подготовительной группы</a:t>
            </a:r>
            <a:endParaRPr b="0" lang="en-US" sz="3200" spc="-1" strike="noStrike">
              <a:solidFill>
                <a:srgbClr val="000000"/>
              </a:solidFill>
              <a:latin typeface="Calibri"/>
            </a:endParaRPr>
          </a:p>
          <a:p>
            <a:pPr indent="0" algn="r">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Подготовила: Воспитатель Селютина М.Л.</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Особое значение уделялось потолку в доме –верхний ярус. Потолок это небо </a:t>
            </a:r>
            <a:br>
              <a:rPr sz="1300"/>
            </a:br>
            <a:r>
              <a:rPr b="0" lang="ru-RU" sz="1300" spc="-1" strike="noStrike">
                <a:solidFill>
                  <a:srgbClr val="000000"/>
                </a:solidFill>
                <a:latin typeface="Times New Roman"/>
                <a:ea typeface="Times New Roman"/>
              </a:rPr>
              <a:t>На нём изображали круг с цветами и плодами – символ солнца.</a:t>
            </a:r>
            <a:br>
              <a:rPr sz="1300"/>
            </a:br>
            <a:r>
              <a:rPr b="0" lang="ru-RU" sz="1300" spc="-1" strike="noStrike">
                <a:solidFill>
                  <a:srgbClr val="000000"/>
                </a:solidFill>
                <a:latin typeface="Times New Roman"/>
                <a:ea typeface="Times New Roman"/>
              </a:rPr>
              <a:t>Солнце имело большое значение для человека.</a:t>
            </a:r>
            <a:br>
              <a:rPr sz="1300"/>
            </a:br>
            <a:r>
              <a:rPr b="0" lang="ru-RU" sz="1300" spc="-1" strike="noStrike">
                <a:solidFill>
                  <a:srgbClr val="000000"/>
                </a:solidFill>
                <a:latin typeface="Times New Roman"/>
                <a:ea typeface="Times New Roman"/>
              </a:rPr>
              <a:t>Как вы думаете какое?</a:t>
            </a:r>
            <a:br>
              <a:rPr sz="1300"/>
            </a:br>
            <a:r>
              <a:rPr b="0" lang="ru-RU" sz="1300" spc="-1" strike="noStrike">
                <a:solidFill>
                  <a:srgbClr val="000000"/>
                </a:solidFill>
                <a:latin typeface="Times New Roman"/>
                <a:ea typeface="Times New Roman"/>
              </a:rPr>
              <a:t>Будет хорошая погода. Будет урожай.</a:t>
            </a:r>
            <a:br>
              <a:rPr sz="1300"/>
            </a:br>
            <a:endParaRPr b="0" lang="en-US" sz="13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7" name="Picture 2" descr="http://art-travel.info/attachments/Image/Derevenskiy-voyazh-Aramashevo-2.jpg?template=facebook"/>
          <p:cNvPicPr/>
          <p:nvPr/>
        </p:nvPicPr>
        <p:blipFill>
          <a:blip r:embed="rId1"/>
          <a:stretch/>
        </p:blipFill>
        <p:spPr>
          <a:xfrm>
            <a:off x="826920" y="1989000"/>
            <a:ext cx="5556240" cy="3706920"/>
          </a:xfrm>
          <a:prstGeom prst="rect">
            <a:avLst/>
          </a:prstGeom>
          <a:ln w="0">
            <a:noFill/>
          </a:ln>
        </p:spPr>
      </p:pic>
      <p:pic>
        <p:nvPicPr>
          <p:cNvPr id="78" name="Picture 4" descr="http://artorbita.ru/tipy_rospisi/pic_uralo_sibir/picture/pic_us12.jpg"/>
          <p:cNvPicPr/>
          <p:nvPr/>
        </p:nvPicPr>
        <p:blipFill>
          <a:blip r:embed="rId2"/>
          <a:stretch/>
        </p:blipFill>
        <p:spPr>
          <a:xfrm>
            <a:off x="6659640" y="1700280"/>
            <a:ext cx="1728720" cy="165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аждый элемент в росписи прочитывался и имел своё смысловое значение.</a:t>
            </a:r>
            <a:br>
              <a:rPr sz="1400"/>
            </a:br>
            <a:r>
              <a:rPr b="0" lang="ru-RU" sz="1400" spc="-1" strike="noStrike">
                <a:solidFill>
                  <a:srgbClr val="000000"/>
                </a:solidFill>
                <a:latin typeface="Times New Roman"/>
                <a:ea typeface="Times New Roman"/>
              </a:rPr>
              <a:t>Птица являлась посредницей между небом и землёй. Связывала человека , была вестницей солнца и облаками дающими дождь.</a:t>
            </a:r>
            <a:br>
              <a:rPr sz="1400"/>
            </a:br>
            <a:endParaRPr b="0" lang="en-US" sz="1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2" descr="http://2.bp.blogspot.com/-HmR1UH7UdCg/UbRXs-Qnf3I/AAAAAAAADj8/hTBLWdEsZac/s1600/%D0%BF%D1%82%D0%B8%D1%86%D1%8B.JPG"/>
          <p:cNvPicPr/>
          <p:nvPr/>
        </p:nvPicPr>
        <p:blipFill>
          <a:blip r:embed="rId1"/>
          <a:stretch/>
        </p:blipFill>
        <p:spPr>
          <a:xfrm>
            <a:off x="3132000" y="2219400"/>
            <a:ext cx="4680000" cy="3286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Цвет стен имел тёплые оттенки, любовь к красному цвету шла издревле</a:t>
            </a:r>
            <a:br>
              <a:rPr sz="1400"/>
            </a:br>
            <a:r>
              <a:rPr b="0" lang="ru-RU" sz="1400" spc="-1" strike="noStrike">
                <a:solidFill>
                  <a:srgbClr val="000000"/>
                </a:solidFill>
                <a:latin typeface="Times New Roman"/>
                <a:ea typeface="Times New Roman"/>
              </a:rPr>
              <a:t>Красный цвет-цвет огня как символ очага, жизни.</a:t>
            </a:r>
            <a:br>
              <a:rPr sz="1400"/>
            </a:br>
            <a:endParaRPr b="0" lang="en-US" sz="1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4" name="Picture 2" descr="http://aramashevo.ru/data/modules/albums/pages_admin/albums_getimage.php?image=izbi/image1.jpg"/>
          <p:cNvPicPr/>
          <p:nvPr/>
        </p:nvPicPr>
        <p:blipFill>
          <a:blip r:embed="rId1"/>
          <a:stretch/>
        </p:blipFill>
        <p:spPr>
          <a:xfrm>
            <a:off x="1476360" y="2060640"/>
            <a:ext cx="6095880" cy="405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7" name="Picture 2" descr="http://aramashevo.ru/data/modules/albums/pages_admin/albums_getimage.php?image=izbi/image2.jpg"/>
          <p:cNvPicPr/>
          <p:nvPr/>
        </p:nvPicPr>
        <p:blipFill>
          <a:blip r:embed="rId1"/>
          <a:stretch/>
        </p:blipFill>
        <p:spPr>
          <a:xfrm>
            <a:off x="1187280" y="1773360"/>
            <a:ext cx="6096240" cy="405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0" name="Picture 2" descr="http://jsulib.ru/Lib/Articles/004/553/index.files/image040.jpg"/>
          <p:cNvPicPr/>
          <p:nvPr/>
        </p:nvPicPr>
        <p:blipFill>
          <a:blip r:embed="rId1"/>
          <a:stretch/>
        </p:blipFill>
        <p:spPr>
          <a:xfrm>
            <a:off x="1547640" y="1655640"/>
            <a:ext cx="5904000" cy="442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зображая птицу люди желали  счастья супругам, добро семье.</a:t>
            </a:r>
            <a:endParaRPr b="0" lang="en-US" sz="1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3" name="Picture 2" descr="http://hippt.net/u/storage/ppt_30826/11759-1445958781-24.jpg"/>
          <p:cNvPicPr/>
          <p:nvPr/>
        </p:nvPicPr>
        <p:blipFill>
          <a:blip r:embed="rId1"/>
          <a:stretch/>
        </p:blipFill>
        <p:spPr>
          <a:xfrm>
            <a:off x="1523880" y="1565280"/>
            <a:ext cx="6072480" cy="4554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Цветы на дереве –родители, бутоны и ягодки-дети.</a:t>
            </a:r>
            <a:endParaRPr b="0" lang="en-US" sz="16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6" name="Picture 2" descr="http://cs620727.vk.me/v620727502/fd41/4PEl3-peSkU.jpg"/>
          <p:cNvPicPr/>
          <p:nvPr/>
        </p:nvPicPr>
        <p:blipFill>
          <a:blip r:embed="rId1"/>
          <a:stretch/>
        </p:blipFill>
        <p:spPr>
          <a:xfrm>
            <a:off x="1403280" y="2276640"/>
            <a:ext cx="5753160" cy="322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 подножия дерева изображались львы, они имели охранительную функцию.</a:t>
            </a:r>
            <a:br>
              <a:rPr sz="1400"/>
            </a:br>
            <a:r>
              <a:rPr b="0" lang="ru-RU" sz="1400" spc="-1" strike="noStrike">
                <a:solidFill>
                  <a:srgbClr val="000000"/>
                </a:solidFill>
                <a:latin typeface="Times New Roman"/>
                <a:ea typeface="Times New Roman"/>
              </a:rPr>
              <a:t>Они оберегали от злого человека, от несчастий.</a:t>
            </a:r>
            <a:br>
              <a:rPr sz="1400"/>
            </a:br>
            <a:endParaRPr b="0" lang="en-US" sz="1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9" name="Picture 2" descr="http://cs3.livemaster.ru/zhurnalfoto/4/9/5/160221145157495a64c2a59e755e955f3ddd7cb106b8.jpeg"/>
          <p:cNvPicPr/>
          <p:nvPr/>
        </p:nvPicPr>
        <p:blipFill>
          <a:blip r:embed="rId1"/>
          <a:stretch/>
        </p:blipFill>
        <p:spPr>
          <a:xfrm>
            <a:off x="684360" y="2492280"/>
            <a:ext cx="3816360" cy="2541600"/>
          </a:xfrm>
          <a:prstGeom prst="rect">
            <a:avLst/>
          </a:prstGeom>
          <a:ln w="0">
            <a:noFill/>
          </a:ln>
        </p:spPr>
      </p:pic>
      <p:pic>
        <p:nvPicPr>
          <p:cNvPr id="100" name="Picture 4" descr="http://cs3.livemaster.ru/zhurnalfoto/1/3/2/160221145157132235825abe7e984278147158b93480.jpeg"/>
          <p:cNvPicPr/>
          <p:nvPr/>
        </p:nvPicPr>
        <p:blipFill>
          <a:blip r:embed="rId2"/>
          <a:stretch/>
        </p:blipFill>
        <p:spPr>
          <a:xfrm>
            <a:off x="4932360" y="3141720"/>
            <a:ext cx="3916440" cy="2936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росписи встречаются петушки и курочки, Павлины и павы  </a:t>
            </a:r>
            <a:br>
              <a:rPr sz="1600"/>
            </a:br>
            <a:r>
              <a:rPr b="0" lang="ru-RU" sz="1600" spc="-1" strike="noStrike">
                <a:solidFill>
                  <a:srgbClr val="000000"/>
                </a:solidFill>
                <a:latin typeface="Times New Roman"/>
                <a:ea typeface="Times New Roman"/>
              </a:rPr>
              <a:t>Совушку и филина изображали у ног кровати, как вы думаете что они охраняли? Они охраняли сон супругов. </a:t>
            </a:r>
            <a:br>
              <a:rPr sz="1600"/>
            </a:br>
            <a:endParaRPr b="0" lang="en-US" sz="16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3" name="Picture 2" descr="http://www.artlib.ru/objects/gallery_939/artlib_gallery-469894-b.jpg"/>
          <p:cNvPicPr/>
          <p:nvPr/>
        </p:nvPicPr>
        <p:blipFill>
          <a:blip r:embed="rId1"/>
          <a:stretch/>
        </p:blipFill>
        <p:spPr>
          <a:xfrm>
            <a:off x="684360" y="1773360"/>
            <a:ext cx="3973320" cy="2519280"/>
          </a:xfrm>
          <a:prstGeom prst="rect">
            <a:avLst/>
          </a:prstGeom>
          <a:ln w="0">
            <a:noFill/>
          </a:ln>
        </p:spPr>
      </p:pic>
      <p:pic>
        <p:nvPicPr>
          <p:cNvPr id="104" name="Picture 4" descr="http://s40.radikal.ru/i090/1103/cc/608dfce58810.jpg"/>
          <p:cNvPicPr/>
          <p:nvPr/>
        </p:nvPicPr>
        <p:blipFill>
          <a:blip r:embed="rId2"/>
          <a:stretch/>
        </p:blipFill>
        <p:spPr>
          <a:xfrm>
            <a:off x="5003640" y="3357720"/>
            <a:ext cx="3313440" cy="2484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000000"/>
                </a:solidFill>
                <a:latin typeface="Calibri"/>
              </a:rPr>
              <a:t>Раньше мастера расписывали пальчиками. А сейчас мастера усовершенствовали роспись и расписывают кистью. Мы с вами попробуем пальцами как настоящие мастера красильщики того времени. Цветы и ягодки ,листья распишем пальцами а травку кистью.</a:t>
            </a:r>
            <a:br>
              <a:rPr sz="1400"/>
            </a:br>
            <a:endParaRPr b="0" lang="en-US" sz="1400" spc="-1" strike="noStrike">
              <a:solidFill>
                <a:srgbClr val="000000"/>
              </a:solidFill>
              <a:latin typeface="Calibri"/>
            </a:endParaRPr>
          </a:p>
        </p:txBody>
      </p:sp>
      <p:sp>
        <p:nvSpPr>
          <p:cNvPr id="106" name=""/>
          <p:cNvSpPr txBox="1"/>
          <p:nvPr/>
        </p:nvSpPr>
        <p:spPr>
          <a:xfrm>
            <a:off x="457200" y="2349000"/>
            <a:ext cx="8229600" cy="3776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7" name="Picture 2" descr="http://videoclipsimage.agaclip.com/uDROHpnCzUo-_--2-irishkalia.jpg"/>
          <p:cNvPicPr/>
          <p:nvPr/>
        </p:nvPicPr>
        <p:blipFill>
          <a:blip r:embed="rId1"/>
          <a:stretch/>
        </p:blipFill>
        <p:spPr>
          <a:xfrm>
            <a:off x="3132000" y="2852640"/>
            <a:ext cx="3276720" cy="245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Уральские горы</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5" name="Picture 2" descr="http://img1.liveinternet.ru/images/attach/c/0/120/489/120489581_4199468_5b3eccf9dbd2.jpg"/>
          <p:cNvPicPr/>
          <p:nvPr/>
        </p:nvPicPr>
        <p:blipFill>
          <a:blip r:embed="rId1"/>
          <a:stretch/>
        </p:blipFill>
        <p:spPr>
          <a:xfrm>
            <a:off x="1403280" y="1827360"/>
            <a:ext cx="5545080" cy="4167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Calibri"/>
            </a:endParaRPr>
          </a:p>
        </p:txBody>
      </p:sp>
      <p:sp>
        <p:nvSpPr>
          <p:cNvPr id="109" name=""/>
          <p:cNvSpPr txBox="1"/>
          <p:nvPr/>
        </p:nvSpPr>
        <p:spPr>
          <a:xfrm>
            <a:off x="3574800" y="272520"/>
            <a:ext cx="5111640" cy="585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111" name="Picture 2" descr="http://artgryada.ru/wp-content/uploads/2015/11/%D0%A3%D1%80%D0%B0%D0%BB%D0%BE-%D0%A1%D0%B8%D0%B1%D0%B8%D1%80%D1%81%D0%BA%D0%B0%D1%8F-%D1%80%D0%BE%D1%81%D0%BF%D0%B8%D1%81%D1%8C.-%D0%9F%D0%BB%D0%B0%D0%BD%D1%88%D0%B5%D1%82-2%D0%91.jpg"/>
          <p:cNvPicPr/>
          <p:nvPr/>
        </p:nvPicPr>
        <p:blipFill>
          <a:blip r:embed="rId1"/>
          <a:stretch/>
        </p:blipFill>
        <p:spPr>
          <a:xfrm>
            <a:off x="755640" y="333360"/>
            <a:ext cx="7558200" cy="590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очень далёкие времена , правил царь Пётр 1.</a:t>
            </a:r>
            <a:endParaRPr b="0" lang="en-US" sz="18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8" name="Picture 2" descr="Петр I (в овале, 1717) | Петр I (Великий) | Русская портретная галерея"/>
          <p:cNvPicPr/>
          <p:nvPr/>
        </p:nvPicPr>
        <p:blipFill>
          <a:blip r:embed="rId1"/>
          <a:stretch/>
        </p:blipFill>
        <p:spPr>
          <a:xfrm>
            <a:off x="2916360" y="1844640"/>
            <a:ext cx="3024000" cy="4017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ехали как то солдаты подати собирать остановились возле гор и не идут кони дальше, ехал мимо мужичок и говорит это горы наши ваших коней кованных не пускают. Рассказали про то конники Царю, про горы волшебные на Урале , смекнул Царь в чем дело. </a:t>
            </a:r>
            <a:endParaRPr b="0" lang="en-US" sz="16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 name="Picture 2" descr="http://works.doklad.ru/images/efRaMT5lT2c/m15df8f65.jpg"/>
          <p:cNvPicPr/>
          <p:nvPr/>
        </p:nvPicPr>
        <p:blipFill>
          <a:blip r:embed="rId1"/>
          <a:stretch/>
        </p:blipFill>
        <p:spPr>
          <a:xfrm>
            <a:off x="6084720" y="2421000"/>
            <a:ext cx="2156040" cy="2857320"/>
          </a:xfrm>
          <a:prstGeom prst="rect">
            <a:avLst/>
          </a:prstGeom>
          <a:ln w="0">
            <a:noFill/>
          </a:ln>
        </p:spPr>
      </p:pic>
      <p:pic>
        <p:nvPicPr>
          <p:cNvPr id="52" name="Picture 4" descr="http://perevalnext.ru/wp-content/uploads/2013/07/13d791fe77cc.jpg"/>
          <p:cNvPicPr/>
          <p:nvPr/>
        </p:nvPicPr>
        <p:blipFill>
          <a:blip r:embed="rId2"/>
          <a:stretch/>
        </p:blipFill>
        <p:spPr>
          <a:xfrm>
            <a:off x="826920" y="2421000"/>
            <a:ext cx="4654800" cy="302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тправил Царь Петр людей на Урал, и нашли в этих горах: Уголь,железо, известняк, гранит, мрамор</a:t>
            </a:r>
            <a:endParaRPr b="0" lang="en-US" sz="16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2" descr="https://regnum.ru/uploads/pictures/news/2016/04/26/regnum_picture_1461684778589242_normal.jpg"/>
          <p:cNvPicPr/>
          <p:nvPr/>
        </p:nvPicPr>
        <p:blipFill>
          <a:blip r:embed="rId1"/>
          <a:stretch/>
        </p:blipFill>
        <p:spPr>
          <a:xfrm>
            <a:off x="900000" y="1989000"/>
            <a:ext cx="1773360" cy="1584360"/>
          </a:xfrm>
          <a:prstGeom prst="rect">
            <a:avLst/>
          </a:prstGeom>
          <a:ln w="0">
            <a:noFill/>
          </a:ln>
        </p:spPr>
      </p:pic>
      <p:pic>
        <p:nvPicPr>
          <p:cNvPr id="56" name="Picture 4" descr="http://vms34.ru/upload/medialibrary/918/cena_lom2.jpg"/>
          <p:cNvPicPr/>
          <p:nvPr/>
        </p:nvPicPr>
        <p:blipFill>
          <a:blip r:embed="rId2"/>
          <a:stretch/>
        </p:blipFill>
        <p:spPr>
          <a:xfrm>
            <a:off x="3132000" y="1844640"/>
            <a:ext cx="1871640" cy="1606680"/>
          </a:xfrm>
          <a:prstGeom prst="rect">
            <a:avLst/>
          </a:prstGeom>
          <a:ln w="0">
            <a:noFill/>
          </a:ln>
        </p:spPr>
      </p:pic>
      <p:pic>
        <p:nvPicPr>
          <p:cNvPr id="57" name="Picture 6" descr="http://geo-nature.ru/wp-content/uploads/2013/07/wrock21.jpg"/>
          <p:cNvPicPr/>
          <p:nvPr/>
        </p:nvPicPr>
        <p:blipFill>
          <a:blip r:embed="rId3"/>
          <a:stretch/>
        </p:blipFill>
        <p:spPr>
          <a:xfrm>
            <a:off x="5651640" y="1844640"/>
            <a:ext cx="2376360" cy="1782720"/>
          </a:xfrm>
          <a:prstGeom prst="rect">
            <a:avLst/>
          </a:prstGeom>
          <a:ln w="0">
            <a:noFill/>
          </a:ln>
        </p:spPr>
      </p:pic>
      <p:pic>
        <p:nvPicPr>
          <p:cNvPr id="58" name="Picture 8" descr="http://awko.ru/wp-content/uploads/2015/06/granit1.jpg"/>
          <p:cNvPicPr/>
          <p:nvPr/>
        </p:nvPicPr>
        <p:blipFill>
          <a:blip r:embed="rId4"/>
          <a:stretch/>
        </p:blipFill>
        <p:spPr>
          <a:xfrm>
            <a:off x="971640" y="4005360"/>
            <a:ext cx="2452680" cy="1962000"/>
          </a:xfrm>
          <a:prstGeom prst="rect">
            <a:avLst/>
          </a:prstGeom>
          <a:ln w="0">
            <a:noFill/>
          </a:ln>
        </p:spPr>
      </p:pic>
      <p:pic>
        <p:nvPicPr>
          <p:cNvPr id="59" name="Picture 10" descr="http://vignette3.wikia.nocookie.net/endlessocean/images/5/53/Marble.jpg/revision/latest?cb=20141118003525"/>
          <p:cNvPicPr/>
          <p:nvPr/>
        </p:nvPicPr>
        <p:blipFill>
          <a:blip r:embed="rId5"/>
          <a:stretch/>
        </p:blipFill>
        <p:spPr>
          <a:xfrm>
            <a:off x="4211640" y="3789360"/>
            <a:ext cx="2108160" cy="197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н послал людей из Сибири на Урал строить заводы, добывать железную руду. Строили землянки,  но  в них было холодно и сыро,  и решили строить дома. А строили их люди и профессия называется- древорубы.</a:t>
            </a:r>
            <a:endParaRPr b="0" lang="en-US" sz="16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2" name="Picture 4" descr="http://artmight.com/albums/public-domain-art-images/Konstantin-Apollonowitsch-Sawizkij-001.jpg"/>
          <p:cNvPicPr/>
          <p:nvPr/>
        </p:nvPicPr>
        <p:blipFill>
          <a:blip r:embed="rId1"/>
          <a:stretch/>
        </p:blipFill>
        <p:spPr>
          <a:xfrm>
            <a:off x="539640" y="1773360"/>
            <a:ext cx="2406600" cy="1871640"/>
          </a:xfrm>
          <a:prstGeom prst="rect">
            <a:avLst/>
          </a:prstGeom>
          <a:ln w="0">
            <a:noFill/>
          </a:ln>
        </p:spPr>
      </p:pic>
      <p:pic>
        <p:nvPicPr>
          <p:cNvPr id="63" name="Picture 6" descr="http://4.bp.blogspot.com/-iM5NlV0TUX8/VE9RaP0yDxI/AAAAAAAABqw/6GLjuxPEhRw/w1200-h630-p-nu/demidovskiy-zavod-1.png"/>
          <p:cNvPicPr/>
          <p:nvPr/>
        </p:nvPicPr>
        <p:blipFill>
          <a:blip r:embed="rId2"/>
          <a:stretch/>
        </p:blipFill>
        <p:spPr>
          <a:xfrm>
            <a:off x="4932360" y="2060640"/>
            <a:ext cx="3297240" cy="2028600"/>
          </a:xfrm>
          <a:prstGeom prst="rect">
            <a:avLst/>
          </a:prstGeom>
          <a:ln w="0">
            <a:noFill/>
          </a:ln>
        </p:spPr>
      </p:pic>
      <p:pic>
        <p:nvPicPr>
          <p:cNvPr id="64" name="Picture 8" descr="http://static.ngs.ru/news/preview/301258b2e6b85eb4368a5fcf7e5c5342081c51ef_667.jpg"/>
          <p:cNvPicPr/>
          <p:nvPr/>
        </p:nvPicPr>
        <p:blipFill>
          <a:blip r:embed="rId3"/>
          <a:stretch/>
        </p:blipFill>
        <p:spPr>
          <a:xfrm>
            <a:off x="1619280" y="3860640"/>
            <a:ext cx="2895480" cy="217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еталлургический завод на Урале</a:t>
            </a:r>
            <a:endParaRPr b="0" lang="en-US" sz="1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7" name="Picture 2" descr="http://img1.ubr.ua/article/660x300/1cial.jpg"/>
          <p:cNvPicPr/>
          <p:nvPr/>
        </p:nvPicPr>
        <p:blipFill>
          <a:blip r:embed="rId1"/>
          <a:stretch/>
        </p:blipFill>
        <p:spPr>
          <a:xfrm>
            <a:off x="1692360" y="2637000"/>
            <a:ext cx="628632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троив дома дереводелы уходили ,а люди оставались жить в этих домах и начинали грустить. Как вы думаете почему?</a:t>
            </a:r>
            <a:br>
              <a:rPr sz="1600"/>
            </a:br>
            <a:r>
              <a:rPr b="0" lang="ru-RU" sz="1600" spc="-1" strike="noStrike">
                <a:solidFill>
                  <a:srgbClr val="000000"/>
                </a:solidFill>
                <a:latin typeface="Times New Roman"/>
                <a:ea typeface="Times New Roman"/>
              </a:rPr>
              <a:t>Послушайте сказку о том как ещё люди украшали избы, чтобы в них легко и уютно жилось</a:t>
            </a:r>
            <a:br>
              <a:rPr sz="1600"/>
            </a:br>
            <a:endParaRPr b="0" lang="en-US" sz="16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2" descr="http://proho.ru/uploads/images/r/u/s/russkaja_izba_veter_s_severa_1999_shanson_mp3_1.jpg"/>
          <p:cNvPicPr/>
          <p:nvPr/>
        </p:nvPicPr>
        <p:blipFill>
          <a:blip r:embed="rId1"/>
          <a:stretch/>
        </p:blipFill>
        <p:spPr>
          <a:xfrm>
            <a:off x="1258920" y="1844640"/>
            <a:ext cx="6408720" cy="428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059280" y="272520"/>
            <a:ext cx="5689440" cy="6396120"/>
          </a:xfrm>
          <a:prstGeom prst="rect">
            <a:avLst/>
          </a:prstGeom>
          <a:noFill/>
          <a:ln w="0">
            <a:noFill/>
          </a:ln>
        </p:spPr>
        <p:txBody>
          <a:bodyPr anchor="t">
            <a:normAutofit fontScale="98000"/>
          </a:bodyPr>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Жил в наших краях старик один и звали его Еремей. Зверя, птицу в лесах добывал, рыбу в реках, озёрах ловил, тем и кормился. Домишка хоть у него крепкий был, да тёмный неуютный. Плохо в нём жилось Еремею .Сядет Еремей чаю попить , а тут нечисть начинает всякая выползать, то кикимора болотная говорит зачем без меня чай пить сел. То черти из печки выпрыгивают, угольками балуются. То пауки да тараканы по стенам бегают. Терпел, терпел Еремей да вон из дому то и убежал. Бродил по лесу Еремей, устал сел на пенёк ,вдруг видит стоит неподалёку от него человек росту небольшого. Ты кто спрашивает Еремей.</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Я – домовой отвечает человек..Только не при деле стою жду может кто в к себе домой позовёт. А ты, что тоже бездомный?</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Да дом то  есть только не гоже там и рассказал Еремей всё. Эта беда не беда помочь могу ,только позови. Согласился дед. Пошли они к дому и слышат будто дом ходуном ходит. Домовой хитёр был и позвал он на помощь сову .Сова как ухнет Кикимора то и покатилась из дома прямо в болото. А черти как и прыгают уходить не хотят. Домовой не растерялся расстегнул жилетку, а от туда голуби полетели белые да давай чертям в глаза клевать по дому гонять. Тут домовой как присвистнет и полезли по стенам вьюны да цветы красивые Черти из дому то и побежали. Еремей стал домового то благодарить , а тот говорит ему подожди иди ложись спать утро вечера мудренее.</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тром проснулся Еремей и избу свою не узнал, все стены ,углы и простенки, потолки да двери узорами изукрашены! И так ему хорошо да легко на душе, что не высказать словами</a:t>
            </a:r>
            <a:r>
              <a:rPr b="1" i="1" lang="ru-RU"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 тех пор домовой и дед Еремей вместе жить стали. Только домового никто не видит. Домовой он на то и домовой чтоб хозяину помогать, да дом в порядке содержать.</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2" name="PlaceHolder 1"/>
          <p:cNvSpPr>
            <a:spLocks noGrp="1"/>
          </p:cNvSpPr>
          <p:nvPr>
            <p:ph/>
          </p:nvPr>
        </p:nvSpPr>
        <p:spPr>
          <a:xfrm>
            <a:off x="456840" y="260280"/>
            <a:ext cx="2459160" cy="586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73" name="Picture 2" descr="http://www.playcast.ru/uploads/2016/05/30/18833498.png"/>
          <p:cNvPicPr/>
          <p:nvPr/>
        </p:nvPicPr>
        <p:blipFill>
          <a:blip r:embed="rId1"/>
          <a:stretch/>
        </p:blipFill>
        <p:spPr>
          <a:xfrm>
            <a:off x="468360" y="476280"/>
            <a:ext cx="2378160" cy="3143160"/>
          </a:xfrm>
          <a:prstGeom prst="rect">
            <a:avLst/>
          </a:prstGeom>
          <a:ln w="0">
            <a:noFill/>
          </a:ln>
        </p:spPr>
      </p:pic>
      <p:pic>
        <p:nvPicPr>
          <p:cNvPr id="74" name="Picture 4" descr="http://boombob.ru/img/picture/Oct/15/860d16fa18d008a9dcfa07ffa6423956/2.jpg"/>
          <p:cNvPicPr/>
          <p:nvPr/>
        </p:nvPicPr>
        <p:blipFill>
          <a:blip r:embed="rId2"/>
          <a:stretch/>
        </p:blipFill>
        <p:spPr>
          <a:xfrm>
            <a:off x="324000" y="4149720"/>
            <a:ext cx="2673360" cy="156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19T17:47:59Z</dcterms:created>
  <dc:creator>анастасия</dc:creator>
  <dc:description/>
  <dc:language>en-US</dc:language>
  <cp:lastModifiedBy>Анастасия</cp:lastModifiedBy>
  <dcterms:modified xsi:type="dcterms:W3CDTF">2020-04-08T15:45:50Z</dcterms:modified>
  <cp:revision>3</cp:revision>
  <dc:subject/>
  <dc:title>Урало-сибирская роспись</dc:title>
</cp:coreProperties>
</file>