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2D67-2A97-4B7F-8949-FB9AD0CD3E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8536-1E8D-475C-9A42-37921808F8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41D8-072D-4196-A961-D3EAD1D8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E777-8518-4851-84DA-8998F9DA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52C7-8F9E-4262-8B57-67880C1A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9D59-95DD-4B4B-A16A-5FB2C8D1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F208-C617-4677-9ED4-993FDDC5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1AE5-83D0-44D1-9895-F99300B3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848-5981-4753-9188-474C6A75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57F2-A257-428C-AC80-F96D52C2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0D17-1DB9-4C14-919D-57552950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B121-FDE7-471C-8F49-266FBEFE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6D2-4778-44D4-8B82-03271102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F31-C0E2-4D3F-8C36-CBDD183D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1504-283F-4E00-88A5-4ADE9967BF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stat5.comby.ru/lr/fcc0029c22ac2ab1da06e62fc00ac27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500040" y="2786040"/>
            <a:ext cx="542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БАСКЕТБО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71320" y="999720"/>
            <a:ext cx="43290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. Ведение трех мячей вприсяд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. Ведение мяча, опускаясь и поднимаясь по лестниц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. Ведение мяча во время прыжков через скамей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. Ведение мяча, прыгая через скакалку. Игроки, которые крутят скакалку, также ведут мя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. Ведение мяча при беге на 100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. 100 метров на скорость с барьерами с ведением мяч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Картинка 580 из 30807"/>
          <p:cNvPicPr/>
          <p:nvPr/>
        </p:nvPicPr>
        <p:blipFill>
          <a:blip r:embed="rId1"/>
          <a:stretch/>
        </p:blipFill>
        <p:spPr>
          <a:xfrm>
            <a:off x="5214960" y="1071720"/>
            <a:ext cx="35672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400" y="1285920"/>
            <a:ext cx="46861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. Прыжки в высоту с ведением мяч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. Прыжок в длину с разбега с ведением мяча. В момент отталкивания баскетболист ловит мяч и выполняет прыж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. Ведение мяча в баскетболе вовремя запрыгивания и спрыгивания с предметов, высота которых равно 60-80 с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7. Ведением в стойке в быстром темпе с ведением двух мяч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Картинка 64 из 30807"/>
          <p:cNvPicPr/>
          <p:nvPr/>
        </p:nvPicPr>
        <p:blipFill>
          <a:blip r:embed="rId1"/>
          <a:stretch/>
        </p:blipFill>
        <p:spPr>
          <a:xfrm>
            <a:off x="5373720" y="1143000"/>
            <a:ext cx="341316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071960" y="928440"/>
            <a:ext cx="46432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. Ведение мяча в баскетболе на максимальной скорости, по свистку тренера, игроки выполняют пять прыжков в высоту, и продолжают бег с веден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. Катание по полу, ведя его спиной или лицом впере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. Ведение за спиной по всей площадке с разной скорост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1. Ведение мяча, сидя на пол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. Ведение мяча в баскетболе на максимальной скорости, выполняя все изученные игроком финты, минимум 2 мину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Ведения мяча в баскетболе – упражнения"/>
          <p:cNvPicPr/>
          <p:nvPr/>
        </p:nvPicPr>
        <p:blipFill>
          <a:blip r:embed="rId1"/>
          <a:stretch/>
        </p:blipFill>
        <p:spPr>
          <a:xfrm>
            <a:off x="642960" y="928800"/>
            <a:ext cx="30798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714480" y="1285560"/>
            <a:ext cx="49719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3. Эстафета с ведением одного и двух мячей по всей площад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. Ведение мяча в баскетболе с активной защит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5. Игра в догонялки с ведением мяч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. Бег на 1000 м с веден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. Ведение мяча в баскетболе на большой скорости влево, вправо, вперед, наза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Картинка 127 из 30807"/>
          <p:cNvPicPr/>
          <p:nvPr/>
        </p:nvPicPr>
        <p:blipFill>
          <a:blip r:embed="rId1"/>
          <a:stretch/>
        </p:blipFill>
        <p:spPr>
          <a:xfrm>
            <a:off x="357120" y="1214280"/>
            <a:ext cx="31431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ww.backgroundsarchive.com/images/pub/37/37427xptjb8p2y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57760" y="3071880"/>
            <a:ext cx="52862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Основные способы веден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ОСОБЫ ОБВОД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Обводка в баскетболе"/>
          <p:cNvPicPr/>
          <p:nvPr/>
        </p:nvPicPr>
        <p:blipFill>
          <a:blip r:embed="rId1"/>
          <a:stretch/>
        </p:blipFill>
        <p:spPr>
          <a:xfrm>
            <a:off x="1500120" y="1357200"/>
            <a:ext cx="6000840" cy="49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www.mr7.ru/netcat_files/822/612/basketball__580_n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upload.wikimedia.org/wikipedia/commons/thumb/7/7a/Basketball.png/220px-Basketball.png"/>
          <p:cNvPicPr/>
          <p:nvPr/>
        </p:nvPicPr>
        <p:blipFill>
          <a:blip r:embed="rId1"/>
          <a:stretch/>
        </p:blipFill>
        <p:spPr>
          <a:xfrm>
            <a:off x="214200" y="2643120"/>
            <a:ext cx="2095560" cy="2095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2960" y="2071800"/>
            <a:ext cx="3641760" cy="186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Ведение м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я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ча в баскетбол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http://www.bballone.com/alleni/sixers/images/sixers35.jpg"/>
          <p:cNvPicPr/>
          <p:nvPr/>
        </p:nvPicPr>
        <p:blipFill>
          <a:blip r:embed="rId2"/>
          <a:stretch/>
        </p:blipFill>
        <p:spPr>
          <a:xfrm>
            <a:off x="4619520" y="285840"/>
            <a:ext cx="45244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http://i108.piczo.com/view/4/5/k/p/4/y/p/b/3/w/c/1/img/i302813005_46972_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85840" y="1000080"/>
            <a:ext cx="5286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c00000"/>
                </a:solidFill>
                <a:latin typeface="Calibri"/>
              </a:rPr>
              <a:t>Ведение мяча в баскетболе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один из элементов баскетбола, который является вторым, после передачи, способом перемещения мяча по площад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мотное и правильнее ведение мяча в баскетболе – это фундамент для постоянного контроля над мячом, а также основа обыгрывания соперника индивидуаль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nba-dunk.narod.ru/cassell.jpg"/>
          <p:cNvPicPr/>
          <p:nvPr/>
        </p:nvPicPr>
        <p:blipFill>
          <a:blip r:embed="rId1"/>
          <a:stretch/>
        </p:blipFill>
        <p:spPr>
          <a:xfrm>
            <a:off x="6929280" y="3060720"/>
            <a:ext cx="2214720" cy="3797280"/>
          </a:xfrm>
          <a:prstGeom prst="rect">
            <a:avLst/>
          </a:prstGeom>
          <a:ln w="0">
            <a:noFill/>
          </a:ln>
        </p:spPr>
      </p:pic>
      <p:sp>
        <p:nvSpPr>
          <p:cNvPr id="56" name="Овал 5"/>
          <p:cNvSpPr/>
          <p:nvPr/>
        </p:nvSpPr>
        <p:spPr>
          <a:xfrm>
            <a:off x="1571760" y="357120"/>
            <a:ext cx="5715000" cy="1500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едение 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214200" y="2571840"/>
            <a:ext cx="3714840" cy="157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е скоростное ведение мяча. При таком ведении мяч отскакивает высоко от пола, а угол сгибания ног в коленном суставе равен 135-160 граду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2428920" y="4500720"/>
            <a:ext cx="414324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зкое ведения с укрыванием. При таком ведении, мяч отскакивает низко от пола, а угол сгибания ног в коленном суставе равен 90-120 граду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5357880" y="2143080"/>
            <a:ext cx="350028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ированное ведение мяча в баскетб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12"/>
          <p:cNvCxnSpPr>
            <a:stCxn id="56" idx="3"/>
            <a:endCxn id="57" idx="0"/>
          </p:cNvCxnSpPr>
          <p:nvPr/>
        </p:nvCxnSpPr>
        <p:spPr>
          <a:xfrm flipH="1">
            <a:off x="2071080" y="1638000"/>
            <a:ext cx="337320" cy="93420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1" name="Прямая со стрелкой 15"/>
          <p:cNvCxnSpPr>
            <a:stCxn id="56" idx="4"/>
            <a:endCxn id="58" idx="0"/>
          </p:cNvCxnSpPr>
          <p:nvPr/>
        </p:nvCxnSpPr>
        <p:spPr>
          <a:xfrm>
            <a:off x="4428000" y="1856880"/>
            <a:ext cx="72360" cy="2644200"/>
          </a:xfrm>
          <a:prstGeom prst="straightConnector1">
            <a:avLst/>
          </a:prstGeom>
          <a:ln w="158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2" name="Прямая со стрелкой 18"/>
          <p:cNvCxnSpPr>
            <a:stCxn id="56" idx="5"/>
            <a:endCxn id="59" idx="0"/>
          </p:cNvCxnSpPr>
          <p:nvPr/>
        </p:nvCxnSpPr>
        <p:spPr>
          <a:xfrm>
            <a:off x="6450120" y="1638360"/>
            <a:ext cx="659520" cy="5054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42920" y="2142720"/>
            <a:ext cx="4757760" cy="25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для обучения ведение мяча в баскетбол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8" descr="Картинка 6 из 30807"/>
          <p:cNvPicPr/>
          <p:nvPr/>
        </p:nvPicPr>
        <p:blipFill>
          <a:blip r:embed="rId1"/>
          <a:stretch/>
        </p:blipFill>
        <p:spPr>
          <a:xfrm>
            <a:off x="4429080" y="285840"/>
            <a:ext cx="42577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28680" y="928800"/>
            <a:ext cx="490068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Стоя на одном месте. Ведение мяча вокруг корпу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Также стоя на одном месте. Ведения мяча в баскетболе между и вокруг ног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Стоя на одном месте. Ведем мяч с разным по высоте отскоком. Пару ударов мячом с высотой отскока 55-85 см и быстрый переход на ведение с отскоком 10-20 с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Картинка 295 из 30807"/>
          <p:cNvPicPr/>
          <p:nvPr/>
        </p:nvPicPr>
        <p:blipFill>
          <a:blip r:embed="rId1"/>
          <a:stretch/>
        </p:blipFill>
        <p:spPr>
          <a:xfrm>
            <a:off x="357120" y="642960"/>
            <a:ext cx="328608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28400" y="1071720"/>
            <a:ext cx="45003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На месте. Максимально частое ведение мяча то одной, то другой ру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Ведение двух мячей на мес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Ведение трех четырех баскетбольных мячей на мес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Выполняется сидя на скамье. Максимально низкое ведение, с отскоком не более 7 с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Картинка 298 из 30807"/>
          <p:cNvPicPr/>
          <p:nvPr/>
        </p:nvPicPr>
        <p:blipFill>
          <a:blip r:embed="rId1"/>
          <a:stretch/>
        </p:blipFill>
        <p:spPr>
          <a:xfrm>
            <a:off x="5072040" y="928800"/>
            <a:ext cx="37861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28760" y="857160"/>
            <a:ext cx="44719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Ведение мяча в быстром темпе под вытянутыми ног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Ведение при беге на   одних пятк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Ведение мяча в    полуприсе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Ведение мяча в полном присе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 Быстрая ходьба с ведением мяч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Картинка 425 из 30807"/>
          <p:cNvPicPr/>
          <p:nvPr/>
        </p:nvPicPr>
        <p:blipFill>
          <a:blip r:embed="rId1"/>
          <a:stretch/>
        </p:blipFill>
        <p:spPr>
          <a:xfrm>
            <a:off x="5072040" y="642960"/>
            <a:ext cx="357192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4"/>
          <p:cNvSpPr/>
          <p:nvPr/>
        </p:nvSpPr>
        <p:spPr>
          <a:xfrm>
            <a:off x="4643280" y="1071720"/>
            <a:ext cx="4214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. Бег, переводя мяч на каждом шаге между но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. Ведение мяча спиной впер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Быстро двигаясь вперед, выбрасывая прямые ноги вперед, с ведением баскетбольного мя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. Ведение, с высоким подниманием бед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Передвижение вперед прыжками с двух ног с ведением мя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Картинка 493 из 30807"/>
          <p:cNvPicPr/>
          <p:nvPr/>
        </p:nvPicPr>
        <p:blipFill>
          <a:blip r:embed="rId1"/>
          <a:stretch/>
        </p:blipFill>
        <p:spPr>
          <a:xfrm>
            <a:off x="285840" y="1428840"/>
            <a:ext cx="422100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2:33:03Z</dcterms:created>
  <dc:creator>катя</dc:creator>
  <dc:description/>
  <dc:language>en-US</dc:language>
  <cp:lastModifiedBy>Пользователь Windows</cp:lastModifiedBy>
  <dcterms:modified xsi:type="dcterms:W3CDTF">2020-04-08T17:02:20Z</dcterms:modified>
  <cp:revision>18</cp:revision>
  <dc:subject/>
  <dc:title>Ведение меча в баскетболе</dc:title>
</cp:coreProperties>
</file>