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20.jpeg" ContentType="image/jpeg"/>
  <Override PartName="/ppt/media/image17.png" ContentType="image/png"/>
  <Override PartName="/ppt/media/image4.jpeg" ContentType="image/jpeg"/>
  <Override PartName="/ppt/media/image19.png" ContentType="image/png"/>
  <Override PartName="/ppt/media/image16.gif" ContentType="image/gif"/>
  <Override PartName="/ppt/media/image14.png" ContentType="image/png"/>
  <Override PartName="/ppt/media/image2.jpeg" ContentType="image/jpeg"/>
  <Override PartName="/ppt/media/image3.png" ContentType="image/pn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70EB0-B549-40E5-AF0D-1F9384F58D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C037C-4857-4FAA-B7FC-42C76338E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86D06-1C64-4C88-855C-878D12CFA4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220A0-952D-4408-92B9-F793F1E4D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266-63D1-4CCA-8B40-9A437443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E06-3469-4511-8401-A1BB58A7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372-D778-4B9E-AEBF-5C4A5450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14D-22A1-4966-9103-0531A1B9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8DA-5449-4986-ABE6-A9B93F02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744-9E4F-453A-8B9B-21C294EA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F8B-E0F5-4106-9829-CDB4C2C5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48D-9601-4976-8D50-EF80D665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26C-0CC3-4E16-9779-4F809E9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5AC-5E1E-4E20-A5CA-89C1B7D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FBA-B6D0-49E3-9DEB-8AE72D7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759-FBD3-48BC-A3FC-3A766AA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1A1EE-3DE3-448A-A9FF-9871133B61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016000" y="205092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 rot="371400">
            <a:off x="2303280" y="3203640"/>
            <a:ext cx="5689440" cy="39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акая прекрасн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акая опа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50" name="Picture 4" descr="18"/>
          <p:cNvPicPr/>
          <p:nvPr/>
        </p:nvPicPr>
        <p:blipFill>
          <a:blip r:embed="rId2"/>
          <a:stretch/>
        </p:blipFill>
        <p:spPr>
          <a:xfrm>
            <a:off x="6048360" y="565164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Доро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5308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начинается активное движение транспорта. В селе мотоциклы водят школьники, не имеющие прав и навыка вождения. Нужно быть особенно внимательным при приближении к дороге, соблюдать правила дорожного движения. Играть на проезжей части строго запрещ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6"/>
          <p:cNvPicPr/>
          <p:nvPr/>
        </p:nvPicPr>
        <p:blipFill>
          <a:blip r:embed="rId1"/>
          <a:stretch/>
        </p:blipFill>
        <p:spPr>
          <a:xfrm>
            <a:off x="5472000" y="1187280"/>
            <a:ext cx="4027680" cy="24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45"/>
          <p:cNvPicPr/>
          <p:nvPr/>
        </p:nvPicPr>
        <p:blipFill>
          <a:blip r:embed="rId2"/>
          <a:stretch/>
        </p:blipFill>
        <p:spPr>
          <a:xfrm>
            <a:off x="4608360" y="3635280"/>
            <a:ext cx="4969080" cy="215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"/>
          <p:cNvPicPr/>
          <p:nvPr/>
        </p:nvPicPr>
        <p:blipFill>
          <a:blip r:embed="rId3"/>
          <a:stretch/>
        </p:blipFill>
        <p:spPr>
          <a:xfrm>
            <a:off x="8132760" y="5219640"/>
            <a:ext cx="1593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елоси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осипед не игрушка, а средство передвижения. Ездить на велосипеде по проезжей части можно только с 14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7"/>
          <p:cNvPicPr/>
          <p:nvPr/>
        </p:nvPicPr>
        <p:blipFill>
          <a:blip r:embed="rId1"/>
          <a:stretch/>
        </p:blipFill>
        <p:spPr>
          <a:xfrm>
            <a:off x="5832360" y="3348000"/>
            <a:ext cx="3095640" cy="366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16"/>
          <p:cNvPicPr/>
          <p:nvPr/>
        </p:nvPicPr>
        <p:blipFill>
          <a:blip r:embed="rId2"/>
          <a:stretch/>
        </p:blipFill>
        <p:spPr>
          <a:xfrm>
            <a:off x="5327640" y="75564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4465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13440" y="395280"/>
            <a:ext cx="468000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упила весна. На улице стало тепло, после суровой и холодной зимы хочется больше времени проводить на свежем воздухе. Но на улице нас подстерегает множество опасностей. Чтобы избежать беды мы сегодня рассмотрим, как предотвратить не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6000816"/>
          <p:cNvPicPr/>
          <p:nvPr/>
        </p:nvPicPr>
        <p:blipFill>
          <a:blip r:embed="rId1"/>
          <a:stretch/>
        </p:blipFill>
        <p:spPr>
          <a:xfrm>
            <a:off x="647640" y="133200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Тонкий лё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ркое солнышко согрело лёд и сделало его очень тонким. Нельзя выходить на лёд, кататься на коньках, рыбачить на льду, нельзя переходить реку по плывущим льд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S6000813"/>
          <p:cNvPicPr/>
          <p:nvPr/>
        </p:nvPicPr>
        <p:blipFill>
          <a:blip r:embed="rId1"/>
          <a:stretch/>
        </p:blipFill>
        <p:spPr>
          <a:xfrm>
            <a:off x="5040360" y="1403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tixi-dlya-detej-bezopasnost-na-ldu-3"/>
          <p:cNvPicPr/>
          <p:nvPr/>
        </p:nvPicPr>
        <p:blipFill>
          <a:blip r:embed="rId2"/>
          <a:stretch/>
        </p:blipFill>
        <p:spPr>
          <a:xfrm>
            <a:off x="5040360" y="5003640"/>
            <a:ext cx="1549440" cy="223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tixi-dlya-detej-bezopasnost-na-ldu-1"/>
          <p:cNvPicPr/>
          <p:nvPr/>
        </p:nvPicPr>
        <p:blipFill>
          <a:blip r:embed="rId3"/>
          <a:stretch/>
        </p:blipFill>
        <p:spPr>
          <a:xfrm>
            <a:off x="6624720" y="5003640"/>
            <a:ext cx="31687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суль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ет снег на крышах домов, образуются огромные ледяные сосульки. Нельзя приближаться близко к таким местам, в любую минуту сосулька может упасть прямо на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6007161"/>
          <p:cNvPicPr/>
          <p:nvPr/>
        </p:nvPicPr>
        <p:blipFill>
          <a:blip r:embed="rId1"/>
          <a:stretch/>
        </p:blipFill>
        <p:spPr>
          <a:xfrm>
            <a:off x="503280" y="147636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 Black"/>
              </a:rPr>
              <a:t>Обвалы бере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68360" y="1476360"/>
            <a:ext cx="460404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га реки Иртыш во многих местах крутые, высокие, обрывистые. Промёрзшая за зиму земля даёт глубокие трещины, поэтому если подойти близко к берегу можно легко обвалиться и упасть в в ледяную воду. Весной ходить на берег реки без сопровождения взрослых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M_A0035"/>
          <p:cNvPicPr/>
          <p:nvPr/>
        </p:nvPicPr>
        <p:blipFill>
          <a:blip r:embed="rId1"/>
          <a:stretch/>
        </p:blipFill>
        <p:spPr>
          <a:xfrm>
            <a:off x="576360" y="140328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Половод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13080" y="1402920"/>
            <a:ext cx="44593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чинает таять снег и уровень воды в реке Иртыш и её протоках резко повышается. Нельзя пытаться перебродить через воду, нельзя плавать одним без взрослых на лодке или самодельных плотах, нельзя близко приближаться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S6001410"/>
          <p:cNvPicPr/>
          <p:nvPr/>
        </p:nvPicPr>
        <p:blipFill>
          <a:blip r:embed="rId1"/>
          <a:stretch/>
        </p:blipFill>
        <p:spPr>
          <a:xfrm>
            <a:off x="503280" y="133200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892980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Луж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40328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 улицах городов и сёл разливаются огромные лужи. Вода в них очень холодная. Пуская кораблики, кидая камушки, просто играя рядом с водой, можно легко простудиться и заболеть. Лужи – не место для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6001400"/>
          <p:cNvPicPr/>
          <p:nvPr/>
        </p:nvPicPr>
        <p:blipFill>
          <a:blip r:embed="rId1"/>
          <a:stretch/>
        </p:blipFill>
        <p:spPr>
          <a:xfrm>
            <a:off x="5400720" y="1403280"/>
            <a:ext cx="4344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360" y="1476360"/>
            <a:ext cx="45324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ое весеннее солнце обманчиво. Во-первых, нельзя выходить на улицу без головного убора – можно получить солнечный удар. Во-вторых, не следует думать, что уже тепло, и выходить легко одетым. Земля ещё недостаточно прогрелась, весенний ветер холодный, можно простудиться и за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S6007473"/>
          <p:cNvPicPr/>
          <p:nvPr/>
        </p:nvPicPr>
        <p:blipFill>
          <a:blip r:embed="rId1"/>
          <a:stretch/>
        </p:blipFill>
        <p:spPr>
          <a:xfrm>
            <a:off x="287280" y="1476360"/>
            <a:ext cx="446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люди начинают убирать территорию у домов, жечь костры. Это строго запрещено! Никогда не разводите костры сами и предупредите взрослых, что этого делать нельзя. Высока опасность пожаров, может загореться дом и вы сами можете пострадать от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011-028-Ne-razzhigaj-kostjor-v-lesu-bez-vzroslykh"/>
          <p:cNvPicPr/>
          <p:nvPr/>
        </p:nvPicPr>
        <p:blipFill>
          <a:blip r:embed="rId1"/>
          <a:stretch/>
        </p:blipFill>
        <p:spPr>
          <a:xfrm>
            <a:off x="5327640" y="1403280"/>
            <a:ext cx="4388040" cy="2927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119"/>
          <p:cNvPicPr/>
          <p:nvPr/>
        </p:nvPicPr>
        <p:blipFill>
          <a:blip r:embed="rId2"/>
          <a:stretch/>
        </p:blipFill>
        <p:spPr>
          <a:xfrm>
            <a:off x="5184720" y="1332000"/>
            <a:ext cx="82548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1"/>
          <p:cNvPicPr/>
          <p:nvPr/>
        </p:nvPicPr>
        <p:blipFill>
          <a:blip r:embed="rId3"/>
          <a:stretch/>
        </p:blipFill>
        <p:spPr>
          <a:xfrm>
            <a:off x="5545080" y="4500720"/>
            <a:ext cx="1247760" cy="246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7"/>
          <p:cNvPicPr/>
          <p:nvPr/>
        </p:nvPicPr>
        <p:blipFill>
          <a:blip r:embed="rId4"/>
          <a:stretch/>
        </p:blipFill>
        <p:spPr>
          <a:xfrm>
            <a:off x="7704000" y="313200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7"/>
          <p:cNvPicPr/>
          <p:nvPr/>
        </p:nvPicPr>
        <p:blipFill>
          <a:blip r:embed="rId5"/>
          <a:stretch/>
        </p:blipFill>
        <p:spPr>
          <a:xfrm>
            <a:off x="7056360" y="262728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7"/>
          <p:cNvPicPr/>
          <p:nvPr/>
        </p:nvPicPr>
        <p:blipFill>
          <a:blip r:embed="rId6"/>
          <a:stretch/>
        </p:blipFill>
        <p:spPr>
          <a:xfrm>
            <a:off x="7345440" y="3059280"/>
            <a:ext cx="428400" cy="74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25"/>
          <p:cNvPicPr/>
          <p:nvPr/>
        </p:nvPicPr>
        <p:blipFill>
          <a:blip r:embed="rId7"/>
          <a:stretch/>
        </p:blipFill>
        <p:spPr>
          <a:xfrm>
            <a:off x="6840360" y="4500720"/>
            <a:ext cx="28702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30:36Z</dcterms:created>
  <dc:creator/>
  <dc:description/>
  <dc:language>en-US</dc:language>
  <cp:lastModifiedBy>Татьяна</cp:lastModifiedBy>
  <dcterms:modified xsi:type="dcterms:W3CDTF">2020-04-08T00:22:47Z</dcterms:modified>
  <cp:revision>22</cp:revision>
  <dc:subject/>
  <dc:title>Слайд 1</dc:title>
</cp:coreProperties>
</file>