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231-3015-4F94-8537-49D994C6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6AD-5E7F-4624-80EF-65666BED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3BF6-89F5-4C3C-A09B-F13BA5E9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17A-5217-496C-86FD-359BE714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9657-B02E-4344-A540-2F87CE1E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EDBA-F808-4500-84F2-9C363A73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C721-4C94-404F-9209-21A9C324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2FF6-C38E-4EE6-B0E9-5E613784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AB99-798E-4C24-AD9D-59B602E7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E36B-3A4C-4E82-A56D-AFC78614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D71F-AEF8-4B7F-A4CB-B04B9200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BA91-1A55-4FAF-8863-EE0562B9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F04D-E7BA-4806-87EB-9374ED01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7A6E-9DD1-4529-97FF-6627644E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3D45-389E-42E2-B3E0-B0692D4C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F067-48DF-4C9D-BEC7-D66DF6F6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20DD-6057-4C81-83EE-637C9B67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6002B-175E-4C61-84C7-D3B951EE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992D3-3BCF-4901-8CBA-EB4EC55A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B0BAE-D335-4B7C-B9A8-E1FA7A5D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B0D44-3C1A-4F4E-897A-CF5B0873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866DE-9AF7-4E71-9278-091A88C4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EA70-0771-4032-80CC-4832A61B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0F9A8-A495-4BB0-9E2F-5416BF0A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90FA6-1BEC-4D61-8D61-BCB2B312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2AD41-82A9-441D-A0FD-7B378123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04CB6-B893-46ED-9DD6-1A72B188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DF1D4-BE96-48A0-8665-EEE579CA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E714F-3A1E-4418-B832-4F25CBE3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96098-81E2-4A28-BEA9-F5893F44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A4173-4C62-411F-8874-15C7BF30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B5A3D-963C-4EB8-8B22-D9EBF3D9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281D3-C6A1-432A-A2DA-BC8FC0AD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7FA-6C9A-4E09-A692-D1EBF994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30681-8009-444F-ADED-CC9136CF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E4103-1984-4436-9322-FAD9177C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D2C70-A626-44EC-8B4F-426D9AAA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DC066-8B1E-466B-868E-521AF25E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EF6D8-06EF-41D6-B355-01229EE2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F2D24-03C7-4AA6-86C3-9164A1DF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7E0F8-5756-4F0C-963E-7479BBE9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E1D75-66EB-4F28-938A-717D0438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3AB6B-D7CA-48C9-8238-4B5C129D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68FFC-012D-4060-A3DF-CE0F2084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54F7-73E7-4366-8DC3-DBF1395B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75EBB-E232-4A3F-96AB-F86CA04F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FF388-DED4-4176-BF83-64101A20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6D5B2-41B2-4015-9C7A-37D2CC38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D8AF1-86FF-4C0E-8521-F2A42F9B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8254A-ECAF-4F50-A78E-E5A82A2A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ECFDF-F899-4E68-8945-75BEA7E6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7C847-7224-40A8-9D8F-ACFCC1D8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2843A-3FA6-4386-8A71-B585C718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4F367-5F6D-454D-A4D6-CE3E7E8C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65BED-7EED-4D4E-8E1B-4242FC3E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2CA-6CB0-4A1B-8127-074CFCCF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57EF1-0055-4806-9AE4-C9E569E5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4AF0A-1D4A-4D80-8E13-D59C894C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A5327-EC2F-4423-96B6-B8D7A048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AA767-FABC-4F8D-9D15-C5530029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C600A-D47D-4A7D-B83A-6CCBD2D2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072C6-B29C-48C7-91E6-7A9711E6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D6AC2-D1FE-49A0-B43C-D19CDE82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9D258-1C3B-4A79-B842-8F5A89EF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0B262-8FBA-4C4B-87AF-E39ADD95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E5EE3-1B35-4B61-81D9-BC05B892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415-CF72-48A1-8926-AADCB640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52798-4B61-49E0-8A88-DBBE046F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14208-7FEC-4CDA-A801-6BC18D8F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5A49C-9B91-4EF2-823F-0275557D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CB23-639C-4F68-9557-A64F81CF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1F2-B6F6-4272-995C-992BEA7A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E332-6C63-4C01-B680-109A032CAF3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DF5D-C4D8-4801-B2F9-05621C687F7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74CB-D9BC-4C73-AAFC-5C54E007D2E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9E5D-79AD-4A53-B8A8-69C0AB717C3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EAEF-D5D2-445B-BA1A-F6CC7B3294B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C871-1792-4C8F-87B4-3BB563D0D2F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5.jpeg"/><Relationship Id="rId2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908000" y="3374640"/>
            <a:ext cx="6397920" cy="30783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af0a"/>
                </a:solidFill>
                <a:latin typeface="Arial"/>
              </a:rPr>
              <a:t>«Теперь, когда мы уме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af0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ccaf0a"/>
                </a:solidFill>
                <a:latin typeface="Arial"/>
              </a:rPr>
              <a:t>летать по небу, как птиц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af0a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ccaf0a"/>
                </a:solidFill>
                <a:latin typeface="Arial"/>
              </a:rPr>
              <a:t>плавать по воде , как рыб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af0a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ccaf0a"/>
                </a:solidFill>
                <a:latin typeface="Arial"/>
              </a:rPr>
              <a:t>нам осталось одно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af0a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ccaf0a"/>
                </a:solidFill>
                <a:latin typeface="Arial"/>
              </a:rPr>
              <a:t>научиться жить на Земле, как люди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af0a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ccaf0a"/>
                </a:solidFill>
                <a:latin typeface="Arial"/>
              </a:rPr>
              <a:t>Бернард  Шо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af0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WordArt 3"/>
          <p:cNvSpPr txBox="1"/>
          <p:nvPr/>
        </p:nvSpPr>
        <p:spPr>
          <a:xfrm>
            <a:off x="200160" y="765000"/>
            <a:ext cx="876456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енные аспекты </a:t>
            </a:r>
            <a:endParaRPr b="0" lang="en-US" sz="4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ждународного гуманитарного </a:t>
            </a:r>
            <a:endParaRPr b="0" lang="en-US" sz="4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а</a:t>
            </a:r>
            <a:endParaRPr b="0" lang="en-US" sz="4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Участники военных действи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Парламентёр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это лицо, которое получает полномочия от своего военного командования для ведения переговоров с военным командованием противник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530064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Участники военных действи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68360" y="1125360"/>
            <a:ext cx="82468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Arial"/>
              </a:rPr>
              <a:t>Медицинский и духовный персонал -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лица из состава военно-медицинской и духовной служб вооруженных сил отвечают за оказание помощи жертвам вооруженного конфликта и не принимают непосредственного участия в боевых действиях. Поэтому они не являются комбатантами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Участники военных действи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9528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Медицинский и духовный персонал -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ица из состава военно-медицинской и духовной служб вооруженных сил отвечают за оказание помощи жертвам вооруженного конфликта и не принимают непосредственного участия в боевых действиях. Поэтому они не являются комбатанта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476360" cy="260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 войны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2797920" y="163440"/>
            <a:ext cx="43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9900"/>
                </a:solidFill>
                <a:uFillTx/>
                <a:latin typeface="Verdana"/>
              </a:rPr>
              <a:t>Александр Васильевич Суворо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3" name="Picture 4" descr="suvorow"/>
          <p:cNvPicPr/>
          <p:nvPr/>
        </p:nvPicPr>
        <p:blipFill>
          <a:blip r:embed="rId1"/>
          <a:stretch/>
        </p:blipFill>
        <p:spPr>
          <a:xfrm>
            <a:off x="468360" y="1916280"/>
            <a:ext cx="3517920" cy="458136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sp>
        <p:nvSpPr>
          <p:cNvPr id="304" name="Text Box 5"/>
          <p:cNvSpPr/>
          <p:nvPr/>
        </p:nvSpPr>
        <p:spPr>
          <a:xfrm>
            <a:off x="716760" y="995400"/>
            <a:ext cx="713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авила войны по-суворовски даже сегодня, спустя два век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ответствуют международному гуманитарному праву (МГП)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4409640" y="1700280"/>
            <a:ext cx="4169160" cy="52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«…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и штурме в дома не забегать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еприятеля, просящего пощады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щадить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безоружного не убивать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 бабами не воевать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малолетков не трогать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 пленными поступать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человеколюбиво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тыдиться варварств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е меньше оружия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оражать противник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человеколюбие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Обывателям ни малейшей обиды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алоги и озлобления не чинить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ойна не на них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 на вооружённого неприятел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9900"/>
                </a:solidFill>
                <a:latin typeface="Verdana"/>
              </a:rPr>
              <a:t>Воину надлежит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9900"/>
                </a:solidFill>
                <a:latin typeface="Verdana"/>
              </a:rPr>
              <a:t>мощь вражескую сокрушать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ff9900"/>
                </a:solidFill>
                <a:latin typeface="Verdana"/>
              </a:rPr>
              <a:t>а не безоружных поражать …</a:t>
            </a:r>
            <a:r>
              <a:rPr b="0" lang="ru-RU" sz="1600" spc="-1" strike="noStrike">
                <a:solidFill>
                  <a:srgbClr val="ff9900"/>
                </a:solidFill>
                <a:latin typeface="Verdana"/>
              </a:rPr>
              <a:t>»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  </a:t>
            </a: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Из приказа войскам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</a:t>
            </a: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Кубанского корпуса, 1778г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476360" cy="260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 войны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928880" y="163440"/>
            <a:ext cx="60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9900"/>
                </a:solidFill>
                <a:uFillTx/>
                <a:latin typeface="Verdana"/>
              </a:rPr>
              <a:t>Найди </a:t>
            </a:r>
            <a:r>
              <a:rPr b="1" i="1" lang="ru-RU" sz="1800" spc="-1" strike="noStrike" u="sng">
                <a:solidFill>
                  <a:srgbClr val="ff9900"/>
                </a:solidFill>
                <a:uFillTx/>
                <a:latin typeface="Verdana"/>
              </a:rPr>
              <a:t>международные</a:t>
            </a:r>
            <a:r>
              <a:rPr b="1" i="1" lang="ru-RU" sz="2000" spc="-1" strike="noStrike" u="sng">
                <a:solidFill>
                  <a:srgbClr val="ff9900"/>
                </a:solidFill>
                <a:uFillTx/>
                <a:latin typeface="Verdana"/>
              </a:rPr>
              <a:t> знаки особой защиты 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8" name="Picture 41" descr="2"/>
          <p:cNvPicPr/>
          <p:nvPr/>
        </p:nvPicPr>
        <p:blipFill>
          <a:blip r:embed="rId1"/>
          <a:stretch/>
        </p:blipFill>
        <p:spPr>
          <a:xfrm>
            <a:off x="2627280" y="2565360"/>
            <a:ext cx="1400040" cy="6192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5" descr="6"/>
          <p:cNvPicPr/>
          <p:nvPr/>
        </p:nvPicPr>
        <p:blipFill>
          <a:blip r:embed="rId2"/>
          <a:stretch/>
        </p:blipFill>
        <p:spPr>
          <a:xfrm>
            <a:off x="7451640" y="692280"/>
            <a:ext cx="1305000" cy="1276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6" descr="7"/>
          <p:cNvPicPr/>
          <p:nvPr/>
        </p:nvPicPr>
        <p:blipFill>
          <a:blip r:embed="rId3"/>
          <a:stretch/>
        </p:blipFill>
        <p:spPr>
          <a:xfrm>
            <a:off x="3851280" y="692280"/>
            <a:ext cx="1371600" cy="14000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8" descr="9"/>
          <p:cNvPicPr/>
          <p:nvPr/>
        </p:nvPicPr>
        <p:blipFill>
          <a:blip r:embed="rId4"/>
          <a:stretch/>
        </p:blipFill>
        <p:spPr>
          <a:xfrm>
            <a:off x="468360" y="2205000"/>
            <a:ext cx="1400040" cy="1400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2" descr="13"/>
          <p:cNvPicPr/>
          <p:nvPr/>
        </p:nvPicPr>
        <p:blipFill>
          <a:blip r:embed="rId5"/>
          <a:stretch/>
        </p:blipFill>
        <p:spPr>
          <a:xfrm>
            <a:off x="7308720" y="3716280"/>
            <a:ext cx="1343160" cy="1276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3" descr="14"/>
          <p:cNvPicPr/>
          <p:nvPr/>
        </p:nvPicPr>
        <p:blipFill>
          <a:blip r:embed="rId6"/>
          <a:stretch/>
        </p:blipFill>
        <p:spPr>
          <a:xfrm>
            <a:off x="7308720" y="5157720"/>
            <a:ext cx="1400400" cy="1467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4" descr="15"/>
          <p:cNvPicPr/>
          <p:nvPr/>
        </p:nvPicPr>
        <p:blipFill>
          <a:blip r:embed="rId7"/>
          <a:stretch/>
        </p:blipFill>
        <p:spPr>
          <a:xfrm>
            <a:off x="468360" y="3789360"/>
            <a:ext cx="1400040" cy="14000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5" descr="16"/>
          <p:cNvPicPr/>
          <p:nvPr/>
        </p:nvPicPr>
        <p:blipFill>
          <a:blip r:embed="rId8"/>
          <a:stretch/>
        </p:blipFill>
        <p:spPr>
          <a:xfrm>
            <a:off x="3995640" y="3716280"/>
            <a:ext cx="1371600" cy="14288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6" descr="17"/>
          <p:cNvPicPr/>
          <p:nvPr/>
        </p:nvPicPr>
        <p:blipFill>
          <a:blip r:embed="rId9"/>
          <a:stretch/>
        </p:blipFill>
        <p:spPr>
          <a:xfrm>
            <a:off x="2050920" y="692280"/>
            <a:ext cx="1400400" cy="1400040"/>
          </a:xfrm>
          <a:prstGeom prst="rect">
            <a:avLst/>
          </a:prstGeom>
          <a:ln w="0">
            <a:noFill/>
          </a:ln>
        </p:spPr>
      </p:pic>
      <p:sp>
        <p:nvSpPr>
          <p:cNvPr id="317" name="Oval 60"/>
          <p:cNvSpPr/>
          <p:nvPr/>
        </p:nvSpPr>
        <p:spPr>
          <a:xfrm>
            <a:off x="1403280" y="1125360"/>
            <a:ext cx="43200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Oval 61"/>
          <p:cNvSpPr/>
          <p:nvPr/>
        </p:nvSpPr>
        <p:spPr>
          <a:xfrm>
            <a:off x="1763640" y="2637000"/>
            <a:ext cx="432000" cy="43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Oval 62"/>
          <p:cNvSpPr/>
          <p:nvPr/>
        </p:nvSpPr>
        <p:spPr>
          <a:xfrm>
            <a:off x="3492360" y="4221000"/>
            <a:ext cx="43200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Oval 63"/>
          <p:cNvSpPr/>
          <p:nvPr/>
        </p:nvSpPr>
        <p:spPr>
          <a:xfrm>
            <a:off x="3635280" y="5734080"/>
            <a:ext cx="432000" cy="43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Oval 64"/>
          <p:cNvSpPr/>
          <p:nvPr/>
        </p:nvSpPr>
        <p:spPr>
          <a:xfrm>
            <a:off x="3348000" y="1125360"/>
            <a:ext cx="43200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Oval 65"/>
          <p:cNvSpPr/>
          <p:nvPr/>
        </p:nvSpPr>
        <p:spPr>
          <a:xfrm>
            <a:off x="3995640" y="2708280"/>
            <a:ext cx="432000" cy="43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Oval 66"/>
          <p:cNvSpPr/>
          <p:nvPr/>
        </p:nvSpPr>
        <p:spPr>
          <a:xfrm>
            <a:off x="5292720" y="4221000"/>
            <a:ext cx="43164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Oval 67"/>
          <p:cNvSpPr/>
          <p:nvPr/>
        </p:nvSpPr>
        <p:spPr>
          <a:xfrm>
            <a:off x="5219640" y="5734080"/>
            <a:ext cx="432000" cy="43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Oval 68"/>
          <p:cNvSpPr/>
          <p:nvPr/>
        </p:nvSpPr>
        <p:spPr>
          <a:xfrm>
            <a:off x="6659640" y="4221000"/>
            <a:ext cx="43164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Oval 69"/>
          <p:cNvSpPr/>
          <p:nvPr/>
        </p:nvSpPr>
        <p:spPr>
          <a:xfrm>
            <a:off x="6084720" y="2565360"/>
            <a:ext cx="43200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Oval 70"/>
          <p:cNvSpPr/>
          <p:nvPr/>
        </p:nvSpPr>
        <p:spPr>
          <a:xfrm>
            <a:off x="5148360" y="1125360"/>
            <a:ext cx="43164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Oval 71"/>
          <p:cNvSpPr/>
          <p:nvPr/>
        </p:nvSpPr>
        <p:spPr>
          <a:xfrm>
            <a:off x="8712360" y="2492280"/>
            <a:ext cx="43164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Oval 72"/>
          <p:cNvSpPr/>
          <p:nvPr/>
        </p:nvSpPr>
        <p:spPr>
          <a:xfrm>
            <a:off x="6804000" y="5661000"/>
            <a:ext cx="43200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Oval 73"/>
          <p:cNvSpPr/>
          <p:nvPr/>
        </p:nvSpPr>
        <p:spPr>
          <a:xfrm>
            <a:off x="8532720" y="4149720"/>
            <a:ext cx="432000" cy="43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Oval 74"/>
          <p:cNvSpPr/>
          <p:nvPr/>
        </p:nvSpPr>
        <p:spPr>
          <a:xfrm>
            <a:off x="8532720" y="5589720"/>
            <a:ext cx="432000" cy="43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Oval 75"/>
          <p:cNvSpPr/>
          <p:nvPr/>
        </p:nvSpPr>
        <p:spPr>
          <a:xfrm>
            <a:off x="6948360" y="1125360"/>
            <a:ext cx="43200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Oval 76"/>
          <p:cNvSpPr/>
          <p:nvPr/>
        </p:nvSpPr>
        <p:spPr>
          <a:xfrm>
            <a:off x="8712360" y="1125360"/>
            <a:ext cx="43164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Oval 77"/>
          <p:cNvSpPr/>
          <p:nvPr/>
        </p:nvSpPr>
        <p:spPr>
          <a:xfrm>
            <a:off x="1763640" y="4221000"/>
            <a:ext cx="432000" cy="432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Oval 78"/>
          <p:cNvSpPr/>
          <p:nvPr/>
        </p:nvSpPr>
        <p:spPr>
          <a:xfrm>
            <a:off x="1692360" y="5877000"/>
            <a:ext cx="431640" cy="43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Oval 79"/>
          <p:cNvSpPr/>
          <p:nvPr/>
        </p:nvSpPr>
        <p:spPr>
          <a:xfrm>
            <a:off x="6227640" y="5734080"/>
            <a:ext cx="432000" cy="43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7" name="Picture 80" descr="File0007"/>
          <p:cNvPicPr/>
          <p:nvPr/>
        </p:nvPicPr>
        <p:blipFill>
          <a:blip r:embed="rId10"/>
          <a:stretch/>
        </p:blipFill>
        <p:spPr>
          <a:xfrm>
            <a:off x="2340000" y="3933720"/>
            <a:ext cx="1219320" cy="1071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1" descr="File0010"/>
          <p:cNvPicPr/>
          <p:nvPr/>
        </p:nvPicPr>
        <p:blipFill>
          <a:blip r:embed="rId11"/>
          <a:stretch/>
        </p:blipFill>
        <p:spPr>
          <a:xfrm>
            <a:off x="539640" y="836640"/>
            <a:ext cx="990720" cy="8319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2" descr="File0011"/>
          <p:cNvPicPr/>
          <p:nvPr/>
        </p:nvPicPr>
        <p:blipFill>
          <a:blip r:embed="rId12"/>
          <a:stretch/>
        </p:blipFill>
        <p:spPr>
          <a:xfrm>
            <a:off x="5724360" y="765000"/>
            <a:ext cx="1352880" cy="1103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3" descr="File0017"/>
          <p:cNvPicPr/>
          <p:nvPr/>
        </p:nvPicPr>
        <p:blipFill>
          <a:blip r:embed="rId13"/>
          <a:stretch/>
        </p:blipFill>
        <p:spPr>
          <a:xfrm>
            <a:off x="6732720" y="2205000"/>
            <a:ext cx="1998360" cy="11365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84" descr="File0002"/>
          <p:cNvPicPr/>
          <p:nvPr/>
        </p:nvPicPr>
        <p:blipFill>
          <a:blip r:embed="rId14"/>
          <a:stretch/>
        </p:blipFill>
        <p:spPr>
          <a:xfrm>
            <a:off x="4788000" y="2349360"/>
            <a:ext cx="1352520" cy="10558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5" descr="File0013"/>
          <p:cNvPicPr/>
          <p:nvPr/>
        </p:nvPicPr>
        <p:blipFill>
          <a:blip r:embed="rId15"/>
          <a:stretch/>
        </p:blipFill>
        <p:spPr>
          <a:xfrm>
            <a:off x="4067280" y="5445000"/>
            <a:ext cx="1276200" cy="11034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6" descr="File0016"/>
          <p:cNvPicPr/>
          <p:nvPr/>
        </p:nvPicPr>
        <p:blipFill>
          <a:blip r:embed="rId16"/>
          <a:stretch/>
        </p:blipFill>
        <p:spPr>
          <a:xfrm>
            <a:off x="5867280" y="3789360"/>
            <a:ext cx="855720" cy="10717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87"/>
          <p:cNvSpPr/>
          <p:nvPr/>
        </p:nvSpPr>
        <p:spPr>
          <a:xfrm flipH="1" flipV="1">
            <a:off x="2342520" y="5517360"/>
            <a:ext cx="150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Rectangle 88"/>
          <p:cNvSpPr/>
          <p:nvPr/>
        </p:nvSpPr>
        <p:spPr>
          <a:xfrm>
            <a:off x="2124000" y="5445000"/>
            <a:ext cx="158436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Rectangle 89"/>
          <p:cNvSpPr/>
          <p:nvPr/>
        </p:nvSpPr>
        <p:spPr>
          <a:xfrm>
            <a:off x="611280" y="5445000"/>
            <a:ext cx="1152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7" name="Picture 92" descr="File0016"/>
          <p:cNvPicPr/>
          <p:nvPr/>
        </p:nvPicPr>
        <p:blipFill>
          <a:blip r:embed="rId17"/>
          <a:stretch/>
        </p:blipFill>
        <p:spPr>
          <a:xfrm>
            <a:off x="611280" y="5445000"/>
            <a:ext cx="452520" cy="567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3" descr="File0016"/>
          <p:cNvPicPr/>
          <p:nvPr/>
        </p:nvPicPr>
        <p:blipFill>
          <a:blip r:embed="rId18"/>
          <a:stretch/>
        </p:blipFill>
        <p:spPr>
          <a:xfrm>
            <a:off x="1332000" y="5445000"/>
            <a:ext cx="452520" cy="567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4" descr="File0016"/>
          <p:cNvPicPr/>
          <p:nvPr/>
        </p:nvPicPr>
        <p:blipFill>
          <a:blip r:embed="rId19"/>
          <a:stretch/>
        </p:blipFill>
        <p:spPr>
          <a:xfrm>
            <a:off x="971640" y="6093000"/>
            <a:ext cx="452520" cy="566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5" descr="File0014"/>
          <p:cNvPicPr/>
          <p:nvPr/>
        </p:nvPicPr>
        <p:blipFill>
          <a:blip r:embed="rId20"/>
          <a:stretch/>
        </p:blipFill>
        <p:spPr>
          <a:xfrm>
            <a:off x="5724360" y="5445000"/>
            <a:ext cx="1162080" cy="8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обж_008"/>
          <p:cNvPicPr/>
          <p:nvPr/>
        </p:nvPicPr>
        <p:blipFill>
          <a:blip r:embed="rId1"/>
          <a:stretch/>
        </p:blipFill>
        <p:spPr>
          <a:xfrm>
            <a:off x="5319720" y="1638360"/>
            <a:ext cx="3333600" cy="44384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7"/>
          <p:cNvSpPr/>
          <p:nvPr/>
        </p:nvSpPr>
        <p:spPr>
          <a:xfrm>
            <a:off x="584280" y="1900080"/>
            <a:ext cx="432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1863 году в Швейцар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Анри Дюнаном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был учрежден «Международный комитет помощи раненным». Эта дата считается днем рождения Международного Комитета Красного Креста (МККК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AutoShape 8"/>
          <p:cNvSpPr/>
          <p:nvPr/>
        </p:nvSpPr>
        <p:spPr>
          <a:xfrm>
            <a:off x="2733840" y="3227400"/>
            <a:ext cx="428400" cy="471600"/>
          </a:xfrm>
          <a:prstGeom prst="downArrow">
            <a:avLst>
              <a:gd name="adj1" fmla="val 50000"/>
              <a:gd name="adj2" fmla="val 27521"/>
            </a:avLst>
          </a:prstGeom>
          <a:solidFill>
            <a:srgbClr val="f907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612720" y="3792600"/>
            <a:ext cx="432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вгуст 1864 года – 16 стран подписали Женевскую конвенцию об облегчении участи раненных и больных воинов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AutoShape 10"/>
          <p:cNvSpPr/>
          <p:nvPr/>
        </p:nvSpPr>
        <p:spPr>
          <a:xfrm>
            <a:off x="2716200" y="4743360"/>
            <a:ext cx="428760" cy="471600"/>
          </a:xfrm>
          <a:prstGeom prst="downArrow">
            <a:avLst>
              <a:gd name="adj1" fmla="val 50000"/>
              <a:gd name="adj2" fmla="val 27498"/>
            </a:avLst>
          </a:prstGeom>
          <a:solidFill>
            <a:srgbClr val="f907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633240" y="5337000"/>
            <a:ext cx="42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арождение международного движен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395280" y="836640"/>
            <a:ext cx="82090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468360" y="6237360"/>
            <a:ext cx="828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4"/>
          <p:cNvSpPr/>
          <p:nvPr/>
        </p:nvSpPr>
        <p:spPr>
          <a:xfrm>
            <a:off x="843120" y="54288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История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здания РОК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603360" y="1986120"/>
            <a:ext cx="397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5 мая 1867 года Александр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утвердил первый Устав Общества попечения о раненых и больных воинах, которое в 1879 году было переименовано в Российское общество Красного Креста (РОКК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2490840" y="4452840"/>
            <a:ext cx="428400" cy="471600"/>
          </a:xfrm>
          <a:prstGeom prst="downArrow">
            <a:avLst>
              <a:gd name="adj1" fmla="val 50000"/>
              <a:gd name="adj2" fmla="val 27521"/>
            </a:avLst>
          </a:prstGeom>
          <a:solidFill>
            <a:srgbClr val="f907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581040" y="5013360"/>
            <a:ext cx="3973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звитие движе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расного Креста в Росс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6" descr="250px-Alex2"/>
          <p:cNvPicPr/>
          <p:nvPr/>
        </p:nvPicPr>
        <p:blipFill>
          <a:blip r:embed="rId1"/>
          <a:stretch/>
        </p:blipFill>
        <p:spPr>
          <a:xfrm>
            <a:off x="5365800" y="1662120"/>
            <a:ext cx="3190680" cy="4429080"/>
          </a:xfrm>
          <a:prstGeom prst="rect">
            <a:avLst/>
          </a:prstGeom>
          <a:ln w="0">
            <a:noFill/>
          </a:ln>
        </p:spPr>
      </p:pic>
      <p:sp>
        <p:nvSpPr>
          <p:cNvPr id="364" name="Line 7"/>
          <p:cNvSpPr/>
          <p:nvPr/>
        </p:nvSpPr>
        <p:spPr>
          <a:xfrm>
            <a:off x="539640" y="6381720"/>
            <a:ext cx="8064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843120" y="54288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Деятельност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1643040" y="771480"/>
            <a:ext cx="785880" cy="1886040"/>
          </a:xfrm>
          <a:custGeom>
            <a:avLst/>
            <a:gdLst>
              <a:gd name="textAreaLeft" fmla="*/ 105120 w 785880"/>
              <a:gd name="textAreaRight" fmla="*/ 680760 w 785880"/>
              <a:gd name="textAreaTop" fmla="*/ 330120 h 1886040"/>
              <a:gd name="textAreaBottom" fmla="*/ 1367640 h 18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907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AutoShape 6"/>
          <p:cNvSpPr/>
          <p:nvPr/>
        </p:nvSpPr>
        <p:spPr>
          <a:xfrm flipH="1">
            <a:off x="6744600" y="787320"/>
            <a:ext cx="785880" cy="1886040"/>
          </a:xfrm>
          <a:custGeom>
            <a:avLst/>
            <a:gdLst>
              <a:gd name="textAreaLeft" fmla="*/ 105120 w 785880"/>
              <a:gd name="textAreaRight" fmla="*/ 680760 w 785880"/>
              <a:gd name="textAreaTop" fmla="*/ 330120 h 1886040"/>
              <a:gd name="textAreaBottom" fmla="*/ 1367640 h 18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907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5315040" y="2014560"/>
            <a:ext cx="1371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8c3"/>
                </a:solidFill>
                <a:uFillTx/>
                <a:latin typeface="Verdana"/>
                <a:hlinkClick r:id="rId1" action="ppaction://hlinksldjump"/>
              </a:rPr>
              <a:t>В мирное врем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2457360" y="2014560"/>
            <a:ext cx="16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военное врем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AutoShape 9"/>
          <p:cNvSpPr/>
          <p:nvPr/>
        </p:nvSpPr>
        <p:spPr>
          <a:xfrm>
            <a:off x="2771640" y="2714760"/>
            <a:ext cx="428760" cy="471240"/>
          </a:xfrm>
          <a:prstGeom prst="downArrow">
            <a:avLst>
              <a:gd name="adj1" fmla="val 50000"/>
              <a:gd name="adj2" fmla="val 27477"/>
            </a:avLst>
          </a:prstGeom>
          <a:solidFill>
            <a:srgbClr val="f907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1217520" y="3230640"/>
            <a:ext cx="34149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Уход за ранеными, посещение военнопленных и лиц, задержанных по соображениям безопасности, восстановление связей между разъединенными семьями, обеспечение защиты гражданского населения и предоставления жертвам конфликта продуктов питания и другой помощ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5286240" y="3400560"/>
            <a:ext cx="255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Line 14"/>
          <p:cNvSpPr/>
          <p:nvPr/>
        </p:nvSpPr>
        <p:spPr>
          <a:xfrm>
            <a:off x="571680" y="6172200"/>
            <a:ext cx="7957800" cy="0"/>
          </a:xfrm>
          <a:prstGeom prst="line">
            <a:avLst/>
          </a:prstGeom>
          <a:ln w="19080">
            <a:solidFill>
              <a:srgbClr val="f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Line 12"/>
          <p:cNvSpPr/>
          <p:nvPr/>
        </p:nvSpPr>
        <p:spPr>
          <a:xfrm>
            <a:off x="3419640" y="3141720"/>
            <a:ext cx="5473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6"/>
          <p:cNvSpPr/>
          <p:nvPr/>
        </p:nvSpPr>
        <p:spPr>
          <a:xfrm>
            <a:off x="592200" y="500040"/>
            <a:ext cx="470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90707"/>
                </a:solidFill>
                <a:latin typeface="Wingdings 2"/>
                <a:ea typeface="Wingdings 2"/>
              </a:rPr>
              <a:t>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казание гуманитарной помощи детям из социально-незащищенных семе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6" name="Picture 7" descr="ОБЖ_(8)6"/>
          <p:cNvPicPr/>
          <p:nvPr/>
        </p:nvPicPr>
        <p:blipFill>
          <a:blip r:embed="rId1"/>
          <a:stretch/>
        </p:blipFill>
        <p:spPr>
          <a:xfrm>
            <a:off x="6013440" y="542880"/>
            <a:ext cx="2325600" cy="151308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8"/>
          <p:cNvSpPr/>
          <p:nvPr/>
        </p:nvSpPr>
        <p:spPr>
          <a:xfrm>
            <a:off x="582480" y="1957320"/>
            <a:ext cx="4702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90707"/>
                </a:solidFill>
                <a:latin typeface="Wingdings 2"/>
                <a:ea typeface="Wingdings 2"/>
              </a:rPr>
              <a:t>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лужба милосердия Красного Крест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/оказание помощи пожилым и одиноким людям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8" name="Picture 9" descr="ОБЖ_(11)4"/>
          <p:cNvPicPr/>
          <p:nvPr/>
        </p:nvPicPr>
        <p:blipFill>
          <a:blip r:embed="rId2"/>
          <a:stretch/>
        </p:blipFill>
        <p:spPr>
          <a:xfrm>
            <a:off x="5977080" y="2338560"/>
            <a:ext cx="2334960" cy="146664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10"/>
          <p:cNvSpPr/>
          <p:nvPr/>
        </p:nvSpPr>
        <p:spPr>
          <a:xfrm>
            <a:off x="743040" y="3429000"/>
            <a:ext cx="400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582480" y="3429000"/>
            <a:ext cx="47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90707"/>
                </a:solidFill>
                <a:latin typeface="Wingdings 2"/>
                <a:ea typeface="Wingdings 2"/>
              </a:rPr>
              <a:t></a:t>
            </a:r>
            <a:r>
              <a:rPr b="0" lang="ru-RU" sz="1800" spc="-1" strike="noStrike">
                <a:solidFill>
                  <a:srgbClr val="f90707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филактика наркомании, ВИЧ/СПИДа и туберкулез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1" name="Picture 13" descr="ОБЖ_(13)2"/>
          <p:cNvPicPr/>
          <p:nvPr/>
        </p:nvPicPr>
        <p:blipFill>
          <a:blip r:embed="rId3"/>
          <a:stretch/>
        </p:blipFill>
        <p:spPr>
          <a:xfrm>
            <a:off x="5983200" y="4181400"/>
            <a:ext cx="2327400" cy="16668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14"/>
          <p:cNvSpPr/>
          <p:nvPr/>
        </p:nvSpPr>
        <p:spPr>
          <a:xfrm>
            <a:off x="522360" y="4856040"/>
            <a:ext cx="47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90707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90707"/>
                </a:solidFill>
                <a:latin typeface="Wingdings 2"/>
                <a:ea typeface="Wingdings 2"/>
              </a:rPr>
              <a:t>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грамма развития донорств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522360" y="5629320"/>
            <a:ext cx="47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90707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90707"/>
                </a:solidFill>
                <a:latin typeface="Wingdings 2"/>
                <a:ea typeface="Wingdings 2"/>
              </a:rPr>
              <a:t></a:t>
            </a:r>
            <a:r>
              <a:rPr b="0" lang="ru-RU" sz="1800" spc="-1" strike="noStrike">
                <a:solidFill>
                  <a:srgbClr val="f90707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грамма «Первая помощь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Line 16"/>
          <p:cNvSpPr/>
          <p:nvPr/>
        </p:nvSpPr>
        <p:spPr>
          <a:xfrm>
            <a:off x="571680" y="6172200"/>
            <a:ext cx="7957800" cy="0"/>
          </a:xfrm>
          <a:prstGeom prst="line">
            <a:avLst/>
          </a:prstGeom>
          <a:ln w="19080">
            <a:solidFill>
              <a:srgbClr val="f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476360" cy="260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 войны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2279520" y="18900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9900"/>
                </a:solidFill>
                <a:uFillTx/>
                <a:latin typeface="Verdana"/>
              </a:rPr>
              <a:t>Формы международно-правовой ответственност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179280" y="768240"/>
            <a:ext cx="878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еждународное право предусматривает ответственность  государств и отдельных лиц (уголовное наказание), нарушивших правила ведения войн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1835280" y="1700280"/>
            <a:ext cx="5041800" cy="360360"/>
          </a:xfrm>
          <a:prstGeom prst="rect">
            <a:avLst/>
          </a:prstGeom>
          <a:solidFill>
            <a:srgbClr val="6ea0b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Формы международно-правовой ответственности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1332000" y="2276640"/>
            <a:ext cx="1584360" cy="582480"/>
          </a:xfrm>
          <a:prstGeom prst="rect">
            <a:avLst/>
          </a:prstGeom>
          <a:solidFill>
            <a:srgbClr val="6ea0b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Политическая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5796000" y="2276640"/>
            <a:ext cx="1655640" cy="582480"/>
          </a:xfrm>
          <a:prstGeom prst="rect">
            <a:avLst/>
          </a:prstGeom>
          <a:solidFill>
            <a:srgbClr val="6ea0b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Материальная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1332000" y="2997360"/>
            <a:ext cx="3024000" cy="1800000"/>
          </a:xfrm>
          <a:prstGeom prst="rect">
            <a:avLst/>
          </a:prstGeom>
          <a:solidFill>
            <a:srgbClr val="6ea0b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1332000" y="3068640"/>
            <a:ext cx="304488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Санкции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Индивидуальные и коллективные принудительные меры, применяемые для предупреждения или в качестве ответной меры на совершённое международное правовое деяние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4427640" y="2997360"/>
            <a:ext cx="3024000" cy="1800000"/>
          </a:xfrm>
          <a:prstGeom prst="rect">
            <a:avLst/>
          </a:prstGeom>
          <a:solidFill>
            <a:srgbClr val="6ea0b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4427640" y="3068640"/>
            <a:ext cx="302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Репарации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Возмещение причиненного материального ущерба государством-агрессором натурой или деньгами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Rectangle 13"/>
          <p:cNvSpPr/>
          <p:nvPr/>
        </p:nvSpPr>
        <p:spPr>
          <a:xfrm>
            <a:off x="1332000" y="4941720"/>
            <a:ext cx="3024000" cy="1729080"/>
          </a:xfrm>
          <a:prstGeom prst="rect">
            <a:avLst/>
          </a:prstGeom>
          <a:solidFill>
            <a:srgbClr val="6ea0b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1247760" y="5019840"/>
            <a:ext cx="310824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Сатисфакция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Предоставление удовлетворения пострадавшему государству (выражения сожаления, публичное извинение, наказание виновных, оказание особых почестей)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Rectangle 15"/>
          <p:cNvSpPr/>
          <p:nvPr/>
        </p:nvSpPr>
        <p:spPr>
          <a:xfrm>
            <a:off x="4427640" y="4941720"/>
            <a:ext cx="3024000" cy="1729080"/>
          </a:xfrm>
          <a:prstGeom prst="rect">
            <a:avLst/>
          </a:prstGeom>
          <a:solidFill>
            <a:srgbClr val="6ea0b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4427640" y="5013360"/>
            <a:ext cx="310824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Реституции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Возврат в натуре имущества, неправомерного изъятого и вывезенного воюющим государством с территории противника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9" name="Group 22"/>
          <p:cNvGrpSpPr/>
          <p:nvPr/>
        </p:nvGrpSpPr>
        <p:grpSpPr>
          <a:xfrm>
            <a:off x="971280" y="2565360"/>
            <a:ext cx="360360" cy="3311640"/>
            <a:chOff x="971280" y="2565360"/>
            <a:chExt cx="360360" cy="3311640"/>
          </a:xfrm>
        </p:grpSpPr>
        <p:sp>
          <p:nvSpPr>
            <p:cNvPr id="400" name="Line 18"/>
            <p:cNvSpPr/>
            <p:nvPr/>
          </p:nvSpPr>
          <p:spPr>
            <a:xfrm flipH="1">
              <a:off x="971280" y="587700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1" name="Line 19"/>
            <p:cNvSpPr/>
            <p:nvPr/>
          </p:nvSpPr>
          <p:spPr>
            <a:xfrm flipH="1">
              <a:off x="971280" y="393372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2" name="Line 20"/>
            <p:cNvSpPr/>
            <p:nvPr/>
          </p:nvSpPr>
          <p:spPr>
            <a:xfrm flipH="1">
              <a:off x="971280" y="256536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3" name="Line 21"/>
            <p:cNvSpPr/>
            <p:nvPr/>
          </p:nvSpPr>
          <p:spPr>
            <a:xfrm>
              <a:off x="971640" y="2565360"/>
              <a:ext cx="0" cy="331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04" name="Line 28"/>
          <p:cNvSpPr/>
          <p:nvPr/>
        </p:nvSpPr>
        <p:spPr>
          <a:xfrm flipH="1">
            <a:off x="971280" y="5877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5" name="Group 33"/>
          <p:cNvGrpSpPr/>
          <p:nvPr/>
        </p:nvGrpSpPr>
        <p:grpSpPr>
          <a:xfrm>
            <a:off x="7451280" y="2565360"/>
            <a:ext cx="360720" cy="3240000"/>
            <a:chOff x="7451280" y="2565360"/>
            <a:chExt cx="360720" cy="3240000"/>
          </a:xfrm>
        </p:grpSpPr>
        <p:sp>
          <p:nvSpPr>
            <p:cNvPr id="406" name="Line 29"/>
            <p:cNvSpPr/>
            <p:nvPr/>
          </p:nvSpPr>
          <p:spPr>
            <a:xfrm flipH="1">
              <a:off x="7451280" y="256536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7" name="Line 30"/>
            <p:cNvSpPr/>
            <p:nvPr/>
          </p:nvSpPr>
          <p:spPr>
            <a:xfrm flipH="1">
              <a:off x="7451280" y="386064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8" name="Line 31"/>
            <p:cNvSpPr/>
            <p:nvPr/>
          </p:nvSpPr>
          <p:spPr>
            <a:xfrm flipH="1">
              <a:off x="7451280" y="580536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9" name="Line 32"/>
            <p:cNvSpPr/>
            <p:nvPr/>
          </p:nvSpPr>
          <p:spPr>
            <a:xfrm>
              <a:off x="7812000" y="2565360"/>
              <a:ext cx="0" cy="324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10" name="Line 36"/>
          <p:cNvSpPr/>
          <p:nvPr/>
        </p:nvSpPr>
        <p:spPr>
          <a:xfrm flipH="1">
            <a:off x="2916000" y="2060640"/>
            <a:ext cx="93492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Line 37"/>
          <p:cNvSpPr/>
          <p:nvPr/>
        </p:nvSpPr>
        <p:spPr>
          <a:xfrm flipH="1" flipV="1">
            <a:off x="4859280" y="2060280"/>
            <a:ext cx="93672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476360" cy="260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 войны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611280" y="333360"/>
            <a:ext cx="8280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Verdana"/>
              </a:rPr>
              <a:t>Международное гуманитарное право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«право войны»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то совокупность норм, применяемых воюющими сторонами в ходе вооружённого конфликта/войны, которые призва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971640" y="3500280"/>
            <a:ext cx="201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граничить средства и методы ведения вой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6172200" y="19162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гласовать военную необходимость с требованиями гуманност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5940360" y="3645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щитить жертвы вооружённых конфликт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2916360" y="508464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вести границу между тем, что разрешено и тем, что запрещено в вооружённой борьб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108000" y="1844640"/>
            <a:ext cx="217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легчить, насколько это возможно, бедствия вой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3" name="Picture 9" descr="{B9CA4355-D394-46F9-A616-83E6E41EAB12}"/>
          <p:cNvPicPr/>
          <p:nvPr/>
        </p:nvPicPr>
        <p:blipFill>
          <a:blip r:embed="rId1"/>
          <a:stretch/>
        </p:blipFill>
        <p:spPr>
          <a:xfrm>
            <a:off x="3132000" y="1989000"/>
            <a:ext cx="2656080" cy="262584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285840"/>
            <a:ext cx="822960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Война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– это организованная вооруженная борьба между самостоятельными независимыми суверенными государствами. Если между ними идут боевые действия, а состояние войны при этом не объявляется, то это </a:t>
            </a:r>
            <a:r>
              <a:rPr b="0" lang="ru-RU" sz="2600" spc="-1" strike="noStrike" u="sng">
                <a:solidFill>
                  <a:srgbClr val="ffff00"/>
                </a:solidFill>
                <a:uFillTx/>
                <a:latin typeface="Arial"/>
              </a:rPr>
              <a:t>международный вооруженный конфликт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Конфликт является </a:t>
            </a:r>
            <a:r>
              <a:rPr b="0" lang="ru-RU" sz="2600" spc="-1" strike="noStrike" u="sng">
                <a:solidFill>
                  <a:srgbClr val="ffff00"/>
                </a:solidFill>
                <a:uFillTx/>
                <a:latin typeface="Arial"/>
              </a:rPr>
              <a:t>немеждународным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 когда на территории какого-либо государства происходит столкновение между правительственными войсками и оппозиционными организованными вооруженными группами, находящимися под ответственным командованием и контролирующими часть территори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476360" cy="260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 войны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476360" y="333360"/>
            <a:ext cx="7272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9900"/>
                </a:solidFill>
                <a:uFillTx/>
                <a:latin typeface="Verdana"/>
              </a:rPr>
              <a:t>Конвенция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– международное соглашени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обязательно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для исполнения тем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сударствами, которые её подписал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радиционно существует две группы соглашений в рамках «Права войны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275120" y="4076640"/>
            <a:ext cx="302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9900"/>
                </a:solidFill>
                <a:uFillTx/>
                <a:latin typeface="Verdana"/>
              </a:rPr>
              <a:t>Гаагские конвенц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1907г.,  13 соглашений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гулируют в цело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авила ведения боевы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ействий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954г. – о защит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ультурных ценност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874400" y="4076640"/>
            <a:ext cx="3899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9900"/>
                </a:solidFill>
                <a:uFillTx/>
                <a:latin typeface="Verdana"/>
              </a:rPr>
              <a:t>Женевские конвенц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1949г., 4 соглаш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977г., 2 дополнит. протокола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держат положения 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щите жертв вооружённы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фликтов: военнопленных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неных, больных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терпевших кораблекрушени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гибши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AutoShape 8"/>
          <p:cNvSpPr/>
          <p:nvPr/>
        </p:nvSpPr>
        <p:spPr>
          <a:xfrm rot="5400000">
            <a:off x="1512720" y="2168280"/>
            <a:ext cx="863640" cy="1657440"/>
          </a:xfrm>
          <a:custGeom>
            <a:avLst/>
            <a:gdLst>
              <a:gd name="textAreaLeft" fmla="*/ 151200 w 863640"/>
              <a:gd name="textAreaRight" fmla="*/ 626400 w 863640"/>
              <a:gd name="textAreaTop" fmla="*/ 221760 h 1657440"/>
              <a:gd name="textAreaBottom" fmla="*/ 143568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AutoShape 11"/>
          <p:cNvSpPr/>
          <p:nvPr/>
        </p:nvSpPr>
        <p:spPr>
          <a:xfrm rot="5200200">
            <a:off x="7343280" y="2168280"/>
            <a:ext cx="936720" cy="1584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212040 h 1584360"/>
              <a:gd name="textAreaBottom" fmla="*/ 1372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549360" y="804960"/>
            <a:ext cx="8161200" cy="16095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28400" y="1857240"/>
            <a:ext cx="842940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 Женевская конвенция об улучшении участи раненых и больных в действующих армиях от 12 августа 1949 г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I Женевская конвенция об улучшении участи раненых, больных и лиц, потерпевших кораблекрушение, из состава вооруженных сил на море от 12 августа 1949 г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II Женевская конвенция об обращении с военнопленными от 12 августа 1949 г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V Женевская конвенция о защите гражданского населения во время войны от 12 августа 1949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В 1977 г. положения этих конвенций были расширены двумя дополнительными протоколам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ополнительный протокол к Женевским конвенциям от 12 августа 1949 г., касающийся защиты жертв международных вооруженных конфликтов (Протокол I) от 8 июня 1977 г.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ополнительный протокол к Женевским конвенциям от 12 августа 1949 г., касающийся защиты жертв вооруженных конфликтов немеждународного характера (Протокол II) от 8 июня 1977 г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476360" cy="260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 войны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390040" y="163440"/>
            <a:ext cx="54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9900"/>
                </a:solidFill>
                <a:uFillTx/>
                <a:latin typeface="Verdana"/>
              </a:rPr>
              <a:t>Ограничения ведения военных действ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2411280" y="1197000"/>
            <a:ext cx="482472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408"/>
                </a:solidFill>
                <a:latin typeface="Verdana"/>
              </a:rPr>
              <a:t>Основные типы ограничений ведения военных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408"/>
                </a:solidFill>
                <a:latin typeface="Verdana"/>
              </a:rPr>
              <a:t>действий в международном гуманитарном прав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AutoShape 6"/>
          <p:cNvSpPr/>
          <p:nvPr/>
        </p:nvSpPr>
        <p:spPr>
          <a:xfrm rot="6850200">
            <a:off x="2304360" y="2528280"/>
            <a:ext cx="1008000" cy="50472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AutoShape 7"/>
          <p:cNvSpPr/>
          <p:nvPr/>
        </p:nvSpPr>
        <p:spPr>
          <a:xfrm rot="5400000">
            <a:off x="4249080" y="2672640"/>
            <a:ext cx="1008000" cy="50472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AutoShape 8"/>
          <p:cNvSpPr/>
          <p:nvPr/>
        </p:nvSpPr>
        <p:spPr>
          <a:xfrm rot="4099200">
            <a:off x="5975640" y="2527920"/>
            <a:ext cx="1008000" cy="50508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1332000" y="3357720"/>
            <a:ext cx="2087640" cy="3024000"/>
          </a:xfrm>
          <a:custGeom>
            <a:avLst/>
            <a:gdLst>
              <a:gd name="textAreaLeft" fmla="*/ 101880 w 2087640"/>
              <a:gd name="textAreaRight" fmla="*/ 1985760 w 2087640"/>
              <a:gd name="textAreaTop" fmla="*/ 101880 h 3024000"/>
              <a:gd name="textAreaBottom" fmla="*/ 2922120 h 3024000"/>
            </a:gdLst>
            <a:ahLst/>
            <a:rect l="textAreaLeft" t="textAreaTop" r="textAreaRight" b="textAreaBottom"/>
            <a:pathLst>
              <a:path w="21600" h="31286">
                <a:moveTo>
                  <a:pt x="3600" y="0"/>
                </a:moveTo>
                <a:arcTo wR="3600" hR="3600" stAng="16200000" swAng="-5400000"/>
                <a:lnTo>
                  <a:pt x="0" y="27686"/>
                </a:lnTo>
                <a:arcTo wR="3600" hR="3600" stAng="10800000" swAng="-5400000"/>
                <a:lnTo>
                  <a:pt x="18000" y="312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ea0b0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AutoShape 10"/>
          <p:cNvSpPr/>
          <p:nvPr/>
        </p:nvSpPr>
        <p:spPr>
          <a:xfrm>
            <a:off x="3708360" y="3500280"/>
            <a:ext cx="2016000" cy="302436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3024360"/>
              <a:gd name="textAreaBottom" fmla="*/ 2926080 h 3024360"/>
            </a:gdLst>
            <a:ahLst/>
            <a:rect l="textAreaLeft" t="textAreaTop" r="textAreaRight" b="textAreaBottom"/>
            <a:pathLst>
              <a:path w="21600" h="32402">
                <a:moveTo>
                  <a:pt x="3600" y="0"/>
                </a:moveTo>
                <a:arcTo wR="3600" hR="3600" stAng="16200000" swAng="-5400000"/>
                <a:lnTo>
                  <a:pt x="0" y="28802"/>
                </a:lnTo>
                <a:arcTo wR="3600" hR="3600" stAng="10800000" swAng="-5400000"/>
                <a:lnTo>
                  <a:pt x="18000" y="324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ea0b0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AutoShape 11"/>
          <p:cNvSpPr/>
          <p:nvPr/>
        </p:nvSpPr>
        <p:spPr>
          <a:xfrm>
            <a:off x="6012000" y="3357720"/>
            <a:ext cx="2089080" cy="302400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3024000"/>
              <a:gd name="textAreaBottom" fmla="*/ 2922120 h 3024000"/>
            </a:gdLst>
            <a:ahLst/>
            <a:rect l="textAreaLeft" t="textAreaTop" r="textAreaRight" b="textAreaBottom"/>
            <a:pathLst>
              <a:path w="21600" h="31265">
                <a:moveTo>
                  <a:pt x="3600" y="0"/>
                </a:moveTo>
                <a:arcTo wR="3600" hR="3600" stAng="16200000" swAng="-5400000"/>
                <a:lnTo>
                  <a:pt x="0" y="27665"/>
                </a:lnTo>
                <a:arcTo wR="3600" hR="3600" stAng="10800000" swAng="-5400000"/>
                <a:lnTo>
                  <a:pt x="18000" y="312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ea0b0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1322640" y="3645000"/>
            <a:ext cx="214056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Ограничение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 </a:t>
            </a: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по лицам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Гражданское население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пользуется общей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защитой от опасностей,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возникающих в связи с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военными операциями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6104520" y="3716280"/>
            <a:ext cx="196848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Ограничение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по объектам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нападения должны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быть строго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ограничены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военными объектами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3740040" y="3573360"/>
            <a:ext cx="20066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Ограничения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по средствам и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методам ведения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408"/>
                </a:solidFill>
                <a:uFillTx/>
                <a:latin typeface="Verdana"/>
              </a:rPr>
              <a:t>военных действий</a:t>
            </a:r>
            <a:r>
              <a:rPr b="1" i="1" lang="ru-RU" sz="1300" spc="-1" strike="noStrike">
                <a:solidFill>
                  <a:srgbClr val="000408"/>
                </a:solidFill>
                <a:latin typeface="Verdana"/>
              </a:rPr>
              <a:t>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запрещается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использовать оружие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или методы ведения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военных действий,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способные причинить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408"/>
                </a:solidFill>
                <a:latin typeface="Verdana"/>
              </a:rPr>
              <a:t>излишний вред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476360" cy="260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 войны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087280" y="163440"/>
            <a:ext cx="538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9900"/>
                </a:solidFill>
                <a:uFillTx/>
                <a:latin typeface="Verdana"/>
              </a:rPr>
              <a:t>Правила поведения комбатантов в бою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8" name="Picture 4" descr="Обж 00 3 3"/>
          <p:cNvPicPr/>
          <p:nvPr/>
        </p:nvPicPr>
        <p:blipFill>
          <a:blip r:embed="rId1"/>
          <a:stretch/>
        </p:blipFill>
        <p:spPr>
          <a:xfrm>
            <a:off x="428760" y="836640"/>
            <a:ext cx="2065320" cy="2808360"/>
          </a:xfrm>
          <a:prstGeom prst="rect">
            <a:avLst/>
          </a:prstGeom>
          <a:ln w="63360">
            <a:solidFill>
              <a:srgbClr val="ff6600"/>
            </a:solidFill>
            <a:miter/>
          </a:ln>
        </p:spPr>
      </p:pic>
      <p:pic>
        <p:nvPicPr>
          <p:cNvPr id="289" name="Picture 5" descr="Обж 00 4 3"/>
          <p:cNvPicPr/>
          <p:nvPr/>
        </p:nvPicPr>
        <p:blipFill>
          <a:blip r:embed="rId2"/>
          <a:stretch/>
        </p:blipFill>
        <p:spPr>
          <a:xfrm>
            <a:off x="2124000" y="3860640"/>
            <a:ext cx="2022480" cy="2781360"/>
          </a:xfrm>
          <a:prstGeom prst="rect">
            <a:avLst/>
          </a:prstGeom>
          <a:ln w="63360">
            <a:solidFill>
              <a:srgbClr val="ff6600"/>
            </a:solidFill>
            <a:miter/>
          </a:ln>
        </p:spPr>
      </p:pic>
      <p:pic>
        <p:nvPicPr>
          <p:cNvPr id="290" name="Picture 6" descr="Обж 00 5 3"/>
          <p:cNvPicPr/>
          <p:nvPr/>
        </p:nvPicPr>
        <p:blipFill>
          <a:blip r:embed="rId3"/>
          <a:stretch/>
        </p:blipFill>
        <p:spPr>
          <a:xfrm>
            <a:off x="3687840" y="907920"/>
            <a:ext cx="2004840" cy="2748240"/>
          </a:xfrm>
          <a:prstGeom prst="rect">
            <a:avLst/>
          </a:prstGeom>
          <a:ln w="63360">
            <a:solidFill>
              <a:srgbClr val="ff6600"/>
            </a:solidFill>
            <a:miter/>
          </a:ln>
        </p:spPr>
      </p:pic>
      <p:pic>
        <p:nvPicPr>
          <p:cNvPr id="291" name="Picture 7" descr="Обж 00 6 3"/>
          <p:cNvPicPr/>
          <p:nvPr/>
        </p:nvPicPr>
        <p:blipFill>
          <a:blip r:embed="rId4"/>
          <a:stretch/>
        </p:blipFill>
        <p:spPr>
          <a:xfrm>
            <a:off x="6804000" y="907920"/>
            <a:ext cx="1938240" cy="2737080"/>
          </a:xfrm>
          <a:prstGeom prst="rect">
            <a:avLst/>
          </a:prstGeom>
          <a:ln w="63360">
            <a:solidFill>
              <a:srgbClr val="ff6600"/>
            </a:solidFill>
            <a:miter/>
          </a:ln>
        </p:spPr>
      </p:pic>
      <p:pic>
        <p:nvPicPr>
          <p:cNvPr id="292" name="Picture 8" descr="Обж 00 7 3"/>
          <p:cNvPicPr/>
          <p:nvPr/>
        </p:nvPicPr>
        <p:blipFill>
          <a:blip r:embed="rId5"/>
          <a:stretch/>
        </p:blipFill>
        <p:spPr>
          <a:xfrm>
            <a:off x="5219640" y="3860640"/>
            <a:ext cx="2021040" cy="2770200"/>
          </a:xfrm>
          <a:prstGeom prst="rect">
            <a:avLst/>
          </a:prstGeom>
          <a:ln w="63360">
            <a:solidFill>
              <a:srgbClr val="ff6600"/>
            </a:solidFill>
            <a:miter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Участники военных действи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Комбатанты (воюющие)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– лица входящие в состав вооруженных сил страны, принимающих непосредственное участие в международном вооруженном конфликте (за исключением медицинского и духовного персонала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6:00:25Z</dcterms:created>
  <dc:creator>Дегтярев А.И.</dc:creator>
  <dc:description/>
  <dc:language>en-US</dc:language>
  <cp:lastModifiedBy>Маргарита Феженко</cp:lastModifiedBy>
  <dcterms:modified xsi:type="dcterms:W3CDTF">2020-04-08T17:27:47Z</dcterms:modified>
  <cp:revision>35</cp:revision>
  <dc:subject/>
  <dc:title>Слайд 1</dc:title>
</cp:coreProperties>
</file>