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5A9-7533-4AFD-B100-473B28EB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CD0-AF43-4E4D-9821-9822FD49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73B-66E6-414E-8AFA-C142AF82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A75-48A6-4BB2-9377-53201585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A28-F80F-421B-A716-E8872683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2C31-DBDD-41D0-937B-AEE2639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6C88-8EEA-4FC6-96A6-ACAAC6E8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730B-2C2B-4A57-BB6B-62220055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AE5C-5F1C-425F-85A9-67530B1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5DC-0E9C-4F63-B1AC-C6DF132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2D5A-989D-4601-9D90-49AA44C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D42-FA9B-47EC-A734-546E82D5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4068-9186-4D43-AB82-A035900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633-0988-4DBF-85F8-5B96391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7585-A7FD-4591-BE3F-11EC17AC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49A1-F952-41E8-B626-562742EE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599B-D8C5-4760-94EE-50F7B1F6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5C59-F617-49D4-B74F-CDB7758E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AC88-6306-4B2B-BBA3-137AA5C6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20A9-59F9-45E5-92F0-FE8732F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71F6-81A1-4857-99EA-F1EB5FA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BCE3-F30C-4E98-B0D1-C3BED6E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DDF-60B2-48C6-863C-633E3AD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E127-A373-4E38-9F64-D159824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4B55-CF6C-4318-AC25-EA6C61FB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FEBE-D5C6-4FF4-A48E-21B751A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D346-A644-439E-AF40-47879FB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06D0-F362-4535-BCF4-12A6941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AC15-E27A-4F15-A468-48B864E5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8F30-EF84-4C3D-ABCD-EFD9927A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A040-4776-4598-8D8E-D5E282B9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9581-DF02-4672-90A3-6F05713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F000-9CBF-4CCC-8431-B04646B3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0C6-4F57-48C0-BB99-D2C16BD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DCBD-0970-4DD0-BC66-184C96D6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8C05-6048-47B0-9840-E4DD8001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2724-7960-4997-9EB2-4E57AEB2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BBCC-7889-4D94-9D30-F7D3630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B1FC-D5D0-4F65-9982-84D0DE3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4AE9-F632-4D54-BAB8-8BA6B4A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1C8B-FDC3-472A-96D1-730EE575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2166-9373-4D65-9A22-02E7EAF6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4915-B585-4795-8E07-E03BCEC5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09BA-59A3-48F6-A64F-F40D3289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E69-980C-4612-A151-1CC2138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C5E4-4456-4A3C-B8F5-9B9BB9FE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A73D-8C53-4AC8-BC1F-A1E5910E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FDFA-A9B1-40B8-9002-3910A00E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AF03-3122-4233-84FB-E30D59D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B27F-0DBE-44B3-BE20-5C280113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3AAF-8A0E-418C-BFB2-E61B38B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5D71-8241-4F5C-B654-CEB71DE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9D4B-C6D0-4F78-8BE2-BD1EBD6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2AEC-65BA-4ED7-B218-B25BAB77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F391-B96C-4A2D-8DC4-338D57F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F29-9420-4A0E-9D21-A71CF81D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594EE-A3CE-4613-92B5-A980B859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85D4-FBBE-42F6-9A9C-148AF213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96A5-5B03-4B45-826F-10D7AB3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F6A0-0730-4A28-A160-1842955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3A7F-CCE2-4CFC-BEEC-52D67781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CCB75-1B7D-4A53-8636-C169C62C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5AB4A-6D72-4C98-8A93-D1BD8DA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0F0F-8CB0-4996-8472-10AE62C7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801C-7991-4C81-BDA6-B9907D07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3198A-4A0B-4654-89CE-414147BD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03C-8055-4B54-B4B9-29BCA5B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F9E18-024D-4B01-A8E8-461A878A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6B12-9946-4381-9CE5-F1DD4B68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6C9B-E5F4-44B7-B1C7-EEA9C6F9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65E-DCC5-4A3C-A40D-B1E7390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9D5-90E2-4809-89B0-AE61AB0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C9F0-E7B5-4F39-800F-870AEA5720B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C5CB-E1E7-4383-AC5E-ACAA35AF57B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9B2F-5975-44D1-8880-3D51A7CF3A8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D7D4-8939-46D7-8E86-B8F43104145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4776-77E0-4A41-8A3C-A3272905CF4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434-E469-44F4-B715-7B1E00EA15B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5.jpeg"/><Relationship Id="rId2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908000" y="3374640"/>
            <a:ext cx="6397920" cy="30783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«Теперь, когда мы уме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летать по небу, как пти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плавать по воде , как рыб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нам осталось одно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научиться жить на Земле, как люд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Бернард  Ш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af0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200160" y="765000"/>
            <a:ext cx="87645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енные аспекты 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ждународного гуманитарного 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арламентёр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это лицо, которое получает полномочия от своего военного командования для ведения переговоров с военным командованием противни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5300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1125360"/>
            <a:ext cx="8246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Медицинский и духовный персонал -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лица из состава военно-медицинской и духовной служб вооруженных сил отвечают за оказание помощи жертвам вооруженного конфликта и не принимают непосредственного участия в боевых действиях. Поэтому они не являются комбатантам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Медицинский и духовный персонал -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ца из состава военно-медицинской и духовной служб вооруженных сил отвечают за оказание помощи жертвам вооруженного конфликта и не принимают непосредственного участия в боевых действиях. Поэтому они не являются комбатант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797920" y="163440"/>
            <a:ext cx="43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Александр Васильевич Суво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3" name="Picture 4" descr="suvorow"/>
          <p:cNvPicPr/>
          <p:nvPr/>
        </p:nvPicPr>
        <p:blipFill>
          <a:blip r:embed="rId1"/>
          <a:stretch/>
        </p:blipFill>
        <p:spPr>
          <a:xfrm>
            <a:off x="468360" y="1916280"/>
            <a:ext cx="3517920" cy="45813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304" name="Text Box 5"/>
          <p:cNvSpPr/>
          <p:nvPr/>
        </p:nvSpPr>
        <p:spPr>
          <a:xfrm>
            <a:off x="716760" y="99540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 войны по-суворовски даже сегодня, спустя два ве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ответствуют международному гуманитарному праву (МГП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409640" y="1700280"/>
            <a:ext cx="416916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…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штурме в дома не забега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приятеля, просящего пощады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щади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безоружного не убива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 бабами не воева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алолетков не трогат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 пленными поступат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человеколюбиво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ыдиться варварств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 меньше оруж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ражать против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человеколюби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бывателям ни малейшей обиды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логи и озлобления не чини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ойна не на них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 на вооружённого неприятел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Воину надлежит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мощь вражескую сокруша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а не безоружных поражать …</a:t>
            </a: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Из приказа войска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Кубанского корпуса, 1778г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928880" y="16344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Найди </a:t>
            </a: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международные</a:t>
            </a: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 знаки особой защиты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41" descr="2"/>
          <p:cNvPicPr/>
          <p:nvPr/>
        </p:nvPicPr>
        <p:blipFill>
          <a:blip r:embed="rId1"/>
          <a:stretch/>
        </p:blipFill>
        <p:spPr>
          <a:xfrm>
            <a:off x="2627280" y="2565360"/>
            <a:ext cx="1400040" cy="619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5" descr="6"/>
          <p:cNvPicPr/>
          <p:nvPr/>
        </p:nvPicPr>
        <p:blipFill>
          <a:blip r:embed="rId2"/>
          <a:stretch/>
        </p:blipFill>
        <p:spPr>
          <a:xfrm>
            <a:off x="7451640" y="692280"/>
            <a:ext cx="1305000" cy="1276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6" descr="7"/>
          <p:cNvPicPr/>
          <p:nvPr/>
        </p:nvPicPr>
        <p:blipFill>
          <a:blip r:embed="rId3"/>
          <a:stretch/>
        </p:blipFill>
        <p:spPr>
          <a:xfrm>
            <a:off x="3851280" y="692280"/>
            <a:ext cx="1371600" cy="1400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8" descr="9"/>
          <p:cNvPicPr/>
          <p:nvPr/>
        </p:nvPicPr>
        <p:blipFill>
          <a:blip r:embed="rId4"/>
          <a:stretch/>
        </p:blipFill>
        <p:spPr>
          <a:xfrm>
            <a:off x="468360" y="220500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2" descr="13"/>
          <p:cNvPicPr/>
          <p:nvPr/>
        </p:nvPicPr>
        <p:blipFill>
          <a:blip r:embed="rId5"/>
          <a:stretch/>
        </p:blipFill>
        <p:spPr>
          <a:xfrm>
            <a:off x="7308720" y="3716280"/>
            <a:ext cx="1343160" cy="1276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3" descr="14"/>
          <p:cNvPicPr/>
          <p:nvPr/>
        </p:nvPicPr>
        <p:blipFill>
          <a:blip r:embed="rId6"/>
          <a:stretch/>
        </p:blipFill>
        <p:spPr>
          <a:xfrm>
            <a:off x="7308720" y="5157720"/>
            <a:ext cx="140040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4" descr="15"/>
          <p:cNvPicPr/>
          <p:nvPr/>
        </p:nvPicPr>
        <p:blipFill>
          <a:blip r:embed="rId7"/>
          <a:stretch/>
        </p:blipFill>
        <p:spPr>
          <a:xfrm>
            <a:off x="468360" y="378936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5" descr="16"/>
          <p:cNvPicPr/>
          <p:nvPr/>
        </p:nvPicPr>
        <p:blipFill>
          <a:blip r:embed="rId8"/>
          <a:stretch/>
        </p:blipFill>
        <p:spPr>
          <a:xfrm>
            <a:off x="3995640" y="371628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6" descr="17"/>
          <p:cNvPicPr/>
          <p:nvPr/>
        </p:nvPicPr>
        <p:blipFill>
          <a:blip r:embed="rId9"/>
          <a:stretch/>
        </p:blipFill>
        <p:spPr>
          <a:xfrm>
            <a:off x="2050920" y="692280"/>
            <a:ext cx="1400400" cy="1400040"/>
          </a:xfrm>
          <a:prstGeom prst="rect">
            <a:avLst/>
          </a:prstGeom>
          <a:ln w="0">
            <a:noFill/>
          </a:ln>
        </p:spPr>
      </p:pic>
      <p:sp>
        <p:nvSpPr>
          <p:cNvPr id="317" name="Oval 60"/>
          <p:cNvSpPr/>
          <p:nvPr/>
        </p:nvSpPr>
        <p:spPr>
          <a:xfrm>
            <a:off x="1403280" y="112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Oval 61"/>
          <p:cNvSpPr/>
          <p:nvPr/>
        </p:nvSpPr>
        <p:spPr>
          <a:xfrm>
            <a:off x="1763640" y="263700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Oval 62"/>
          <p:cNvSpPr/>
          <p:nvPr/>
        </p:nvSpPr>
        <p:spPr>
          <a:xfrm>
            <a:off x="3492360" y="422100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Oval 63"/>
          <p:cNvSpPr/>
          <p:nvPr/>
        </p:nvSpPr>
        <p:spPr>
          <a:xfrm>
            <a:off x="3635280" y="57340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Oval 64"/>
          <p:cNvSpPr/>
          <p:nvPr/>
        </p:nvSpPr>
        <p:spPr>
          <a:xfrm>
            <a:off x="3348000" y="112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Oval 65"/>
          <p:cNvSpPr/>
          <p:nvPr/>
        </p:nvSpPr>
        <p:spPr>
          <a:xfrm>
            <a:off x="3995640" y="27082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Oval 66"/>
          <p:cNvSpPr/>
          <p:nvPr/>
        </p:nvSpPr>
        <p:spPr>
          <a:xfrm>
            <a:off x="5292720" y="422100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Oval 67"/>
          <p:cNvSpPr/>
          <p:nvPr/>
        </p:nvSpPr>
        <p:spPr>
          <a:xfrm>
            <a:off x="5219640" y="57340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Oval 68"/>
          <p:cNvSpPr/>
          <p:nvPr/>
        </p:nvSpPr>
        <p:spPr>
          <a:xfrm>
            <a:off x="6659640" y="422100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Oval 69"/>
          <p:cNvSpPr/>
          <p:nvPr/>
        </p:nvSpPr>
        <p:spPr>
          <a:xfrm>
            <a:off x="6084720" y="256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Oval 70"/>
          <p:cNvSpPr/>
          <p:nvPr/>
        </p:nvSpPr>
        <p:spPr>
          <a:xfrm>
            <a:off x="5148360" y="112536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Oval 71"/>
          <p:cNvSpPr/>
          <p:nvPr/>
        </p:nvSpPr>
        <p:spPr>
          <a:xfrm>
            <a:off x="8712360" y="249228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Oval 72"/>
          <p:cNvSpPr/>
          <p:nvPr/>
        </p:nvSpPr>
        <p:spPr>
          <a:xfrm>
            <a:off x="6804000" y="566100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Oval 73"/>
          <p:cNvSpPr/>
          <p:nvPr/>
        </p:nvSpPr>
        <p:spPr>
          <a:xfrm>
            <a:off x="8532720" y="414972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Oval 74"/>
          <p:cNvSpPr/>
          <p:nvPr/>
        </p:nvSpPr>
        <p:spPr>
          <a:xfrm>
            <a:off x="8532720" y="558972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Oval 75"/>
          <p:cNvSpPr/>
          <p:nvPr/>
        </p:nvSpPr>
        <p:spPr>
          <a:xfrm>
            <a:off x="6948360" y="112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Oval 76"/>
          <p:cNvSpPr/>
          <p:nvPr/>
        </p:nvSpPr>
        <p:spPr>
          <a:xfrm>
            <a:off x="8712360" y="112536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Oval 77"/>
          <p:cNvSpPr/>
          <p:nvPr/>
        </p:nvSpPr>
        <p:spPr>
          <a:xfrm>
            <a:off x="1763640" y="422100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Oval 78"/>
          <p:cNvSpPr/>
          <p:nvPr/>
        </p:nvSpPr>
        <p:spPr>
          <a:xfrm>
            <a:off x="1692360" y="5877000"/>
            <a:ext cx="43164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Oval 79"/>
          <p:cNvSpPr/>
          <p:nvPr/>
        </p:nvSpPr>
        <p:spPr>
          <a:xfrm>
            <a:off x="6227640" y="57340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80" descr="File0007"/>
          <p:cNvPicPr/>
          <p:nvPr/>
        </p:nvPicPr>
        <p:blipFill>
          <a:blip r:embed="rId10"/>
          <a:stretch/>
        </p:blipFill>
        <p:spPr>
          <a:xfrm>
            <a:off x="2340000" y="3933720"/>
            <a:ext cx="1219320" cy="1071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1" descr="File0010"/>
          <p:cNvPicPr/>
          <p:nvPr/>
        </p:nvPicPr>
        <p:blipFill>
          <a:blip r:embed="rId11"/>
          <a:stretch/>
        </p:blipFill>
        <p:spPr>
          <a:xfrm>
            <a:off x="539640" y="836640"/>
            <a:ext cx="990720" cy="831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2" descr="File0011"/>
          <p:cNvPicPr/>
          <p:nvPr/>
        </p:nvPicPr>
        <p:blipFill>
          <a:blip r:embed="rId12"/>
          <a:stretch/>
        </p:blipFill>
        <p:spPr>
          <a:xfrm>
            <a:off x="5724360" y="765000"/>
            <a:ext cx="1352880" cy="1103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3" descr="File0017"/>
          <p:cNvPicPr/>
          <p:nvPr/>
        </p:nvPicPr>
        <p:blipFill>
          <a:blip r:embed="rId13"/>
          <a:stretch/>
        </p:blipFill>
        <p:spPr>
          <a:xfrm>
            <a:off x="6732720" y="2205000"/>
            <a:ext cx="1998360" cy="1136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4" descr="File0002"/>
          <p:cNvPicPr/>
          <p:nvPr/>
        </p:nvPicPr>
        <p:blipFill>
          <a:blip r:embed="rId14"/>
          <a:stretch/>
        </p:blipFill>
        <p:spPr>
          <a:xfrm>
            <a:off x="4788000" y="2349360"/>
            <a:ext cx="1352520" cy="1055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5" descr="File0013"/>
          <p:cNvPicPr/>
          <p:nvPr/>
        </p:nvPicPr>
        <p:blipFill>
          <a:blip r:embed="rId15"/>
          <a:stretch/>
        </p:blipFill>
        <p:spPr>
          <a:xfrm>
            <a:off x="4067280" y="5445000"/>
            <a:ext cx="1276200" cy="110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6" descr="File0016"/>
          <p:cNvPicPr/>
          <p:nvPr/>
        </p:nvPicPr>
        <p:blipFill>
          <a:blip r:embed="rId16"/>
          <a:stretch/>
        </p:blipFill>
        <p:spPr>
          <a:xfrm>
            <a:off x="5867280" y="3789360"/>
            <a:ext cx="855720" cy="1071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87"/>
          <p:cNvSpPr/>
          <p:nvPr/>
        </p:nvSpPr>
        <p:spPr>
          <a:xfrm flipH="1" flipV="1">
            <a:off x="2342520" y="5517360"/>
            <a:ext cx="15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88"/>
          <p:cNvSpPr/>
          <p:nvPr/>
        </p:nvSpPr>
        <p:spPr>
          <a:xfrm>
            <a:off x="2124000" y="5445000"/>
            <a:ext cx="1584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Rectangle 89"/>
          <p:cNvSpPr/>
          <p:nvPr/>
        </p:nvSpPr>
        <p:spPr>
          <a:xfrm>
            <a:off x="611280" y="5445000"/>
            <a:ext cx="115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92" descr="File0016"/>
          <p:cNvPicPr/>
          <p:nvPr/>
        </p:nvPicPr>
        <p:blipFill>
          <a:blip r:embed="rId17"/>
          <a:stretch/>
        </p:blipFill>
        <p:spPr>
          <a:xfrm>
            <a:off x="611280" y="5445000"/>
            <a:ext cx="452520" cy="567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3" descr="File0016"/>
          <p:cNvPicPr/>
          <p:nvPr/>
        </p:nvPicPr>
        <p:blipFill>
          <a:blip r:embed="rId18"/>
          <a:stretch/>
        </p:blipFill>
        <p:spPr>
          <a:xfrm>
            <a:off x="1332000" y="5445000"/>
            <a:ext cx="452520" cy="5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4" descr="File0016"/>
          <p:cNvPicPr/>
          <p:nvPr/>
        </p:nvPicPr>
        <p:blipFill>
          <a:blip r:embed="rId19"/>
          <a:stretch/>
        </p:blipFill>
        <p:spPr>
          <a:xfrm>
            <a:off x="971640" y="6093000"/>
            <a:ext cx="452520" cy="566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5" descr="File0014"/>
          <p:cNvPicPr/>
          <p:nvPr/>
        </p:nvPicPr>
        <p:blipFill>
          <a:blip r:embed="rId20"/>
          <a:stretch/>
        </p:blipFill>
        <p:spPr>
          <a:xfrm>
            <a:off x="5724360" y="5445000"/>
            <a:ext cx="11620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обж_008"/>
          <p:cNvPicPr/>
          <p:nvPr/>
        </p:nvPicPr>
        <p:blipFill>
          <a:blip r:embed="rId1"/>
          <a:stretch/>
        </p:blipFill>
        <p:spPr>
          <a:xfrm>
            <a:off x="5319720" y="1638360"/>
            <a:ext cx="3333600" cy="44384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584280" y="1900080"/>
            <a:ext cx="432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1863 году в Швейцар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Анри Дюнаном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был учрежден «Международный комитет помощи раненным». Эта дата считается днем рождения Международного Комитета Красного Креста (МККК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733840" y="3227400"/>
            <a:ext cx="428400" cy="471600"/>
          </a:xfrm>
          <a:prstGeom prst="downArrow">
            <a:avLst>
              <a:gd name="adj1" fmla="val 50000"/>
              <a:gd name="adj2" fmla="val 27521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612720" y="3792600"/>
            <a:ext cx="43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вгуст 1864 года – 16 стран подписали Женевскую конвенцию об облегчении участи раненных и больных воин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2716200" y="4743360"/>
            <a:ext cx="428760" cy="471600"/>
          </a:xfrm>
          <a:prstGeom prst="downArrow">
            <a:avLst>
              <a:gd name="adj1" fmla="val 50000"/>
              <a:gd name="adj2" fmla="val 27498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33240" y="5337000"/>
            <a:ext cx="42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рождение международного движе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395280" y="836640"/>
            <a:ext cx="820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843120" y="5428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Истори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я РОК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03360" y="1986120"/>
            <a:ext cx="397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5 мая 1867 года Александр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утвердил первый Устав Общества попечения о раненых и больных воинах, которое в 1879 году было переименовано в Российское общество Красного Креста (РОКК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490840" y="4452840"/>
            <a:ext cx="428400" cy="471600"/>
          </a:xfrm>
          <a:prstGeom prst="downArrow">
            <a:avLst>
              <a:gd name="adj1" fmla="val 50000"/>
              <a:gd name="adj2" fmla="val 27521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581040" y="5013360"/>
            <a:ext cx="3973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витие движ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асного Креста в Росс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250px-Alex2"/>
          <p:cNvPicPr/>
          <p:nvPr/>
        </p:nvPicPr>
        <p:blipFill>
          <a:blip r:embed="rId1"/>
          <a:stretch/>
        </p:blipFill>
        <p:spPr>
          <a:xfrm>
            <a:off x="5365800" y="1662120"/>
            <a:ext cx="3190680" cy="4429080"/>
          </a:xfrm>
          <a:prstGeom prst="rect">
            <a:avLst/>
          </a:prstGeom>
          <a:ln w="0">
            <a:noFill/>
          </a:ln>
        </p:spPr>
      </p:pic>
      <p:sp>
        <p:nvSpPr>
          <p:cNvPr id="364" name="Line 7"/>
          <p:cNvSpPr/>
          <p:nvPr/>
        </p:nvSpPr>
        <p:spPr>
          <a:xfrm>
            <a:off x="539640" y="6381720"/>
            <a:ext cx="806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43120" y="5428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еятельнос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1643040" y="771480"/>
            <a:ext cx="785880" cy="1886040"/>
          </a:xfrm>
          <a:custGeom>
            <a:avLst/>
            <a:gdLst>
              <a:gd name="textAreaLeft" fmla="*/ 105120 w 785880"/>
              <a:gd name="textAreaRight" fmla="*/ 680760 w 785880"/>
              <a:gd name="textAreaTop" fmla="*/ 330120 h 1886040"/>
              <a:gd name="textAreaBottom" fmla="*/ 1367640 h 18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 flipH="1">
            <a:off x="6744600" y="787320"/>
            <a:ext cx="785880" cy="1886040"/>
          </a:xfrm>
          <a:custGeom>
            <a:avLst/>
            <a:gdLst>
              <a:gd name="textAreaLeft" fmla="*/ 105120 w 785880"/>
              <a:gd name="textAreaRight" fmla="*/ 680760 w 785880"/>
              <a:gd name="textAreaTop" fmla="*/ 330120 h 1886040"/>
              <a:gd name="textAreaBottom" fmla="*/ 1367640 h 18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315040" y="20145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Verdana"/>
                <a:hlinkClick r:id="rId1" action="ppaction://hlinksldjump"/>
              </a:rPr>
              <a:t>В мирное врем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2457360" y="2014560"/>
            <a:ext cx="16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военное врем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2771640" y="2714760"/>
            <a:ext cx="428760" cy="471240"/>
          </a:xfrm>
          <a:prstGeom prst="downArrow">
            <a:avLst>
              <a:gd name="adj1" fmla="val 50000"/>
              <a:gd name="adj2" fmla="val 27477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217520" y="3230640"/>
            <a:ext cx="341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ход за ранеными, посещение военнопленных и лиц, задержанных по соображениям безопасности, восстановление связей между разъединенными семьями, обеспечение защиты гражданского населения и предоставления жертвам конфликта продуктов питания и другой помощ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5286240" y="3400560"/>
            <a:ext cx="25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571680" y="6172200"/>
            <a:ext cx="7957800" cy="0"/>
          </a:xfrm>
          <a:prstGeom prst="line">
            <a:avLst/>
          </a:prstGeom>
          <a:ln w="19080">
            <a:solidFill>
              <a:srgbClr val="f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3419640" y="3141720"/>
            <a:ext cx="5473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6"/>
          <p:cNvSpPr/>
          <p:nvPr/>
        </p:nvSpPr>
        <p:spPr>
          <a:xfrm>
            <a:off x="592200" y="500040"/>
            <a:ext cx="47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казание гуманитарной помощи детям из социально-незащищенных сем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7" descr="ОБЖ_(8)6"/>
          <p:cNvPicPr/>
          <p:nvPr/>
        </p:nvPicPr>
        <p:blipFill>
          <a:blip r:embed="rId1"/>
          <a:stretch/>
        </p:blipFill>
        <p:spPr>
          <a:xfrm>
            <a:off x="6013440" y="542880"/>
            <a:ext cx="2325600" cy="1513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8"/>
          <p:cNvSpPr/>
          <p:nvPr/>
        </p:nvSpPr>
        <p:spPr>
          <a:xfrm>
            <a:off x="582480" y="1957320"/>
            <a:ext cx="4702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ужба милосердия Красного Крест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оказание помощи пожилым и одиноким людям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Picture 9" descr="ОБЖ_(11)4"/>
          <p:cNvPicPr/>
          <p:nvPr/>
        </p:nvPicPr>
        <p:blipFill>
          <a:blip r:embed="rId2"/>
          <a:stretch/>
        </p:blipFill>
        <p:spPr>
          <a:xfrm>
            <a:off x="5977080" y="2338560"/>
            <a:ext cx="2334960" cy="1466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743040" y="3429000"/>
            <a:ext cx="40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82480" y="3429000"/>
            <a:ext cx="47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филактика наркомании, ВИЧ/СПИДа и туберкулез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Picture 13" descr="ОБЖ_(13)2"/>
          <p:cNvPicPr/>
          <p:nvPr/>
        </p:nvPicPr>
        <p:blipFill>
          <a:blip r:embed="rId3"/>
          <a:stretch/>
        </p:blipFill>
        <p:spPr>
          <a:xfrm>
            <a:off x="5983200" y="4181400"/>
            <a:ext cx="2327400" cy="1666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4"/>
          <p:cNvSpPr/>
          <p:nvPr/>
        </p:nvSpPr>
        <p:spPr>
          <a:xfrm>
            <a:off x="522360" y="485604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а развития донор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22360" y="5629320"/>
            <a:ext cx="47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а «Первая помощь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571680" y="6172200"/>
            <a:ext cx="7957800" cy="0"/>
          </a:xfrm>
          <a:prstGeom prst="line">
            <a:avLst/>
          </a:prstGeom>
          <a:ln w="19080">
            <a:solidFill>
              <a:srgbClr val="f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279520" y="1890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Формы международно-правовой ответственност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79280" y="76824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еждународное право предусматривает ответственность  государств и отдельных лиц (уголовное наказание), нарушивших правила ведения войн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835280" y="1700280"/>
            <a:ext cx="5041800" cy="360360"/>
          </a:xfrm>
          <a:prstGeom prst="rect">
            <a:avLst/>
          </a:prstGeom>
          <a:solidFill>
            <a:srgbClr val="6ea0b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Формы международно-правовой ответственност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332000" y="2276640"/>
            <a:ext cx="1584360" cy="582480"/>
          </a:xfrm>
          <a:prstGeom prst="rect">
            <a:avLst/>
          </a:prstGeom>
          <a:solidFill>
            <a:srgbClr val="6ea0b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литическа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5796000" y="2276640"/>
            <a:ext cx="1655640" cy="582480"/>
          </a:xfrm>
          <a:prstGeom prst="rect">
            <a:avLst/>
          </a:prstGeom>
          <a:solidFill>
            <a:srgbClr val="6ea0b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Материальна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1332000" y="2997360"/>
            <a:ext cx="3024000" cy="180000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332000" y="3068640"/>
            <a:ext cx="30448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Санкции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ндивидуальные и коллективные принудительные меры, применяемые для предупреждения или в качестве ответной меры на совершённое международное правовое дея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427640" y="2997360"/>
            <a:ext cx="3024000" cy="180000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427640" y="3068640"/>
            <a:ext cx="302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Репараци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змещение причиненного материального ущерба государством-агрессором натурой или деньгам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1332000" y="4941720"/>
            <a:ext cx="3024000" cy="172908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1247760" y="5019840"/>
            <a:ext cx="31082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Сатисфакци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Предоставление удовлетворения пострадавшему государству (выражения сожаления, публичное извинение, наказание виновных, оказание особых почестей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4427640" y="4941720"/>
            <a:ext cx="3024000" cy="172908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4427640" y="5013360"/>
            <a:ext cx="31082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Реституци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зврат в натуре имущества, неправомерного изъятого и вывезенного воюющим государством с территории противника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9" name="Group 22"/>
          <p:cNvGrpSpPr/>
          <p:nvPr/>
        </p:nvGrpSpPr>
        <p:grpSpPr>
          <a:xfrm>
            <a:off x="971280" y="2565360"/>
            <a:ext cx="360360" cy="3311640"/>
            <a:chOff x="971280" y="2565360"/>
            <a:chExt cx="360360" cy="3311640"/>
          </a:xfrm>
        </p:grpSpPr>
        <p:sp>
          <p:nvSpPr>
            <p:cNvPr id="400" name="Line 18"/>
            <p:cNvSpPr/>
            <p:nvPr/>
          </p:nvSpPr>
          <p:spPr>
            <a:xfrm flipH="1">
              <a:off x="971280" y="587700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H="1">
              <a:off x="971280" y="393372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H="1">
              <a:off x="971280" y="256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>
              <a:off x="971640" y="2565360"/>
              <a:ext cx="0" cy="331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4" name="Line 28"/>
          <p:cNvSpPr/>
          <p:nvPr/>
        </p:nvSpPr>
        <p:spPr>
          <a:xfrm flipH="1">
            <a:off x="97128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5" name="Group 33"/>
          <p:cNvGrpSpPr/>
          <p:nvPr/>
        </p:nvGrpSpPr>
        <p:grpSpPr>
          <a:xfrm>
            <a:off x="7451280" y="2565360"/>
            <a:ext cx="360720" cy="3240000"/>
            <a:chOff x="7451280" y="2565360"/>
            <a:chExt cx="360720" cy="3240000"/>
          </a:xfrm>
        </p:grpSpPr>
        <p:sp>
          <p:nvSpPr>
            <p:cNvPr id="406" name="Line 29"/>
            <p:cNvSpPr/>
            <p:nvPr/>
          </p:nvSpPr>
          <p:spPr>
            <a:xfrm flipH="1">
              <a:off x="7451280" y="256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Line 30"/>
            <p:cNvSpPr/>
            <p:nvPr/>
          </p:nvSpPr>
          <p:spPr>
            <a:xfrm flipH="1">
              <a:off x="7451280" y="3860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 flipH="1">
              <a:off x="7451280" y="580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7812000" y="2565360"/>
              <a:ext cx="0" cy="32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0" name="Line 36"/>
          <p:cNvSpPr/>
          <p:nvPr/>
        </p:nvSpPr>
        <p:spPr>
          <a:xfrm flipH="1">
            <a:off x="2916000" y="2060640"/>
            <a:ext cx="9349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Line 37"/>
          <p:cNvSpPr/>
          <p:nvPr/>
        </p:nvSpPr>
        <p:spPr>
          <a:xfrm flipH="1" flipV="1">
            <a:off x="4859280" y="2060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611280" y="333360"/>
            <a:ext cx="8280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Verdana"/>
              </a:rPr>
              <a:t>Международное гуманитарное прав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«право войны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то совокупность норм, применяемых воюющими сторонами в ходе вооружённого конфликта/войны, которые призв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71640" y="350028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граничить средства и методы ведения вой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172200" y="1916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гласовать военную необходимость с требованиями гуманно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940360" y="3645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тить жертвы вооружённых конфлик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916360" y="508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вести границу между тем, что разрешено и тем, что запрещено в вооружённой борьб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08000" y="1844640"/>
            <a:ext cx="21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легчить, насколько это возможно, бедствия вой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9" descr="{B9CA4355-D394-46F9-A616-83E6E41EAB12}"/>
          <p:cNvPicPr/>
          <p:nvPr/>
        </p:nvPicPr>
        <p:blipFill>
          <a:blip r:embed="rId1"/>
          <a:stretch/>
        </p:blipFill>
        <p:spPr>
          <a:xfrm>
            <a:off x="3132000" y="1989000"/>
            <a:ext cx="2656080" cy="26258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ойн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это организованная вооруженная борьба между самостоятельными независимыми суверенными государствами. Если между ними идут боевые действия, а состояние войны при этом не объявляется, то это </a:t>
            </a:r>
            <a:r>
              <a:rPr b="0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международный вооруженный конфликт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Конфликт является </a:t>
            </a:r>
            <a:r>
              <a:rPr b="0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немеждународным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когда на территории какого-либо государства происходит столкновение между правительственными войсками и оппозиционными организованными вооруженными группами, находящимися под ответственным командованием и контролирующими часть территори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476360" y="333360"/>
            <a:ext cx="727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Verdana"/>
              </a:rPr>
              <a:t>Конвенц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международное соглашени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обязатель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ля исполнения те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сударствами, которые её подписа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адиционно существует две группы соглашений в рамках «Права войн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275120" y="4076640"/>
            <a:ext cx="302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Гаагские конвен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1907г.,  13 соглашений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гулируют в цел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 ведения боев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йстви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954г. – о защит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ультурных ценнос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874400" y="4076640"/>
            <a:ext cx="389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Женевские конвен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1949г., 4 соглаш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977г., 2 дополнит. протокол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держат положения 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те жертв вооружён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фликтов: военнопленны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неных, больны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рпевших кораблекрушени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гибш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AutoShape 8"/>
          <p:cNvSpPr/>
          <p:nvPr/>
        </p:nvSpPr>
        <p:spPr>
          <a:xfrm rot="5400000">
            <a:off x="1512720" y="2168280"/>
            <a:ext cx="863640" cy="165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21760 h 1657440"/>
              <a:gd name="textAreaBottom" fmla="*/ 1435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AutoShape 11"/>
          <p:cNvSpPr/>
          <p:nvPr/>
        </p:nvSpPr>
        <p:spPr>
          <a:xfrm rot="5200200">
            <a:off x="7343280" y="2168280"/>
            <a:ext cx="936720" cy="158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549360" y="804960"/>
            <a:ext cx="8161200" cy="16095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28400" y="1857240"/>
            <a:ext cx="842940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 Женевская конвенция об улучшении участи раненых и больных в действующих армиях от 12 августа 1949 г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 Женевская конвенция об улучшении участи раненых, больных и лиц, потерпевших кораблекрушение, из состава вооруженных сил на море от 12 августа 1949 г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I Женевская конвенция об обращении с военнопленными от 12 августа 1949 г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V Женевская конвенция о защите гражданского населения во время войны от 12 августа 1949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 1977 г. положения этих конвенций были расширены двумя дополнительными протоколам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полнительный протокол к Женевским конвенциям от 12 августа 1949 г., касающийся защиты жертв международных вооруженных конфликтов (Протокол I) от 8 июня 1977 г.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полнительный протокол к Женевским конвенциям от 12 августа 1949 г., касающийся защиты жертв вооруженных конфликтов немеждународного характера (Протокол II) от 8 июня 1977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390040" y="16344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Ограничения ведения военных действ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2411280" y="1197000"/>
            <a:ext cx="4824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8"/>
                </a:solidFill>
                <a:latin typeface="Verdana"/>
              </a:rPr>
              <a:t>Основные типы ограничений ведения военных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8"/>
                </a:solidFill>
                <a:latin typeface="Verdana"/>
              </a:rPr>
              <a:t>действий в международном гуманитарном прав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AutoShape 6"/>
          <p:cNvSpPr/>
          <p:nvPr/>
        </p:nvSpPr>
        <p:spPr>
          <a:xfrm rot="6850200">
            <a:off x="2304360" y="252828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AutoShape 7"/>
          <p:cNvSpPr/>
          <p:nvPr/>
        </p:nvSpPr>
        <p:spPr>
          <a:xfrm rot="5400000">
            <a:off x="4249080" y="267264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AutoShape 8"/>
          <p:cNvSpPr/>
          <p:nvPr/>
        </p:nvSpPr>
        <p:spPr>
          <a:xfrm rot="4099200">
            <a:off x="5975640" y="2527920"/>
            <a:ext cx="1008000" cy="5050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1332000" y="3357720"/>
            <a:ext cx="2087640" cy="3024000"/>
          </a:xfrm>
          <a:custGeom>
            <a:avLst/>
            <a:gdLst>
              <a:gd name="textAreaLeft" fmla="*/ 101880 w 2087640"/>
              <a:gd name="textAreaRight" fmla="*/ 1985760 w 2087640"/>
              <a:gd name="textAreaTop" fmla="*/ 101880 h 3024000"/>
              <a:gd name="textAreaBottom" fmla="*/ 2922120 h 3024000"/>
            </a:gdLst>
            <a:ahLst/>
            <a:rect l="textAreaLeft" t="textAreaTop" r="textAreaRight" b="textAreaBottom"/>
            <a:pathLst>
              <a:path w="21600" h="31286">
                <a:moveTo>
                  <a:pt x="3600" y="0"/>
                </a:moveTo>
                <a:arcTo wR="3600" hR="3600" stAng="16200000" swAng="-5400000"/>
                <a:lnTo>
                  <a:pt x="0" y="27686"/>
                </a:lnTo>
                <a:arcTo wR="3600" hR="3600" stAng="10800000" swAng="-5400000"/>
                <a:lnTo>
                  <a:pt x="18000" y="31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ea0b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3708360" y="3500280"/>
            <a:ext cx="2016000" cy="302436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3024360"/>
              <a:gd name="textAreaBottom" fmla="*/ 2926080 h 3024360"/>
            </a:gdLst>
            <a:ahLst/>
            <a:rect l="textAreaLeft" t="textAreaTop" r="textAreaRight" b="textAreaBottom"/>
            <a:pathLst>
              <a:path w="21600" h="32402">
                <a:moveTo>
                  <a:pt x="3600" y="0"/>
                </a:moveTo>
                <a:arcTo wR="3600" hR="3600" stAng="16200000" swAng="-5400000"/>
                <a:lnTo>
                  <a:pt x="0" y="28802"/>
                </a:lnTo>
                <a:arcTo wR="3600" hR="3600" stAng="10800000" swAng="-5400000"/>
                <a:lnTo>
                  <a:pt x="18000" y="32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ea0b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6012000" y="3357720"/>
            <a:ext cx="2089080" cy="302400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3024000"/>
              <a:gd name="textAreaBottom" fmla="*/ 2922120 h 3024000"/>
            </a:gdLst>
            <a:ahLst/>
            <a:rect l="textAreaLeft" t="textAreaTop" r="textAreaRight" b="textAreaBottom"/>
            <a:pathLst>
              <a:path w="21600" h="31265">
                <a:moveTo>
                  <a:pt x="3600" y="0"/>
                </a:moveTo>
                <a:arcTo wR="3600" hR="3600" stAng="16200000" swAng="-5400000"/>
                <a:lnTo>
                  <a:pt x="0" y="27665"/>
                </a:lnTo>
                <a:arcTo wR="3600" hR="3600" stAng="10800000" swAng="-5400000"/>
                <a:lnTo>
                  <a:pt x="18000" y="31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ea0b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322640" y="3645000"/>
            <a:ext cx="214056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Ограниче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 </a:t>
            </a: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 лицам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Гражданское населе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пользуется общей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защитой от опасностей,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зникающих в связи с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енными операциям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6104520" y="3716280"/>
            <a:ext cx="19684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Ограниче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 объектам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нападения должны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быть строго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ограничены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енными объектам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740040" y="3573360"/>
            <a:ext cx="2006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Ограничени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 средствам 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методам ведения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военных действий</a:t>
            </a:r>
            <a:r>
              <a:rPr b="1" i="1" lang="ru-RU" sz="1300" spc="-1" strike="noStrike">
                <a:solidFill>
                  <a:srgbClr val="000408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запрещается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спользовать оруж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ли методы ведени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енных действий,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способные причинить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злишний вред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087280" y="163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Правила поведения комбатантов в бо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4" descr="Обж 00 3 3"/>
          <p:cNvPicPr/>
          <p:nvPr/>
        </p:nvPicPr>
        <p:blipFill>
          <a:blip r:embed="rId1"/>
          <a:stretch/>
        </p:blipFill>
        <p:spPr>
          <a:xfrm>
            <a:off x="428760" y="836640"/>
            <a:ext cx="2065320" cy="28083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89" name="Picture 5" descr="Обж 00 4 3"/>
          <p:cNvPicPr/>
          <p:nvPr/>
        </p:nvPicPr>
        <p:blipFill>
          <a:blip r:embed="rId2"/>
          <a:stretch/>
        </p:blipFill>
        <p:spPr>
          <a:xfrm>
            <a:off x="2124000" y="3860640"/>
            <a:ext cx="2022480" cy="27813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90" name="Picture 6" descr="Обж 00 5 3"/>
          <p:cNvPicPr/>
          <p:nvPr/>
        </p:nvPicPr>
        <p:blipFill>
          <a:blip r:embed="rId3"/>
          <a:stretch/>
        </p:blipFill>
        <p:spPr>
          <a:xfrm>
            <a:off x="3687840" y="907920"/>
            <a:ext cx="2004840" cy="274824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91" name="Picture 7" descr="Обж 00 6 3"/>
          <p:cNvPicPr/>
          <p:nvPr/>
        </p:nvPicPr>
        <p:blipFill>
          <a:blip r:embed="rId4"/>
          <a:stretch/>
        </p:blipFill>
        <p:spPr>
          <a:xfrm>
            <a:off x="6804000" y="907920"/>
            <a:ext cx="1938240" cy="273708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92" name="Picture 8" descr="Обж 00 7 3"/>
          <p:cNvPicPr/>
          <p:nvPr/>
        </p:nvPicPr>
        <p:blipFill>
          <a:blip r:embed="rId5"/>
          <a:stretch/>
        </p:blipFill>
        <p:spPr>
          <a:xfrm>
            <a:off x="5219640" y="3860640"/>
            <a:ext cx="2021040" cy="277020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Комбатанты (воюющие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лица входящие в состав вооруженных сил страны, принимающих непосредственное участие в международном вооруженном конфликте (за исключением медицинского и духовного персонал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6:00:25Z</dcterms:created>
  <dc:creator>Дегтярев А.И.</dc:creator>
  <dc:description/>
  <dc:language>en-US</dc:language>
  <cp:lastModifiedBy>Маргарита Феженко</cp:lastModifiedBy>
  <dcterms:modified xsi:type="dcterms:W3CDTF">2020-04-08T17:27:47Z</dcterms:modified>
  <cp:revision>35</cp:revision>
  <dc:subject/>
  <dc:title>Слайд 1</dc:title>
</cp:coreProperties>
</file>