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793-877A-469C-89B2-DCEFD2D8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2AA1-79B6-4A29-977B-7D9B33A3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CE3-5CE4-4125-A16D-96D58950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3BE-2C58-4199-A915-FDF69E81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8E04-5ADF-4566-9728-90946983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470C-EE3E-41BE-837A-302FDA47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DA78-9F83-4F74-9E9F-4CD4516A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802F-E1EA-41BA-AE2A-FAE30AFE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059E-DBD8-4D50-959F-BB8E339A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3BE6-1AF6-40E4-9FD9-DA355DF9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F752-F188-4CF0-B477-8AA036E5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CD2-3848-4A88-9823-DCA12E14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2263-6EE3-415C-84CA-3B89404A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4E43-B3CE-4DDD-A43D-0C411279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FD29-D6C9-4463-B48A-D4F57B61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A34E-31AA-4AD5-8266-C0092805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FB38-0A61-44E3-B4A3-E8EE55C1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BC52-0F91-4ADF-B6E7-8FB7B88D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992D8-464B-44E9-A000-7D8C3A9D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F3B5D-6A9B-40D8-8C9C-0D4628EB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F8373-7DEA-46BD-AF4B-FE99FB54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AA72A-6368-4B23-9DAF-7544CC00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4D3-94A5-41D9-AEDF-9F5D0876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D5FE1-D668-43F1-9CCF-6D0104E4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7B186-353D-4402-9415-9F2297FE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486D2-C9E3-48DD-8423-CB55039B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92EC9-4A5A-4FB2-9BBA-AA28E0D4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40C8E-C448-436A-9CBE-224D6DC2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692AC-AB20-4AD3-97AD-97186BEE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2E0EC-9E75-45A1-BC15-C60C308F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C058F-509F-41E6-8D68-363DD38E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6EE81-3B15-44C1-8386-2ECA550F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86133-1D12-45D5-BEBC-70A63628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648C-24A2-49AA-A5AB-67F430BA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9D507-CF74-483E-9440-0EB1BE3B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AAA45-1F54-4905-A308-B87551AC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37F0D-13A8-46BA-8913-17FE7F01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0647E-9009-4C2B-ABAC-956EC54B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53616-6619-4CDE-BAFB-15343C84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6E53D-CE00-488E-87EF-DD9A0613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1ABD5-0E7C-4FD2-81A2-26CB13D0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EEB03-5719-4A64-BE40-CF9D15C9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215D4-1EA6-445E-BEBB-FEC4E426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2631A-2AA7-4656-828F-BCC0D12F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B28-D3FF-464F-9BF3-BF99F11A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34175-D337-4CA1-91C0-238D0268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8819C-C5A9-488D-8CEE-5A796236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A8106-4879-4D9E-9BB3-DD301A53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F6ED8-64C1-4CDB-BFD6-E00DC560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50D9C-AADC-4846-B895-0371ABBE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83437-AB1E-4940-A8D1-8F45E1C8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076D5-1352-4EF1-B1A3-2E646E9E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F8153-8392-420B-9396-3F6FDF4D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21B99-226E-4708-B9AE-A8E9A9B8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E0C60-8D61-4CAC-8F95-2A57292D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84E1-EE22-44C2-A74E-CF41267A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B4B95-80F9-4906-8D86-3050C2A1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E5076-BCEF-43B8-9238-2C2F686A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B2EA6-0FB1-4743-B85D-0FC13D3F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B226D-BED3-4525-8A66-97B78C3F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0732B-6D97-4C0A-9CED-95FC6E32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69571-AC14-431B-BA2B-BEB89D83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257E2-8A26-46DE-9A94-8F3CF14C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7D269-7E1D-4F22-8E71-AF8ECFC7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543EA-FD41-4C78-AACB-7C15BCB4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FD63F-9F55-46AD-A182-F2717FAF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25D-18E0-4CD9-B0E0-3B7359EF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E0697-1D16-45D5-BAF8-2DF5C194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B92AB-EF86-4D74-8D32-422F35BB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95457-6419-4C3E-BD1D-429E9825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4EE2-59E9-42E8-BCAF-A0D3EFF9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9DF9-887B-408E-9DB7-CE33922B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FE79-FC33-4FEB-9C82-793E5B87498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D304-F372-4E87-8FEC-8561688B144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7D93-CB53-48D6-B678-C74964AFA28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8652-F816-433A-BE10-D81CCA25713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1F93-4C70-4A01-B9B2-97033350D5C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F43D-D79C-4E49-9D9E-640234BAE98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1620720" y="981000"/>
            <a:ext cx="6170760" cy="3279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Общие проявления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личие влечения к повторным приемам средств с целью вызывания эйфор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Болезненное состояние при прекращении приема наркотика – синдром абстинен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Устранение синдрома абстиненции после приема токсических и наркотических вещест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ристрастие быстро развивается у людей, имеющих психическую и физическую предрасположенность – эмоционально неустойчивых, с детства подверженных невротическим срыв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Схема 5" descr=""/>
          <p:cNvPicPr/>
          <p:nvPr/>
        </p:nvPicPr>
        <p:blipFill>
          <a:blip r:embed="rId1"/>
          <a:stretch/>
        </p:blipFill>
        <p:spPr>
          <a:xfrm>
            <a:off x="-79200" y="1427040"/>
            <a:ext cx="9090000" cy="48513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Воздействие на организм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ркотики поражают генетический аппарат челов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Частичное поражение отдельных органов у детей носит массовый характ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Статистика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ркомания и токсикомания имеют тенденцию к омолож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Установлено, что в раннем возрасте 3 главные причины приводят к диагнозу «наркомания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Любопытство – 65% случае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Влияние среды – 14% случае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одражание – 13% случае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Решающее значение имеют особенности характера ребенка, подростка. К примеру, сверхвозбудимость  психики или, наоборот, заторможен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Рисунок 3" descr="ГламуР.jpg"/>
          <p:cNvPicPr/>
          <p:nvPr/>
        </p:nvPicPr>
        <p:blipFill>
          <a:blip r:embed="rId1"/>
          <a:stretch/>
        </p:blipFill>
        <p:spPr>
          <a:xfrm>
            <a:off x="3238560" y="2914560"/>
            <a:ext cx="5905440" cy="39434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Табакокурение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Курение – расстройство всех функций организма, частые болезни, преждевременная смер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Табак – самое вредное  для здоровья человека растение. В состав табачного дыма входят 30 компонентов. Которые относятся к натуральным ядам, например, никотин, окись углерода, тяжелые металлы и их соли, радиоактивные элементы и их изотоп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Статистика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В России сегодня курят 70 млн. человек , а ежегодно умирает от курения 400 тыс. 10% средств, расходуемых на здравоохранение, идут на борьбу с болезнями, связанными с хроническим отравлением табачным дым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Стадии привыкания организм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6" name="Содержимое 3" descr=""/>
          <p:cNvPicPr/>
          <p:nvPr/>
        </p:nvPicPr>
        <p:blipFill>
          <a:blip r:embed="rId1"/>
          <a:stretch/>
        </p:blipFill>
        <p:spPr>
          <a:xfrm>
            <a:off x="401760" y="1590840"/>
            <a:ext cx="7535880" cy="465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Схема 3" descr=""/>
          <p:cNvPicPr/>
          <p:nvPr/>
        </p:nvPicPr>
        <p:blipFill>
          <a:blip r:embed="rId1"/>
          <a:stretch/>
        </p:blipFill>
        <p:spPr>
          <a:xfrm>
            <a:off x="633240" y="3498840"/>
            <a:ext cx="8163000" cy="44197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Воздействие на организм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Задерживает рост, умственное развит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Развитие кислородной недостаточ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овышение свертываемости кров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пособствует образованию склеротических бляше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Отрицательное воздействие на половую функцию у мужчи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9520" indent="-355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иболее распространенными проблемами в наше время являются алкоголизм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наркомания и табакокурение. Однако знание человеком этих факторов, разрушающих здоровье, позволит им обрести психологическую уравновешенность, необходимую для ведения здорового образа жизн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3" descr="00009898.jpg"/>
          <p:cNvPicPr/>
          <p:nvPr/>
        </p:nvPicPr>
        <p:blipFill>
          <a:blip r:embed="rId1"/>
          <a:stretch/>
        </p:blipFill>
        <p:spPr>
          <a:xfrm>
            <a:off x="0" y="0"/>
            <a:ext cx="909144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Алкоголизм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99680" y="15717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Алкоголизм – это наркотический протоплазматический яд, действующий парализующим образом на любую живую клетку и, в первую очередь, на клетки высших отделов центральной нервной системы (ЦНС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Статистика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За последние 3 - 4 десятилетия потребление алкоголя на душу населения во многих странах удвоилось, а число случаев первичной госпитализации психических больных, злоупотребляющих алкоголем, утроилось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Показатель смертности от разных причин у лиц, потребляющих алкоголь, 3 – 4 раза превышает аналогичный показатель для населения в целом. Их средняя продолжительность жизни не превышает обычно 55 лет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Алкогольная эйфория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Алкогольная эйфория  - состояние приподнятого настроения, беспечности, довольства, не соответствующее объективным услови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Она исключает возможность критического отношения к своим высказываниям, поступкам, действиям, приводит к потере бди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истематическое употребление спиртных напитков уничтожает все, чем обогатил человек свой ум в течение жиз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100" spc="-1" strike="noStrike">
                <a:solidFill>
                  <a:srgbClr val="ffffff"/>
                </a:solidFill>
                <a:latin typeface="Franklin Gothic Book"/>
              </a:rPr>
              <a:t>“</a:t>
            </a:r>
            <a:r>
              <a:rPr b="1" i="1" lang="ru-RU" sz="41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Алкогольная</a:t>
            </a:r>
            <a:r>
              <a:rPr b="1" i="1" lang="ru-RU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зависимость </a:t>
            </a:r>
            <a:r>
              <a:rPr b="1" i="1" lang="en-GB" sz="3600" spc="-1" strike="noStrike">
                <a:solidFill>
                  <a:srgbClr val="ffffff"/>
                </a:solidFill>
                <a:latin typeface="Georgia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4" name="Содержимое 3" descr=""/>
          <p:cNvPicPr/>
          <p:nvPr/>
        </p:nvPicPr>
        <p:blipFill>
          <a:blip r:embed="rId1"/>
          <a:stretch/>
        </p:blipFill>
        <p:spPr>
          <a:xfrm>
            <a:off x="426960" y="1596960"/>
            <a:ext cx="7510680" cy="4541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Воздействие на организм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6" name="Содержимое 5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7467480" cy="454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Наркомания и токсикомания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Наркомания – болезненное пристрастие к наркотикам, неконтролируемое их потребл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Токсикомания – употребление средств бытовой химии (в основном ингаляционных) для получения наркотического эфф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8" descr="трава.gif"/>
          <p:cNvPicPr/>
          <p:nvPr/>
        </p:nvPicPr>
        <p:blipFill>
          <a:blip r:embed="rId1"/>
          <a:stretch/>
        </p:blipFill>
        <p:spPr>
          <a:xfrm>
            <a:off x="6572160" y="1428840"/>
            <a:ext cx="2571840" cy="20574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7" descr="00036567.jpg"/>
          <p:cNvPicPr/>
          <p:nvPr/>
        </p:nvPicPr>
        <p:blipFill>
          <a:blip r:embed="rId2"/>
          <a:stretch/>
        </p:blipFill>
        <p:spPr>
          <a:xfrm>
            <a:off x="6572160" y="3514680"/>
            <a:ext cx="2571840" cy="19828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Наркотики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Содержимое 5" descr=""/>
          <p:cNvPicPr/>
          <p:nvPr/>
        </p:nvPicPr>
        <p:blipFill>
          <a:blip r:embed="rId3"/>
          <a:stretch/>
        </p:blipFill>
        <p:spPr>
          <a:xfrm>
            <a:off x="0" y="1620720"/>
            <a:ext cx="8004240" cy="3841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7:04:07Z</dcterms:created>
  <dc:creator>Хотабыч</dc:creator>
  <dc:description/>
  <dc:language>en-US</dc:language>
  <cp:lastModifiedBy>Польззователь</cp:lastModifiedBy>
  <dcterms:modified xsi:type="dcterms:W3CDTF">2020-04-08T07:14:05Z</dcterms:modified>
  <cp:revision>31</cp:revision>
  <dc:subject/>
  <dc:title>Слайд 1</dc:title>
</cp:coreProperties>
</file>