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3FC-BCF6-4867-8AA5-BB0C85F8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1A0-6A31-4043-BE96-3338C66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4B5-E846-434F-90BB-D7D49877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759-96C1-42A1-ACAF-EC00C4FF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729-8584-4BB1-850A-844534C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4804-22DA-468C-A5B2-232D7D7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D4D-BC47-4AE1-8321-4893DCBF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DED-799A-499E-8CDE-FB447A45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BF1-0652-477A-804A-E592D7CF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2720-E63F-4B7C-A32A-8D01C960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5C29-AEE3-4B16-B412-A7EC2A6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91A-E562-4ADF-872F-1B63ED00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B24-53DD-45A2-A791-CC90B83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6AF-77ED-41C1-A32E-C521D59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3F1-629F-4EFF-A288-1D1EC32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156E-762A-4373-904B-F6889FD6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59C5-F6AA-41A7-8F3A-E8404918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A79E-EEE3-49E4-9808-FEEC3D41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5EA8-3515-4BC2-BD78-FEF45AA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63FE-FDCB-42DC-9C3E-9A6ED3A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024C-83B7-4CBD-81FC-3E2F4BD9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8C8F3-54A6-4B5B-A651-7CFAC4A1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042-9D61-4339-B19C-5DAB88A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11FA-5E7C-461B-8F34-5055C4E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6F0E-4C34-4779-8FB4-180E19E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8326-3BEA-46F1-912E-1E78283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DD1D-69A3-4C10-A71E-EB068FB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7F01-98B3-4FC2-874A-0AD55D82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6B34-172B-4903-84B9-EF6C460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D1BF-01C5-49BC-B829-3BC30CD5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AFA6-AEA3-4E7F-9350-58497534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DD5A-9683-4A02-97C9-CD46EAE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D77E-CF8D-4E47-B547-2CCB52C4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7C4-696D-470F-B892-7F049BB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6015-E1FE-4A3F-B65E-D97BD80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43D6-5F18-4268-AE8A-5EC41512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0F70-95A0-4D5B-B4A5-D4F14325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3373-18D6-4D16-971A-A4219D1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4E45-9CE1-40EB-9EAE-562C54F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2E56-4148-4AE9-93D5-8F2C718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1DBA-F360-4383-9B29-2334FAC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8140-E711-40C2-B243-2F4C20E4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4A5E-5B3D-4671-966D-8069C0A6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2BFC-AA62-4D7B-AA71-81FF948A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D17-2364-4C03-ACC8-4D5CE82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8B3FF-B2A5-4056-9222-55C93AD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1196-B86E-4F32-9B29-EB61BEE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799A-58A3-4734-BCC1-A3B5512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FF61-5A40-45E9-9D64-382401AC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3893-09AF-47EC-ABD8-A40A15E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30D9A-77DE-4821-81EA-746AAD6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7BB1-949C-4EA3-8E8C-44F89AF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39DF-0D60-41E9-8999-D9064F3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1D18-9CE8-4177-9949-6341B05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46CC-C0FF-4AAB-9E9D-191013C1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24D-C32F-4E33-9B62-2888720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3F32-0BF5-4DBA-9522-3CBEB27A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2247-EAAA-4106-8449-9667EDB0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CFD2-122A-43AA-857E-40B2DD1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169A-8FDF-4A9E-8C3C-622B94F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3A43-D6D6-40AE-AB03-44C515C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BEE1-F1E7-4C4C-A6C1-0984EC8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77D7-F5FA-4A35-8B34-BC54624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6B9F-DD94-443A-8E7C-1C5FE755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A910-A842-4FFB-8A7B-C02FE95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41492-30B4-4751-B2DC-B85F5C6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293-AD00-4758-A57A-C39113D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A584-BE2C-47C1-B9F0-88EEBC55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5659-8FC0-4B58-A0FA-11AF028B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1CA4-ED52-4317-898A-E10E678F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F48-A8EA-4161-84EE-AA192D9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968-12C3-4227-9283-2DACE20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FB65-5882-4358-9B35-EC7349EC8F6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160-12F0-454D-9293-613ADEDD56C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572-6C60-4245-A05B-BEA8985F02B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04E-96E7-4BD6-9744-B75146ECC43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A776-1772-42FD-90BE-A0C0052C76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977-5293-4BA3-A5C5-AFAC1130FFE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620720" y="981000"/>
            <a:ext cx="6170760" cy="327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Общие проявл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личие влечения к повторным приемам средств с целью вызывания эйфо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Болезненное состояние при прекращении приема наркотика – синдром абстин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ранение синдрома абстиненции после приема токсических и наркотически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ристрастие быстро развивается у людей, имеющих психическую и физическую предрасположенность – эмоционально неустойчивых, с детства подверженных невротическим сры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Схема 5" descr=""/>
          <p:cNvPicPr/>
          <p:nvPr/>
        </p:nvPicPr>
        <p:blipFill>
          <a:blip r:embed="rId1"/>
          <a:stretch/>
        </p:blipFill>
        <p:spPr>
          <a:xfrm>
            <a:off x="-79200" y="1427040"/>
            <a:ext cx="9090000" cy="4851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тики поражают генетический аппарат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астичное поражение отдельных органов у детей носит массовый характ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ркомания и токсикомания имеют тенденцию к омолож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Установлено, что в раннем возрасте 3 главные причины приводят к диагнозу «наркомани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Любопытство – 65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лияние среды – 14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дражание – 13%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ешающее значение имеют особенности характера ребенка, подростка. К примеру, сверхвозбудимость  психики или, наоборот, затормож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3" descr="ГламуР.jpg"/>
          <p:cNvPicPr/>
          <p:nvPr/>
        </p:nvPicPr>
        <p:blipFill>
          <a:blip r:embed="rId1"/>
          <a:stretch/>
        </p:blipFill>
        <p:spPr>
          <a:xfrm>
            <a:off x="3238560" y="2914560"/>
            <a:ext cx="5905440" cy="3943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Табакокурение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Курение – расстройство всех функций организма, частые болезни, преждевременная см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Табак – самое вредное  для здоровья человека растение. В состав табачного дыма входят 30 компонентов. Которые относятся к натуральным ядам, например, никотин, окись углерода, тяжелые металлы и их соли, радиоактивные элементы и их изотоп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России сегодня курят 70 млн. человек , а ежегодно умирает от курения 400 тыс. 10% средств, расходуемых на здравоохранение, идут на борьбу с болезнями, связанными с хроническим отравлением табачным ды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тадии привыкания организм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401760" y="1590840"/>
            <a:ext cx="7535880" cy="46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хема 3" descr=""/>
          <p:cNvPicPr/>
          <p:nvPr/>
        </p:nvPicPr>
        <p:blipFill>
          <a:blip r:embed="rId1"/>
          <a:stretch/>
        </p:blipFill>
        <p:spPr>
          <a:xfrm>
            <a:off x="633240" y="3498840"/>
            <a:ext cx="8163000" cy="4419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Задерживает рост, умственное разви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витие кислородной недостато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вышение свертываемости кров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пособствует образованию склеротических бляш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Отрицательное воздействие на половую функцию у муж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иболее распространенными проблемами в наше время являются алкоголизм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ркомания и табакокурение. Однако знание человеком этих факторов, разрушающих здоровье, позволит им обрести психологическую уравновешенность, необходимую для ведения здорового образа жиз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3" descr="00009898.jp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Алкоголизм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968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Алкоголизм – это наркотический протоплазматический яд, действующий парализующим образом на любую живую клетку и, в первую очередь, на клетки высших отделов центральной нервной системы (ЦНС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Статистик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За последние 3 - 4 десятилетия потребление алкоголя на душу населения во многих странах удвоилось, а число случаев первичной госпитализации психических больных, злоупотребляющих алкоголем, утроилос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Показатель смертности от разных причин у лиц, потребляющих алкоголь, 3 – 4 раза превышает аналогичный показатель для населения в целом. Их средняя продолжительность жизни не превышает обычно 55 лет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 эйфория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Алкогольная эйфория  - состояние приподнятого настроения, беспечности, довольства, не соответствующее объективны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на исключает возможность критического отношения к своим высказываниям, поступкам, действиям, приводит к потере бд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стематическое употребление спиртных напитков уничтожает все, чем обогатил человек свой ум в течение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1" i="1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Алкогольная</a:t>
            </a: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зависимость </a:t>
            </a:r>
            <a:r>
              <a:rPr b="1" i="1" lang="en-GB" sz="3600" spc="-1" strike="noStrike">
                <a:solidFill>
                  <a:srgbClr val="ffffff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Содержимое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7510680" cy="454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оздействие на организ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5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7467480" cy="45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мания и токсикома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Наркомания – болезненное пристрастие к наркотикам, неконтролируемое их потреб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оксикомания – употребление средств бытовой химии (в основном ингаляционных) для получения наркотического эфф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8" descr="трава.gif"/>
          <p:cNvPicPr/>
          <p:nvPr/>
        </p:nvPicPr>
        <p:blipFill>
          <a:blip r:embed="rId1"/>
          <a:stretch/>
        </p:blipFill>
        <p:spPr>
          <a:xfrm>
            <a:off x="6572160" y="1428840"/>
            <a:ext cx="257184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00036567.jpg"/>
          <p:cNvPicPr/>
          <p:nvPr/>
        </p:nvPicPr>
        <p:blipFill>
          <a:blip r:embed="rId2"/>
          <a:stretch/>
        </p:blipFill>
        <p:spPr>
          <a:xfrm>
            <a:off x="6572160" y="3514680"/>
            <a:ext cx="2571840" cy="1982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Содержимое 5" descr=""/>
          <p:cNvPicPr/>
          <p:nvPr/>
        </p:nvPicPr>
        <p:blipFill>
          <a:blip r:embed="rId3"/>
          <a:stretch/>
        </p:blipFill>
        <p:spPr>
          <a:xfrm>
            <a:off x="0" y="1620720"/>
            <a:ext cx="8004240" cy="3841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04:07Z</dcterms:created>
  <dc:creator>Хотабыч</dc:creator>
  <dc:description/>
  <dc:language>en-US</dc:language>
  <cp:lastModifiedBy>Польззователь</cp:lastModifiedBy>
  <dcterms:modified xsi:type="dcterms:W3CDTF">2020-04-08T07:14:05Z</dcterms:modified>
  <cp:revision>31</cp:revision>
  <dc:subject/>
  <dc:title>Слайд 1</dc:title>
</cp:coreProperties>
</file>