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F1E-82F8-49E8-91ED-CCAD1336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558-4E59-4A95-8C9E-76CF4158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ED8-6BA1-4F3D-B2B5-CB78F9E9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0F3-AF21-41E6-8BC3-E30AA183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8F0-C852-48D1-8202-E13E5E5C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D2E-AE46-4ED9-88D0-B2FC68E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19D-6C3C-4DA0-AA9F-88D57160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111-A3B0-470F-A2A1-21B86959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C44-1FA1-485D-9AC8-5F115AD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08A-95B9-4D2C-B52E-207BF99A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6FD-DA9E-4C26-9254-DEAA9108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7A7-0D1E-4304-9794-12D070F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B05A-84E3-45F0-8874-F3F6E3FD3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Защита информации, антивирусная защи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уществует ряд признаков, свидетельствующих о заражении компьютер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вод на экран непредусмотренных сообщений или изобра­жен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ача непредусмотренных звуковых сигнал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жиданное открытие и закрытие лотка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-устройств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извольный, без вашего участия, запуск на компьютере каких-либо програм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вод на экран предупреждения о попытке какой-либо из программ вашего компьютера выйти в Интернет, хотя вы никак не инициировали такое ее поведение (при наличии установленной на вашем компьютере соответствующей антивирусной программы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знаки заражения виру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знаки заражения виру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33520" y="910080"/>
            <a:ext cx="83055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уют и косвенные признаки заражения вашего компьютер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ые зависания и сбои в работе компьюте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ленная работа компьютера при запуске програм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сть загрузки операционной сист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чезновение файлов и каталогов или искажение их содержимог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е обращение к жесткому диску, когда часто мигает лампочка на системном блок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630360" algn="just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Internet Explore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висает или ведет себя неожидан­ным образом, например окно программы невозможно закры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мпьютерный вирус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это целенаправленно созданная программа, автоматически приписывающая себя к другим программным продуктам, изменяющая или уничтожающая их. Компьютерные вирусы могут заразить компьютерные программы, привести к потере данных и даже вывести компьютер из стро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мпьютерные вирусы могут распространяться и проникать в операционную и файловую систему ПК только через внешние магнитные носители (жесткий и гибкий диски, компакт-диски) и через средства межкомпьютерной коммуник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т среды обит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ирусы можно разделить на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ете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файл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файлово-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ете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распространяются по различным компьютер­ным сет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айлов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внедряются главным образом в исполняемые модули, т.е. в файлы, имеющие расширения СОМ и ЕХ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внедряются в загрузочный сектор диска или сектор, содержащий программу загрузки сис­темного дис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айлово - загрузочные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ы заражают файлы и загрузочные сектора дис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ы вредоносных программ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пособу зара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ирусы разделяются н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зидентны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резидент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идент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ус при заражении компьютера оставляет в оперативной памяти свою резидентную часть, которая потом перехватывает обращение операционной системы к объектам зараже­ния (файлам, загрузочным секторам дисков и т.д.) и внедряется в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зидентны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усы не заражают память компьютера и являются активными огранич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ы вредоносных программ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воз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де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520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пас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ы, которые не мешают работе компью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520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ас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могут привести к различным нарушениям в работе компью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" indent="5209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опас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которых может привести к потере программ, уничтожению данных, стиранию информации в системных областях д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ы вредоносных программ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наружения, удаления и защиты от компьютерных вирусов разработано несколько видов специальных программ, которые позволяют обнаруживать и уничтожать вирусы. Такие программы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вирусны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ограммы-дете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т поиск характерной для конкретного вируса сиг­натуры в оперативной памяти и файлах и при обнаружении выдают соответствующие сообщение. Недостатком таких антивирусных программ является т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находить только те вирусы, которые известны разработчикам таких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ограммы-докт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только находят зараженные вирусами файлы, но и возвращают файлы в исходное состояние. В начале своей работы флаги ищут вирусы в оперативной памя­ти, уничтожая их, и только затем переходят к «лечению» фай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антивирус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рограммы-ревиз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поминают исходное состояние программ, каталогов и системных областей диска тогда, когда компьютер не заражен вирусом, а затем периодически или по желанию пользователя сравнивают текущее состояние с исходным. Обнаружение изменения выводится на экран мони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Программы - вакцин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ммуниз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резидентные программы, предотвращающие заражение 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антивирус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Программы-фильт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ж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 собой небольшие резидентные программы, предназначенные для обнаружения подозрительных действий при работе компьютера, характерных для виру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а коррекции файлов с расширениями СОМ и ЕХ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атрибутов фай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запись на диск по абсолютному адрес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в загрузочные сектора дис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ка резидентной програм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пытке вирусной атаки сторож посылает сообщение и предлагает запретить или разрешить соответствующи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антивирусных прогр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XP</cp:lastModifiedBy>
  <dcterms:modified xsi:type="dcterms:W3CDTF">2012-10-30T15:06:4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