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A76-2B11-4A61-AEB7-ECB7E009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105-ECB0-434D-894C-3E374D55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274-1169-4645-A5C5-05886DCD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0A4-19A8-43AF-B094-B065AEC1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00F-4178-4C8A-962A-2A30872C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7EE-BF70-4577-97FD-FBF0D17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056-D7CD-459C-B601-00B8DB53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7E3-1F53-4979-BA5E-781D0FA9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32A-61A3-4E7E-B847-079E7536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29D-DC42-434E-8F18-2C6076D0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64A-14AF-45E4-AA1B-B6DE8231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D8D-7C70-4E6D-9D5E-ABE6962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E4C5-2E7A-41D2-9246-16A1099F8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domovodstvo-kulinariya.ru/podelki-den-kosmonavtiki-iz-bumagi-i-kartona-s-shablonami.html" TargetMode="External"/><Relationship Id="rId2" Type="http://schemas.openxmlformats.org/officeDocument/2006/relationships/hyperlink" Target="https://domovodstvo-kulinariya.ru/podelki-den-kosmonavtiki-iz-bumagi-i-kartona-s-shablonami.html" TargetMode="External"/><Relationship Id="rId3" Type="http://schemas.openxmlformats.org/officeDocument/2006/relationships/hyperlink" Target="https://domovodstvo-kulinariya.ru/podelki-den-kosmonavtiki-iz-bumagi-i-kartona-s-shablonami.html" TargetMode="External"/><Relationship Id="rId4" Type="http://schemas.openxmlformats.org/officeDocument/2006/relationships/hyperlink" Target="https://domovodstvo-kulinariya.ru/podelki-den-kosmonavtiki-iz-bumagi-i-kartona-s-shablonami.html" TargetMode="External"/><Relationship Id="rId5" Type="http://schemas.openxmlformats.org/officeDocument/2006/relationships/hyperlink" Target="https://domovodstvo-kulinariya.ru/podelki-den-kosmonavtiki-iz-bumagi-i-kartona-s-shablonami.html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ultiurok.ru/files/prezentatsiia-dlia-detei-starshei-gruppy-etot-zaga.html" TargetMode="External"/><Relationship Id="rId2" Type="http://schemas.openxmlformats.org/officeDocument/2006/relationships/hyperlink" Target="https://multiurok.ru/files/prezentatsiia-dlia-detei-starshei-gruppy-etot-zaga.html" TargetMode="External"/><Relationship Id="rId3" Type="http://schemas.openxmlformats.org/officeDocument/2006/relationships/hyperlink" Target="https://multiurok.ru/files/prezentatsiia-dlia-detei-starshei-gruppy-etot-zaga.html" TargetMode="External"/><Relationship Id="rId4" Type="http://schemas.openxmlformats.org/officeDocument/2006/relationships/hyperlink" Target="https://multiurok.ru/files/prezentatsiia-dlia-detei-starshei-gruppy-etot-zaga.html" TargetMode="External"/><Relationship Id="rId5" Type="http://schemas.openxmlformats.org/officeDocument/2006/relationships/hyperlink" Target="https://multiurok.ru/files/prezentatsiia-dlia-detei-starshei-gruppy-etot-zaga.html" TargetMode="External"/><Relationship Id="rId6" Type="http://schemas.openxmlformats.org/officeDocument/2006/relationships/hyperlink" Target="https://multiurok.ru/files/prezentatsiia-dlia-detei-starshei-gruppy-etot-zaga.html" TargetMode="External"/><Relationship Id="rId7" Type="http://schemas.openxmlformats.org/officeDocument/2006/relationships/hyperlink" Target="https://multiurok.ru/files/prezentatsiia-dlia-detei-starshei-gruppy-etot-zaga.html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ultiurok.ru/files/prezentatsiia-dlia-detei-starshei-gruppy-etot-zaga.html" TargetMode="External"/><Relationship Id="rId2" Type="http://schemas.openxmlformats.org/officeDocument/2006/relationships/hyperlink" Target="https://multiurok.ru/files/prezentatsiia-dlia-detei-starshei-gruppy-etot-zaga.html" TargetMode="External"/><Relationship Id="rId3" Type="http://schemas.openxmlformats.org/officeDocument/2006/relationships/hyperlink" Target="https://multiurok.ru/files/prezentatsiia-dlia-detei-starshei-gruppy-etot-zaga.html" TargetMode="External"/><Relationship Id="rId4" Type="http://schemas.openxmlformats.org/officeDocument/2006/relationships/hyperlink" Target="https://multiurok.ru/files/prezentatsiia-dlia-detei-starshei-gruppy-etot-zaga.html" TargetMode="External"/><Relationship Id="rId5" Type="http://schemas.openxmlformats.org/officeDocument/2006/relationships/hyperlink" Target="https://multiurok.ru/files/prezentatsiia-dlia-detei-starshei-gruppy-etot-zaga.html" TargetMode="External"/><Relationship Id="rId6" Type="http://schemas.openxmlformats.org/officeDocument/2006/relationships/hyperlink" Target="https://multiurok.ru/files/prezentatsiia-dlia-detei-starshei-gruppy-etot-zaga.html" TargetMode="External"/><Relationship Id="rId7" Type="http://schemas.openxmlformats.org/officeDocument/2006/relationships/hyperlink" Target="https://multiurok.ru/files/prezentatsiia-dlia-detei-starshei-gruppy-etot-zaga.html" TargetMode="External"/><Relationship Id="rId8" Type="http://schemas.openxmlformats.org/officeDocument/2006/relationships/hyperlink" Target="https://multiurok.ru/files/prezentatsiia-dlia-detei-starshei-gruppy-etot-zaga.html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ТООТЧЁТ РАБОТ ВО ВРЕМЯ КАРАН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7.04-08.04 Аппликаци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Космонавт»</a:t>
            </a:r>
            <a:br>
              <a:rPr sz="2000"/>
            </a:b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movodstvo-kulinariya.ru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odelki-den-kosmonavtiki-iz-bumagi-i-kartona-s-shablonami.html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ение представлений о космосе у детей старшего возраст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оспитывать интерес к познанию окружающего мира, уважение к героям космоса, желание быть похожими на н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55640" y="1484280"/>
            <a:ext cx="7775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124000" y="-1539720"/>
            <a:ext cx="1523988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06.04.2020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смотр презент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Этот загадочный космос»</a:t>
            </a:r>
            <a:br>
              <a:rPr sz="2400"/>
            </a:b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ultiuro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fil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rezentatsiia-dlia-detei-starshei-gruppy-etot-zaga.html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8"/>
          <a:stretch/>
        </p:blipFill>
        <p:spPr>
          <a:xfrm>
            <a:off x="539640" y="1341360"/>
            <a:ext cx="7848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6. 04. Рисова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Этот загадочный космос»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_x000b_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ultiurok.ru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files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rezentatsiia-dlia-detei-starshei-gruppy-etot-zaga.html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вести беседу о космосе, посмотреть презентацию и нарисовать рисунок о космосе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755640" y="1628640"/>
            <a:ext cx="748836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4720" y="-100080"/>
            <a:ext cx="48592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-39600"/>
            <a:ext cx="64609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soloviev.cska@yandex.ru</cp:lastModifiedBy>
  <dcterms:modified xsi:type="dcterms:W3CDTF">2020-04-09T08:12:44Z</dcterms:modified>
  <cp:revision>22</cp:revision>
  <dc:subject/>
  <dc:title>Слайд 1</dc:title>
</cp:coreProperties>
</file>