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4CF-C464-41EE-B14E-3116CEAE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2C4-D3B2-4C9C-8EF9-6B3A329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93A-C59C-4AC2-8A74-9019A9FC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251-57AF-4810-820A-89650C28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194-36E6-4E38-A684-01BC024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1C7-BFBE-48FC-B3B6-56184904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65C-6B62-45D7-9E0D-B9A258D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3FB-29C2-4C1E-86C6-6E72C6B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67A-ED6B-4349-BDA8-42F10529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A1D-74A7-4244-A53D-F0CD90C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E42-DA9E-4FA8-9CBB-53CEC079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E2A-AD60-43BB-A716-50207B7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9A71-C006-45C6-B415-C5347E344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2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3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4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5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6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7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8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9" Type="http://schemas.openxmlformats.org/officeDocument/2006/relationships/hyperlink" Target="https://yandex.ru/video/preview/?filmId=11920819324615299019&amp;text=&#1088;&#1072;&#1082;&#1077;&#1090;&#1072;%20&#1057;&#1076;&#1077;&#1083;&#1072;&#1090;&#1100;%20&#1088;&#1072;&#1082;&#1077;&#1090;&#1091;%20&#1080;&#1079;%20&#1090;&#1091;&#1072;&#1083;&#1077;&#1090;&#1085;&#1099;&#1093;%20&#1074;&#1090;&#1091;&#1083;&#1086;&#1082;.&amp;path=wizard&amp;parent-reqid=1585991537751560-1278243849815449665800154-production-app-host-man-web-yp-129&amp;redircnt=1585991589.1" TargetMode="Externa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7.04-09.04 Конструирование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акет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Сделать ракету из втулок и картона. Пример: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yandex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vide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review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?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filmId=11920819324615299019&amp;text=ракета%20Сделать%20ракету%20из%20туалетных%20втулок.&amp;path=wizard&amp;parent-reqid=1585991537751560-1278243849815449665800154-production-app-host-man-web-yp-129&amp;redircnt=1585991589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0"/>
          <a:stretch/>
        </p:blipFill>
        <p:spPr>
          <a:xfrm>
            <a:off x="468360" y="1584360"/>
            <a:ext cx="820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32000" cy="511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9.04-10.04 Опыты и эксперименты Тема «Космос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ыбор 1 опыт из предложенных.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s://nsportal.ru/detskii-sad/vospitatelnaya-rabota/2020/04/04/opyty-dlya-doshkolnikov-na-temu-kos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840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3114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36003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59280" y="-542880"/>
            <a:ext cx="338472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7.04-08.04 ФЭМП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Арифметическая  задача на вычитание, соотнесение числа и цифры, работа в тетради в клетку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s://yandex.ru/images/search?text=«Арифметическая%20задача%20на%20вычитание%2C%20соотнесение%20числа%20и%20цифры%2C%20работа%20в%20тетради%20в%20клетку»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652920" cy="400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673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05440" cy="540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987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21440" cy="626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8304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soloviev.cska@yandex.ru</cp:lastModifiedBy>
  <dcterms:modified xsi:type="dcterms:W3CDTF">2020-04-09T08:09:37Z</dcterms:modified>
  <cp:revision>24</cp:revision>
  <dc:subject/>
  <dc:title>Слайд 1</dc:title>
</cp:coreProperties>
</file>