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AAD69-0E21-413E-B787-DBD766CFD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B5C54-8E7E-448E-B40E-F5A8DF0D2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16F89-065F-4E2F-9976-EB0952EE9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5E100-AC50-4DC6-9B90-D5F8EFFAA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25659-5574-4897-A3EB-46DD130AA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3F828-6084-43B3-9E78-0D2F23041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68630-D2C2-4024-9DDE-7DAF5F00B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FADB4-0649-47FD-81CD-D963E0DAD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92B11-24B6-4823-9A74-327159F72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94C8E-0BA1-421B-A40C-176909BD5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7BF2C-1304-4E83-A08E-63396FE7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B5C9D-07E9-4F81-A8BF-9C57443AA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98DDA-5CA3-453C-817C-A45CE738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1DBD2-F1BC-4CF0-8C34-33E58503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CD61F-FC16-4FD3-8CAA-126398573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8914E-1249-47C6-8C1A-B503279D5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7F61D-8A8B-4B35-AB0D-632488464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04C0F-02ED-4B19-B954-875F83550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B2D46-1CA7-4022-8086-B10DA875D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248B9-172A-4E64-93DB-5F8E6C2DC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EA510-757A-47E8-BACA-23B617FEC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06A3D-B135-4AC7-9E78-8E421CD5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7028B-723E-49A0-819A-D677D42A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0CA06-231F-4354-8E07-7E605CBF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86462-4FB3-4C98-BF7F-ADEF550E57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53168-1619-4014-9275-0B060E95341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10001"/>
          <p:cNvPicPr/>
          <p:nvPr/>
        </p:nvPicPr>
        <p:blipFill>
          <a:blip r:embed="rId1"/>
          <a:stretch/>
        </p:blipFill>
        <p:spPr>
          <a:xfrm>
            <a:off x="-181080" y="-14400"/>
            <a:ext cx="9325080" cy="68724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6012000" y="5805360"/>
            <a:ext cx="26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395280" y="62064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ARAMEL  APPL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5651640" y="1341360"/>
            <a:ext cx="324144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8 apple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2 packet of caram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¼ cup water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8 stick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43" name="Picture 5" descr="10004"/>
          <p:cNvPicPr/>
          <p:nvPr/>
        </p:nvPicPr>
        <p:blipFill>
          <a:blip r:embed="rId1"/>
          <a:stretch/>
        </p:blipFill>
        <p:spPr>
          <a:xfrm>
            <a:off x="755640" y="1268280"/>
            <a:ext cx="3745080" cy="296712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6"/>
          <p:cNvSpPr/>
          <p:nvPr/>
        </p:nvSpPr>
        <p:spPr>
          <a:xfrm>
            <a:off x="468360" y="4437000"/>
            <a:ext cx="8424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ut the saucepan with the caramels and water over a pan of boiling water. Boil the water until the caramels melt. Put a wooden stick into the top of each  apple, dip the apple into the caramel. Let them cool on wax paper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ANANA GHO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6" name="Picture 3" descr="10011"/>
          <p:cNvPicPr/>
          <p:nvPr/>
        </p:nvPicPr>
        <p:blipFill>
          <a:blip r:embed="rId1"/>
          <a:stretch/>
        </p:blipFill>
        <p:spPr>
          <a:xfrm>
            <a:off x="539640" y="1197000"/>
            <a:ext cx="3559320" cy="331164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4"/>
          <p:cNvSpPr/>
          <p:nvPr/>
        </p:nvSpPr>
        <p:spPr>
          <a:xfrm>
            <a:off x="5364000" y="1413000"/>
            <a:ext cx="338472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4 bananas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1 bar of white chocolate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8 sticks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539640" y="4508640"/>
            <a:ext cx="828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Peel the bananas and cut them in halves. Push a stick into each half and freeze until firm (about 3 hours). Put a bar of white chocolate in a saucepan and melt it. Spread the melted chocolate on the frozen banana halves. Put them on a dish. Press on candies or nuts for eyes and mouths and return them to the freezer until they are ready to serve. 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VIL’S EYEBAL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0" name="Picture 3" descr="10007"/>
          <p:cNvPicPr/>
          <p:nvPr/>
        </p:nvPicPr>
        <p:blipFill>
          <a:blip r:embed="rId1"/>
          <a:stretch/>
        </p:blipFill>
        <p:spPr>
          <a:xfrm>
            <a:off x="684360" y="1341360"/>
            <a:ext cx="4032000" cy="29178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4"/>
          <p:cNvSpPr/>
          <p:nvPr/>
        </p:nvSpPr>
        <p:spPr>
          <a:xfrm>
            <a:off x="5148360" y="1413000"/>
            <a:ext cx="367164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6</a:t>
            </a: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eggs (boiled hard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Cream cheese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12 olive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Ketchup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684360" y="4653000"/>
            <a:ext cx="799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ut the eggs in halves. Remove yolks and fill the hole with cream cheese. Cut the olives and press them into each cream cheese eyeball. Dip a toothpick into ketchup and draw broken blood vessels in the cream cheese. These eyeballs look terrific!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INGER SANDWICH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4" name="Picture 3" descr="10008"/>
          <p:cNvPicPr/>
          <p:nvPr/>
        </p:nvPicPr>
        <p:blipFill>
          <a:blip r:embed="rId1"/>
          <a:stretch/>
        </p:blipFill>
        <p:spPr>
          <a:xfrm>
            <a:off x="684360" y="1484280"/>
            <a:ext cx="3887640" cy="295272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4"/>
          <p:cNvSpPr/>
          <p:nvPr/>
        </p:nvSpPr>
        <p:spPr>
          <a:xfrm>
            <a:off x="5219640" y="1413000"/>
            <a:ext cx="39243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Thin sliced white bread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Soft butter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Cream cheese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Almond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Ketchup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611280" y="4724280"/>
            <a:ext cx="806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Gently flatten the slices of bread and spread them with a little butter and cream cheese. Stick an almond on to each tip to form the nails and add some tomato ketchup for the blood!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File0260"/>
          <p:cNvPicPr/>
          <p:nvPr/>
        </p:nvPicPr>
        <p:blipFill>
          <a:blip r:embed="rId1"/>
          <a:stretch/>
        </p:blipFill>
        <p:spPr>
          <a:xfrm>
            <a:off x="493560" y="476280"/>
            <a:ext cx="5446800" cy="55958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3"/>
          <p:cNvSpPr/>
          <p:nvPr/>
        </p:nvSpPr>
        <p:spPr>
          <a:xfrm>
            <a:off x="6227640" y="189000"/>
            <a:ext cx="2665440" cy="82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2800" spc="-1" strike="noStrike">
                <a:solidFill>
                  <a:srgbClr val="ff3300"/>
                </a:solidFill>
                <a:latin typeface="Garamond"/>
              </a:rPr>
              <a:t> Dabra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hasn’t got a broom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2800" spc="-1" strike="noStrike">
                <a:solidFill>
                  <a:srgbClr val="ff3300"/>
                </a:solidFill>
                <a:latin typeface="Garamond"/>
              </a:rPr>
              <a:t>Wabra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hasn’t got a big hat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2800" spc="-1" strike="noStrike">
                <a:solidFill>
                  <a:srgbClr val="ff3300"/>
                </a:solidFill>
                <a:latin typeface="Garamond"/>
              </a:rPr>
              <a:t>Dabra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lang="en-US" sz="2800" spc="-1" strike="noStrike">
                <a:solidFill>
                  <a:srgbClr val="ff3300"/>
                </a:solidFill>
                <a:latin typeface="Garamond"/>
              </a:rPr>
              <a:t>Abra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haven’t got long noses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4. The fat witch isn’t </a:t>
            </a:r>
            <a:r>
              <a:rPr b="1" lang="en-US" sz="2800" spc="-1" strike="noStrike">
                <a:solidFill>
                  <a:srgbClr val="ff3300"/>
                </a:solidFill>
                <a:latin typeface="Garamond"/>
              </a:rPr>
              <a:t>Cadabra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5. </a:t>
            </a:r>
            <a:r>
              <a:rPr b="1" lang="en-US" sz="2800" spc="-1" strike="noStrike">
                <a:solidFill>
                  <a:srgbClr val="ff3300"/>
                </a:solidFill>
                <a:latin typeface="Garamond"/>
              </a:rPr>
              <a:t>Abra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sn’t standing next to </a:t>
            </a:r>
            <a:r>
              <a:rPr b="1" lang="en-US" sz="2800" spc="-1" strike="noStrike">
                <a:solidFill>
                  <a:srgbClr val="ff3300"/>
                </a:solidFill>
                <a:latin typeface="Garamond"/>
              </a:rPr>
              <a:t>Wabra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10001"/>
          <p:cNvPicPr/>
          <p:nvPr/>
        </p:nvPicPr>
        <p:blipFill>
          <a:blip r:embed="rId1"/>
          <a:stretch/>
        </p:blipFill>
        <p:spPr>
          <a:xfrm>
            <a:off x="0" y="-2063880"/>
            <a:ext cx="10655280" cy="8921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900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ONALITY TES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187280" y="1484280"/>
            <a:ext cx="669636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Thing has attacked Helen. It is a ghost or a  vampire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obbie was so scared that he started to imagine things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obbie probably fell asleep and was having a nightmare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10001"/>
          <p:cNvPicPr/>
          <p:nvPr/>
        </p:nvPicPr>
        <p:blipFill>
          <a:blip r:embed="rId1"/>
          <a:stretch/>
        </p:blipFill>
        <p:spPr>
          <a:xfrm>
            <a:off x="-1116000" y="-2606760"/>
            <a:ext cx="11304720" cy="94647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10447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ONALITY TES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You love mystery. You believe there are things which don’t have a logical explana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You love feeling scared. You like to imagine    the worst and you think feeling scared is excit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You have your feet on the ground For you, every problem has a logical solution and you don’t believe in the supernatural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POOKY HALLOWEEN QUIZ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324000" y="1052640"/>
            <a:ext cx="32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. When is Halloween celebrated?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900000" y="1844640"/>
            <a:ext cx="259236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) December 25</a:t>
            </a:r>
            <a:r>
              <a:rPr b="1" lang="en-US" sz="2400" spc="-1" strike="noStrike" baseline="30000">
                <a:solidFill>
                  <a:srgbClr val="ffffff"/>
                </a:solidFill>
                <a:latin typeface="Garamond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) February 14</a:t>
            </a:r>
            <a:r>
              <a:rPr b="1" lang="en-US" sz="2400" spc="-1" strike="noStrike" baseline="30000">
                <a:solidFill>
                  <a:srgbClr val="ffffff"/>
                </a:solidFill>
                <a:latin typeface="Garamond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) October 31th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539640" y="3645000"/>
            <a:ext cx="396108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2. What colours are associated with Halloween?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) red and  green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) yellow and blue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) orange and black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4859280" y="1125360"/>
            <a:ext cx="35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3. Who can walk through walls?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5508720" y="1844640"/>
            <a:ext cx="158436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) witche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) goblin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) ghost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5148360" y="357336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4. What is worn to keep vampires away?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5508720" y="4581360"/>
            <a:ext cx="2520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) garlic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) onio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) pepper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8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2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7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1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6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0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5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9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468360" y="333360"/>
            <a:ext cx="359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5. When are werewolves supposed to come out?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684360" y="1341360"/>
            <a:ext cx="35272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during a full moo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) after midnight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) on a Halloween night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395280" y="3284640"/>
            <a:ext cx="30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6. What does a witch use for transport?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684360" y="4221000"/>
            <a:ext cx="2808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) a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hat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) a motorbik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) a broomstick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5219640" y="333360"/>
            <a:ext cx="33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7.What would you call a group of witches?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5580000" y="1413000"/>
            <a:ext cx="3168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ove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) gang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) mob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9" name="Picture 8" descr="20003"/>
          <p:cNvPicPr/>
          <p:nvPr/>
        </p:nvPicPr>
        <p:blipFill>
          <a:blip r:embed="rId1"/>
          <a:stretch/>
        </p:blipFill>
        <p:spPr>
          <a:xfrm>
            <a:off x="4356000" y="3213000"/>
            <a:ext cx="4176720" cy="333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7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1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6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0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5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9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10001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3"/>
          <p:cNvSpPr/>
          <p:nvPr/>
        </p:nvSpPr>
        <p:spPr>
          <a:xfrm>
            <a:off x="4211640" y="2133720"/>
            <a:ext cx="424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3300"/>
                </a:solidFill>
                <a:latin typeface="Garamond"/>
              </a:rPr>
              <a:t>“</a:t>
            </a:r>
            <a:r>
              <a:rPr b="1" lang="en-US" sz="8800" spc="-1" strike="noStrike">
                <a:solidFill>
                  <a:srgbClr val="ff3300"/>
                </a:solidFill>
                <a:latin typeface="Garamond"/>
              </a:rPr>
              <a:t>Boo!”</a:t>
            </a:r>
            <a:endParaRPr b="0" lang="en-US" sz="8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IT’S HALLOWE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t’s Halloween! It’s Halloween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moon is full and brigh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nd we shall see what can’t be se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On any other night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keletons and ghosts and ghouls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Grinning goblins fighting duels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Werewolves rising from their tombs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Witches on their magic broom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4" descr="10003"/>
          <p:cNvPicPr/>
          <p:nvPr/>
        </p:nvPicPr>
        <p:blipFill>
          <a:blip r:embed="rId1"/>
          <a:stretch/>
        </p:blipFill>
        <p:spPr>
          <a:xfrm>
            <a:off x="6516720" y="1628640"/>
            <a:ext cx="2465280" cy="423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Learn the words related to Halloween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395280" y="1125360"/>
            <a:ext cx="2521080" cy="55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at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on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room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ostum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ghost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gobli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monster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moo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4859280" y="1197000"/>
            <a:ext cx="3600360" cy="65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night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pumpki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skeleto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spider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spirit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vampir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witch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werewolf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2195640" y="119700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летучая мышь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2124000" y="1916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кость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2050920" y="2637000"/>
            <a:ext cx="20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метл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2556000" y="33577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костюм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2195640" y="4076640"/>
            <a:ext cx="18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ривидение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2124000" y="4797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омовой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2050920" y="5516640"/>
            <a:ext cx="20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чудовище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2556000" y="61657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лун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6" name="Text Box 13"/>
          <p:cNvSpPr/>
          <p:nvPr/>
        </p:nvSpPr>
        <p:spPr>
          <a:xfrm>
            <a:off x="6516720" y="11970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ночь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6443640" y="191628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тыкв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6443640" y="2637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келет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Text Box 16"/>
          <p:cNvSpPr/>
          <p:nvPr/>
        </p:nvSpPr>
        <p:spPr>
          <a:xfrm>
            <a:off x="6372360" y="335772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аук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6877080" y="414972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ух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1" name="Text Box 18"/>
          <p:cNvSpPr/>
          <p:nvPr/>
        </p:nvSpPr>
        <p:spPr>
          <a:xfrm>
            <a:off x="6732720" y="486900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ампир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Text Box 19"/>
          <p:cNvSpPr/>
          <p:nvPr/>
        </p:nvSpPr>
        <p:spPr>
          <a:xfrm>
            <a:off x="7164360" y="5516640"/>
            <a:ext cx="19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едьм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Text Box 20"/>
          <p:cNvSpPr/>
          <p:nvPr/>
        </p:nvSpPr>
        <p:spPr>
          <a:xfrm>
            <a:off x="6227640" y="6237360"/>
            <a:ext cx="29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оборотень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500"/>
                            </p:stCondLst>
                            <p:childTnLst>
                              <p:par>
                                <p:cTn id="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500"/>
                            </p:stCondLst>
                            <p:childTnLst>
                              <p:par>
                                <p:cTn id="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6000"/>
                            </p:stCondLst>
                            <p:childTnLst>
                              <p:par>
                                <p:cTn id="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6500"/>
                            </p:stCondLst>
                            <p:childTnLst>
                              <p:par>
                                <p:cTn id="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7000"/>
                            </p:stCondLst>
                            <p:childTnLst>
                              <p:par>
                                <p:cTn id="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7500"/>
                            </p:stCondLst>
                            <p:childTnLst>
                              <p:par>
                                <p:cTn id="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1728720" y="287280"/>
          <a:ext cx="5688000" cy="5834160"/>
        </p:xfrm>
        <a:graphic>
          <a:graphicData uri="http://schemas.openxmlformats.org/drawingml/2006/table">
            <a:tbl>
              <a:tblPr/>
              <a:tblGrid>
                <a:gridCol w="709560"/>
                <a:gridCol w="712800"/>
                <a:gridCol w="709560"/>
                <a:gridCol w="712800"/>
                <a:gridCol w="709920"/>
                <a:gridCol w="711000"/>
                <a:gridCol w="712800"/>
                <a:gridCol w="709560"/>
              </a:tblGrid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W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U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W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W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1692360" y="503280"/>
          <a:ext cx="5759280" cy="5851440"/>
        </p:xfrm>
        <a:graphic>
          <a:graphicData uri="http://schemas.openxmlformats.org/drawingml/2006/table">
            <a:tbl>
              <a:tblPr/>
              <a:tblGrid>
                <a:gridCol w="718920"/>
                <a:gridCol w="720720"/>
                <a:gridCol w="719280"/>
                <a:gridCol w="720720"/>
                <a:gridCol w="719280"/>
                <a:gridCol w="720720"/>
                <a:gridCol w="720720"/>
                <a:gridCol w="718920"/>
              </a:tblGrid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1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V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100" spc="-1" strike="noStrike">
                          <a:solidFill>
                            <a:srgbClr val="ff3300"/>
                          </a:solidFill>
                          <a:latin typeface="Constantia"/>
                        </a:rPr>
                        <a:t>S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100" spc="-1" strike="noStrike">
                          <a:solidFill>
                            <a:srgbClr val="ff3300"/>
                          </a:solidFill>
                          <a:latin typeface="Constantia"/>
                        </a:rPr>
                        <a:t>P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100" spc="-1" strike="noStrike">
                          <a:solidFill>
                            <a:srgbClr val="ff3300"/>
                          </a:solidFill>
                          <a:latin typeface="Constantia"/>
                        </a:rPr>
                        <a:t>I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100" spc="-1" strike="noStrike">
                          <a:solidFill>
                            <a:srgbClr val="ff3300"/>
                          </a:solidFill>
                          <a:latin typeface="Constantia"/>
                        </a:rPr>
                        <a:t>R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100" spc="-1" strike="noStrike">
                          <a:solidFill>
                            <a:srgbClr val="ff3300"/>
                          </a:solidFill>
                          <a:latin typeface="Constantia"/>
                        </a:rPr>
                        <a:t>I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100" spc="-1" strike="noStrike">
                          <a:solidFill>
                            <a:srgbClr val="ff3300"/>
                          </a:solidFill>
                          <a:latin typeface="Constantia"/>
                        </a:rPr>
                        <a:t>T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1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A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1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G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100" spc="-1" strike="noStrike">
                          <a:solidFill>
                            <a:srgbClr val="ff3300"/>
                          </a:solidFill>
                          <a:latin typeface="Constantia"/>
                        </a:rPr>
                        <a:t>B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100" spc="-1" strike="noStrike">
                          <a:solidFill>
                            <a:srgbClr val="ff3300"/>
                          </a:solidFill>
                          <a:latin typeface="Constantia"/>
                        </a:rPr>
                        <a:t>A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100" spc="-1" strike="noStrike">
                          <a:solidFill>
                            <a:srgbClr val="ff3300"/>
                          </a:solidFill>
                          <a:latin typeface="Constantia"/>
                        </a:rPr>
                        <a:t>T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1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M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1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H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1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W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1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1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G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1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O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1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B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1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L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1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I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1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N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1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I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1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S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1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T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1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R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1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T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1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C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1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E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1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H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100" spc="-1" strike="noStrike">
                          <a:solidFill>
                            <a:srgbClr val="ff3300"/>
                          </a:solidFill>
                          <a:latin typeface="Constantia"/>
                        </a:rPr>
                        <a:t>W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100" spc="-1" strike="noStrike">
                          <a:solidFill>
                            <a:srgbClr val="ff3300"/>
                          </a:solidFill>
                          <a:latin typeface="Constantia"/>
                        </a:rPr>
                        <a:t>E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100" spc="-1" strike="noStrike">
                          <a:solidFill>
                            <a:srgbClr val="ff3300"/>
                          </a:solidFill>
                          <a:latin typeface="Constantia"/>
                        </a:rPr>
                        <a:t>R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100" spc="-1" strike="noStrike">
                          <a:solidFill>
                            <a:srgbClr val="ff3300"/>
                          </a:solidFill>
                          <a:latin typeface="Constantia"/>
                        </a:rPr>
                        <a:t>E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100" spc="-1" strike="noStrike">
                          <a:solidFill>
                            <a:srgbClr val="ff3300"/>
                          </a:solidFill>
                          <a:latin typeface="Constantia"/>
                        </a:rPr>
                        <a:t>W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100" spc="-1" strike="noStrike">
                          <a:solidFill>
                            <a:srgbClr val="ff3300"/>
                          </a:solidFill>
                          <a:latin typeface="Constantia"/>
                        </a:rPr>
                        <a:t>O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100" spc="-1" strike="noStrike">
                          <a:solidFill>
                            <a:srgbClr val="ff3300"/>
                          </a:solidFill>
                          <a:latin typeface="Constantia"/>
                        </a:rPr>
                        <a:t>L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100" spc="-1" strike="noStrike">
                          <a:solidFill>
                            <a:srgbClr val="ff3300"/>
                          </a:solidFill>
                          <a:latin typeface="Constantia"/>
                        </a:rPr>
                        <a:t>F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10002"/>
          <p:cNvPicPr/>
          <p:nvPr/>
        </p:nvPicPr>
        <p:blipFill>
          <a:blip r:embed="rId1"/>
          <a:stretch/>
        </p:blipFill>
        <p:spPr>
          <a:xfrm>
            <a:off x="468360" y="476280"/>
            <a:ext cx="2951280" cy="3097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20001"/>
          <p:cNvPicPr/>
          <p:nvPr/>
        </p:nvPicPr>
        <p:blipFill>
          <a:blip r:embed="rId2"/>
          <a:stretch/>
        </p:blipFill>
        <p:spPr>
          <a:xfrm>
            <a:off x="468360" y="4076640"/>
            <a:ext cx="2951280" cy="23050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4"/>
          <p:cNvSpPr/>
          <p:nvPr/>
        </p:nvSpPr>
        <p:spPr>
          <a:xfrm>
            <a:off x="4859280" y="1628640"/>
            <a:ext cx="37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4211640" y="476280"/>
            <a:ext cx="4537080" cy="76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Halloween is celebrated by nearly all British and American children, and over 70% of adults. Many families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carve pumpkins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and decorate the outside of their houses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Part of the fun of Halloween is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to get scared out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of your wits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.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This can easily be done by visiting     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a  haunted house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Why do spirits hate the living and try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to scare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them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away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e living always want to clean up their homes, while ghosts prefer dust, spiders and darkness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500"/>
                            </p:stCondLst>
                            <p:childTnLst>
                              <p:par>
                                <p:cTn id="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File0083"/>
          <p:cNvPicPr/>
          <p:nvPr/>
        </p:nvPicPr>
        <p:blipFill>
          <a:blip r:embed="rId1"/>
          <a:stretch/>
        </p:blipFill>
        <p:spPr>
          <a:xfrm>
            <a:off x="250920" y="333360"/>
            <a:ext cx="3601800" cy="3887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File0084"/>
          <p:cNvPicPr/>
          <p:nvPr/>
        </p:nvPicPr>
        <p:blipFill>
          <a:blip r:embed="rId2"/>
          <a:stretch/>
        </p:blipFill>
        <p:spPr>
          <a:xfrm>
            <a:off x="4211640" y="2349360"/>
            <a:ext cx="4575240" cy="423396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4"/>
          <p:cNvSpPr/>
          <p:nvPr/>
        </p:nvSpPr>
        <p:spPr>
          <a:xfrm>
            <a:off x="250920" y="4508640"/>
            <a:ext cx="3673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e Tower of London is said to have 30 ghosts! Visitors have seen Queen Anna Boleyn, for example, the second wife of King Henry  VIII 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4284720" y="620640"/>
            <a:ext cx="446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e ghost of his fifth wife, Catherine Howard, runs through the rooms of Hampton Court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File0081"/>
          <p:cNvPicPr/>
          <p:nvPr/>
        </p:nvPicPr>
        <p:blipFill>
          <a:blip r:embed="rId1"/>
          <a:stretch/>
        </p:blipFill>
        <p:spPr>
          <a:xfrm>
            <a:off x="250920" y="260280"/>
            <a:ext cx="3211560" cy="3384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File0082"/>
          <p:cNvPicPr/>
          <p:nvPr/>
        </p:nvPicPr>
        <p:blipFill>
          <a:blip r:embed="rId2"/>
          <a:stretch/>
        </p:blipFill>
        <p:spPr>
          <a:xfrm>
            <a:off x="3924360" y="2781360"/>
            <a:ext cx="5003640" cy="376236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4"/>
          <p:cNvSpPr/>
          <p:nvPr/>
        </p:nvSpPr>
        <p:spPr>
          <a:xfrm>
            <a:off x="250920" y="4221000"/>
            <a:ext cx="316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e beautiful Glamis Castle has a reputation as the most haunted castle in Scotland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3924360" y="1052640"/>
            <a:ext cx="50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e Chapel at Glamis is the Grey Lady’s favourite place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20002"/>
          <p:cNvPicPr/>
          <p:nvPr/>
        </p:nvPicPr>
        <p:blipFill>
          <a:blip r:embed="rId1"/>
          <a:stretch/>
        </p:blipFill>
        <p:spPr>
          <a:xfrm>
            <a:off x="1785960" y="189000"/>
            <a:ext cx="5429160" cy="431964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3"/>
          <p:cNvSpPr/>
          <p:nvPr/>
        </p:nvSpPr>
        <p:spPr>
          <a:xfrm>
            <a:off x="179280" y="4581360"/>
            <a:ext cx="867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Most children have a wonderful day on Halloween. They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go trick-or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Garamond"/>
              </a:rPr>
              <a:t>-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 treating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. Often, there’s a party at a friend’s home. At most parties, prizes are given for the best costumes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Bobbing for apples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telling fortunes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, and snacking on caramel apples,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cider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, and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pumpkin pie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8T10:33:52Z</dcterms:created>
  <dc:creator/>
  <dc:description/>
  <dc:language>en-US</dc:language>
  <cp:lastModifiedBy>Admin</cp:lastModifiedBy>
  <dcterms:modified xsi:type="dcterms:W3CDTF">2020-04-09T10:06:38Z</dcterms:modified>
  <cp:revision>48</cp:revision>
  <dc:subject/>
  <dc:title>Слайд 1</dc:title>
</cp:coreProperties>
</file>