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2A16-BACC-4E38-B30E-7C973B197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E04D-11ED-48D0-A4B8-68433A7F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22AD-8511-4DB5-A274-ADDC96651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7FE1-EEF5-4B84-9061-AD17E85D7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C19A1-A9A3-44A8-BD0C-4BB2C3165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A5AC-F505-4489-BA5A-5BEE3F1A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260F-8CD5-4CF4-A1C3-B32D24C7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BEF4C-DF51-4B83-9A34-6C85C165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4F8F-6485-406B-89BF-BF2C8CFD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74E3-D368-4016-B43B-3BB8442C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AAA8F-20A5-45FA-AC7B-DFA226C9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B9E3-CD62-4546-94EA-7EE410CE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F5F9B-0CCB-4468-BDF0-45F399C9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1136-FC47-4CF2-BE23-A0F97A13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6FF0-8BB7-48C6-883F-55BEEBEA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1A7EB-A7FF-4624-9C81-E9D7A20F0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8D4D-583C-4E38-BB47-706F23290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91675-EA4E-47EE-8424-3CDA8F935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A6310-EF3F-4F58-B403-31A90B93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87802-8C9F-4213-B67B-FB164C83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073A5-6100-4808-A158-3F9E6FAA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34143-FA42-487A-9601-8BCAFFFF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7850-2582-438C-8323-9F0D5D76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84CA2-FFFC-4F7E-A86C-D8502C57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2DE2D-C8D1-4E82-AF81-E5E1A086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1ADA9-FC3F-4686-9679-BDD793F5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BD7FA-8B76-4570-9F8D-D5F426A2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12FEE-4D16-46E7-AE3E-049F140F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F8C70-D815-485F-B6E8-8B6EE5847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7E527-A085-4078-8E68-5BAC8E17F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5CD86-D78A-4CB0-8D6D-DF5F36A7F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2E5F2-F947-4406-8F51-9A403989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BF1BC-352B-420D-9A66-ACA003DA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DAC6-32A3-4572-9B3C-C2E28399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CF3F5-BE3F-429C-B527-DE7CD43E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33DF3-2AF0-43BB-941F-F6761147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9307B-E30C-45A2-AAD0-A33D2D84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E902F-04E9-415C-97C7-AB47B663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9D59C-EF48-4344-A678-7F92F10F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7EC8B-AD07-4062-8A4B-8A55DE1C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7BA88-12E3-4F13-B18A-F8226022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4C094-7EE0-4C65-8654-CAB1C6CC5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C1749-5185-4BAF-B557-068A0919E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A014B-02D7-45FB-A88B-77E9EEA4F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0ADA-D137-4496-BE32-E1FCFD01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2DD3C-B40A-4E82-85F3-B5A91E01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4E811-591B-463A-A2C4-1A5E6CF8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947F8-392F-4FA5-9066-4009BC2C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7BF67-7074-4E98-86BD-D1318F5D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38BD2-6D9A-49E9-9C82-435C133A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E17C0-C612-4570-8251-78780401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2D048-F099-47D2-BCFD-E5E639DE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DA6CB-4E31-46A4-9E75-D5E49528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5570C-F82E-47BD-ADAC-01C50668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8CBCB-0D66-463D-984E-A6382248B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B26F-C585-4039-8E76-5B69D94B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B8D9D-9EAE-40E9-A4D2-967894953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BEA7A-EF72-4EF2-BBAD-B8F3D2529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2714F-7E92-42B8-86B6-39B2E705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CBA72-42A7-416E-851B-99621FAA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371BF-6A5D-4DAE-ACCE-8199631B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3F158-4DB2-46B3-B43B-CA15E801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C058B-E8DA-433A-B8B2-45570B40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3259C-F728-48B2-9294-30027EDC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D19D8-1CD9-4ACE-AB97-D7580D99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3B383-884D-4712-93F1-D108F932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FDA7-656F-4ED7-BCBF-D5972775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562ED-6A67-46B6-ADF5-F52B1A81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A1359-A28E-43CC-932C-EB6A69EBE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A2165-F7B7-4DE9-93E1-BD1EF2515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EB214-67B8-4CE3-A6A2-06D5A9846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7D61F-EC64-4095-A731-E462033C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113D9-98CD-4222-9038-02167555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AB043-812E-47E2-9B8B-FD3FE54D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0374E-A688-4864-84BA-6C695E90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B8BAB-1217-46EC-8930-5C7D6DA7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F3065-56E3-4A46-B84A-11DB7587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DCB9-E753-428D-B9DE-E002D111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78CCB-62E9-4966-AC98-9E25401C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E01B2-EA36-4993-B5AC-BD530B49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61182-DFA3-4701-AD02-84A12FA4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FF822-E8C0-4809-988B-FD839C7D5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2647F-03ED-4D62-B9C2-A93674A52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CAE2E-E62A-4F30-95AF-10F700150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5EDED-B00D-4D2A-8183-D6711EA6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EAC92-EE82-4961-8350-2542D95B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EF697-E299-42B1-B7D8-D1553964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5BF50-9F46-4CA7-B212-2F497772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0E47-19D0-45A3-82D2-F87AB1A6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FB7C8-02C9-4A05-AB51-E50EECCE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5D521-FAD3-4DC9-B900-2D7B1B1F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54384-BD1E-4A61-B757-CA5444F1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AC42F-3663-4159-BE2D-C5A95173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99536-8B67-4A38-BBB6-C14BBF06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D14E1-789C-42C7-BBD6-B5A6F60D4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9AE2F-3575-4384-96C0-312757C7B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CEFF-09DD-4A43-A9E2-71457F90E581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31E3-9E98-4CF3-A68E-460B62328EA4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2AEF-F30E-4DDD-866F-738468583E5A}" type="slidenum">
              <a:rPr b="0" lang="ru-RU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D981-5313-49C2-8C9A-6D4BB2D58113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30D0-2CFA-430D-AF43-D1C7D1FAC755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0B5E-AF57-433A-861A-3B7118C50F59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182A-3C5D-48D0-BAB2-1192505DF146}" type="slidenum">
              <a:rPr b="0" lang="ru-RU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CA45-75F4-4E2D-ACD7-414F7CA77677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choolhealth.at.ua/_si/0/17611356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db3cf"/>
            </a:gs>
            <a:gs pos="100000">
              <a:srgbClr val="e6e8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70c0"/>
                </a:solidFill>
                <a:latin typeface="Cambria"/>
              </a:rPr>
              <a:t>РЕПРОДУКТИВНОЕ  </a:t>
            </a:r>
            <a:br>
              <a:rPr sz="2900"/>
            </a:br>
            <a:r>
              <a:rPr b="1" lang="ru-RU" sz="2900" spc="-1" strike="noStrike">
                <a:solidFill>
                  <a:srgbClr val="0070c0"/>
                </a:solidFill>
                <a:latin typeface="Cambria"/>
              </a:rPr>
              <a:t>ЗДОРОВЬЕ</a:t>
            </a: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53"/>
                </a:solidFill>
                <a:latin typeface="Cambria"/>
              </a:rPr>
              <a:t>8 клас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" name="Рисунок 2" descr="s1761135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3280" y="765000"/>
            <a:ext cx="2592360" cy="26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280" y="151920"/>
            <a:ext cx="814716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mbria"/>
              </a:rPr>
              <a:t>Наивысшее предназначение</a:t>
            </a:r>
            <a:endParaRPr b="0" lang="en-US" sz="4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5d4e1"/>
                </a:solidFill>
                <a:latin typeface="Calibri"/>
              </a:rPr>
              <a:t>Когда человек чувствует себя счастливы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Большинство людей могут ощущать себя счастливыми лишь выполнив особое предназначение – продолжение р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81468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b050"/>
                </a:solidFill>
                <a:latin typeface="Cambria"/>
              </a:rPr>
              <a:t>Продолжение рода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250920" y="1219320"/>
            <a:ext cx="864216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50"/>
                </a:solidFill>
                <a:latin typeface="Calibri"/>
              </a:rPr>
              <a:t>Размножение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это неотъемлемое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войство всех живых организмов наряду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 обменом веществ, питанием, дыханием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ыделением, раздражительностью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цикличностью и другими свойствами живого.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множение обеспечивают наследственность и изменчив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Picture 2" descr="C:\Users\Оля\Downloads\cats4.jpg"/>
          <p:cNvPicPr/>
          <p:nvPr/>
        </p:nvPicPr>
        <p:blipFill>
          <a:blip r:embed="rId1"/>
          <a:stretch/>
        </p:blipFill>
        <p:spPr>
          <a:xfrm>
            <a:off x="3059280" y="4292640"/>
            <a:ext cx="3098520" cy="22114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" descr="C:\Users\Оля\Downloads\250px-Helix-Pomatia-Copulation.jpg"/>
          <p:cNvPicPr/>
          <p:nvPr/>
        </p:nvPicPr>
        <p:blipFill>
          <a:blip r:embed="rId2"/>
          <a:stretch/>
        </p:blipFill>
        <p:spPr>
          <a:xfrm>
            <a:off x="539640" y="4365720"/>
            <a:ext cx="2286000" cy="18288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C:\Users\Оля\Downloads\размножение-петушков.jpg"/>
          <p:cNvPicPr/>
          <p:nvPr/>
        </p:nvPicPr>
        <p:blipFill>
          <a:blip r:embed="rId3"/>
          <a:stretch/>
        </p:blipFill>
        <p:spPr>
          <a:xfrm>
            <a:off x="6300720" y="4365720"/>
            <a:ext cx="2378160" cy="19018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" descr="http://florainhome.ru/wp-content/uploads/2012/03/%D1%80%D0%B0%D0%B7%D0%BC%D0%BD%D0%BE%D0%B6%D0%B5%D0%BD%D0%B8%D0%B5-%D0%BE%D1%82%D0%B2%D0%BE%D0%B4%D0%BA%D0%B0%D0%BC%D0%B8.jpg"/>
          <p:cNvPicPr/>
          <p:nvPr/>
        </p:nvPicPr>
        <p:blipFill>
          <a:blip r:embed="rId4"/>
          <a:stretch/>
        </p:blipFill>
        <p:spPr>
          <a:xfrm>
            <a:off x="6391440" y="1052640"/>
            <a:ext cx="27525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f363">
            <a:alpha val="8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C:\Users\Оля\Downloads\text_92.jpg"/>
          <p:cNvPicPr/>
          <p:nvPr/>
        </p:nvPicPr>
        <p:blipFill>
          <a:blip r:embed="rId1"/>
          <a:stretch/>
        </p:blipFill>
        <p:spPr>
          <a:xfrm>
            <a:off x="611280" y="4076640"/>
            <a:ext cx="3230640" cy="21463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" descr="C:\Users\Оля\Downloads\razmnozhenie-koshek.jpg"/>
          <p:cNvPicPr/>
          <p:nvPr/>
        </p:nvPicPr>
        <p:blipFill>
          <a:blip r:embed="rId2"/>
          <a:stretch/>
        </p:blipFill>
        <p:spPr>
          <a:xfrm>
            <a:off x="5867280" y="549360"/>
            <a:ext cx="2768760" cy="21510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395280" y="764640"/>
            <a:ext cx="842472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600" spc="-1" strike="noStrike">
                <a:solidFill>
                  <a:srgbClr val="ff9900"/>
                </a:solidFill>
                <a:latin typeface="Calibri"/>
              </a:rPr>
              <a:t>Наследственность</a:t>
            </a:r>
            <a:r>
              <a:rPr b="0" lang="ru-RU" sz="2600" spc="-1" strike="noStrike">
                <a:solidFill>
                  <a:srgbClr val="ff99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– это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пособность живых организмов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ередавать свои признаки 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войства следующему поколению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9900"/>
                </a:solidFill>
                <a:latin typeface="Calibri"/>
              </a:rPr>
              <a:t>    </a:t>
            </a:r>
            <a:r>
              <a:rPr b="1" lang="ru-RU" sz="2600" spc="-1" strike="noStrike">
                <a:solidFill>
                  <a:srgbClr val="ff9900"/>
                </a:solidFill>
                <a:latin typeface="Calibri"/>
              </a:rPr>
              <a:t>Изменчивость</a:t>
            </a:r>
            <a:r>
              <a:rPr b="0" lang="ru-RU" sz="2600" spc="-1" strike="noStrike">
                <a:solidFill>
                  <a:srgbClr val="ff99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это свойство организмов существовать в различных формах и вариациях. Человеку, как и всем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рганизмам,  присуща и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следственность, и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зменчивость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C:\Users\Оля\Downloads\2010051203539_834.jpg"/>
          <p:cNvPicPr/>
          <p:nvPr/>
        </p:nvPicPr>
        <p:blipFill>
          <a:blip r:embed="rId1"/>
          <a:stretch/>
        </p:blipFill>
        <p:spPr>
          <a:xfrm>
            <a:off x="2340000" y="1052640"/>
            <a:ext cx="4248000" cy="480996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68000" y="260280"/>
            <a:ext cx="8496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продукция человек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т.е. его размножение, - это биологическая функция, необходимая для сохранения человека как биологического вида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им образом, если говорить о биологических задача человека, то одной из них является оставление потомства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едавая потомкам свои гены, человек находит биологическое продолжение - его гены продолжают жить, проявляясь в потомках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ганизм, не оставивший потомства, эволюционно не существует, его будто и не был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ловек как биологический вид обладает врожденными инстинктами выживания, продолжения рода и сохранения потомства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100" spc="-1" strike="noStrike">
                <a:solidFill>
                  <a:srgbClr val="00b0f0"/>
                </a:solidFill>
                <a:latin typeface="Calibri"/>
              </a:rPr>
              <a:t>Оставление потомства для каждого конкретного человека является не только биологической, но и социально-экономической задачей. Ребенка нужно не просто родить, но и воспитать как личность.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3300" spc="-1" strike="noStrike">
                <a:solidFill>
                  <a:srgbClr val="00b0f0"/>
                </a:solidFill>
                <a:latin typeface="Calibri"/>
              </a:rPr>
              <a:t>Кроме того, согласно Конституции,  родители обязаны содержать своих детей до их совершеннолетия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b0f0"/>
                </a:solidFill>
                <a:latin typeface="Calibri"/>
              </a:rPr>
              <a:t>   </a:t>
            </a:r>
            <a:r>
              <a:rPr b="1" lang="ru-RU" sz="3300" spc="-1" strike="noStrike">
                <a:solidFill>
                  <a:srgbClr val="00b0f0"/>
                </a:solidFill>
                <a:latin typeface="Calibri"/>
              </a:rPr>
              <a:t>Недостаточно воссоздать человека биологически - она ​​должна сформироваться как личность, освоить человеческую культуру. Социальное воспитание человека начинается в семье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ff0000"/>
                </a:solidFill>
                <a:latin typeface="Cambria"/>
              </a:rPr>
              <a:t>Необходимость семьи </a:t>
            </a:r>
            <a:br>
              <a:rPr sz="2900"/>
            </a:br>
            <a:r>
              <a:rPr b="1" i="1" lang="ru-RU" sz="2900" spc="-1" strike="noStrike">
                <a:solidFill>
                  <a:srgbClr val="ff0000"/>
                </a:solidFill>
                <a:latin typeface="Cambria"/>
              </a:rPr>
              <a:t>для продолжения рода</a:t>
            </a: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лово «семья» происходит от корня «семь», который означает «семя» и «продолжение рода», то есть рождение и воспитание детей, является основным назначением создания семьи. Иногда это слово делят на «семь» и «я», указывая на то, что дети являются продолжением своих родителей. Семья играет огромную роль как в жизни отдельной личности, так и всего общества, поэтому общество заинтересовано в прочной, духовно и морально здоровой семь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актически семья - это среда, в которой воспитывается ребенок. То, что малыш в детские годы получает в семье, он сохраняет в течение всей последующей жизни, именно в семье закладываются основы его личност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b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1720" indent="-2617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Лев Толстой писал: «Все счастливые семьи похожи одна на другую, каждая несчастливая – несчастлива по-своему». Это потому, что семейное счастье строится на универсальных составляющих: любви, уважении и важных бытовых жизненных навыках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1720" indent="-2617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подростковом возрасте стоит задуматься над тем, что взросление связано с созданием собственной семь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1720" indent="-2617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пробуйте представить себя родителями,                              которые несут ответственность за своих детей. Возможно,                                               после этого вы увидите своих собственных                                  родителей совсем другими глазами.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1720" indent="-2617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роме того, и ваша самооценка тоже станет                                   более адекватно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2" name="Picture 2" descr="C:\Users\Оля\Downloads\001.Семья программистов.jpg"/>
          <p:cNvPicPr/>
          <p:nvPr/>
        </p:nvPicPr>
        <p:blipFill>
          <a:blip r:embed="rId1"/>
          <a:stretch/>
        </p:blipFill>
        <p:spPr>
          <a:xfrm>
            <a:off x="6696000" y="4797360"/>
            <a:ext cx="230364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>
            <a:alpha val="4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9280" y="151920"/>
            <a:ext cx="814716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mbria"/>
              </a:rPr>
              <a:t>Репродуктивное здоровье молодежи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79280" y="1218960"/>
            <a:ext cx="896472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ажной составляющей понятия «здоровье» является репродуктивное здоровь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продукция (от латинских слов re - префикс обратного, повторного воздействия и produco - «произвожу», «создаю») - воспроизведение организмом новых особей, размнож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Репродуктивное здоровье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это состояние полного физического и социального благополучия, а не только отсутствие заболеваний репродуктивной системы и нарушений ее функций. 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им образом, </a:t>
            </a: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репродуктивное здоровь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значает возможность счастливой и безопасной половой жизни, способность к рождению детей, возможность самостоятельно определять количество детей в своей семь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2T16:53:23Z</dcterms:created>
  <dc:creator>Оля</dc:creator>
  <dc:description/>
  <dc:language>en-US</dc:language>
  <cp:lastModifiedBy>User</cp:lastModifiedBy>
  <dcterms:modified xsi:type="dcterms:W3CDTF">2020-04-08T20:59:21Z</dcterms:modified>
  <cp:revision>41</cp:revision>
  <dc:subject/>
  <dc:title>РЕПРОДУКТИВНОЕ   ЗДОРОВЬЕ</dc:title>
</cp:coreProperties>
</file>