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D8A-010A-4A28-B590-234B2C88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04B-64F4-4F7C-9131-13DF4C0A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045-4C4C-4082-B6C0-3393C2B0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5559-A0F8-4FA6-A9EB-A29AB9C1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EF7-D66F-4BBA-8973-82F573CA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B75-B990-4FFF-B71B-54B8CDCD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61E-47A4-4FA5-A10D-6299EDEB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3E1-B89A-45E1-B777-DCF3B99B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BBF-3C70-4D66-8C92-08E95E43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1A3-AE3F-4FCF-BE0C-1AACD9FC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83D-8066-4AFA-90AF-FDFB54B8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BAE-7E6D-4EF3-AEF1-0C3BE191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5e6d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765E-BF48-44CB-89A1-89F547E24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84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2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ма урока: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«Обращени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Мороз и солнц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День чудесн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Ещё ты дремлешь, друг прелестн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Пора, красавица, просни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остараемся запомн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Всем нам при общ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Поможет обра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К людям, звездам или птиц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Можешь смело обрат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Только, друг, не забыв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Запятые расставля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90"/>
          <p:cNvPicPr/>
          <p:nvPr/>
        </p:nvPicPr>
        <p:blipFill>
          <a:blip r:embed="rId1"/>
          <a:stretch/>
        </p:blipFill>
        <p:spPr>
          <a:xfrm>
            <a:off x="7400880" y="4437000"/>
            <a:ext cx="1162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Запомни 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971640" y="2205000"/>
            <a:ext cx="2808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042920" y="2205000"/>
            <a:ext cx="3168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042920" y="3284640"/>
            <a:ext cx="3168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042920" y="4365720"/>
            <a:ext cx="3168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116000" y="2276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979640" y="3429000"/>
            <a:ext cx="115236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,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3348000" y="4508640"/>
            <a:ext cx="719280" cy="57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Спиши, расставь знаки препинания. Построй схе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1. Летние подружки белые ромашки вам лесные феи выткали руб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2.На всем лежал слой пыли на полу на стульях на ст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3. И звуки и ночь и мороз все это было так 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4. Собака видит в человеке высшее существо и старается заслужить его довер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1. Летние подружки, белые ромашки, вам лесные феи выткали руб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2.На всем лежал слой пыли: на полу, на стульях, на ст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3. И звуки, и ночь, и мороз - все это было так 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4. Собака видит в человеке высшее существо и старается заслужить его довер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7:09:49Z</dcterms:created>
  <dc:creator>Пользователь</dc:creator>
  <dc:description/>
  <dc:language>en-US</dc:language>
  <cp:lastModifiedBy>Светлана</cp:lastModifiedBy>
  <dcterms:modified xsi:type="dcterms:W3CDTF">2020-04-09T10:45:55Z</dcterms:modified>
  <cp:revision>6</cp:revision>
  <dc:subject/>
  <dc:title>Добрый день!</dc:title>
</cp:coreProperties>
</file>