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7F7-51C7-402D-9228-12F5E4EB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DC2-83A0-4AEB-A22D-9BBD7343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442-4E31-42FD-8E9E-D2E680E2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DCC-1D0E-4562-8249-E49058F8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292-FA21-4786-9594-CFA78527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A34-90EE-403B-AF76-B186476A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F37-9B42-4B06-A4E7-35229900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75D-C2AE-43B5-8CCB-C4FE1A90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4A5-ECE0-4512-98F6-768C2099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D31-3086-4EA2-995C-A1F18FFD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43A-19DA-4E60-A7C2-701C235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571-9409-414F-9041-3E14002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0EED-042C-4B63-9D1D-AB141FE39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«Производство бумаг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о производстве бумаги для детей старш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воспитатель Селютина М.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5-y.net/wp-content/uploads/2012/06/%D0%9A%D0%B0%D0%BA-%D0%B4%D0%B5%D0%BB%D0%B0%D1%8E%D1%82-%D0%B1%D1%83%D0%BC%D0%B0%D0%B3%D1%83.jpg"/>
          <p:cNvPicPr/>
          <p:nvPr/>
        </p:nvPicPr>
        <p:blipFill>
          <a:blip r:embed="rId1"/>
          <a:stretch/>
        </p:blipFill>
        <p:spPr>
          <a:xfrm>
            <a:off x="1835280" y="1773360"/>
            <a:ext cx="5715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рассмотреть образцы разных видов бумаги, то можно увидеть, что после дополнительной обработки бумага начинает обладать разными качественных  характеристиками: она может стать любого цвета; гладкой или шероховатой; твёрдой или очень тонкой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тям предлагается образцы бумаги для рассматривания) (Эксперимен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deaalpuhastus.ee/wp-content/uploads/2014/04/hygiene-papier.jpg"/>
          <p:cNvPicPr/>
          <p:nvPr/>
        </p:nvPicPr>
        <p:blipFill>
          <a:blip r:embed="rId1"/>
          <a:stretch/>
        </p:blipFill>
        <p:spPr>
          <a:xfrm>
            <a:off x="1403280" y="1844640"/>
            <a:ext cx="65772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 минутка Лесорубы дерево срубили, на станке на части разделил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рбачки на щепки порубили, и в растворе долго их варил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всю жидкость отжимают, валиком утюжат, сушат, гладя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ыходит чистый лист бумаги  для журнала, книги и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s://24smi.org/public/media/news/2013/11/08/1383906792-policiya-vyyasnila-motivy-prestupnikov-zhestoko-ra.jpeg"/>
          <p:cNvPicPr/>
          <p:nvPr/>
        </p:nvPicPr>
        <p:blipFill>
          <a:blip r:embed="rId2"/>
          <a:stretch/>
        </p:blipFill>
        <p:spPr>
          <a:xfrm>
            <a:off x="2484360" y="2133720"/>
            <a:ext cx="48960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четверти всего мусора на планете является бумажными отходами и бумажной продукц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s://news.unipack.ru/light_editor_img/images/2015-3-6/file1425560077.jpg"/>
          <p:cNvPicPr/>
          <p:nvPr/>
        </p:nvPicPr>
        <p:blipFill>
          <a:blip r:embed="rId2"/>
          <a:stretch/>
        </p:blipFill>
        <p:spPr>
          <a:xfrm>
            <a:off x="900000" y="1773360"/>
            <a:ext cx="71629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делать бумагу для книги, понадобится в 8-10 раз большего размера кусок древесины. А ведь чтобы вырастить полноценное дерево, нужно 50-80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торной переработке тонны бумаги сохраняется 17 дерев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Россия занимает первое место в мире по объемам и темпам вырубки лес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zabavnik.club/wp-content/uploads/2018/07/beregite_les_kartinki_2_18134220.jpg"/>
          <p:cNvPicPr/>
          <p:nvPr/>
        </p:nvPicPr>
        <p:blipFill>
          <a:blip r:embed="rId1"/>
          <a:stretch/>
        </p:blipFill>
        <p:spPr>
          <a:xfrm>
            <a:off x="3348000" y="1844640"/>
            <a:ext cx="56167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.«Бумагу разного качества мы используем в нашей жизни постоянно. Для чего нам нужна бумага? Мы рисуем, пишем на ней. В бумагу упаковывают продукты, другие товары. Из бумаги можно делать замечательные художественные изделия. На бумаге печатают книги, газеты и журналы. Вот она какая – бумага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4.bp.blogspot.com/-Q0DNhD6nJ4g/TqXbj9ST1cI/AAAAAAAAAL0/WZum-oefLeo/s320/gazeta.gif"/>
          <p:cNvPicPr/>
          <p:nvPr/>
        </p:nvPicPr>
        <p:blipFill>
          <a:blip r:embed="rId1"/>
          <a:stretch/>
        </p:blipFill>
        <p:spPr>
          <a:xfrm>
            <a:off x="826920" y="213372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barinova.ucoz.ru/books.png"/>
          <p:cNvPicPr/>
          <p:nvPr/>
        </p:nvPicPr>
        <p:blipFill>
          <a:blip r:embed="rId2"/>
          <a:stretch/>
        </p:blipFill>
        <p:spPr>
          <a:xfrm>
            <a:off x="5076720" y="2060640"/>
            <a:ext cx="316728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вает документом, Плакатом, фантиком, конверто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м, обоями, листовкой, Альбомом, книгой, упаковк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феткой, веером, талоном, Неувядаемым пионом. Она бывает и деньгами. А что? Догадывайтесь сами!» (Бумага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dalgakiran.com.ua/images/CKfiles/images/img_2-3_02.jpg"/>
          <p:cNvPicPr/>
          <p:nvPr/>
        </p:nvPicPr>
        <p:blipFill>
          <a:blip r:embed="rId1"/>
          <a:stretch/>
        </p:blipFill>
        <p:spPr>
          <a:xfrm>
            <a:off x="2700360" y="2133720"/>
            <a:ext cx="3960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щё древние люди вместо бумаги использовали камень, высекали на нем рисунки, знаки. Но камень — неудобный материал для письма, т.к. он твердый, жесткий и тяжелы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yurileveratto.com/thumbnail.php?im=foto/99/f1.jpg&amp;maxsize=360"/>
          <p:cNvPicPr/>
          <p:nvPr/>
        </p:nvPicPr>
        <p:blipFill>
          <a:blip r:embed="rId1"/>
          <a:stretch/>
        </p:blipFill>
        <p:spPr>
          <a:xfrm>
            <a:off x="2700360" y="2060640"/>
            <a:ext cx="3612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ди стали искать более удобный материал для письма и решили использовать глину. Если сравнить глину и камень, определяя их свойства, то можно  прийти к выводу: глина легче камня, но она хрупкая, из нее нельзя сделать книжку или тетрад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dionisi.ucoz.ru/staty/gl-tabl..jpg"/>
          <p:cNvPicPr/>
          <p:nvPr/>
        </p:nvPicPr>
        <p:blipFill>
          <a:blip r:embed="rId1"/>
          <a:stretch/>
        </p:blipFill>
        <p:spPr>
          <a:xfrm>
            <a:off x="2050920" y="2060640"/>
            <a:ext cx="5238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и предки, которые жили в Древней Руси, писали на бересте. Береста — эта наружная часть березовой коры. Были так называемые берестяные грамоты — письма и документы, написанные на бересте. Буквы процарапывали особыми костяными инструментами. Писать на бересте удобно, но для книг она не годилась. Если попробовать сложить бересту и сделать из нее страницу книги то она сломается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bojkosvit.com/uploads/2012/06/%D0%92%D0%B5%D0%BB%D0%B5%D1%81-%D0%9A%D0%BD%D0%B8%D0%B3%D0%B01.jpg"/>
          <p:cNvPicPr/>
          <p:nvPr/>
        </p:nvPicPr>
        <p:blipFill>
          <a:blip r:embed="rId1"/>
          <a:stretch/>
        </p:blipFill>
        <p:spPr>
          <a:xfrm>
            <a:off x="1042920" y="1989000"/>
            <a:ext cx="72579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гда люди придумали листы из тонкой кожи животных - пергамент. Это очень прочный материа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даже целые книги, написанные на пергаменте. Для защиты от царапин их оковывали медью, и книга напоминала сунду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formaslov.ru/img/1236839218_pergament.jpg"/>
          <p:cNvPicPr/>
          <p:nvPr/>
        </p:nvPicPr>
        <p:blipFill>
          <a:blip r:embed="rId1"/>
          <a:stretch/>
        </p:blipFill>
        <p:spPr>
          <a:xfrm>
            <a:off x="2556000" y="206064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древние времена из далекой восточной страны купцы привезли чудесные листы. Это была бумага. Рецепт изготовления бумаги придумали в Китае. Диковинкой восхищались все страны, но китайцы держали в тайне чудесный способ. По качеству первая бумага была желтая, темная, плотная, шероховатая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через века Европа узнала, как делать это чудо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900igr.net/datai/informatika/Informatika-nositeli-informatsii/0008-015-Bumaga.jpg"/>
          <p:cNvPicPr/>
          <p:nvPr/>
        </p:nvPicPr>
        <p:blipFill>
          <a:blip r:embed="rId1"/>
          <a:stretch/>
        </p:blipFill>
        <p:spPr>
          <a:xfrm>
            <a:off x="2071800" y="2273400"/>
            <a:ext cx="47322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бы узнать, как сейчас делают бумагу, необходимо отправиться на бумажную фабрику. Туда привозят из леса бревна — в основном сосновые и еловые. На фабрике с них сдирают кору, измельчают на щепки, которые сортируют и отправляют на варк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img03.rl0.ru/pgc/432x288/516e1877-17ae-ec6b-17ae-ec64398ac47b.photo.0.jpg"/>
          <p:cNvPicPr/>
          <p:nvPr/>
        </p:nvPicPr>
        <p:blipFill>
          <a:blip r:embed="rId1"/>
          <a:stretch/>
        </p:blipFill>
        <p:spPr>
          <a:xfrm>
            <a:off x="1116000" y="1989000"/>
            <a:ext cx="6527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том древесину помещают в специальную машину, у которой много валиков: одни валики отжимают, другие высушивают, третьи полируют. Так, переходя с валика на валик, древесина превращается в белую бумаг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fb.ru/misc/i/gallery/15322/246854.jpg"/>
          <p:cNvPicPr/>
          <p:nvPr/>
        </p:nvPicPr>
        <p:blipFill>
          <a:blip r:embed="rId1"/>
          <a:stretch/>
        </p:blipFill>
        <p:spPr>
          <a:xfrm>
            <a:off x="1187280" y="1776240"/>
            <a:ext cx="633744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17:27:16Z</dcterms:created>
  <dc:creator>анастасия</dc:creator>
  <dc:description/>
  <dc:language>en-US</dc:language>
  <cp:lastModifiedBy>Анастасия</cp:lastModifiedBy>
  <dcterms:modified xsi:type="dcterms:W3CDTF">2020-04-09T05:12:22Z</dcterms:modified>
  <cp:revision>6</cp:revision>
  <dc:subject/>
  <dc:title>БУМАГА</dc:title>
</cp:coreProperties>
</file>