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F92-4A95-4CAD-8469-3D3FE670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19D-13AA-48F4-81E2-489DA014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56A-F9A3-4050-87B0-53747960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1D3-5CF4-49CC-8C81-0A928B0A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8F77-974C-4F04-8D6F-F7E13FCA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F913-A935-4F77-A6E9-31422B2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E27F-4B54-4A6D-9623-82ADFAAE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2EA1-1215-44B4-BD7A-477AE94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BA7-5826-4C74-BD24-3F2CE10B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799C-0FC0-4D9C-99A1-CA84442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10B0-C634-490C-A141-9F37EE5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7B2-2386-4227-9580-A8AD06E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2C56-2290-42A6-B817-465B97F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1650-5141-4B88-AC66-00F2D8E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2B6-31AB-4680-85C2-21A7D7ED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D0B-D7BA-4E2A-AAE7-052EC91A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6179-A11C-4552-807C-D398A4F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7B1-F74E-4DC0-8813-8EBAC821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823-82FE-4661-A328-850E482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807-86EE-4084-8401-9A70E638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3F4-3857-4AB9-B308-F9DEBFA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00B-6C3D-4534-8F62-B660A21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431-83BC-4552-880B-BE09DC1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659-CA4D-46FC-AECA-4A79FEC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65B-1B88-4B71-871A-2EFC5C925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7174-16EA-4A66-86E6-F83DFAF75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f.mstu.edu.ru/kaf_phys/img/zozh-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ОРТ В ЖИЗНИ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ЧЕЛОВЕ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4211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поля есть две половины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 краям висят корзи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пролетит над полем мяч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 меж людей несётся вскач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все бьют и мячик зол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с ним играют в ..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баскетбол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нир идёт. Турнир в разгар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ем мы с Андреем в пар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корт выходим мы вдвоё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етками мы мячик бьё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ротив нас — Андрэ и Дэни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что играем с ними? В …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еннис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16360" y="4076640"/>
            <a:ext cx="4427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льду танцует фигурис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ужится, как осенний лис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исполняет пируэ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ом двойной тулуп… Ах, нет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в шубе он, легко оде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т на льду теперь дуэ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х, хорошо катаются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 затаил дыхани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 спорта называется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фигурное катани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86680" y="4221000"/>
            <a:ext cx="28573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м в латах все на ледяной площадк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ажаются, сцепились в острой схватке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льщики кричат: «Сильнее бей!»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ерь, не драка это, а — 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57200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здоровом теле (здоровый ду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лову держи в холоде (а ноги в тепл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болел живот, держи (закрытым ро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строго и ловкого (болезнь не догони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лю сушит зной, человека (болез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слабому и болезнь (приста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ящий чистоту (будет здоровы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курит табак (тот сам себе вра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Желаю здоровья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ортивных достиж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егодня мы поговорим про увлечение .Угадать его помогут рассыпанные букв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42900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СТОРП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836640"/>
            <a:ext cx="8007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 спортом нужно подружиться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м тем, кто с ним еще не дружен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ожет вам он всем взбодриться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для здоровья очень нужен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85928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о хобби в переводе с английского означает увлечение". Увлечение не приносит ни денег, ни славы. Это занятие для души. Оно помогает скрасить трудные минуты жизни, сближает человека с миром природы, науки, искусства, с миром людей, помогает найти смысл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жизни каждого человека есть увлечения. Люди рисуют, поют, собирают марки, часами просиживают за компьютером, разводят рыбок, читают книги, рисуют, разводят кактусы. У каждого есть своё хобб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Картинка 2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62080" y="2003400"/>
            <a:ext cx="555948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ерем команду в школ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найдем большое пол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биваем угловой 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иваем головой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 воротах пятый гол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ень любим мы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футбол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4105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команда побеждае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мячик не роняе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летит с подачи метк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в ворота, через сетку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площадка, а не пол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портсменов в 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лейбол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1244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зимней дороге бегут налегк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ртсмены на лыжах с винтовкой в рук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 финиша скоро, фанаты кругом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бимый вид спорта смотрю — 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биатлон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7:51:27Z</dcterms:created>
  <dc:creator>WiZaRd</dc:creator>
  <dc:description/>
  <dc:language>en-US</dc:language>
  <cp:lastModifiedBy>андрей</cp:lastModifiedBy>
  <dcterms:modified xsi:type="dcterms:W3CDTF">2020-04-09T03:01:28Z</dcterms:modified>
  <cp:revision>3</cp:revision>
  <dc:subject/>
  <dc:title>СПОРТ В ЖИЗНИ  ЧЕЛОВЕКА.</dc:title>
</cp:coreProperties>
</file>