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1D43E-DD01-4874-8010-2546C3DABC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D9038-797C-44D8-9503-B69B8238081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C1C29-0465-4DE2-83F5-4CC3DFBD86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EBE1C-1C30-4EF2-8690-80708D7BB3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6C2B7-D209-4BEF-826F-4E8A3CBBF7F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4B4E7-6DF7-4222-981A-9AB04C092B4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0F464-7CA9-4156-BCCE-CB031DC27D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23908-FDC7-4208-9E0B-65342B3C5BE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E79F6-59D6-45CD-AA8F-0AFAB53EAC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C7BA3-71FF-4214-8692-42148CE3D6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3B53D-D821-4A4C-864B-E26B8E66F41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9A300-3E6E-4BEC-9C0D-6C953AE32A0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16890-85DD-44D1-B4A3-EE31F8F2FCC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D6562-E347-45CE-931F-3C813C821D1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3F7-077C-4B1E-9832-4BCB44E7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77036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18F-E040-4DDF-9799-2176A246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9F9-B387-4139-BD0A-5FFE0DE5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3BB-93E4-4A4E-B5E1-E802A28F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A27B-20E0-47D3-9CD9-1E2BB695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424B-B278-4449-8D00-102DC0C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A717-1D91-4F23-B7EA-86E5A7D4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4EA4-7588-4B07-A2A7-927A3458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6004-FC2D-4102-84A6-A1466137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C7A5-B8D9-4B27-877C-3537FFC2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9F47-A268-4455-90AA-CE61B4A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258-3490-4E3C-8061-D20F9B9D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6E33-94BC-44BD-8CD2-7764BF7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575D-5672-48EE-8294-F5C9695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77036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B78A-D303-4212-843E-AC7A06B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078B-F93C-4F3B-AFB2-73A004EF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1650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77036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AC8C-7582-49EC-ACFF-0E6814BB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85F-04EC-4C17-A5D4-8C4806A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255-EB68-433D-B444-5EF040D7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9F9-EB55-4AB9-BC99-A4A4DB45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A39-8CFF-4E21-A66D-5C212B54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0A6-6824-44F6-893F-3002E6E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7036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37E-28C4-4381-B109-2A0C0BA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040"/>
            <a:ext cx="44258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770360"/>
            <a:ext cx="9069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41A-A1B0-48E4-9C31-3241155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31640" indent="-3236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31640" indent="-3236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31640" indent="-3236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31640" indent="-3236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42B14-D86B-4DD4-88EF-91A06F270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165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323640">
              <a:spcAft>
                <a:spcPts val="1426"/>
              </a:spcAft>
              <a:buClr>
                <a:srgbClr val="ffff00"/>
              </a:buClr>
              <a:buSzPct val="75000"/>
              <a:buFont typeface="Symbol" charset="2"/>
              <a:buChar char="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431640" indent="-323640"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431640" indent="-323640">
              <a:spcAft>
                <a:spcPts val="1426"/>
              </a:spcAft>
              <a:buClr>
                <a:srgbClr val="ffff00"/>
              </a:buClr>
              <a:buSzPct val="75000"/>
              <a:buFont typeface="Symbol" charset="2"/>
              <a:buChar char="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431640" indent="-323640"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1FED5-AE60-494E-A1C5-D68892E73C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рок технологии в 3 класс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10080720" cy="13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Наша Земля глазами космонавта</a:t>
            </a:r>
            <a:br>
              <a:rPr sz="44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(картина А. Леонова «Над Чёрным морем»)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81200" y="1800360"/>
            <a:ext cx="861192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859280" y="36036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Люди на Лун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360" y="1871640"/>
            <a:ext cx="4680000" cy="53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21 июля 1969 — американский астронавт Нил Армстронг стал первым человеком, ступившим на поверхность Луны. Произнесённая им фраза: «Маленький шаг для человека, но гигантский скачок для всего человечества», — вошла в истор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Всего на Луне люди побывали пять раз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6545160" y="4967280"/>
            <a:ext cx="33591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19640" y="345600"/>
            <a:ext cx="52560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42920" y="173160"/>
            <a:ext cx="3816360" cy="378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37960" y="3693960"/>
            <a:ext cx="4981680" cy="368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040360" y="1727280"/>
            <a:ext cx="4933800" cy="4933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400720" y="7020000"/>
            <a:ext cx="450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Марсоход «Спири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381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3080" y="2411280"/>
            <a:ext cx="9720360" cy="4543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508720" y="179280"/>
            <a:ext cx="45003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Орбитальные станци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2111040"/>
            <a:ext cx="972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71-1991 — станции серии «Салют» (1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73 — американская станция «Скайлэб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86-2001 — первая в Мире многомодульная станция «Ми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С 1998 — МК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208480" y="3970440"/>
            <a:ext cx="4756320" cy="2854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580000" y="7020000"/>
            <a:ext cx="414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«Салют-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6680" y="4857480"/>
            <a:ext cx="856764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РТИНКИ ДЛЯ ВЫБОРА ПОДЕЛКИ НА СЛЕДУЮЩИХ СЛАЙДАХ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6680" y="2050920"/>
            <a:ext cx="85676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Теперь попробуй сделать поделк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Объект 4" descr=""/>
          <p:cNvPicPr/>
          <p:nvPr/>
        </p:nvPicPr>
        <p:blipFill>
          <a:blip r:embed="rId1"/>
          <a:stretch/>
        </p:blipFill>
        <p:spPr>
          <a:xfrm>
            <a:off x="0" y="-108000"/>
            <a:ext cx="10080720" cy="727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13080" y="2165040"/>
            <a:ext cx="44593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Объект 4" descr=""/>
          <p:cNvPicPr/>
          <p:nvPr/>
        </p:nvPicPr>
        <p:blipFill>
          <a:blip r:embed="rId1"/>
          <a:stretch/>
        </p:blipFill>
        <p:spPr>
          <a:xfrm>
            <a:off x="0" y="-108000"/>
            <a:ext cx="10009080" cy="705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13080" y="2165040"/>
            <a:ext cx="44593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Объект 4" descr=""/>
          <p:cNvPicPr/>
          <p:nvPr/>
        </p:nvPicPr>
        <p:blipFill>
          <a:blip r:embed="rId1"/>
          <a:stretch/>
        </p:blipFill>
        <p:spPr>
          <a:xfrm>
            <a:off x="0" y="250920"/>
            <a:ext cx="1008072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КОСМОНАВТИКА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6000" y="4680000"/>
            <a:ext cx="96487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из грече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КОСМОС — Вселен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НАВТИКА — искусство кораблевож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Объект 4" descr=""/>
          <p:cNvPicPr/>
          <p:nvPr/>
        </p:nvPicPr>
        <p:blipFill>
          <a:blip r:embed="rId1"/>
          <a:stretch/>
        </p:blipFill>
        <p:spPr>
          <a:xfrm>
            <a:off x="0" y="108000"/>
            <a:ext cx="100807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Начало космической эр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835280"/>
            <a:ext cx="41403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4 октября 1957 — запущен первый искусственный спутник Земли (Спутник-1, СССР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Масса — 83,6 кг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Диаметр — 58 с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Спутник летал 92 дня, до 4 января 1958 года, совершив 1440 оборотов вокруг Земли (60 млн км)</a:t>
            </a:r>
            <a:r>
              <a:rPr b="0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405320" y="2124000"/>
            <a:ext cx="54943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«Космические» собак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849320"/>
            <a:ext cx="360072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 ноября 1957 — первый полёт в космос живого существа на корабле «Спутник-2», собака Лай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 августа 1960 — на корабле «Спутник-5» полёт в космос совершили собаки Белка и Стрел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782880" y="1979640"/>
            <a:ext cx="61182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Первый космонавт Земли — Юрий Алексеевич Гагари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360" y="2160720"/>
            <a:ext cx="5400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одился 9 марта 1934, в д. Клушино, Смоленской об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Погиб 27 марта 1968, около города Киржач Владимирской обл. при выполнении тренировочного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119640" y="1879560"/>
            <a:ext cx="3780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12 апреля 1961 года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7480" y="2149560"/>
            <a:ext cx="342252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ервый полёт человека в космос на корабле «Восток-1» продолжался 108 минут (один виток вокруг Зем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218120" y="2055960"/>
            <a:ext cx="56815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Целые сутки в космос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2165400"/>
            <a:ext cx="558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-7 августа 1961 года Герман Титов совершил космический полёт продолжительностью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сутки 1 час, сделав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витков вокруг Земли, пролетев более 700 тысяч километ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6265800" y="1979640"/>
            <a:ext cx="36352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Первая женщина-космонав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2165400"/>
            <a:ext cx="61200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6-18 июня 1963 — полёт женщины-космонавта Валентины Терешковой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на корабле «Восток-6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Полёт продолжался трое суток, корабль совершил 48 витков вокруг Земли, пройдя почти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 млн. 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761160" y="1906560"/>
            <a:ext cx="310356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Человек в открытом космос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000" y="2079720"/>
            <a:ext cx="61563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—19 марта 1965 года Алексей Леонов совместно с Павлом Беляевым совершил полёт в космос на космическом корабле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«Восход-2» и первый в истории космонавтики выход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 открытый космос продолжительностью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2 минут 9 секун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499080" y="1871640"/>
            <a:ext cx="3484800" cy="500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Пластинина Е В</cp:lastModifiedBy>
  <dcterms:modified xsi:type="dcterms:W3CDTF">2020-04-09T04:42:23Z</dcterms:modified>
  <cp:revision>9</cp:revision>
  <dc:subject/>
  <dc:title>КОСМОНАВТИКА</dc:title>
</cp:coreProperties>
</file>