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8F3-B084-4001-A92F-9B4AA214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043-7EFC-403B-A0D4-12EBB48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AFF-4DD3-4F40-9F04-921D9AF2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5AD-F0AF-458D-A623-E7B226D3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DD3-013C-4F07-AE5D-DACC93E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8B3-8BC7-48CF-9D7C-FCCBFBB6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89A-304B-482C-BBE1-E3B921EA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14C-5C46-48C5-8C5A-ED935E6E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EB8-9822-4176-97BD-EF23B49D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AB8-8298-4318-A0F4-2BB81354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B1C-8514-4774-9C3C-E3338CF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08B-7975-431E-B761-612514A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1B9-99B8-4A60-9C7A-04AF185A5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Методика\режим дня картинки\children_day_vector_wallpaper_0167995a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"/>
          <p:cNvSpPr txBox="1"/>
          <p:nvPr/>
        </p:nvSpPr>
        <p:spPr>
          <a:xfrm>
            <a:off x="250920" y="2133720"/>
            <a:ext cx="8001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ли хочешь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ыть здоро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Записанный звук" descr=""/>
          <p:cNvPicPr/>
          <p:nvPr/>
        </p:nvPicPr>
        <p:blipFill>
          <a:blip r:embed="rId2"/>
          <a:stretch/>
        </p:blipFill>
        <p:spPr>
          <a:xfrm>
            <a:off x="81010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132000" y="5589720"/>
            <a:ext cx="57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Апряткина М.М., ГБОУ Школа №1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г. Москва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4643280" y="292320"/>
            <a:ext cx="41436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здоровье сохран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м свой укреп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ет вся моя семь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лжен быть режим у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писанный звук" descr=""/>
          <p:cNvPicPr/>
          <p:nvPr/>
        </p:nvPicPr>
        <p:blipFill>
          <a:blip r:embed="rId1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клипарты\люди\593e4d73bfd6.jpg"/>
          <p:cNvPicPr/>
          <p:nvPr/>
        </p:nvPicPr>
        <p:blipFill>
          <a:blip r:embed="rId2"/>
          <a:stretch/>
        </p:blipFill>
        <p:spPr>
          <a:xfrm>
            <a:off x="285840" y="1476360"/>
            <a:ext cx="8096040" cy="49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xrest.ru/images/collection/00707/693/original.jpg"/>
          <p:cNvPicPr/>
          <p:nvPr/>
        </p:nvPicPr>
        <p:blipFill>
          <a:blip r:embed="rId1"/>
          <a:stretch/>
        </p:blipFill>
        <p:spPr>
          <a:xfrm>
            <a:off x="179280" y="260280"/>
            <a:ext cx="5256360" cy="3502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4795560" y="220680"/>
            <a:ext cx="4088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ует, ребята, зна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о всем подольше сп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, а утром не лениться —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зарядку станов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Записанный звук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happy-giraffe.ru/upload/userfiles/images/2012/03/14/%D0%A0%D0%B0%D1%81%D1%87%D0%B5%D1%81%D1%8B%D0%B2%D0%B0%D0%BD%D0%B8%D0%B5%20%D0%B2%D0%BE%D0%BB%D0%BE%D1%81.jpg"/>
          <p:cNvPicPr/>
          <p:nvPr/>
        </p:nvPicPr>
        <p:blipFill>
          <a:blip r:embed="rId3"/>
          <a:stretch/>
        </p:blipFill>
        <p:spPr>
          <a:xfrm>
            <a:off x="179280" y="3429000"/>
            <a:ext cx="525636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5256360" y="378936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расчёску уважа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другим её не дава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неё, друзья мо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ем мы как дикар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5231880" y="220680"/>
            <a:ext cx="35884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ить зубы, умывать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чаще улыбать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аляться, и тог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страшна тебе хан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Записанный звук" descr=""/>
          <p:cNvPicPr/>
          <p:nvPr/>
        </p:nvPicPr>
        <p:blipFill>
          <a:blip r:embed="rId1"/>
          <a:stretch/>
        </p:blipFill>
        <p:spPr>
          <a:xfrm>
            <a:off x="817236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Методика\режим дня картинки\330026694634_1245346291_3.jpg"/>
          <p:cNvPicPr/>
          <p:nvPr/>
        </p:nvPicPr>
        <p:blipFill>
          <a:blip r:embed="rId2"/>
          <a:stretch/>
        </p:blipFill>
        <p:spPr>
          <a:xfrm>
            <a:off x="208080" y="311040"/>
            <a:ext cx="4297320" cy="624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mama.darievna.ru/uploads/january-11/images4.jpg"/>
          <p:cNvPicPr/>
          <p:nvPr/>
        </p:nvPicPr>
        <p:blipFill>
          <a:blip r:embed="rId3"/>
          <a:stretch/>
        </p:blipFill>
        <p:spPr>
          <a:xfrm>
            <a:off x="4643280" y="2349360"/>
            <a:ext cx="401796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297040" y="292320"/>
            <a:ext cx="3512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ни один микроб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попал случайно в ро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и мыть перед ед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о мылом и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писанный звук" descr=""/>
          <p:cNvPicPr/>
          <p:nvPr/>
        </p:nvPicPr>
        <p:blipFill>
          <a:blip r:embed="rId1"/>
          <a:stretch/>
        </p:blipFill>
        <p:spPr>
          <a:xfrm>
            <a:off x="860436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://t2.gstatic.com/images?q=tbn:ANd9GcTNssgz18lDHfLNQTp1L6xEYzwFWGhCuzKYld0U6A2y-zpWUNm4"/>
          <p:cNvPicPr/>
          <p:nvPr/>
        </p:nvPicPr>
        <p:blipFill>
          <a:blip r:embed="rId2"/>
          <a:stretch/>
        </p:blipFill>
        <p:spPr>
          <a:xfrm>
            <a:off x="5219640" y="2060640"/>
            <a:ext cx="340848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11" descr="http://img1.1tv.ru/imgsize480x360/PR20110920143618.JPG"/>
          <p:cNvPicPr/>
          <p:nvPr/>
        </p:nvPicPr>
        <p:blipFill>
          <a:blip r:embed="rId3"/>
          <a:stretch/>
        </p:blipFill>
        <p:spPr>
          <a:xfrm>
            <a:off x="250920" y="476280"/>
            <a:ext cx="46209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587840" y="292320"/>
            <a:ext cx="41734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мне здоровым бы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 овощи люби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ёкла, репка, лук, морковь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я первая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Записанный звук" descr=""/>
          <p:cNvPicPr/>
          <p:nvPr/>
        </p:nvPicPr>
        <p:blipFill>
          <a:blip r:embed="rId1"/>
          <a:stretch/>
        </p:blipFill>
        <p:spPr>
          <a:xfrm>
            <a:off x="788508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http://silkwaystore.com/wp-content/uploads/2011/11/733134230561612.jpg"/>
          <p:cNvPicPr/>
          <p:nvPr/>
        </p:nvPicPr>
        <p:blipFill>
          <a:blip r:embed="rId2"/>
          <a:stretch/>
        </p:blipFill>
        <p:spPr>
          <a:xfrm>
            <a:off x="1428840" y="2111400"/>
            <a:ext cx="6000840" cy="44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0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4520520" y="370080"/>
            <a:ext cx="4149360" cy="302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аляться, обливать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ом разным заниматьс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болезней не бо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ёплом доме не та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Земле гулять свобод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соте дивясь природной!!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тогда начнете жить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о здоровым быт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Записанный звук" descr=""/>
          <p:cNvPicPr/>
          <p:nvPr/>
        </p:nvPicPr>
        <p:blipFill>
          <a:blip r:embed="rId1"/>
          <a:stretch/>
        </p:blipFill>
        <p:spPr>
          <a:xfrm>
            <a:off x="8172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D:\клипарты\люди\post-68800-1287630778.png"/>
          <p:cNvPicPr/>
          <p:nvPr/>
        </p:nvPicPr>
        <p:blipFill>
          <a:blip r:embed="rId2"/>
          <a:stretch/>
        </p:blipFill>
        <p:spPr>
          <a:xfrm>
            <a:off x="5214960" y="3214800"/>
            <a:ext cx="3467160" cy="346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клипарты\люди\HEIDI-Y-PEDRO-EN-TRINEO.jpg"/>
          <p:cNvPicPr/>
          <p:nvPr/>
        </p:nvPicPr>
        <p:blipFill>
          <a:blip r:embed="rId3"/>
          <a:stretch/>
        </p:blipFill>
        <p:spPr>
          <a:xfrm>
            <a:off x="428760" y="214200"/>
            <a:ext cx="4143240" cy="307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клипарты\люди\f7688e0cd3f5.png"/>
          <p:cNvPicPr/>
          <p:nvPr/>
        </p:nvPicPr>
        <p:blipFill>
          <a:blip r:embed="rId4"/>
          <a:stretch/>
        </p:blipFill>
        <p:spPr>
          <a:xfrm>
            <a:off x="1714680" y="3216240"/>
            <a:ext cx="2041200" cy="34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7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F:\Методика\режим дня картинки\children_day_vector_wallpaper_0168029a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1"/>
          <p:cNvSpPr/>
          <p:nvPr/>
        </p:nvSpPr>
        <p:spPr>
          <a:xfrm>
            <a:off x="364320" y="149400"/>
            <a:ext cx="35686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рогулку выход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жим воздухом дыш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лько помни при уход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еваться по пого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писанный звук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0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4519080" y="220680"/>
            <a:ext cx="43016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красивой, стройной бы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уч надо мне крут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какалочке скака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игры разные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писанный звук" descr=""/>
          <p:cNvPicPr/>
          <p:nvPr/>
        </p:nvPicPr>
        <p:blipFill>
          <a:blip r:embed="rId1"/>
          <a:stretch/>
        </p:blipFill>
        <p:spPr>
          <a:xfrm>
            <a:off x="8101080" y="119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клипарты\люди\f7688e0cd3f5.png"/>
          <p:cNvPicPr/>
          <p:nvPr/>
        </p:nvPicPr>
        <p:blipFill>
          <a:blip r:embed="rId2"/>
          <a:stretch/>
        </p:blipFill>
        <p:spPr>
          <a:xfrm>
            <a:off x="214200" y="642960"/>
            <a:ext cx="2562480" cy="457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D:\клипарты\люди\f118fe9d0b63.jpg"/>
          <p:cNvPicPr/>
          <p:nvPr/>
        </p:nvPicPr>
        <p:blipFill>
          <a:blip r:embed="rId3"/>
          <a:stretch/>
        </p:blipFill>
        <p:spPr>
          <a:xfrm>
            <a:off x="4643280" y="1928880"/>
            <a:ext cx="3529080" cy="4614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324000" y="515772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 те добрые совет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их и спрятаны секрет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здоровье сохран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ись его цен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Записанный звук" descr=""/>
          <p:cNvPicPr/>
          <p:nvPr/>
        </p:nvPicPr>
        <p:blipFill>
          <a:blip r:embed="rId4"/>
          <a:stretch/>
        </p:blipFill>
        <p:spPr>
          <a:xfrm>
            <a:off x="3492360" y="573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0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0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6:01:25Z</dcterms:created>
  <dc:creator>Helen</dc:creator>
  <dc:description/>
  <dc:language>en-US</dc:language>
  <cp:lastModifiedBy>user</cp:lastModifiedBy>
  <dcterms:modified xsi:type="dcterms:W3CDTF">2020-04-09T11:19:27Z</dcterms:modified>
  <cp:revision>41</cp:revision>
  <dc:subject/>
  <dc:title>Слайд 1</dc:title>
</cp:coreProperties>
</file>