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jpeg" ContentType="image/jpe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6078-15DF-4476-A4BD-6B784A1F0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7682-2418-492F-BA60-5B7E4F61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12D0-E61C-4144-A39D-2085013FB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0FC8-D293-486D-9687-07D6183CF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910A-B50B-41AE-95EE-DA215342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4572-FB59-4DCA-ABD8-CA7D8C13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CF95-8610-4770-8BD2-C4002443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3FF6-9FD2-4C46-87E3-4EC494DD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4F3E-919C-4507-ABA2-E366E7EC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8F73-7785-4786-98C8-DF459687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A706-8EC4-40A3-B82E-8C06B333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7DF6-ADB1-4EFA-B7BB-F17D9118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DA34-137A-48A1-B4CA-9F60672FC3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F:\Методика\режим дня картинки\children_day_vector_wallpaper_0167995a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1"/>
          <p:cNvSpPr txBox="1"/>
          <p:nvPr/>
        </p:nvSpPr>
        <p:spPr>
          <a:xfrm>
            <a:off x="250920" y="2133720"/>
            <a:ext cx="8001000" cy="24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сли хочешь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ыть здоров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Записанный звук" descr=""/>
          <p:cNvPicPr/>
          <p:nvPr/>
        </p:nvPicPr>
        <p:blipFill>
          <a:blip r:embed="rId2"/>
          <a:stretch/>
        </p:blipFill>
        <p:spPr>
          <a:xfrm>
            <a:off x="8101080" y="404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3132000" y="5589720"/>
            <a:ext cx="57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Апряткина М.М., ГБОУ Школа №13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г. Москва,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4643280" y="292320"/>
            <a:ext cx="414360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Чтоб здоровье сохранить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рганизм свой укрепить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нает вся моя семь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лжен быть режим у д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Записанный звук" descr=""/>
          <p:cNvPicPr/>
          <p:nvPr/>
        </p:nvPicPr>
        <p:blipFill>
          <a:blip r:embed="rId1"/>
          <a:stretch/>
        </p:blipFill>
        <p:spPr>
          <a:xfrm>
            <a:off x="4211640" y="476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D:\клипарты\люди\593e4d73bfd6.jpg"/>
          <p:cNvPicPr/>
          <p:nvPr/>
        </p:nvPicPr>
        <p:blipFill>
          <a:blip r:embed="rId2"/>
          <a:stretch/>
        </p:blipFill>
        <p:spPr>
          <a:xfrm>
            <a:off x="285840" y="1476360"/>
            <a:ext cx="8096040" cy="497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1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http://www.xrest.ru/images/collection/00707/693/original.jpg"/>
          <p:cNvPicPr/>
          <p:nvPr/>
        </p:nvPicPr>
        <p:blipFill>
          <a:blip r:embed="rId1"/>
          <a:stretch/>
        </p:blipFill>
        <p:spPr>
          <a:xfrm>
            <a:off x="179280" y="260280"/>
            <a:ext cx="5256360" cy="3502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"/>
          <p:cNvSpPr/>
          <p:nvPr/>
        </p:nvSpPr>
        <p:spPr>
          <a:xfrm>
            <a:off x="4795560" y="220680"/>
            <a:ext cx="408816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ледует, ребята, знать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ужно всем подольше спать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у, а утром не лениться —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зарядку становить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Записанный звук" descr=""/>
          <p:cNvPicPr/>
          <p:nvPr/>
        </p:nvPicPr>
        <p:blipFill>
          <a:blip r:embed="rId2"/>
          <a:stretch/>
        </p:blipFill>
        <p:spPr>
          <a:xfrm>
            <a:off x="8388360" y="549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http://www.happy-giraffe.ru/upload/userfiles/images/2012/03/14/%D0%A0%D0%B0%D1%81%D1%87%D0%B5%D1%81%D1%8B%D0%B2%D0%B0%D0%BD%D0%B8%D0%B5%20%D0%B2%D0%BE%D0%BB%D0%BE%D1%81.jpg"/>
          <p:cNvPicPr/>
          <p:nvPr/>
        </p:nvPicPr>
        <p:blipFill>
          <a:blip r:embed="rId3"/>
          <a:stretch/>
        </p:blipFill>
        <p:spPr>
          <a:xfrm>
            <a:off x="179280" y="3429000"/>
            <a:ext cx="5256360" cy="3240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5"/>
          <p:cNvSpPr/>
          <p:nvPr/>
        </p:nvSpPr>
        <p:spPr>
          <a:xfrm>
            <a:off x="5256360" y="3789360"/>
            <a:ext cx="38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ы расчёску уважай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 другим её не дава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ез неё, друзья мо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удем мы как дикар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0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5231880" y="220680"/>
            <a:ext cx="358848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Чистить зубы, умыватьс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 почаще улыбатьс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каляться, и тогд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 страшна тебе ханд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Записанный звук" descr=""/>
          <p:cNvPicPr/>
          <p:nvPr/>
        </p:nvPicPr>
        <p:blipFill>
          <a:blip r:embed="rId1"/>
          <a:stretch/>
        </p:blipFill>
        <p:spPr>
          <a:xfrm>
            <a:off x="8172360" y="907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F:\Методика\режим дня картинки\330026694634_1245346291_3.jpg"/>
          <p:cNvPicPr/>
          <p:nvPr/>
        </p:nvPicPr>
        <p:blipFill>
          <a:blip r:embed="rId2"/>
          <a:stretch/>
        </p:blipFill>
        <p:spPr>
          <a:xfrm>
            <a:off x="208080" y="311040"/>
            <a:ext cx="4297320" cy="6242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http://mama.darievna.ru/uploads/january-11/images4.jpg"/>
          <p:cNvPicPr/>
          <p:nvPr/>
        </p:nvPicPr>
        <p:blipFill>
          <a:blip r:embed="rId3"/>
          <a:stretch/>
        </p:blipFill>
        <p:spPr>
          <a:xfrm>
            <a:off x="4643280" y="2349360"/>
            <a:ext cx="4017960" cy="42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000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5297040" y="292320"/>
            <a:ext cx="351216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Чтобы ни один микроб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 попал случайно в рот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уки мыть перед едо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ужно мылом и в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Записанный звук" descr=""/>
          <p:cNvPicPr/>
          <p:nvPr/>
        </p:nvPicPr>
        <p:blipFill>
          <a:blip r:embed="rId1"/>
          <a:stretch/>
        </p:blipFill>
        <p:spPr>
          <a:xfrm>
            <a:off x="8604360" y="765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http://t2.gstatic.com/images?q=tbn:ANd9GcTNssgz18lDHfLNQTp1L6xEYzwFWGhCuzKYld0U6A2y-zpWUNm4"/>
          <p:cNvPicPr/>
          <p:nvPr/>
        </p:nvPicPr>
        <p:blipFill>
          <a:blip r:embed="rId2"/>
          <a:stretch/>
        </p:blipFill>
        <p:spPr>
          <a:xfrm>
            <a:off x="5219640" y="2060640"/>
            <a:ext cx="3408480" cy="4429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0" name="Picture 11" descr="http://img1.1tv.ru/imgsize480x360/PR20110920143618.JPG"/>
          <p:cNvPicPr/>
          <p:nvPr/>
        </p:nvPicPr>
        <p:blipFill>
          <a:blip r:embed="rId3"/>
          <a:stretch/>
        </p:blipFill>
        <p:spPr>
          <a:xfrm>
            <a:off x="250920" y="476280"/>
            <a:ext cx="4620960" cy="59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9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4587840" y="292320"/>
            <a:ext cx="417348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Чтобы мне здоровым быть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до овощи любить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вёкла, репка, лук, морковь –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я первая любов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Записанный звук" descr=""/>
          <p:cNvPicPr/>
          <p:nvPr/>
        </p:nvPicPr>
        <p:blipFill>
          <a:blip r:embed="rId1"/>
          <a:stretch/>
        </p:blipFill>
        <p:spPr>
          <a:xfrm>
            <a:off x="7885080" y="765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http://silkwaystore.com/wp-content/uploads/2011/11/733134230561612.jpg"/>
          <p:cNvPicPr/>
          <p:nvPr/>
        </p:nvPicPr>
        <p:blipFill>
          <a:blip r:embed="rId2"/>
          <a:stretch/>
        </p:blipFill>
        <p:spPr>
          <a:xfrm>
            <a:off x="1428840" y="2111400"/>
            <a:ext cx="6000840" cy="447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0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4520520" y="370080"/>
            <a:ext cx="4149360" cy="302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каляться, обливатьс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ортом разным заниматься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 болезней не боясь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тёплом доме не таясь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Земле гулять свободно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асоте дивясь природной!!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т тогда начнете жить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дорово здоровым быть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Записанный звук" descr=""/>
          <p:cNvPicPr/>
          <p:nvPr/>
        </p:nvPicPr>
        <p:blipFill>
          <a:blip r:embed="rId1"/>
          <a:stretch/>
        </p:blipFill>
        <p:spPr>
          <a:xfrm>
            <a:off x="8172360" y="476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D:\клипарты\люди\post-68800-1287630778.png"/>
          <p:cNvPicPr/>
          <p:nvPr/>
        </p:nvPicPr>
        <p:blipFill>
          <a:blip r:embed="rId2"/>
          <a:stretch/>
        </p:blipFill>
        <p:spPr>
          <a:xfrm>
            <a:off x="5214960" y="3214800"/>
            <a:ext cx="3467160" cy="3467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D:\клипарты\люди\HEIDI-Y-PEDRO-EN-TRINEO.jpg"/>
          <p:cNvPicPr/>
          <p:nvPr/>
        </p:nvPicPr>
        <p:blipFill>
          <a:blip r:embed="rId3"/>
          <a:stretch/>
        </p:blipFill>
        <p:spPr>
          <a:xfrm>
            <a:off x="428760" y="214200"/>
            <a:ext cx="4143240" cy="3071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D:\клипарты\люди\f7688e0cd3f5.png"/>
          <p:cNvPicPr/>
          <p:nvPr/>
        </p:nvPicPr>
        <p:blipFill>
          <a:blip r:embed="rId4"/>
          <a:stretch/>
        </p:blipFill>
        <p:spPr>
          <a:xfrm>
            <a:off x="1714680" y="3216240"/>
            <a:ext cx="2041200" cy="34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7000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F:\Методика\режим дня картинки\children_day_vector_wallpaper_0168029a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0" name="Rectangle 1"/>
          <p:cNvSpPr/>
          <p:nvPr/>
        </p:nvSpPr>
        <p:spPr>
          <a:xfrm>
            <a:off x="364320" y="149400"/>
            <a:ext cx="356868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прогулку выход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вежим воздухом дыш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олько помни при уходе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деваться по погод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Записанный звук" descr=""/>
          <p:cNvPicPr/>
          <p:nvPr/>
        </p:nvPicPr>
        <p:blipFill>
          <a:blip r:embed="rId2"/>
          <a:stretch/>
        </p:blipFill>
        <p:spPr>
          <a:xfrm>
            <a:off x="838836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000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4519080" y="220680"/>
            <a:ext cx="430164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Чтоб красивой, стройной быть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руч надо мне крутить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скакалочке скакать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игры разные игр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Записанный звук" descr=""/>
          <p:cNvPicPr/>
          <p:nvPr/>
        </p:nvPicPr>
        <p:blipFill>
          <a:blip r:embed="rId1"/>
          <a:stretch/>
        </p:blipFill>
        <p:spPr>
          <a:xfrm>
            <a:off x="8101080" y="1197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D:\клипарты\люди\f7688e0cd3f5.png"/>
          <p:cNvPicPr/>
          <p:nvPr/>
        </p:nvPicPr>
        <p:blipFill>
          <a:blip r:embed="rId2"/>
          <a:stretch/>
        </p:blipFill>
        <p:spPr>
          <a:xfrm>
            <a:off x="214200" y="642960"/>
            <a:ext cx="2562480" cy="4570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D:\клипарты\люди\f118fe9d0b63.jpg"/>
          <p:cNvPicPr/>
          <p:nvPr/>
        </p:nvPicPr>
        <p:blipFill>
          <a:blip r:embed="rId3"/>
          <a:stretch/>
        </p:blipFill>
        <p:spPr>
          <a:xfrm>
            <a:off x="4643280" y="1928880"/>
            <a:ext cx="3529080" cy="461484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5"/>
          <p:cNvSpPr/>
          <p:nvPr/>
        </p:nvSpPr>
        <p:spPr>
          <a:xfrm>
            <a:off x="324000" y="5157720"/>
            <a:ext cx="50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от  те добрые советы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них и спрятаны секреты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здоровье сохранить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учись его цени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Записанный звук" descr=""/>
          <p:cNvPicPr/>
          <p:nvPr/>
        </p:nvPicPr>
        <p:blipFill>
          <a:blip r:embed="rId4"/>
          <a:stretch/>
        </p:blipFill>
        <p:spPr>
          <a:xfrm>
            <a:off x="3492360" y="5732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000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000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3T16:01:25Z</dcterms:created>
  <dc:creator>Helen</dc:creator>
  <dc:description/>
  <dc:language>en-US</dc:language>
  <cp:lastModifiedBy>user</cp:lastModifiedBy>
  <dcterms:modified xsi:type="dcterms:W3CDTF">2020-04-09T11:19:27Z</dcterms:modified>
  <cp:revision>41</cp:revision>
  <dc:subject/>
  <dc:title>Слайд 1</dc:title>
</cp:coreProperties>
</file>