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1969-5C85-4909-B34F-51E58EAB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287A-1734-4697-BAF8-46E3B5C0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DB2B-7F66-41F5-A387-F3EFAB49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1D3-4FED-492F-9C81-00972745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2F58-58BF-4F08-95E2-F20E9341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3F3A-1526-4DDC-B0E7-267002A9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5B30-B446-4670-B49E-52922407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06D2-4FB8-4CF2-84CC-EA0826CD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E391-C894-4A2E-9C10-E284508D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C86-FAF8-4DCC-B848-3E95981D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8EC2-B02C-4C99-804E-FE55B115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BE56-1F27-4ABB-B034-769FB4A7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C749-783F-4348-96F3-A6FAB2EE58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появилась книга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 по познавательному развитию для детей подготовительной групп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:воспитатель Селютина М.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ые машины разматывают бумагу с барабана, разрезают, печатают, скалывают листы в отдельные тетради, сшивают их и делают перепл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5-y.net/wp-content/uploads/2012/06/%D0%9A%D0%B0%D0%BA-%D0%B4%D0%B5%D0%BB%D0%B0%D1%8E%D1%82-%D0%B1%D1%83%D0%BC%D0%B0%D0%B3%D1%83.jpg"/>
          <p:cNvPicPr/>
          <p:nvPr/>
        </p:nvPicPr>
        <p:blipFill>
          <a:blip r:embed="rId1"/>
          <a:stretch/>
        </p:blipFill>
        <p:spPr>
          <a:xfrm>
            <a:off x="250920" y="2349360"/>
            <a:ext cx="4895640" cy="3241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barinova.ucoz.ru/books.png"/>
          <p:cNvPicPr/>
          <p:nvPr/>
        </p:nvPicPr>
        <p:blipFill>
          <a:blip r:embed="rId2"/>
          <a:stretch/>
        </p:blipFill>
        <p:spPr>
          <a:xfrm>
            <a:off x="3635280" y="2133720"/>
            <a:ext cx="3889440" cy="36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ди, каких профессий трудятся над созданием книги? (писатели, художники, печатники, наборщики)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какой длинный и трудный путь у книги и сколько людей принимает участие в ее создании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6" descr="https://cdn1.flamp.ru/5c314f21538da7893c878766fa4e4d6b.jpg"/>
          <p:cNvPicPr/>
          <p:nvPr/>
        </p:nvPicPr>
        <p:blipFill>
          <a:blip r:embed="rId1"/>
          <a:stretch/>
        </p:blipFill>
        <p:spPr>
          <a:xfrm>
            <a:off x="826920" y="1844640"/>
            <a:ext cx="1584360" cy="2255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https://dop.pskovedu.ru/file/download/dop/4F0C5D50DF23598FB6AF050889B04D7B"/>
          <p:cNvPicPr/>
          <p:nvPr/>
        </p:nvPicPr>
        <p:blipFill>
          <a:blip r:embed="rId2"/>
          <a:stretch/>
        </p:blipFill>
        <p:spPr>
          <a:xfrm>
            <a:off x="2700360" y="1844640"/>
            <a:ext cx="1746360" cy="2160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https://51.img.avito.st/640x480/6026617451.jpg"/>
          <p:cNvPicPr/>
          <p:nvPr/>
        </p:nvPicPr>
        <p:blipFill>
          <a:blip r:embed="rId3"/>
          <a:stretch/>
        </p:blipFill>
        <p:spPr>
          <a:xfrm>
            <a:off x="4859280" y="1700280"/>
            <a:ext cx="34671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30081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ушайте стихотворение С. Я. Марша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Как печатали вашу книгу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ла машина лист прост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ложила краск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т писатель Лев Толст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вает сказк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ь у машины нет ума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знает она дел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ы нарежет вам сам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ложит их умел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ереплетчик их сошьет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я обрежет мигом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 оденет в переплет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т пред вами книг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ятно книжки почитать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делать их попробу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о тонкое – печать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ребует учеб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https://3.bp.blogspot.com/-Eyx3IVwzfts/WekRGHnWsQI/AAAAAAAACxE/QhNbdoUvqG0uOVxXXwD2JmW0m3xdcpdDQCEwYBhgL/s1600/%25D0%25B0%25D1%2583%25D0%25B4%25D0%25B8%25D1%2582%252B%252B.jpg"/>
          <p:cNvPicPr/>
          <p:nvPr/>
        </p:nvPicPr>
        <p:blipFill>
          <a:blip r:embed="rId1"/>
          <a:stretch/>
        </p:blipFill>
        <p:spPr>
          <a:xfrm>
            <a:off x="3924360" y="476280"/>
            <a:ext cx="4194000" cy="2184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https://main-cdn.goods.ru/big2/hlr-system/151186471/100024719113b8.jpg"/>
          <p:cNvPicPr/>
          <p:nvPr/>
        </p:nvPicPr>
        <p:blipFill>
          <a:blip r:embed="rId2"/>
          <a:stretch/>
        </p:blipFill>
        <p:spPr>
          <a:xfrm>
            <a:off x="3851280" y="1989000"/>
            <a:ext cx="46260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, кто из вас знает, какие правила надо соблюдать, чтобы наши глаза не устали во время чтения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, низко не наклоняться, свет должен падать с левой стороны, не читать лежа и во время движения в транспорт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йчас мы выучим гимнастику для глаз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https://fs03.metod-kopilka.ru/images/doc/23/16711/img28.jpg"/>
          <p:cNvPicPr/>
          <p:nvPr/>
        </p:nvPicPr>
        <p:blipFill>
          <a:blip r:embed="rId1"/>
          <a:stretch/>
        </p:blipFill>
        <p:spPr>
          <a:xfrm>
            <a:off x="755640" y="162864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https://ds03.infourok.ru/uploads/ex/0d6a/0002e011-24aa3101/img27.jpg"/>
          <p:cNvPicPr/>
          <p:nvPr/>
        </p:nvPicPr>
        <p:blipFill>
          <a:blip r:embed="rId2"/>
          <a:stretch/>
        </p:blipFill>
        <p:spPr>
          <a:xfrm>
            <a:off x="4859280" y="1700280"/>
            <a:ext cx="2844720" cy="2133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https://fs03.metod-kopilka.ru/images/doc/23/16711/img27.jpg"/>
          <p:cNvPicPr/>
          <p:nvPr/>
        </p:nvPicPr>
        <p:blipFill>
          <a:blip r:embed="rId3"/>
          <a:stretch/>
        </p:blipFill>
        <p:spPr>
          <a:xfrm>
            <a:off x="755640" y="378936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https://thumbs.dreamstime.com/z/%D1%87%D0%B8%D1%82%D0%B0%D1%82%D0%B5%D0%BB%D0%B8-2961647.jpg"/>
          <p:cNvPicPr/>
          <p:nvPr/>
        </p:nvPicPr>
        <p:blipFill>
          <a:blip r:embed="rId4"/>
          <a:stretch/>
        </p:blipFill>
        <p:spPr>
          <a:xfrm>
            <a:off x="2335320" y="2276640"/>
            <a:ext cx="5661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2890800" cy="286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читали, рисовали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ки наши так устали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но встанем по порядку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для глаз зарядку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гимнастику для глаз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м каждый раз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аво, влево, кругом, вниз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ь ты не ленись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яем мышцы глаз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 лучше будем сраз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300816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6" descr="https://avatars.mds.yandex.net/get-pdb/2979188/e56c15e9-5f0e-4625-88e8-5c168b53a49c/s1200"/>
          <p:cNvPicPr/>
          <p:nvPr/>
        </p:nvPicPr>
        <p:blipFill>
          <a:blip r:embed="rId1"/>
          <a:stretch/>
        </p:blipFill>
        <p:spPr>
          <a:xfrm>
            <a:off x="3635280" y="105264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ы умеете беречь книги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те, как нужно правильно пользоваться книгой, чтобы она прослужила нам очень долго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 пойдете учиться в школу и из книг узнаете очень много интересного. Никогда не забывайте, сколько людей трудилось, чтобы у вас были книги, относитесь к ним бережн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https://avatars.mds.yandex.net/get-pdb/881477/fdca7d00-8ab8-437e-930e-0fdc316cc259/s1200?webp=false"/>
          <p:cNvPicPr/>
          <p:nvPr/>
        </p:nvPicPr>
        <p:blipFill>
          <a:blip r:embed="rId1"/>
          <a:stretch/>
        </p:blipFill>
        <p:spPr>
          <a:xfrm>
            <a:off x="2700360" y="1773360"/>
            <a:ext cx="499572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ушайте  пословицы и поговорки про книги, и объясните как вы их понимает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Кто много читает, тот много знает". "Золото добывают из земли, а знания из книг"."Книга не пряник, а к себе манит"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, как вы думаете, всегда ли у людей были книги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явились книги?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989000"/>
            <a:ext cx="79311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s://lavkababuin.com/components/com_virtuemart/shop_image/product/60fd4d50c58bc32788300b967cdf71a1.jpg"/>
          <p:cNvPicPr/>
          <p:nvPr/>
        </p:nvPicPr>
        <p:blipFill>
          <a:blip r:embed="rId1"/>
          <a:stretch/>
        </p:blipFill>
        <p:spPr>
          <a:xfrm>
            <a:off x="2700360" y="2276640"/>
            <a:ext cx="3890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ушайте, очень, очень давно люди не умели читать и писать - не было букв на свете, не было письменности. А значит не было и книг.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Давайте мы с вами перенесемся в древние времена, к первобытным людям. Они жили в пещерах, отдыхали там после утомительных скитаний по лесам в поиске пищи и добычи. Поскольку речь людей была слабо развита, люди пытались рассказать друг другу о своих приключениях на охоте или в диких лесах движениями, жестами. 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Человек исполнял различные ритмичные танцы, еще задолго до возникновения языка. Он производил телодвижения, издавал звуки, мычание, кричал в особые моменты, как, например, перед сражением или охотой.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http://www.gogetnews.info/uploads/posts/2015-12/1451080020_001053701_1-393ec34b0f19ee578c628ab27b1a4d04.jpg"/>
          <p:cNvPicPr/>
          <p:nvPr/>
        </p:nvPicPr>
        <p:blipFill>
          <a:blip r:embed="rId1"/>
          <a:stretch/>
        </p:blipFill>
        <p:spPr>
          <a:xfrm>
            <a:off x="1403280" y="2349360"/>
            <a:ext cx="4897440" cy="3672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1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http://funlib.ru/cimg/2015/122723/3703201"/>
          <p:cNvPicPr/>
          <p:nvPr/>
        </p:nvPicPr>
        <p:blipFill>
          <a:blip r:embed="rId2"/>
          <a:stretch/>
        </p:blipFill>
        <p:spPr>
          <a:xfrm>
            <a:off x="395280" y="1916280"/>
            <a:ext cx="4032360" cy="2968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http://s019.radikal.ru/i636/1203/bf/7b28d34abf4a.jpg"/>
          <p:cNvPicPr/>
          <p:nvPr/>
        </p:nvPicPr>
        <p:blipFill>
          <a:blip r:embed="rId3"/>
          <a:stretch/>
        </p:blipFill>
        <p:spPr>
          <a:xfrm>
            <a:off x="4500720" y="3141720"/>
            <a:ext cx="4248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3008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ям хотелось как-то записать и зарисовать увиденное и услышанное."Иногда какой-нибудь охотник брал кость или плоский камень и на нем острым резцом выцарапывал охотничьи сцены животных, с ловом, все, что запомнилось ему или удивило его. Конечно,  эти рисунки на камне или кости были очень грубыми, неумелыми. Но порой первобытный художник так живо и верно изображал животных, что мы и теперь восхищаемся искусством этих далеких мастеров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http://ufavesti.ru/uploads/2015/12/1449046778_mammoth_2_1371082240.jpg"/>
          <p:cNvPicPr/>
          <p:nvPr/>
        </p:nvPicPr>
        <p:blipFill>
          <a:blip r:embed="rId1"/>
          <a:stretch/>
        </p:blipFill>
        <p:spPr>
          <a:xfrm>
            <a:off x="611280" y="3789360"/>
            <a:ext cx="2962080" cy="2222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https://krugomgolova.club/images/682dbd6a-5505-48ce-81c2-429604ff59d4.jpg"/>
          <p:cNvPicPr/>
          <p:nvPr/>
        </p:nvPicPr>
        <p:blipFill>
          <a:blip r:embed="rId2"/>
          <a:stretch/>
        </p:blipFill>
        <p:spPr>
          <a:xfrm>
            <a:off x="3780000" y="1484280"/>
            <a:ext cx="44319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нем Египте возникла письменность в виде картинных знаков.      С помощью знаков изображали воду, звезду. Писали иероглифы на глиняных сосудах. В Древнем Египте был изобретен папиру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https://thumbs.dreamstime.com/z/egyptian-symbols-signs-12892337.jpg"/>
          <p:cNvPicPr/>
          <p:nvPr/>
        </p:nvPicPr>
        <p:blipFill>
          <a:blip r:embed="rId1"/>
          <a:stretch/>
        </p:blipFill>
        <p:spPr>
          <a:xfrm>
            <a:off x="611280" y="1700280"/>
            <a:ext cx="3744720" cy="3801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http://dolzhenznat.ru/wp-content/uploads/2017/02/drevneegipetskij-papirus.jpg"/>
          <p:cNvPicPr/>
          <p:nvPr/>
        </p:nvPicPr>
        <p:blipFill>
          <a:blip r:embed="rId2"/>
          <a:stretch/>
        </p:blipFill>
        <p:spPr>
          <a:xfrm>
            <a:off x="4573440" y="2133720"/>
            <a:ext cx="39261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временем знания и опыт накапливались, люди стали придумывать разные способы, чтобы все записать. Начали писать на коре деревьев, на глиняных дощечк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3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7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9" descr="https://im0-tub-ru.yandex.net/i?id=3de01eb5e6d0ee52dd69d15a20a22bfe&amp;n=13"/>
          <p:cNvPicPr/>
          <p:nvPr/>
        </p:nvPicPr>
        <p:blipFill>
          <a:blip r:embed="rId1"/>
          <a:stretch/>
        </p:blipFill>
        <p:spPr>
          <a:xfrm>
            <a:off x="755640" y="1844640"/>
            <a:ext cx="4032360" cy="2305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1" descr="https://penelite.ru/images/blog/history-pens/glinyanie-dozhechki.jpg"/>
          <p:cNvPicPr/>
          <p:nvPr/>
        </p:nvPicPr>
        <p:blipFill>
          <a:blip r:embed="rId2"/>
          <a:stretch/>
        </p:blipFill>
        <p:spPr>
          <a:xfrm>
            <a:off x="4211640" y="3789360"/>
            <a:ext cx="43927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3008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ней Руси записи делали на бересте. Писали на ней острым металлическим или костяным стержнем, или, как его называли,    писалом. На мягкой березовой коре буквы выдавливались или процарапывались. Лишь в редких случаях на бересте писали пером и чернилами. Важные государственные указы и грамоты писали на специально обработанной тонкой коже, пергаменте, который затем скатывался в трубочки – свитки. И, наконец, изобрели бумагу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 Основой нашего алфавита является "Кириллица",     названная в честь двух братьев Кирилла и Мефод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https://cs8.pikabu.ru/post_img/2016/04/08/6/1460103082159945300.jpg"/>
          <p:cNvPicPr/>
          <p:nvPr/>
        </p:nvPicPr>
        <p:blipFill>
          <a:blip r:embed="rId1"/>
          <a:stretch/>
        </p:blipFill>
        <p:spPr>
          <a:xfrm>
            <a:off x="3708360" y="549360"/>
            <a:ext cx="3044880" cy="1977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ttp://316news.org/wp-content/uploads/2016/12/xw_1339980.jpg"/>
          <p:cNvPicPr/>
          <p:nvPr/>
        </p:nvPicPr>
        <p:blipFill>
          <a:blip r:embed="rId2"/>
          <a:stretch/>
        </p:blipFill>
        <p:spPr>
          <a:xfrm>
            <a:off x="3924360" y="2852640"/>
            <a:ext cx="4392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нем Китае измельчали шелковицу, золу, ткань. Смешивали с водой и раскладывали тонким слоем. Сушили. Так изобрели бумаг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9" descr="http://cs14109.vk.me/c7007/v7007564/9151/0cFC2XHA35s.jpg"/>
          <p:cNvPicPr/>
          <p:nvPr/>
        </p:nvPicPr>
        <p:blipFill>
          <a:blip r:embed="rId1"/>
          <a:stretch/>
        </p:blipFill>
        <p:spPr>
          <a:xfrm>
            <a:off x="5076720" y="3789360"/>
            <a:ext cx="3551400" cy="1976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http://www.voprosy-kak-i-pochemu.ru/wp-content/uploads/china_p.jpg"/>
          <p:cNvPicPr/>
          <p:nvPr/>
        </p:nvPicPr>
        <p:blipFill>
          <a:blip r:embed="rId2"/>
          <a:stretch/>
        </p:blipFill>
        <p:spPr>
          <a:xfrm>
            <a:off x="684360" y="1484280"/>
            <a:ext cx="40860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3008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умаете, из чего делают бумагу? (из дерев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дерево превратилось в бумагу нужно потрудиться людям многих професс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оруб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илят в тайге деревья, очищают стволы от веток,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лавщ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плавляют их по реке. Затем бревна везут по железной дороге на деревообрабатывающий комбинат. Тут их очищают, распиливают, размачивают и варят в огромных котлах, пока не получится жидкая волокнистая масса. В нее добавляют мел, чтобы бумага была белая, и пускают в специальную машину, из которой выползает готовая бумага и на вращательном барабане сматывается в рулон. Готовую бумагу развозят по типографиям, где печатают книг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img03.rl0.ru/pgc/432x288/516e1877-17ae-ec6b-17ae-ec64398ac47b.photo.0.jpg"/>
          <p:cNvPicPr/>
          <p:nvPr/>
        </p:nvPicPr>
        <p:blipFill>
          <a:blip r:embed="rId1"/>
          <a:stretch/>
        </p:blipFill>
        <p:spPr>
          <a:xfrm>
            <a:off x="3708360" y="404640"/>
            <a:ext cx="4735440" cy="2664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fb.ru/misc/i/gallery/15322/246854.jpg"/>
          <p:cNvPicPr/>
          <p:nvPr/>
        </p:nvPicPr>
        <p:blipFill>
          <a:blip r:embed="rId2"/>
          <a:stretch/>
        </p:blipFill>
        <p:spPr>
          <a:xfrm>
            <a:off x="3995640" y="3213000"/>
            <a:ext cx="4392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2T09:55:40Z</dcterms:created>
  <dc:creator>анастасия</dc:creator>
  <dc:description/>
  <dc:language>en-US</dc:language>
  <cp:lastModifiedBy>Анастасия</cp:lastModifiedBy>
  <dcterms:modified xsi:type="dcterms:W3CDTF">2020-04-09T10:16:16Z</dcterms:modified>
  <cp:revision>4</cp:revision>
  <dc:subject/>
  <dc:title>Как появилась книга</dc:title>
</cp:coreProperties>
</file>