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1A0-526B-4593-92CE-AF5B9746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43E-1994-4A6C-A4E5-A83769A8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4DE-F8DB-4003-8BC9-5C7D3D3D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8C4-4A8C-4DC4-8112-3090B83C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7A4-30E9-42C7-AAA4-7A150EF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D93-F993-48AB-8416-65C1E4E8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31A-7317-4F76-8F7E-9CA4485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CB9-1E97-4835-9AFC-06745BA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7C8-DB10-49B5-BDE7-DA36929C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DB9-3A37-49F2-836E-B2717B5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246-9E73-4B72-9ED6-D854AB2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8EF-C99F-4523-8164-8E97139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077-75F2-4BCE-B31C-A19ECAB2E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появилась книг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по познавательному развитию для детей 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воспитатель Селютина М.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е машины разматывают бумагу с барабана, разрезают, печатают, скалывают листы в отдельные тетради, сшивают их и делают переп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5-y.net/wp-content/uploads/2012/06/%D0%9A%D0%B0%D0%BA-%D0%B4%D0%B5%D0%BB%D0%B0%D1%8E%D1%82-%D0%B1%D1%83%D0%BC%D0%B0%D0%B3%D1%83.jpg"/>
          <p:cNvPicPr/>
          <p:nvPr/>
        </p:nvPicPr>
        <p:blipFill>
          <a:blip r:embed="rId1"/>
          <a:stretch/>
        </p:blipFill>
        <p:spPr>
          <a:xfrm>
            <a:off x="250920" y="2349360"/>
            <a:ext cx="4895640" cy="324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barinova.ucoz.ru/books.png"/>
          <p:cNvPicPr/>
          <p:nvPr/>
        </p:nvPicPr>
        <p:blipFill>
          <a:blip r:embed="rId2"/>
          <a:stretch/>
        </p:blipFill>
        <p:spPr>
          <a:xfrm>
            <a:off x="3635280" y="2133720"/>
            <a:ext cx="38894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, каких профессий трудятся над созданием книги? (писатели, художники, печатники, наборщики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ой длинный и трудный путь у книги и сколько людей принимает участие в ее создани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https://cdn1.flamp.ru/5c314f21538da7893c878766fa4e4d6b.jpg"/>
          <p:cNvPicPr/>
          <p:nvPr/>
        </p:nvPicPr>
        <p:blipFill>
          <a:blip r:embed="rId1"/>
          <a:stretch/>
        </p:blipFill>
        <p:spPr>
          <a:xfrm>
            <a:off x="826920" y="1844640"/>
            <a:ext cx="1584360" cy="225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s://dop.pskovedu.ru/file/download/dop/4F0C5D50DF23598FB6AF050889B04D7B"/>
          <p:cNvPicPr/>
          <p:nvPr/>
        </p:nvPicPr>
        <p:blipFill>
          <a:blip r:embed="rId2"/>
          <a:stretch/>
        </p:blipFill>
        <p:spPr>
          <a:xfrm>
            <a:off x="2700360" y="1844640"/>
            <a:ext cx="174636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s://51.img.avito.st/640x480/6026617451.jpg"/>
          <p:cNvPicPr/>
          <p:nvPr/>
        </p:nvPicPr>
        <p:blipFill>
          <a:blip r:embed="rId3"/>
          <a:stretch/>
        </p:blipFill>
        <p:spPr>
          <a:xfrm>
            <a:off x="4859280" y="1700280"/>
            <a:ext cx="3467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3008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стихотворение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Как печатали вашу книг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машина лист прост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ложила крас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писатель Лев Толст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ет сказ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у машины нет ум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нает она де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ы нарежет вам са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ожит их уме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ереплетчик их сошье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я обрежет миг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оденет в перепле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пред вами книг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книжки почит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делать их попробу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тонкое – печ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ебует учеб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https://3.bp.blogspot.com/-Eyx3IVwzfts/WekRGHnWsQI/AAAAAAAACxE/QhNbdoUvqG0uOVxXXwD2JmW0m3xdcpdDQCEwYBhgL/s1600/%25D0%25B0%25D1%2583%25D0%25B4%25D0%25B8%25D1%2582%252B%252B.jpg"/>
          <p:cNvPicPr/>
          <p:nvPr/>
        </p:nvPicPr>
        <p:blipFill>
          <a:blip r:embed="rId1"/>
          <a:stretch/>
        </p:blipFill>
        <p:spPr>
          <a:xfrm>
            <a:off x="3924360" y="476280"/>
            <a:ext cx="4194000" cy="218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https://main-cdn.goods.ru/big2/hlr-system/151186471/100024719113b8.jpg"/>
          <p:cNvPicPr/>
          <p:nvPr/>
        </p:nvPicPr>
        <p:blipFill>
          <a:blip r:embed="rId2"/>
          <a:stretch/>
        </p:blipFill>
        <p:spPr>
          <a:xfrm>
            <a:off x="3851280" y="1989000"/>
            <a:ext cx="4626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кто из вас знает, какие правила надо соблюдать, чтобы наши глаза не устали во время чтения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, низко не наклоняться, свет должен падать с левой стороны, не читать лежа и во время движения в транспорт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мы выучим гимнастику для глаз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s://fs03.metod-kopilka.ru/images/doc/23/16711/img28.jpg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s://ds03.infourok.ru/uploads/ex/0d6a/0002e011-24aa3101/img27.jpg"/>
          <p:cNvPicPr/>
          <p:nvPr/>
        </p:nvPicPr>
        <p:blipFill>
          <a:blip r:embed="rId2"/>
          <a:stretch/>
        </p:blipFill>
        <p:spPr>
          <a:xfrm>
            <a:off x="4859280" y="170028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ttps://fs03.metod-kopilka.ru/images/doc/23/16711/img27.jpg"/>
          <p:cNvPicPr/>
          <p:nvPr/>
        </p:nvPicPr>
        <p:blipFill>
          <a:blip r:embed="rId3"/>
          <a:stretch/>
        </p:blipFill>
        <p:spPr>
          <a:xfrm>
            <a:off x="755640" y="3789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s://thumbs.dreamstime.com/z/%D1%87%D0%B8%D1%82%D0%B0%D1%82%D0%B5%D0%BB%D0%B8-2961647.jpg"/>
          <p:cNvPicPr/>
          <p:nvPr/>
        </p:nvPicPr>
        <p:blipFill>
          <a:blip r:embed="rId4"/>
          <a:stretch/>
        </p:blipFill>
        <p:spPr>
          <a:xfrm>
            <a:off x="2335320" y="2276640"/>
            <a:ext cx="5661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2890800" cy="286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итали, рисовал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наши так устал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о встанем по порядку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ля глаз зарядк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имнастику для глаз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каждый раз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, кругом, вниз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ты не ленис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ем мышцы глаз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лучше будем сраз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30081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https://avatars.mds.yandex.net/get-pdb/2979188/e56c15e9-5f0e-4625-88e8-5c168b53a49c/s1200"/>
          <p:cNvPicPr/>
          <p:nvPr/>
        </p:nvPicPr>
        <p:blipFill>
          <a:blip r:embed="rId1"/>
          <a:stretch/>
        </p:blipFill>
        <p:spPr>
          <a:xfrm>
            <a:off x="3635280" y="1052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 умеете беречь книг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как нужно правильно пользоваться книгой, чтобы она прослужила нам очень долго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 пойдете учиться в школу и из книг узнаете очень много интересного. Никогда не забывайте, сколько людей трудилось, чтобы у вас были книги, относитесь к ним береж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s://avatars.mds.yandex.net/get-pdb/881477/fdca7d00-8ab8-437e-930e-0fdc316cc259/s1200?webp=false"/>
          <p:cNvPicPr/>
          <p:nvPr/>
        </p:nvPicPr>
        <p:blipFill>
          <a:blip r:embed="rId1"/>
          <a:stretch/>
        </p:blipFill>
        <p:spPr>
          <a:xfrm>
            <a:off x="2700360" y="1773360"/>
            <a:ext cx="49957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 пословицы и поговорки про книги, и объясните как вы их понимае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то много читает, тот много знает". "Золото добывают из земли, а знания из книг"."Книга не пряник, а к себе манит"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как вы думаете, всегда ли у людей были книг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ись книги?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989000"/>
            <a:ext cx="7931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lavkababuin.com/components/com_virtuemart/shop_image/product/60fd4d50c58bc32788300b967cdf71a1.jpg"/>
          <p:cNvPicPr/>
          <p:nvPr/>
        </p:nvPicPr>
        <p:blipFill>
          <a:blip r:embed="rId1"/>
          <a:stretch/>
        </p:blipFill>
        <p:spPr>
          <a:xfrm>
            <a:off x="2700360" y="2276640"/>
            <a:ext cx="3890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, очень, очень давно люди не умели читать и писать - не было букв на свете, не было письменности. А значит не было и книг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авайте мы с вами перенесемся в древние времена, к первобытным людям. Они жили в пещерах, отдыхали там после утомительных скитаний по лесам в поиске пищи и добычи. Поскольку речь людей была слабо развита, люди пытались рассказать друг другу о своих приключениях на охоте или в диких лесах движениями, жестами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овек исполнял различные ритмичные танцы, еще задолго до возникновения языка. Он производил телодвижения, издавал звуки, мычание, кричал в особые моменты, как, например, перед сражением или охотой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www.gogetnews.info/uploads/posts/2015-12/1451080020_001053701_1-393ec34b0f19ee578c628ab27b1a4d04.jpg"/>
          <p:cNvPicPr/>
          <p:nvPr/>
        </p:nvPicPr>
        <p:blipFill>
          <a:blip r:embed="rId1"/>
          <a:stretch/>
        </p:blipFill>
        <p:spPr>
          <a:xfrm>
            <a:off x="1403280" y="234936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http://funlib.ru/cimg/2015/122723/3703201"/>
          <p:cNvPicPr/>
          <p:nvPr/>
        </p:nvPicPr>
        <p:blipFill>
          <a:blip r:embed="rId2"/>
          <a:stretch/>
        </p:blipFill>
        <p:spPr>
          <a:xfrm>
            <a:off x="395280" y="1916280"/>
            <a:ext cx="4032360" cy="296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s019.radikal.ru/i636/1203/bf/7b28d34abf4a.jpg"/>
          <p:cNvPicPr/>
          <p:nvPr/>
        </p:nvPicPr>
        <p:blipFill>
          <a:blip r:embed="rId3"/>
          <a:stretch/>
        </p:blipFill>
        <p:spPr>
          <a:xfrm>
            <a:off x="4500720" y="3141720"/>
            <a:ext cx="4248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008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 хотелось как-то записать и зарисовать увиденное и услышанное."Иногда какой-нибудь охотник брал кость или плоский камень и на нем острым резцом выцарапывал охотничьи сцены животных, с ловом, все, что запомнилось ему или удивило его. Конечно,  эти рисунки на камне или кости были очень грубыми, неумелыми. Но порой первобытный художник так живо и верно изображал животных, что мы и теперь восхищаемся искусством этих далеких мастеров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ufavesti.ru/uploads/2015/12/1449046778_mammoth_2_1371082240.jpg"/>
          <p:cNvPicPr/>
          <p:nvPr/>
        </p:nvPicPr>
        <p:blipFill>
          <a:blip r:embed="rId1"/>
          <a:stretch/>
        </p:blipFill>
        <p:spPr>
          <a:xfrm>
            <a:off x="611280" y="3789360"/>
            <a:ext cx="2962080" cy="22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s://krugomgolova.club/images/682dbd6a-5505-48ce-81c2-429604ff59d4.jpg"/>
          <p:cNvPicPr/>
          <p:nvPr/>
        </p:nvPicPr>
        <p:blipFill>
          <a:blip r:embed="rId2"/>
          <a:stretch/>
        </p:blipFill>
        <p:spPr>
          <a:xfrm>
            <a:off x="3780000" y="1484280"/>
            <a:ext cx="44319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возникла письменность в виде картинных знаков.      С помощью знаков изображали воду, звезду. Писали иероглифы на глиняных сосудах. В Древнем Египте был изобретен папир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s://thumbs.dreamstime.com/z/egyptian-symbols-signs-12892337.jpg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380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dolzhenznat.ru/wp-content/uploads/2017/02/drevneegipetskij-papirus.jpg"/>
          <p:cNvPicPr/>
          <p:nvPr/>
        </p:nvPicPr>
        <p:blipFill>
          <a:blip r:embed="rId2"/>
          <a:stretch/>
        </p:blipFill>
        <p:spPr>
          <a:xfrm>
            <a:off x="4573440" y="2133720"/>
            <a:ext cx="3926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ем знания и опыт накапливались, люди стали придумывать разные способы, чтобы все записать. Начали писать на коре деревьев, на глиняных дощеч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9" descr="https://im0-tub-ru.yandex.net/i?id=3de01eb5e6d0ee52dd69d15a20a22bfe&amp;n=13"/>
          <p:cNvPicPr/>
          <p:nvPr/>
        </p:nvPicPr>
        <p:blipFill>
          <a:blip r:embed="rId1"/>
          <a:stretch/>
        </p:blipFill>
        <p:spPr>
          <a:xfrm>
            <a:off x="755640" y="184464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https://penelite.ru/images/blog/history-pens/glinyanie-dozhechki.jpg"/>
          <p:cNvPicPr/>
          <p:nvPr/>
        </p:nvPicPr>
        <p:blipFill>
          <a:blip r:embed="rId2"/>
          <a:stretch/>
        </p:blipFill>
        <p:spPr>
          <a:xfrm>
            <a:off x="4211640" y="3789360"/>
            <a:ext cx="439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008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записи делали на бересте. Писали на ней острым металлическим или костяным стержнем, или, как его называли,    писалом. На мягкой березовой коре буквы выдавливались или процарапывались. Лишь в редких случаях на бересте писали пером и чернилами. Важные государственные указы и грамоты писали на специально обработанной тонкой коже, пергаменте, который затем скатывался в трубочки – свитки. И, наконец, изобрели бумаг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Основой нашего алфавита является "Кириллица",     названная в честь двух братьев Кирилла и Мефод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s://cs8.pikabu.ru/post_img/2016/04/08/6/1460103082159945300.jpg"/>
          <p:cNvPicPr/>
          <p:nvPr/>
        </p:nvPicPr>
        <p:blipFill>
          <a:blip r:embed="rId1"/>
          <a:stretch/>
        </p:blipFill>
        <p:spPr>
          <a:xfrm>
            <a:off x="3708360" y="549360"/>
            <a:ext cx="3044880" cy="197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316news.org/wp-content/uploads/2016/12/xw_1339980.jpg"/>
          <p:cNvPicPr/>
          <p:nvPr/>
        </p:nvPicPr>
        <p:blipFill>
          <a:blip r:embed="rId2"/>
          <a:stretch/>
        </p:blipFill>
        <p:spPr>
          <a:xfrm>
            <a:off x="3924360" y="2852640"/>
            <a:ext cx="4392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Китае измельчали шелковицу, золу, ткань. Смешивали с водой и раскладывали тонким слоем. Сушили. Так изобрели бумаг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http://cs14109.vk.me/c7007/v7007564/9151/0cFC2XHA35s.jpg"/>
          <p:cNvPicPr/>
          <p:nvPr/>
        </p:nvPicPr>
        <p:blipFill>
          <a:blip r:embed="rId1"/>
          <a:stretch/>
        </p:blipFill>
        <p:spPr>
          <a:xfrm>
            <a:off x="5076720" y="3789360"/>
            <a:ext cx="3551400" cy="197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www.voprosy-kak-i-pochemu.ru/wp-content/uploads/china_p.jpg"/>
          <p:cNvPicPr/>
          <p:nvPr/>
        </p:nvPicPr>
        <p:blipFill>
          <a:blip r:embed="rId2"/>
          <a:stretch/>
        </p:blipFill>
        <p:spPr>
          <a:xfrm>
            <a:off x="684360" y="1484280"/>
            <a:ext cx="4086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008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из чего делают бумагу? (из дере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ерево превратилось в бумагу нужно потрудиться людям многих профес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оруб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илят в тайге деревья, очищают стволы от веток,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щ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плавляют их по реке. Затем бревна везут по железной дороге на деревообрабатывающий комбинат. Тут их очищают, распиливают, размачивают и варят в огромных котлах, пока не получится жидкая волокнистая масса. В нее добавляют мел, чтобы бумага была белая, и пускают в специальную машину, из которой выползает готовая бумага и на вращательном барабане сматывается в рулон. Готовую бумагу развозят по типографиям, где печатают кни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img03.rl0.ru/pgc/432x288/516e1877-17ae-ec6b-17ae-ec64398ac47b.photo.0.jpg"/>
          <p:cNvPicPr/>
          <p:nvPr/>
        </p:nvPicPr>
        <p:blipFill>
          <a:blip r:embed="rId1"/>
          <a:stretch/>
        </p:blipFill>
        <p:spPr>
          <a:xfrm>
            <a:off x="3708360" y="404640"/>
            <a:ext cx="473544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fb.ru/misc/i/gallery/15322/246854.jpg"/>
          <p:cNvPicPr/>
          <p:nvPr/>
        </p:nvPicPr>
        <p:blipFill>
          <a:blip r:embed="rId2"/>
          <a:stretch/>
        </p:blipFill>
        <p:spPr>
          <a:xfrm>
            <a:off x="3995640" y="3213000"/>
            <a:ext cx="4392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09:55:40Z</dcterms:created>
  <dc:creator>анастасия</dc:creator>
  <dc:description/>
  <dc:language>en-US</dc:language>
  <cp:lastModifiedBy>Анастасия</cp:lastModifiedBy>
  <dcterms:modified xsi:type="dcterms:W3CDTF">2020-04-09T10:16:16Z</dcterms:modified>
  <cp:revision>4</cp:revision>
  <dc:subject/>
  <dc:title>Как появилась книга</dc:title>
</cp:coreProperties>
</file>