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04-4600-403A-8CCB-8BD92B72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68C-0999-47D4-82DA-B1D8E026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802-BF0C-4704-9C6D-71B1434E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8A1-0213-48B8-AD12-14605308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3C7-E4BA-443B-875A-18AD5859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A7C-A78E-41AD-BB35-5147E5D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267-FDF9-4A16-83B3-B3CB6D7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DBC1-D0DB-485F-B747-82C8F51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6A0C-23AD-43CB-A907-1036958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B8D-18E0-42F7-B755-03033930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5DD9-8FDF-40A8-8F34-ABFDAAA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0E7-EE87-4396-BA8D-974058E5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7D43-36EF-4DDF-A0C3-909E4D4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B193-D027-4E73-80E9-FA11672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FD6-5111-4EE3-9B06-84DD3AB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B22-AA63-4F11-A597-52EA6448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55D-8B37-4D5A-8600-E53F3E3D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A32-9768-4356-B3E2-9FA5E13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1F5-DD17-4D17-BBEA-7B1ED03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603-9C93-474A-97B3-B3862474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A64-EE42-4D85-9131-5A921D5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3AA-A43E-4A45-A7C8-9A92E1C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454-1BB6-4341-9EC3-B91059C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49B-B186-47BC-8E5F-5718F6D8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025B9A-4F00-4C24-9467-5A6EB59A1A0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019876-C4E8-494D-A979-6229EED8DD3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4862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4 «А» класс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9 апреля 2015 года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Учитель: Смольская Татьяна Никифоровн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1640" y="2493000"/>
            <a:ext cx="864072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«Предмет математики настолько серьёзен, что полезно не упускать случая, делать его немного заниматель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Это слова великого математика Паск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(1623 – 1662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835640" y="4221000"/>
            <a:ext cx="53283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« Тот, кто не знает математики, не может узнать никакой другой нау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английский философ XIII века Роджер Бэк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(1214 – 1294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07280" y="3717000"/>
            <a:ext cx="1542600" cy="175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308360" y="4488480"/>
            <a:ext cx="1731600" cy="23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71920" y="980640"/>
            <a:ext cx="7408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соб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50 : 3 = 50 (р./кг) – цена огурцов весной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) 150 : 15 = 10 (р./кг) – цена огурцов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3) 50 : 10 = 5 (раз) –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 способ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5 : 3 = 5 (раз) –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вет: в 5 раз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Решение задачи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43640" y="4077000"/>
            <a:ext cx="353664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71920" y="1052640"/>
            <a:ext cx="740808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- Реши задачу из учебника №202. Вычисли и запиши ответ. Проверь себя в БАНКЕ ответов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Домашнее задание: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№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203; № 204 (устно)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Самоконтроль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640" y="4293000"/>
            <a:ext cx="3233520" cy="242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716000" y="4348080"/>
            <a:ext cx="3719520" cy="24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040" cy="9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Устный счёт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1484640"/>
            <a:ext cx="6400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eriod"/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Вычислите ус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а) 500 + 310                                  б) 910 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: 90                                                 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. 60                                                - 80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- 120                                              : 240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: 420                                             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= …                                              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-15480" y="3573000"/>
            <a:ext cx="3206160" cy="29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71920" y="1700640"/>
            <a:ext cx="7408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- Назовите любое число слева, а … назовёт вам число справа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2. «Хитрая таблица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(проверка памяти)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3" name="Таблица 3"/>
          <p:cNvGraphicFramePr/>
          <p:nvPr/>
        </p:nvGraphicFramePr>
        <p:xfrm>
          <a:off x="4644000" y="2205000"/>
          <a:ext cx="3960000" cy="4392000"/>
        </p:xfrm>
        <a:graphic>
          <a:graphicData uri="http://schemas.openxmlformats.org/drawingml/2006/table">
            <a:tbl>
              <a:tblPr/>
              <a:tblGrid>
                <a:gridCol w="1980000"/>
                <a:gridCol w="198000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4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7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3395880"/>
            <a:ext cx="43034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640" y="1412640"/>
            <a:ext cx="885672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- Кто первый «прибежит» к нам на урок из «Лесной школы» - Ёжик, Зайчик или Волк, если: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) расстояние до нашей школы 50 м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б) скорость Ёжика в 3 раза меньше скорости Зайчика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) скорость зайчика в 2 раза меньше скорости Волка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) сравните время каждого из них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0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3. Задача</a:t>
            </a:r>
            <a:br>
              <a:rPr sz="4400"/>
            </a:br>
            <a:r>
              <a:rPr b="0" lang="ru-RU" sz="3100" spc="-1" strike="noStrike">
                <a:solidFill>
                  <a:srgbClr val="ffffff"/>
                </a:solidFill>
                <a:latin typeface="Candara"/>
              </a:rPr>
              <a:t>(задача – шутка)</a:t>
            </a:r>
            <a:endParaRPr b="0" lang="ru-RU" sz="31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77240" y="4437000"/>
            <a:ext cx="383004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Объект 3"/>
          <p:cNvGraphicFramePr/>
          <p:nvPr/>
        </p:nvGraphicFramePr>
        <p:xfrm>
          <a:off x="827640" y="1917000"/>
          <a:ext cx="7416360" cy="4708440"/>
        </p:xfrm>
        <a:graphic>
          <a:graphicData uri="http://schemas.openxmlformats.org/drawingml/2006/table">
            <a:tbl>
              <a:tblPr/>
              <a:tblGrid>
                <a:gridCol w="2472120"/>
                <a:gridCol w="2472120"/>
                <a:gridCol w="2472120"/>
              </a:tblGrid>
              <a:tr h="117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5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0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4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ссмотрите таблиц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 - Какую информацию содержит таблица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 - Сегодня на уроке будем решать задачи, когда …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Объект 3"/>
          <p:cNvGraphicFramePr/>
          <p:nvPr/>
        </p:nvGraphicFramePr>
        <p:xfrm>
          <a:off x="871560" y="1916280"/>
          <a:ext cx="7444440" cy="4613040"/>
        </p:xfrm>
        <a:graphic>
          <a:graphicData uri="http://schemas.openxmlformats.org/drawingml/2006/table">
            <a:tbl>
              <a:tblPr/>
              <a:tblGrid>
                <a:gridCol w="1861200"/>
                <a:gridCol w="1861200"/>
                <a:gridCol w="1861200"/>
                <a:gridCol w="1861200"/>
              </a:tblGrid>
              <a:tr h="92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Вид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Огур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2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Морк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5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4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Помид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0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Перс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2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338400"/>
            <a:ext cx="849672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Тема урок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« Цена, количество, стоимость. Зависимость между величинами, когда стоимость одинаковая»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71920" y="1845000"/>
            <a:ext cx="740808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0 : 10 = 2 (раза) – дороже огурцы, чем морков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0 : 5 = 2 (раза) – больше купили моркови, чем огурц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ывод (правил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Проверьте эту закономерность величин для другой пары товаров (морковь и огурцы)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22080" y="3213000"/>
            <a:ext cx="441612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1917000"/>
            <a:ext cx="7408080" cy="42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равило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При одинаковой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стоимости</a:t>
            </a:r>
            <a:r>
              <a:rPr b="1" lang="ru-RU" sz="4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увеличение (уменьшение)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количества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в несколько раз приводит </a:t>
            </a:r>
            <a:endParaRPr b="0" lang="ru-RU" sz="3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к уменьшению (увеличению)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цены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в это же число раз</a:t>
            </a:r>
            <a:endParaRPr b="0" lang="ru-RU" sz="3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Сделайте вывод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Объект 3"/>
          <p:cNvGraphicFramePr/>
          <p:nvPr/>
        </p:nvGraphicFramePr>
        <p:xfrm>
          <a:off x="827640" y="1557360"/>
          <a:ext cx="7452360" cy="3887640"/>
        </p:xfrm>
        <a:graphic>
          <a:graphicData uri="http://schemas.openxmlformats.org/drawingml/2006/table">
            <a:tbl>
              <a:tblPr/>
              <a:tblGrid>
                <a:gridCol w="1863000"/>
                <a:gridCol w="1863000"/>
                <a:gridCol w="1863000"/>
                <a:gridCol w="1863000"/>
              </a:tblGrid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Вес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3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Лет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абота в парах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Правая круглая скобка 5"/>
          <p:cNvSpPr/>
          <p:nvPr/>
        </p:nvSpPr>
        <p:spPr>
          <a:xfrm>
            <a:off x="2988000" y="3069000"/>
            <a:ext cx="288720" cy="163404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31b6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281</TotalTime>
  <Application>LibreOffice/7.4.7.2$Linux_X86_64 LibreOffice_project/40$Build-2</Application>
  <AppVersion>15.0000</AppVersion>
  <Words>483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2:06:24Z</dcterms:created>
  <dc:creator>locadmin</dc:creator>
  <dc:description/>
  <dc:language>en-US</dc:language>
  <cp:lastModifiedBy>Anastasiya Voytik</cp:lastModifiedBy>
  <dcterms:modified xsi:type="dcterms:W3CDTF">2020-04-08T17:11:30Z</dcterms:modified>
  <cp:revision>40</cp:revision>
  <dc:subject/>
  <dc:title>Математика 4 «А» класс 9 апреля 2015 года Учитель: Смольская Татьяна Никифоро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