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E97-6E12-403A-A566-68EE1C21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0A4-DCAA-4443-8FD8-A5C48858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6E9-9CDE-4412-83EF-79017743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B69-9596-4B27-B074-F3142030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E5DD-16C8-417C-9423-F0BFB8DA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005B-B019-4007-98D0-8549789E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0134-8D60-42B6-B369-112E0782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FE10-069F-4D41-8BDB-5C3FDAE5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E8FE-F599-4369-B00D-B756AE8F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017A-9792-458B-92A4-62A2D1F7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036B-5332-460D-865F-B0E63569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011-E0AA-4D70-BA2A-00170BDD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8CF4-EE73-4182-AC1F-628701FE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4B27-871A-4873-B8BB-9A5B1835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6B91-56BC-4A18-A0E1-E80ED77B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5303-E2AD-4853-9322-86B7B99C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F932-5474-43BF-8F4F-0AEC6B57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029-E424-47E4-903F-9783663B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342-A549-4036-AE4F-A8C333D5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483-ED94-4808-BFAA-E9913B96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19C-EB33-4C53-A3A4-0D15CBBF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9C5-C14D-49CE-96F6-8D48E568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19D-94D2-437A-A016-06434BA1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5D7-0F52-45B6-B689-6D667445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F53C990-1FD1-488B-9C1F-910AD039708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802566D-6ACE-49CB-BE4A-D8F2182AB45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48620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Математи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4 «А» класс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9 апреля 2015 года</a:t>
            </a: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Учитель: Смольская Татьяна Никифоровн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1640" y="2493000"/>
            <a:ext cx="8640720" cy="41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«Предмет математики настолько серьёзен, что полезно не упускать случая, делать его немного занимательны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Это слова великого математика Паск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(1623 – 1662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1835640" y="4221000"/>
            <a:ext cx="532836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« Тот, кто не знает математики, не может узнать никакой другой нау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(английский философ XIII века Роджер Бэк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(1214 – 1294г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07280" y="3717000"/>
            <a:ext cx="1542600" cy="1755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308360" y="4488480"/>
            <a:ext cx="1731600" cy="23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71920" y="980640"/>
            <a:ext cx="7408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пособ: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AutoNum type="arabicParenR"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50 : 3 = 50 (р./кг) – цена огурцов весной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AutoNum type="arabicParenR"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2) 150 : 15 = 10 (р./кг) – цена огурцов летом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AutoNum type="arabicParenR"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3) 50 : 10 = 5 (раз) – дешевле огурцы летом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2 способ: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5 : 3 = 5 (раз) – дешевле огурцы летом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твет: в 5 раз дешевле огурцы летом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ffffff"/>
                </a:solidFill>
                <a:latin typeface="Candara"/>
              </a:rPr>
              <a:t>Решение задачи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843640" y="4077000"/>
            <a:ext cx="353664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71920" y="1052640"/>
            <a:ext cx="7408080" cy="50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- Реши задачу из учебника №202. Вычисли и запиши ответ. Проверь себя в БАНКЕ ответов.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Домашнее задание: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№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203; № 204 (устно)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ffffff"/>
                </a:solidFill>
                <a:latin typeface="Candara"/>
              </a:rPr>
              <a:t>Самоконтроль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611640" y="4293000"/>
            <a:ext cx="3233520" cy="242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4716000" y="4348080"/>
            <a:ext cx="3719520" cy="24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040" cy="9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Устный счёт</a:t>
            </a: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1484640"/>
            <a:ext cx="6400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AutoNum type="arabicPeriod"/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Вычислите уст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а) 500 + 310                                  б) 910 :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: 90                                                 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. 60                                                - 80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- 120                                              : 240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: 420                                             .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Candara"/>
              </a:rPr>
              <a:t>= …                                               =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-15480" y="3573000"/>
            <a:ext cx="3206160" cy="29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71920" y="1700640"/>
            <a:ext cx="7408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- Назовите любое число слева, а … назовёт вам число справа!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2. «Хитрая таблица»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(проверка памяти)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113" name="Таблица 3"/>
          <p:cNvGraphicFramePr/>
          <p:nvPr/>
        </p:nvGraphicFramePr>
        <p:xfrm>
          <a:off x="4644000" y="2205000"/>
          <a:ext cx="3960000" cy="4392000"/>
        </p:xfrm>
        <a:graphic>
          <a:graphicData uri="http://schemas.openxmlformats.org/drawingml/2006/table">
            <a:tbl>
              <a:tblPr/>
              <a:tblGrid>
                <a:gridCol w="1980000"/>
                <a:gridCol w="198000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8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4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7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7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9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3395880"/>
            <a:ext cx="430344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7640" y="1412640"/>
            <a:ext cx="885672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- Кто первый «прибежит» к нам на урок из «Лесной школы» - Ёжик, Зайчик или Волк, если: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а) расстояние до нашей школы 50 м;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б) скорость Ёжика в 3 раза меньше скорости Зайчика;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в) скорость зайчика в 2 раза меньше скорости Волка;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г) сравните время каждого из них.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0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3. Задача</a:t>
            </a:r>
            <a:br>
              <a:rPr sz="4400"/>
            </a:br>
            <a:r>
              <a:rPr b="0" lang="ru-RU" sz="3100" spc="-1" strike="noStrike">
                <a:solidFill>
                  <a:srgbClr val="ffffff"/>
                </a:solidFill>
                <a:latin typeface="Candara"/>
              </a:rPr>
              <a:t>(задача – шутка)</a:t>
            </a:r>
            <a:endParaRPr b="0" lang="ru-RU" sz="31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577240" y="4437000"/>
            <a:ext cx="383004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Объект 3"/>
          <p:cNvGraphicFramePr/>
          <p:nvPr/>
        </p:nvGraphicFramePr>
        <p:xfrm>
          <a:off x="827640" y="1917000"/>
          <a:ext cx="7416360" cy="4708440"/>
        </p:xfrm>
        <a:graphic>
          <a:graphicData uri="http://schemas.openxmlformats.org/drawingml/2006/table">
            <a:tbl>
              <a:tblPr/>
              <a:tblGrid>
                <a:gridCol w="2472120"/>
                <a:gridCol w="2472120"/>
                <a:gridCol w="2472120"/>
              </a:tblGrid>
              <a:tr h="117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17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2 р./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25 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17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5 р./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0 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</a:tr>
              <a:tr h="117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 р./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50 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43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Рассмотрите таблицу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 - Какую информацию содержит таблица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 - Сегодня на уроке будем решать задачи, когда …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Объект 3"/>
          <p:cNvGraphicFramePr/>
          <p:nvPr/>
        </p:nvGraphicFramePr>
        <p:xfrm>
          <a:off x="871560" y="1916280"/>
          <a:ext cx="7444440" cy="4613040"/>
        </p:xfrm>
        <a:graphic>
          <a:graphicData uri="http://schemas.openxmlformats.org/drawingml/2006/table">
            <a:tbl>
              <a:tblPr/>
              <a:tblGrid>
                <a:gridCol w="1861200"/>
                <a:gridCol w="1861200"/>
                <a:gridCol w="1861200"/>
                <a:gridCol w="1861200"/>
              </a:tblGrid>
              <a:tr h="92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Вид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Ц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Стои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92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Огур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50 р./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2 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600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92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Морков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25 р./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24 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600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</a:tr>
              <a:tr h="92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Помидо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60 р./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0 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600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92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Перс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20 р./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5 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600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3640" y="338400"/>
            <a:ext cx="849672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Тема урок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« Цена, количество, стоимость. Зависимость между величинами, когда стоимость одинаковая»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71920" y="1845000"/>
            <a:ext cx="7408080" cy="47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AutoNum type="arabicParenR"/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20 : 10 = 2 (раза) – дороже огурцы, чем морковь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AutoNum type="arabicParenR"/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0 : 5 = 2 (раза) – больше купили моркови, чем огурцов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ывод (правил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Проверьте эту закономерность величин для другой пары товаров (морковь и огурцы)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222080" y="3213000"/>
            <a:ext cx="4416120" cy="33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71920" y="1917000"/>
            <a:ext cx="7408080" cy="42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Правило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1" lang="ru-RU" sz="3900" spc="-1" strike="noStrike">
                <a:solidFill>
                  <a:srgbClr val="073e87"/>
                </a:solidFill>
                <a:latin typeface="Candara"/>
              </a:rPr>
              <a:t>При одинаковой </a:t>
            </a:r>
            <a:r>
              <a:rPr b="1" i="1" lang="ru-RU" sz="4300" spc="-1" strike="noStrike">
                <a:solidFill>
                  <a:srgbClr val="073e87"/>
                </a:solidFill>
                <a:latin typeface="Candara"/>
              </a:rPr>
              <a:t>стоимости</a:t>
            </a:r>
            <a:r>
              <a:rPr b="1" lang="ru-RU" sz="43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3900" spc="-1" strike="noStrike">
                <a:solidFill>
                  <a:srgbClr val="073e87"/>
                </a:solidFill>
                <a:latin typeface="Candara"/>
              </a:rPr>
              <a:t>увеличение (уменьшение) </a:t>
            </a:r>
            <a:r>
              <a:rPr b="1" i="1" lang="ru-RU" sz="4300" spc="-1" strike="noStrike">
                <a:solidFill>
                  <a:srgbClr val="073e87"/>
                </a:solidFill>
                <a:latin typeface="Candara"/>
              </a:rPr>
              <a:t>количества</a:t>
            </a: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3900" spc="-1" strike="noStrike">
                <a:solidFill>
                  <a:srgbClr val="073e87"/>
                </a:solidFill>
                <a:latin typeface="Candara"/>
              </a:rPr>
              <a:t>в несколько раз приводит </a:t>
            </a:r>
            <a:endParaRPr b="0" lang="ru-RU" sz="3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1" lang="ru-RU" sz="3900" spc="-1" strike="noStrike">
                <a:solidFill>
                  <a:srgbClr val="073e87"/>
                </a:solidFill>
                <a:latin typeface="Candara"/>
              </a:rPr>
              <a:t>к уменьшению (увеличению) </a:t>
            </a:r>
            <a:r>
              <a:rPr b="1" i="1" lang="ru-RU" sz="4300" spc="-1" strike="noStrike">
                <a:solidFill>
                  <a:srgbClr val="073e87"/>
                </a:solidFill>
                <a:latin typeface="Candara"/>
              </a:rPr>
              <a:t>цены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780"/>
              </a:spcBef>
              <a:buNone/>
              <a:tabLst>
                <a:tab algn="l" pos="0"/>
              </a:tabLst>
            </a:pPr>
            <a:r>
              <a:rPr b="1" lang="ru-RU" sz="3900" spc="-1" strike="noStrike">
                <a:solidFill>
                  <a:srgbClr val="073e87"/>
                </a:solidFill>
                <a:latin typeface="Candara"/>
              </a:rPr>
              <a:t>в это же число раз</a:t>
            </a:r>
            <a:endParaRPr b="0" lang="ru-RU" sz="3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Сделайте вывод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Объект 3"/>
          <p:cNvGraphicFramePr/>
          <p:nvPr/>
        </p:nvGraphicFramePr>
        <p:xfrm>
          <a:off x="827640" y="1557360"/>
          <a:ext cx="7452360" cy="3887640"/>
        </p:xfrm>
        <a:graphic>
          <a:graphicData uri="http://schemas.openxmlformats.org/drawingml/2006/table">
            <a:tbl>
              <a:tblPr/>
              <a:tblGrid>
                <a:gridCol w="1863000"/>
                <a:gridCol w="1863000"/>
                <a:gridCol w="1863000"/>
                <a:gridCol w="1863000"/>
              </a:tblGrid>
              <a:tr h="129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Ц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ndara"/>
                        </a:rPr>
                        <a:t>Стои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9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Вес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3 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29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Лет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5 к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200" spc="-1" strike="noStrike">
                          <a:solidFill>
                            <a:schemeClr val="dk1"/>
                          </a:solidFill>
                          <a:latin typeface="Candara"/>
                        </a:rPr>
                        <a:t>150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2fe"/>
                    </a:solidFill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85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Работа в парах</a:t>
            </a: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Правая круглая скобка 5"/>
          <p:cNvSpPr/>
          <p:nvPr/>
        </p:nvSpPr>
        <p:spPr>
          <a:xfrm>
            <a:off x="2988000" y="3069000"/>
            <a:ext cx="288720" cy="163404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31b6fd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281</TotalTime>
  <Application>LibreOffice/7.4.7.2$Linux_X86_64 LibreOffice_project/40$Build-2</Application>
  <AppVersion>15.0000</AppVersion>
  <Words>483</Words>
  <Paragraphs>1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12:06:24Z</dcterms:created>
  <dc:creator>locadmin</dc:creator>
  <dc:description/>
  <dc:language>en-US</dc:language>
  <cp:lastModifiedBy>Anastasiya Voytik</cp:lastModifiedBy>
  <dcterms:modified xsi:type="dcterms:W3CDTF">2020-04-08T17:11:30Z</dcterms:modified>
  <cp:revision>40</cp:revision>
  <dc:subject/>
  <dc:title>Математика 4 «А» класс 9 апреля 2015 года Учитель: Смольская Татьяна Никифоров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