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900-260A-4915-8D8A-94FF10CA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BE2-9BA3-4314-A9B5-FA10E67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17E-205B-4CB0-8CAC-AE1954E4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56-EE79-4E03-B5E1-B4096ABE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339-77BD-4191-B990-1BA807BB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C07-C493-46CE-A8A7-0258F665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421-A65F-49B2-BB69-2C10B61B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12C9-9DAE-4AE4-BBEF-D8FA368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962F-2F6D-401F-94E8-2A0B4DCA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D41E-5EFB-4DB7-8AAE-91608C6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927A-44F0-42CD-B27F-090874B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E59-0DE8-4FA9-8E1C-BB8BF11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D4D9-D233-42BB-A919-4950799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719-4D34-456E-897D-FAD327E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523B-68AA-4545-80E6-04F0DA69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AAB-6FEC-4324-9882-E80A787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DD5-BD18-4BBB-93DC-C3148C79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1089-2561-4F4D-A63B-30D8033B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99C8-4645-4ED9-B17C-479FC97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4B2B-E6DB-4A6D-87CB-E1F168C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F7AF-41AC-4A4C-8D20-9BE9C7B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5E09-6C53-4E0B-8FF0-2A3F2606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D02-6BB0-4098-AB18-8EC8FB9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351-6059-489C-B3D0-B75480C1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52C6-2250-4B5C-9425-AE11D7E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FF7B-013C-48AB-A97A-9838968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20CE-210A-412D-A3DD-C47FC65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6E31-36E3-45AB-BC8A-07B8C743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8DC2-1F7C-4FC1-BB24-DF2B9D57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2688-5818-4BBB-8F6F-B5D526C8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EC3C-9D0B-4608-AC5C-153F73AC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5980-556D-4138-82F5-BBDE3CC0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EAD3-ABE8-468E-928D-6807FB6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2AD-A325-4128-B8E6-7340E5A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8BAF-D568-45C6-8D15-7EBE81A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8CB6-23E6-4067-B2B5-9CEB26E3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5EE34-A09B-4D20-9D31-7EF6F5D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1B2D-FECC-4A9B-81E0-63220A61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A58E-125B-4782-8842-AA016FE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1CA8-7087-4FDE-9762-0A16E59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3891-BDDB-442F-830D-A2CF71A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1A33-38D3-45DB-91E8-D252A5B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9142-3ABA-4E25-B5C1-D8A0F581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D52C-051E-4E97-B706-0C7C163E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86C-6153-42DA-B88D-6B12875C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8DAE-CCC5-4B8B-BC55-19107D4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FDF8-6C93-427B-BC24-98828F29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29C2-DBAA-45E1-8A5E-87899E9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577C-E94A-4FC2-94CE-F295328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0063-CDD9-4712-93A3-35605C8B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A18E-2648-4191-B2DB-96DBFF6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5717-8942-44F6-AEE0-AF5EFDE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68EA-E3A6-489B-89D0-5162899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FB84-C55A-4D3D-8647-7A16B471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6DAD-2F51-4977-9381-7F7951A1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F6E-3D9E-4958-B71E-E7BE2C1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51254-3E4E-4904-8722-92E6388C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FEB-2DBE-47FE-B433-98ADD5C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FE0-A32A-4074-923D-710B89F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BBA-BDA1-4A92-962C-2C38731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F1F-333E-4280-B04B-D75FD99737F8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1572-75CD-49F4-AD8F-5B702FCA7A13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C591-5B4D-418C-9F76-D8335EE1847D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5F3-E041-429B-8586-70EF8B171E16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C8D-E5A2-4B4A-B058-5680D54029DF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763640" y="620640"/>
            <a:ext cx="5761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600"/>
                </a:solidFill>
                <a:latin typeface="Tahoma"/>
                <a:ea typeface="Tahoma"/>
              </a:rPr>
              <a:t>1 апреля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7700"/>
                </a:solidFill>
                <a:latin typeface="Tahoma"/>
                <a:ea typeface="Tahoma"/>
              </a:rPr>
              <a:t>Урок математики</a:t>
            </a:r>
            <a:endParaRPr b="0" lang="en-US" sz="40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7700"/>
                </a:solidFill>
                <a:latin typeface="Tahoma"/>
                <a:ea typeface="Tahoma"/>
              </a:rPr>
              <a:t>4 класс</a:t>
            </a:r>
            <a:endParaRPr b="0" lang="en-US" sz="4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987640" y="4437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8a00"/>
                </a:solidFill>
                <a:latin typeface="Tahoma"/>
                <a:ea typeface="Tahoma"/>
              </a:rPr>
              <a:t>МБОУ «Новожизненская СОШ»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4000" y="530280"/>
            <a:ext cx="849600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верь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оставь план решения задачи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27040" y="1484280"/>
          <a:ext cx="7993080" cy="2103480"/>
        </p:xfrm>
        <a:graphic>
          <a:graphicData uri="http://schemas.openxmlformats.org/drawingml/2006/table">
            <a:tbl>
              <a:tblPr/>
              <a:tblGrid>
                <a:gridCol w="1870200"/>
                <a:gridCol w="1730160"/>
                <a:gridCol w="244800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4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динаковое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15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2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36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53" name="TextBox 1"/>
          <p:cNvSpPr/>
          <p:nvPr/>
        </p:nvSpPr>
        <p:spPr>
          <a:xfrm>
            <a:off x="468360" y="3645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1) Найти количество помидор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77720" y="40449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2) Найти стоимость огурц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24000" y="530280"/>
            <a:ext cx="849600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верь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оставь план решения задачи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27040" y="1484280"/>
          <a:ext cx="7993080" cy="2103480"/>
        </p:xfrm>
        <a:graphic>
          <a:graphicData uri="http://schemas.openxmlformats.org/drawingml/2006/table">
            <a:tbl>
              <a:tblPr/>
              <a:tblGrid>
                <a:gridCol w="1870200"/>
                <a:gridCol w="1730160"/>
                <a:gridCol w="244800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4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динаковое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15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2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36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57" name="TextBox 5"/>
          <p:cNvSpPr/>
          <p:nvPr/>
        </p:nvSpPr>
        <p:spPr>
          <a:xfrm>
            <a:off x="395280" y="46846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1) Во сколько раз цена помидоров больше цены огурцов?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469800" y="5084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2) Найди стоимость огурц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84360" y="37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600"/>
                </a:solidFill>
                <a:latin typeface="Tahoma"/>
              </a:rPr>
              <a:t>При одинаковом количестве  </a:t>
            </a:r>
            <a:r>
              <a:rPr b="0" lang="ru-RU" sz="2000" spc="-1" strike="noStrike" u="sng">
                <a:solidFill>
                  <a:srgbClr val="2c2600"/>
                </a:solidFill>
                <a:uFillTx/>
                <a:latin typeface="Tahoma"/>
              </a:rPr>
              <a:t>увеличение цены</a:t>
            </a: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 в несколько раз приводит к </a:t>
            </a:r>
            <a:r>
              <a:rPr b="0" lang="ru-RU" sz="2000" spc="-1" strike="noStrike" u="sng">
                <a:solidFill>
                  <a:srgbClr val="2c2600"/>
                </a:solidFill>
                <a:uFillTx/>
                <a:latin typeface="Tahoma"/>
              </a:rPr>
              <a:t>увеличению стоимости </a:t>
            </a: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в это же число раз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000" y="529920"/>
            <a:ext cx="8351640" cy="102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читай задание № 197 (первую часть). Ответь на поставленный вопрос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3500280"/>
          <a:ext cx="8064720" cy="1920960"/>
        </p:xfrm>
        <a:graphic>
          <a:graphicData uri="http://schemas.openxmlformats.org/drawingml/2006/table">
            <a:tbl>
              <a:tblPr/>
              <a:tblGrid>
                <a:gridCol w="2589480"/>
                <a:gridCol w="3171600"/>
                <a:gridCol w="2303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62" name="TextBox 1"/>
          <p:cNvSpPr/>
          <p:nvPr/>
        </p:nvSpPr>
        <p:spPr>
          <a:xfrm>
            <a:off x="468360" y="220500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  <a:ea typeface="Verdana"/>
              </a:rPr>
              <a:t>Проверь свой вывод на примере стоимости яблок 45 рублей за 3 кг.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468360" y="2997360"/>
          <a:ext cx="8064360" cy="2620800"/>
        </p:xfrm>
        <a:graphic>
          <a:graphicData uri="http://schemas.openxmlformats.org/drawingml/2006/table">
            <a:tbl>
              <a:tblPr/>
              <a:tblGrid>
                <a:gridCol w="2016000"/>
                <a:gridCol w="2521080"/>
                <a:gridCol w="3527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о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раз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 кг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5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 кг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 в 3 раза </a:t>
                      </a:r>
                      <a:r>
                        <a:rPr b="1" lang="ru-RU" sz="2800" spc="-1" strike="noStrike" u="sng">
                          <a:solidFill>
                            <a:srgbClr val="292500"/>
                          </a:solidFill>
                          <a:uFillTx/>
                          <a:latin typeface="Verdana"/>
                        </a:rPr>
                        <a:t>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64" name="TextBox 1"/>
          <p:cNvSpPr/>
          <p:nvPr/>
        </p:nvSpPr>
        <p:spPr>
          <a:xfrm>
            <a:off x="468360" y="1413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  <a:ea typeface="Verdana"/>
              </a:rPr>
              <a:t>Проверь свой вывод на примере стоимости яблок 45 рублей за 3 кг.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5" name="Овал 5"/>
          <p:cNvSpPr/>
          <p:nvPr/>
        </p:nvSpPr>
        <p:spPr>
          <a:xfrm>
            <a:off x="468360" y="4581360"/>
            <a:ext cx="711000" cy="719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5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6" name="Овал 6"/>
          <p:cNvSpPr/>
          <p:nvPr/>
        </p:nvSpPr>
        <p:spPr>
          <a:xfrm>
            <a:off x="468360" y="3645000"/>
            <a:ext cx="709560" cy="7207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5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7" name="Дуга 7"/>
          <p:cNvSpPr/>
          <p:nvPr/>
        </p:nvSpPr>
        <p:spPr>
          <a:xfrm>
            <a:off x="782640" y="3795840"/>
            <a:ext cx="693720" cy="1368360"/>
          </a:xfrm>
          <a:custGeom>
            <a:avLst/>
            <a:gdLst/>
            <a:ahLst/>
            <a:rect l="l" t="t" r="r" b="b"/>
            <a:pathLst>
              <a:path stroke="0" w="693737" h="1368425">
                <a:moveTo>
                  <a:pt x="346868" y="0"/>
                </a:moveTo>
                <a:cubicBezTo>
                  <a:pt x="500961" y="0"/>
                  <a:pt x="636581" y="200521"/>
                  <a:pt x="679808" y="492270"/>
                </a:cubicBezTo>
                <a:cubicBezTo>
                  <a:pt x="698418" y="617874"/>
                  <a:pt x="698379" y="751370"/>
                  <a:pt x="679693" y="876931"/>
                </a:cubicBezTo>
                <a:cubicBezTo>
                  <a:pt x="636198" y="1169202"/>
                  <a:pt x="499991" y="1369560"/>
                  <a:pt x="345571" y="1368421"/>
                </a:cubicBezTo>
                <a:cubicBezTo>
                  <a:pt x="346004" y="1140352"/>
                  <a:pt x="346436" y="912282"/>
                  <a:pt x="346869" y="684213"/>
                </a:cubicBezTo>
                <a:cubicBezTo>
                  <a:pt x="346869" y="456142"/>
                  <a:pt x="346868" y="228071"/>
                  <a:pt x="346868" y="0"/>
                </a:cubicBezTo>
                <a:close/>
              </a:path>
              <a:path fill="none" w="693737" h="1368425">
                <a:moveTo>
                  <a:pt x="346868" y="0"/>
                </a:moveTo>
                <a:cubicBezTo>
                  <a:pt x="500961" y="0"/>
                  <a:pt x="636581" y="200521"/>
                  <a:pt x="679808" y="492270"/>
                </a:cubicBezTo>
                <a:cubicBezTo>
                  <a:pt x="698418" y="617874"/>
                  <a:pt x="698379" y="751370"/>
                  <a:pt x="679693" y="876931"/>
                </a:cubicBezTo>
                <a:cubicBezTo>
                  <a:pt x="636198" y="1169202"/>
                  <a:pt x="499991" y="1369560"/>
                  <a:pt x="345571" y="136842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68360" y="475920"/>
            <a:ext cx="8183520" cy="53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ДЕЛАЙ ВЫВОД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Verdana"/>
              </a:rPr>
              <a:t>При одинаковом количестве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увеличение цены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 несколько раз приводит к __________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стоимости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о столько же раз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Verdana"/>
              </a:rPr>
              <a:t>При одинаковом количестве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уменьшение цены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 несколько раз приводит к __________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стоимости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о столько же раз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ОЦЕНИ РАБОТУ НА УРОКЕ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Все удалось на уроке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Остались некоторые проблемы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Ещё понадобится помощь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70" name="Улыбающееся лицо 3"/>
          <p:cNvSpPr/>
          <p:nvPr/>
        </p:nvSpPr>
        <p:spPr>
          <a:xfrm>
            <a:off x="5076720" y="1736640"/>
            <a:ext cx="865440" cy="792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1" name="Улыбающееся лицо 4"/>
          <p:cNvSpPr/>
          <p:nvPr/>
        </p:nvSpPr>
        <p:spPr>
          <a:xfrm>
            <a:off x="6786720" y="3141720"/>
            <a:ext cx="863280" cy="792000"/>
          </a:xfrm>
          <a:prstGeom prst="smileyFace">
            <a:avLst>
              <a:gd name="adj" fmla="val 2088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2" name="Улыбающееся лицо 5"/>
          <p:cNvSpPr/>
          <p:nvPr/>
        </p:nvSpPr>
        <p:spPr>
          <a:xfrm>
            <a:off x="5872320" y="4581360"/>
            <a:ext cx="863280" cy="79236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196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Домашнее задание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Т  № 80, 81 в РТ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Подсказка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– 5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- ? в 2 раза </a:t>
            </a: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б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I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- ? В 7 раз </a:t>
            </a: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б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74" name="Прямая соединительная линия 4"/>
          <p:cNvSpPr/>
          <p:nvPr/>
        </p:nvSpPr>
        <p:spPr>
          <a:xfrm flipV="1">
            <a:off x="3214800" y="3786120"/>
            <a:ext cx="0" cy="285840"/>
          </a:xfrm>
          <a:prstGeom prst="line">
            <a:avLst/>
          </a:prstGeom>
          <a:ln w="38160">
            <a:solidFill>
              <a:srgbClr val="29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cxnSp>
        <p:nvCxnSpPr>
          <p:cNvPr id="275" name="Прямая со стрелкой 7"/>
          <p:cNvCxnSpPr/>
          <p:nvPr/>
        </p:nvCxnSpPr>
        <p:spPr>
          <a:xfrm flipH="1" flipV="1">
            <a:off x="1428120" y="3785400"/>
            <a:ext cx="1786680" cy="2520"/>
          </a:xfrm>
          <a:prstGeom prst="straightConnector1">
            <a:avLst/>
          </a:prstGeom>
          <a:ln w="38160">
            <a:solidFill>
              <a:srgbClr val="292500"/>
            </a:solidFill>
            <a:miter/>
            <a:tailEnd len="med" type="arrow" w="med"/>
          </a:ln>
        </p:spPr>
      </p:cxnSp>
      <p:sp>
        <p:nvSpPr>
          <p:cNvPr id="276" name="Прямая соединительная линия 8"/>
          <p:cNvSpPr/>
          <p:nvPr/>
        </p:nvSpPr>
        <p:spPr>
          <a:xfrm flipV="1">
            <a:off x="3427560" y="3645000"/>
            <a:ext cx="1440" cy="1000080"/>
          </a:xfrm>
          <a:prstGeom prst="line">
            <a:avLst/>
          </a:prstGeom>
          <a:ln w="38160">
            <a:solidFill>
              <a:srgbClr val="29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cxnSp>
        <p:nvCxnSpPr>
          <p:cNvPr id="277" name="Прямая со стрелкой 11"/>
          <p:cNvCxnSpPr/>
          <p:nvPr/>
        </p:nvCxnSpPr>
        <p:spPr>
          <a:xfrm flipH="1" flipV="1">
            <a:off x="1499760" y="3642480"/>
            <a:ext cx="1929600" cy="2520"/>
          </a:xfrm>
          <a:prstGeom prst="straightConnector1">
            <a:avLst/>
          </a:prstGeom>
          <a:ln w="38160">
            <a:solidFill>
              <a:srgbClr val="292500"/>
            </a:solidFill>
            <a:miter/>
            <a:tailEnd len="med" type="arrow" w="med"/>
          </a:ln>
        </p:spPr>
      </p:cxn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920" y="1988640"/>
            <a:ext cx="5400720" cy="1698840"/>
          </a:xfrm>
          <a:prstGeom prst="rect">
            <a:avLst/>
          </a:prstGeom>
          <a:solidFill>
            <a:srgbClr val="dc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бо за урок!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39640" y="90792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ahoma"/>
              </a:rPr>
              <a:t>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. </a:t>
            </a: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ahoma"/>
              </a:rPr>
              <a:t>А. Маркушевич</a:t>
            </a: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53" descr=""/>
          <p:cNvPicPr/>
          <p:nvPr/>
        </p:nvPicPr>
        <p:blipFill>
          <a:blip r:embed="rId1"/>
          <a:stretch/>
        </p:blipFill>
        <p:spPr>
          <a:xfrm>
            <a:off x="6126120" y="1566720"/>
            <a:ext cx="1506600" cy="938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4"/>
          <p:cNvSpPr/>
          <p:nvPr/>
        </p:nvSpPr>
        <p:spPr>
          <a:xfrm>
            <a:off x="357120" y="12859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ченица прочитала 18 страниц книги. Это 5 часть всей книги. Сколько страниц в книге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357120" y="2286000"/>
            <a:ext cx="83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лощадь комнаты 30 кв. м.  6 часть пола  покрашена. Какая площадь пола  покрашена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357120" y="32860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Брату 12 лет 7 месяцев. Сестра старше его на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года 5 месяцев. Сколько лет сестр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7" name="TextBox 57"/>
          <p:cNvSpPr/>
          <p:nvPr/>
        </p:nvSpPr>
        <p:spPr>
          <a:xfrm>
            <a:off x="357120" y="435780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рость автомобиля 90 км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. За какое время он проедет 360 км 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8" name="TextBox 58"/>
          <p:cNvSpPr/>
          <p:nvPr/>
        </p:nvSpPr>
        <p:spPr>
          <a:xfrm>
            <a:off x="285840" y="53578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тская площадка имеет длину 60 м и ширину 40 м. Какой длины нужен забор для этой площад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9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30" name="Прямоугольник 60" descr=""/>
          <p:cNvPicPr/>
          <p:nvPr/>
        </p:nvPicPr>
        <p:blipFill>
          <a:blip r:embed="rId2"/>
          <a:stretch/>
        </p:blipFill>
        <p:spPr>
          <a:xfrm>
            <a:off x="5699160" y="2633760"/>
            <a:ext cx="1378080" cy="9446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2" descr=""/>
          <p:cNvPicPr/>
          <p:nvPr/>
        </p:nvPicPr>
        <p:blipFill>
          <a:blip r:embed="rId3"/>
          <a:stretch/>
        </p:blipFill>
        <p:spPr>
          <a:xfrm>
            <a:off x="6205680" y="3565440"/>
            <a:ext cx="1493640" cy="9399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3" descr=""/>
          <p:cNvPicPr/>
          <p:nvPr/>
        </p:nvPicPr>
        <p:blipFill>
          <a:blip r:embed="rId4"/>
          <a:stretch/>
        </p:blipFill>
        <p:spPr>
          <a:xfrm>
            <a:off x="7338960" y="5638680"/>
            <a:ext cx="1506600" cy="9381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64" descr=""/>
          <p:cNvPicPr/>
          <p:nvPr/>
        </p:nvPicPr>
        <p:blipFill>
          <a:blip r:embed="rId5"/>
          <a:stretch/>
        </p:blipFill>
        <p:spPr>
          <a:xfrm>
            <a:off x="5979960" y="4632480"/>
            <a:ext cx="944640" cy="9460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4"/>
          <p:cNvSpPr/>
          <p:nvPr/>
        </p:nvSpPr>
        <p:spPr>
          <a:xfrm>
            <a:off x="1357200" y="50004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Математический диктант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571680" y="4287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67700"/>
                </a:solidFill>
                <a:uFillTx/>
                <a:latin typeface="Tahoma"/>
              </a:rPr>
              <a:t>Тема урока</a:t>
            </a:r>
            <a:r>
              <a:rPr b="1" lang="ru-RU" sz="3200" spc="-1" strike="noStrike">
                <a:solidFill>
                  <a:srgbClr val="8677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600"/>
                </a:solidFill>
                <a:latin typeface="Tahoma"/>
              </a:rPr>
              <a:t>Решение задач. Когда количество одинаковое.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143680" y="1643040"/>
          <a:ext cx="3524040" cy="1219320"/>
        </p:xfrm>
        <a:graphic>
          <a:graphicData uri="http://schemas.openxmlformats.org/drawingml/2006/table">
            <a:tbl>
              <a:tblPr/>
              <a:tblGrid>
                <a:gridCol w="828360"/>
                <a:gridCol w="1336680"/>
                <a:gridCol w="13590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 txBox="1"/>
          <p:nvPr/>
        </p:nvSpPr>
        <p:spPr>
          <a:xfrm>
            <a:off x="428760" y="2857680"/>
            <a:ext cx="8183520" cy="61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ПЛАНИРОВАНИЕ УРОКА: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428760" y="3286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Вспомнить формулы нахождения величин;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28760" y="378612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Проанализировать задачи, когда количество одинаково;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00040" y="4643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Применить полученные выводы для решения задач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68360" y="40464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бота в парах.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1 ученик-составляет задачу, говорит формулу, 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2 ученик–выполняет действие, записывает в таблицу.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700280"/>
          <a:ext cx="7991280" cy="4206960"/>
        </p:xfrm>
        <a:graphic>
          <a:graphicData uri="http://schemas.openxmlformats.org/drawingml/2006/table">
            <a:tbl>
              <a:tblPr/>
              <a:tblGrid>
                <a:gridCol w="1870200"/>
                <a:gridCol w="1869840"/>
                <a:gridCol w="2211480"/>
                <a:gridCol w="2039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мороди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Абрикос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2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54900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равни величины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341360"/>
          <a:ext cx="7991280" cy="4479840"/>
        </p:xfrm>
        <a:graphic>
          <a:graphicData uri="http://schemas.openxmlformats.org/drawingml/2006/table">
            <a:tbl>
              <a:tblPr/>
              <a:tblGrid>
                <a:gridCol w="1870200"/>
                <a:gridCol w="1869840"/>
                <a:gridCol w="2211480"/>
                <a:gridCol w="20397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мороди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160 </a:t>
                      </a: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Абрикос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2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20 </a:t>
                      </a: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532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ВЫВОД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600"/>
                </a:solidFill>
                <a:latin typeface="Verdana"/>
              </a:rPr>
              <a:t>При одинаковом количестве: 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если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цена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 в несколько раз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больше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то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стоимость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 во столько же раз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больше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92360" y="3892320"/>
            <a:ext cx="3166920" cy="1555560"/>
          </a:xfrm>
          <a:prstGeom prst="rect">
            <a:avLst/>
          </a:prstGeom>
          <a:solidFill>
            <a:srgbClr val="dc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зминутка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2" descr="http://galereika.net/_ph/19/2/746227295.gif"/>
          <p:cNvPicPr/>
          <p:nvPr/>
        </p:nvPicPr>
        <p:blipFill>
          <a:blip r:embed="rId1"/>
          <a:stretch/>
        </p:blipFill>
        <p:spPr>
          <a:xfrm>
            <a:off x="611280" y="98100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248" name="Богатырская сила духа!!!!- (mp3cut.ru).mp3" descr=""/>
          <p:cNvPicPr/>
          <p:nvPr/>
        </p:nvPicPr>
        <p:blipFill>
          <a:blip r:embed="rId2"/>
          <a:stretch/>
        </p:blipFill>
        <p:spPr>
          <a:xfrm>
            <a:off x="3643200" y="4357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188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4000" y="529920"/>
            <a:ext cx="8496000" cy="275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Запиши условие задачи в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В магазине на 150 рублей купили помидоров по 40 руб.</a:t>
            </a:r>
            <a:r>
              <a:rPr b="0" lang="en-US" sz="2800" spc="-1" strike="noStrike">
                <a:solidFill>
                  <a:srgbClr val="2c2600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кг и столько же огурцов по 20 руб.</a:t>
            </a:r>
            <a:r>
              <a:rPr b="0" lang="en-US" sz="2800" spc="-1" strike="noStrike">
                <a:solidFill>
                  <a:srgbClr val="2c2600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кг. Сколько стоили огурцы?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3500280"/>
          <a:ext cx="7993080" cy="1920960"/>
        </p:xfrm>
        <a:graphic>
          <a:graphicData uri="http://schemas.openxmlformats.org/drawingml/2006/table">
            <a:tbl>
              <a:tblPr/>
              <a:tblGrid>
                <a:gridCol w="1870200"/>
                <a:gridCol w="1871640"/>
                <a:gridCol w="2209680"/>
                <a:gridCol w="2041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Диман</cp:lastModifiedBy>
  <dcterms:modified xsi:type="dcterms:W3CDTF">2014-07-05T02:17:57Z</dcterms:modified>
  <cp:revision>116</cp:revision>
  <dc:subject/>
  <dc:title>Тема:</dc:title>
</cp:coreProperties>
</file>