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A07-2F36-46D4-BE15-4E465A1D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DC1-4BF8-40AC-A3AA-64AB8C5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EEA-6D64-4BF1-A48D-A5FEDF09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EC4-CBAA-4E8A-85BB-79630A76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13F-0EB5-4D08-AF3F-5CE55BE6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591-1509-47A3-BBCC-A91CF7A4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DB1D-22B4-4201-9C5C-80B4BA7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B667-BAB0-46B3-9AFB-AF7A4F5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6513-807A-432B-BCB3-64ABD0E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C574-E0D1-4768-9F8F-AD3C6C9A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C6B-A155-475F-B5BA-7E61700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652-59AD-4A2C-946A-91854CE4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EEB8-9D9D-4218-B046-2F32321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433B-9111-4904-B112-04D54F8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4690-18C6-4040-B0B7-07AE27A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6BA-E12C-42BD-8F97-26EE69E9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A30-E50F-48E3-AD97-49D6722F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48D6-0C29-4416-B821-44580AD4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AE50-9942-4A9B-B48B-C0E442D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9C1F-0B72-444B-B5B5-A0F12EF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03F5-15F3-4601-ABC4-6718835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4006-4441-4A3F-BA84-7185099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EFA-64E1-4A1E-B098-38C2858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6BA07-A28C-469F-9C57-1869CA4A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BE76-1163-4BE0-92EF-EEDB7C1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6167-88C3-4109-B00D-3B6F8A3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51AC-4EB3-4D7E-8721-80A5FE4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F0FD-E305-475D-A23F-EEF06D6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E0D0-38CE-4032-803F-4BFAE24F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1787-FE1A-4BC9-9BE7-AE0B72A3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FD3C-AA20-4A2E-A3BF-86503810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70B0-365B-494E-BB72-BCB978F9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95C6-A564-434F-8B20-BE7A0F2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B69-966E-49BE-AC56-B2AC5A2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6B79-9FE6-46DE-B831-2E66A902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86385-0339-4CF8-8C71-0EAD95E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B93E-9432-410F-9905-395B042E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F459-1D8B-4E27-A3B7-AD1026B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D483-AB92-4B1C-83BB-88F325A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EEC5-5959-4DE5-B2FC-28C64B7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FF27F-8A1B-4353-9F22-D7FB37A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8626-5E9D-42DF-9A45-C4A917D7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3303-B8FC-43FC-8959-FB5A3655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5814-0FA8-43D1-B439-B182DCFE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5B0-EEA7-4A03-8A38-2417531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6F72-EA5E-447C-B0ED-A6B21E1D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8996-2ED7-4C9F-A560-2030BC5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65C0-2241-4F26-9F19-6BB6B50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36D9-D9C9-48A5-AE37-CDDE3E0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2B8E-1D14-4FAB-8484-40F53F8B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6467-7CA0-4F3A-B144-601F91D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E2B2-31B2-48BA-83EB-7960186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C12D-3416-4B93-8DE9-360AE72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CE08-4DAE-45FC-99B2-60ECB1AA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A395-CDC4-4AD5-8A18-FA370D59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F21-938D-4736-891F-12B3047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55C1-8185-4F0D-84BD-B26E1D4D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613-FF83-4B38-BB86-363D35C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92B-542C-4B88-8D51-5A85492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439-F83E-4364-9DDE-CD1B776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AA9-33F9-445B-B631-D5678163F8E3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DC9-6171-49C8-BD1A-72FDE9C4F8F2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9BE-7E2F-44A6-9387-491D2F751E90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39F9-05B1-4BF9-B26D-6FB44852F296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C7C-BE75-463D-9B45-BBF8E9EE1697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763640" y="620640"/>
            <a:ext cx="5761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600"/>
                </a:solidFill>
                <a:latin typeface="Tahoma"/>
                <a:ea typeface="Tahoma"/>
              </a:rPr>
              <a:t>1 апреля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7700"/>
                </a:solidFill>
                <a:latin typeface="Tahoma"/>
                <a:ea typeface="Tahoma"/>
              </a:rPr>
              <a:t>Урок математики</a:t>
            </a:r>
            <a:endParaRPr b="0" lang="en-US" sz="40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7700"/>
                </a:solidFill>
                <a:latin typeface="Tahoma"/>
                <a:ea typeface="Tahoma"/>
              </a:rPr>
              <a:t>4 класс</a:t>
            </a:r>
            <a:endParaRPr b="0" lang="en-US" sz="4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987640" y="4437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8a00"/>
                </a:solidFill>
                <a:latin typeface="Tahoma"/>
                <a:ea typeface="Tahoma"/>
              </a:rPr>
              <a:t>МБОУ «Новожизненская СОШ»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4000" y="530280"/>
            <a:ext cx="849600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верь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оставь план решения задачи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27040" y="1484280"/>
          <a:ext cx="7993080" cy="2103480"/>
        </p:xfrm>
        <a:graphic>
          <a:graphicData uri="http://schemas.openxmlformats.org/drawingml/2006/table">
            <a:tbl>
              <a:tblPr/>
              <a:tblGrid>
                <a:gridCol w="1870200"/>
                <a:gridCol w="1730160"/>
                <a:gridCol w="244800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4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динаковое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15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2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36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53" name="TextBox 1"/>
          <p:cNvSpPr/>
          <p:nvPr/>
        </p:nvSpPr>
        <p:spPr>
          <a:xfrm>
            <a:off x="468360" y="3645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1) Найти количество помидор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77720" y="40449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2) Найти стоимость огурц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24000" y="530280"/>
            <a:ext cx="849600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верь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оставь план решения задачи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27040" y="1484280"/>
          <a:ext cx="7993080" cy="2103480"/>
        </p:xfrm>
        <a:graphic>
          <a:graphicData uri="http://schemas.openxmlformats.org/drawingml/2006/table">
            <a:tbl>
              <a:tblPr/>
              <a:tblGrid>
                <a:gridCol w="1870200"/>
                <a:gridCol w="1730160"/>
                <a:gridCol w="244800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4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динаковое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15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c2600"/>
                          </a:solidFill>
                          <a:latin typeface="Verdana"/>
                        </a:rPr>
                        <a:t>20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36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57" name="TextBox 5"/>
          <p:cNvSpPr/>
          <p:nvPr/>
        </p:nvSpPr>
        <p:spPr>
          <a:xfrm>
            <a:off x="395280" y="46846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1) Во сколько раз цена помидоров больше цены огурцов?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469800" y="5084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2) Найди стоимость огурцов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84360" y="37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c2600"/>
                </a:solidFill>
                <a:latin typeface="Tahoma"/>
              </a:rPr>
              <a:t>При одинаковом количестве  </a:t>
            </a:r>
            <a:r>
              <a:rPr b="0" lang="ru-RU" sz="2000" spc="-1" strike="noStrike" u="sng">
                <a:solidFill>
                  <a:srgbClr val="2c2600"/>
                </a:solidFill>
                <a:uFillTx/>
                <a:latin typeface="Tahoma"/>
              </a:rPr>
              <a:t>увеличение цены</a:t>
            </a: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 в несколько раз приводит к </a:t>
            </a:r>
            <a:r>
              <a:rPr b="0" lang="ru-RU" sz="2000" spc="-1" strike="noStrike" u="sng">
                <a:solidFill>
                  <a:srgbClr val="2c2600"/>
                </a:solidFill>
                <a:uFillTx/>
                <a:latin typeface="Tahoma"/>
              </a:rPr>
              <a:t>увеличению стоимости </a:t>
            </a:r>
            <a:r>
              <a:rPr b="0" lang="ru-RU" sz="2000" spc="-1" strike="noStrike">
                <a:solidFill>
                  <a:srgbClr val="2c2600"/>
                </a:solidFill>
                <a:latin typeface="Tahoma"/>
              </a:rPr>
              <a:t>в это же число раз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000" y="529920"/>
            <a:ext cx="8351640" cy="102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очитай задание № 197 (первую часть). Ответь на поставленный вопрос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3500280"/>
          <a:ext cx="8064720" cy="1920960"/>
        </p:xfrm>
        <a:graphic>
          <a:graphicData uri="http://schemas.openxmlformats.org/drawingml/2006/table">
            <a:tbl>
              <a:tblPr/>
              <a:tblGrid>
                <a:gridCol w="2589480"/>
                <a:gridCol w="3171600"/>
                <a:gridCol w="2303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62" name="TextBox 1"/>
          <p:cNvSpPr/>
          <p:nvPr/>
        </p:nvSpPr>
        <p:spPr>
          <a:xfrm>
            <a:off x="468360" y="220500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  <a:ea typeface="Verdana"/>
              </a:rPr>
              <a:t>Проверь свой вывод на примере стоимости яблок 45 рублей за 3 кг.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468360" y="2997360"/>
          <a:ext cx="8064360" cy="2620800"/>
        </p:xfrm>
        <a:graphic>
          <a:graphicData uri="http://schemas.openxmlformats.org/drawingml/2006/table">
            <a:tbl>
              <a:tblPr/>
              <a:tblGrid>
                <a:gridCol w="2016000"/>
                <a:gridCol w="2521080"/>
                <a:gridCol w="3527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о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раз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 кг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5 ру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 кг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 в 3 раза </a:t>
                      </a:r>
                      <a:r>
                        <a:rPr b="1" lang="ru-RU" sz="2800" spc="-1" strike="noStrike" u="sng">
                          <a:solidFill>
                            <a:srgbClr val="292500"/>
                          </a:solidFill>
                          <a:uFillTx/>
                          <a:latin typeface="Verdana"/>
                        </a:rPr>
                        <a:t>б.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64" name="TextBox 1"/>
          <p:cNvSpPr/>
          <p:nvPr/>
        </p:nvSpPr>
        <p:spPr>
          <a:xfrm>
            <a:off x="468360" y="1413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  <a:ea typeface="Verdana"/>
              </a:rPr>
              <a:t>Проверь свой вывод на примере стоимости яблок 45 рублей за 3 кг.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5" name="Овал 5"/>
          <p:cNvSpPr/>
          <p:nvPr/>
        </p:nvSpPr>
        <p:spPr>
          <a:xfrm>
            <a:off x="468360" y="4581360"/>
            <a:ext cx="711000" cy="719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5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6" name="Овал 6"/>
          <p:cNvSpPr/>
          <p:nvPr/>
        </p:nvSpPr>
        <p:spPr>
          <a:xfrm>
            <a:off x="468360" y="3645000"/>
            <a:ext cx="709560" cy="72072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5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7" name="Дуга 7"/>
          <p:cNvSpPr/>
          <p:nvPr/>
        </p:nvSpPr>
        <p:spPr>
          <a:xfrm>
            <a:off x="782640" y="3795840"/>
            <a:ext cx="693720" cy="1368360"/>
          </a:xfrm>
          <a:custGeom>
            <a:avLst/>
            <a:gdLst/>
            <a:ahLst/>
            <a:rect l="l" t="t" r="r" b="b"/>
            <a:pathLst>
              <a:path stroke="0" w="693737" h="1368425">
                <a:moveTo>
                  <a:pt x="346868" y="0"/>
                </a:moveTo>
                <a:cubicBezTo>
                  <a:pt x="500961" y="0"/>
                  <a:pt x="636581" y="200521"/>
                  <a:pt x="679808" y="492270"/>
                </a:cubicBezTo>
                <a:cubicBezTo>
                  <a:pt x="698418" y="617874"/>
                  <a:pt x="698379" y="751370"/>
                  <a:pt x="679693" y="876931"/>
                </a:cubicBezTo>
                <a:cubicBezTo>
                  <a:pt x="636198" y="1169202"/>
                  <a:pt x="499991" y="1369560"/>
                  <a:pt x="345571" y="1368421"/>
                </a:cubicBezTo>
                <a:cubicBezTo>
                  <a:pt x="346004" y="1140352"/>
                  <a:pt x="346436" y="912282"/>
                  <a:pt x="346869" y="684213"/>
                </a:cubicBezTo>
                <a:cubicBezTo>
                  <a:pt x="346869" y="456142"/>
                  <a:pt x="346868" y="228071"/>
                  <a:pt x="346868" y="0"/>
                </a:cubicBezTo>
                <a:close/>
              </a:path>
              <a:path fill="none" w="693737" h="1368425">
                <a:moveTo>
                  <a:pt x="346868" y="0"/>
                </a:moveTo>
                <a:cubicBezTo>
                  <a:pt x="500961" y="0"/>
                  <a:pt x="636581" y="200521"/>
                  <a:pt x="679808" y="492270"/>
                </a:cubicBezTo>
                <a:cubicBezTo>
                  <a:pt x="698418" y="617874"/>
                  <a:pt x="698379" y="751370"/>
                  <a:pt x="679693" y="876931"/>
                </a:cubicBezTo>
                <a:cubicBezTo>
                  <a:pt x="636198" y="1169202"/>
                  <a:pt x="499991" y="1369560"/>
                  <a:pt x="345571" y="136842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68360" y="475920"/>
            <a:ext cx="8183520" cy="53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ДЕЛАЙ ВЫВОД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Verdana"/>
              </a:rPr>
              <a:t>При одинаковом количестве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увеличение цены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 несколько раз приводит к __________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стоимости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о столько же раз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Verdana"/>
              </a:rPr>
              <a:t>При одинаковом количестве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уменьшение цены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 несколько раз приводит к __________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Verdana"/>
              </a:rPr>
              <a:t>стоимости</a:t>
            </a: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 во столько же раз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ОЦЕНИ РАБОТУ НА УРОКЕ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Все удалось на уроке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Остались некоторые проблемы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Ещё понадобится помощь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70" name="Улыбающееся лицо 3"/>
          <p:cNvSpPr/>
          <p:nvPr/>
        </p:nvSpPr>
        <p:spPr>
          <a:xfrm>
            <a:off x="5076720" y="1736640"/>
            <a:ext cx="865440" cy="792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1" name="Улыбающееся лицо 4"/>
          <p:cNvSpPr/>
          <p:nvPr/>
        </p:nvSpPr>
        <p:spPr>
          <a:xfrm>
            <a:off x="6786720" y="3141720"/>
            <a:ext cx="863280" cy="792000"/>
          </a:xfrm>
          <a:prstGeom prst="smileyFace">
            <a:avLst>
              <a:gd name="adj" fmla="val 2088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2" name="Улыбающееся лицо 5"/>
          <p:cNvSpPr/>
          <p:nvPr/>
        </p:nvSpPr>
        <p:spPr>
          <a:xfrm>
            <a:off x="5872320" y="4581360"/>
            <a:ext cx="863280" cy="79236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4248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196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Домашнее задание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Т  № 80, 81 в РТ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Подсказка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– 5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- ? в 2 раза </a:t>
            </a: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б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500"/>
                </a:solidFill>
                <a:latin typeface="Verdana"/>
              </a:rPr>
              <a:t>III</a:t>
            </a:r>
            <a:r>
              <a:rPr b="0" lang="ru-RU" sz="2400" spc="-1" strike="noStrike">
                <a:solidFill>
                  <a:srgbClr val="292500"/>
                </a:solidFill>
                <a:latin typeface="Verdana"/>
              </a:rPr>
              <a:t> - ? В 7 раз </a:t>
            </a:r>
            <a:r>
              <a:rPr b="0" lang="ru-RU" sz="2400" spc="-1" strike="noStrike" u="sng">
                <a:solidFill>
                  <a:srgbClr val="292500"/>
                </a:solidFill>
                <a:uFillTx/>
                <a:latin typeface="Verdana"/>
              </a:rPr>
              <a:t>б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74" name="Прямая соединительная линия 4"/>
          <p:cNvSpPr/>
          <p:nvPr/>
        </p:nvSpPr>
        <p:spPr>
          <a:xfrm flipV="1">
            <a:off x="3214800" y="3786120"/>
            <a:ext cx="0" cy="285840"/>
          </a:xfrm>
          <a:prstGeom prst="line">
            <a:avLst/>
          </a:prstGeom>
          <a:ln w="38160">
            <a:solidFill>
              <a:srgbClr val="29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cxnSp>
        <p:nvCxnSpPr>
          <p:cNvPr id="275" name="Прямая со стрелкой 7"/>
          <p:cNvCxnSpPr/>
          <p:nvPr/>
        </p:nvCxnSpPr>
        <p:spPr>
          <a:xfrm flipH="1" flipV="1">
            <a:off x="1428120" y="3785400"/>
            <a:ext cx="1786680" cy="2520"/>
          </a:xfrm>
          <a:prstGeom prst="straightConnector1">
            <a:avLst/>
          </a:prstGeom>
          <a:ln w="38160">
            <a:solidFill>
              <a:srgbClr val="292500"/>
            </a:solidFill>
            <a:miter/>
            <a:tailEnd len="med" type="arrow" w="med"/>
          </a:ln>
        </p:spPr>
      </p:cxnSp>
      <p:sp>
        <p:nvSpPr>
          <p:cNvPr id="276" name="Прямая соединительная линия 8"/>
          <p:cNvSpPr/>
          <p:nvPr/>
        </p:nvSpPr>
        <p:spPr>
          <a:xfrm flipV="1">
            <a:off x="3427560" y="3645000"/>
            <a:ext cx="1440" cy="1000080"/>
          </a:xfrm>
          <a:prstGeom prst="line">
            <a:avLst/>
          </a:prstGeom>
          <a:ln w="38160">
            <a:solidFill>
              <a:srgbClr val="29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cxnSp>
        <p:nvCxnSpPr>
          <p:cNvPr id="277" name="Прямая со стрелкой 11"/>
          <p:cNvCxnSpPr/>
          <p:nvPr/>
        </p:nvCxnSpPr>
        <p:spPr>
          <a:xfrm flipH="1" flipV="1">
            <a:off x="1499760" y="3642480"/>
            <a:ext cx="1929600" cy="2520"/>
          </a:xfrm>
          <a:prstGeom prst="straightConnector1">
            <a:avLst/>
          </a:prstGeom>
          <a:ln w="38160">
            <a:solidFill>
              <a:srgbClr val="292500"/>
            </a:solidFill>
            <a:miter/>
            <a:tailEnd len="med" type="arrow" w="med"/>
          </a:ln>
        </p:spPr>
      </p:cxn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920" y="1988640"/>
            <a:ext cx="5400720" cy="1698840"/>
          </a:xfrm>
          <a:prstGeom prst="rect">
            <a:avLst/>
          </a:prstGeom>
          <a:solidFill>
            <a:srgbClr val="dc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бо за урок!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39640" y="90792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ahoma"/>
              </a:rPr>
              <a:t>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. </a:t>
            </a: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ahoma"/>
              </a:rPr>
              <a:t>А. Маркушевич</a:t>
            </a:r>
            <a:endParaRPr b="0" lang="en-US" sz="36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53" descr=""/>
          <p:cNvPicPr/>
          <p:nvPr/>
        </p:nvPicPr>
        <p:blipFill>
          <a:blip r:embed="rId1"/>
          <a:stretch/>
        </p:blipFill>
        <p:spPr>
          <a:xfrm>
            <a:off x="6126120" y="1566720"/>
            <a:ext cx="1506600" cy="938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4"/>
          <p:cNvSpPr/>
          <p:nvPr/>
        </p:nvSpPr>
        <p:spPr>
          <a:xfrm>
            <a:off x="357120" y="12859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ченица прочитала 18 страниц книги. Это 5 часть всей книги. Сколько страниц в книге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357120" y="2286000"/>
            <a:ext cx="83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лощадь комнаты 30 кв. м.  6 часть пола  покрашена. Какая площадь пола  покрашена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6" name="TextBox 56"/>
          <p:cNvSpPr/>
          <p:nvPr/>
        </p:nvSpPr>
        <p:spPr>
          <a:xfrm>
            <a:off x="357120" y="32860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Брату 12 лет 7 месяцев. Сестра старше его на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года 5 месяцев. Сколько лет сестр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7" name="TextBox 57"/>
          <p:cNvSpPr/>
          <p:nvPr/>
        </p:nvSpPr>
        <p:spPr>
          <a:xfrm>
            <a:off x="357120" y="435780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рость автомобиля 90 км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. За какое время он проедет 360 км 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8" name="TextBox 58"/>
          <p:cNvSpPr/>
          <p:nvPr/>
        </p:nvSpPr>
        <p:spPr>
          <a:xfrm>
            <a:off x="285840" y="53578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тская площадка имеет длину 60 м и ширину 40 м. Какой длины нужен забор для этой площад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29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30" name="Прямоугольник 60" descr=""/>
          <p:cNvPicPr/>
          <p:nvPr/>
        </p:nvPicPr>
        <p:blipFill>
          <a:blip r:embed="rId2"/>
          <a:stretch/>
        </p:blipFill>
        <p:spPr>
          <a:xfrm>
            <a:off x="5699160" y="2633760"/>
            <a:ext cx="1378080" cy="9446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2" descr=""/>
          <p:cNvPicPr/>
          <p:nvPr/>
        </p:nvPicPr>
        <p:blipFill>
          <a:blip r:embed="rId3"/>
          <a:stretch/>
        </p:blipFill>
        <p:spPr>
          <a:xfrm>
            <a:off x="6205680" y="3565440"/>
            <a:ext cx="1493640" cy="9399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3" descr=""/>
          <p:cNvPicPr/>
          <p:nvPr/>
        </p:nvPicPr>
        <p:blipFill>
          <a:blip r:embed="rId4"/>
          <a:stretch/>
        </p:blipFill>
        <p:spPr>
          <a:xfrm>
            <a:off x="7338960" y="5638680"/>
            <a:ext cx="1506600" cy="9381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64" descr=""/>
          <p:cNvPicPr/>
          <p:nvPr/>
        </p:nvPicPr>
        <p:blipFill>
          <a:blip r:embed="rId5"/>
          <a:stretch/>
        </p:blipFill>
        <p:spPr>
          <a:xfrm>
            <a:off x="5979960" y="4632480"/>
            <a:ext cx="944640" cy="9460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4"/>
          <p:cNvSpPr/>
          <p:nvPr/>
        </p:nvSpPr>
        <p:spPr>
          <a:xfrm>
            <a:off x="1357200" y="50004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Математический диктант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571680" y="4287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67700"/>
                </a:solidFill>
                <a:uFillTx/>
                <a:latin typeface="Tahoma"/>
              </a:rPr>
              <a:t>Тема урока</a:t>
            </a:r>
            <a:r>
              <a:rPr b="1" lang="ru-RU" sz="3200" spc="-1" strike="noStrike">
                <a:solidFill>
                  <a:srgbClr val="8677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600"/>
                </a:solidFill>
                <a:latin typeface="Tahoma"/>
              </a:rPr>
              <a:t>Решение задач. Когда количество одинаковое.</a:t>
            </a:r>
            <a:endParaRPr b="0" lang="en-US" sz="3200" spc="-1" strike="noStrike">
              <a:solidFill>
                <a:srgbClr val="7030a0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143680" y="1643040"/>
          <a:ext cx="3524040" cy="1219320"/>
        </p:xfrm>
        <a:graphic>
          <a:graphicData uri="http://schemas.openxmlformats.org/drawingml/2006/table">
            <a:tbl>
              <a:tblPr/>
              <a:tblGrid>
                <a:gridCol w="828360"/>
                <a:gridCol w="1336680"/>
                <a:gridCol w="13590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 txBox="1"/>
          <p:nvPr/>
        </p:nvSpPr>
        <p:spPr>
          <a:xfrm>
            <a:off x="428760" y="2857680"/>
            <a:ext cx="8183520" cy="61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ПЛАНИРОВАНИЕ УРОКА: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428760" y="3286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Вспомнить формулы нахождения величин;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428760" y="378612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Проанализировать задачи, когда количество одинаково;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500040" y="4643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Verdana"/>
              </a:rPr>
              <a:t>Применить полученные выводы для решения задач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68360" y="40464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бота в парах.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1 ученик-составляет задачу, говорит формулу, 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c2600"/>
                </a:solidFill>
                <a:latin typeface="Tahoma"/>
              </a:rPr>
              <a:t>2 ученик–выполняет действие, записывает в таблицу.</a:t>
            </a: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700280"/>
          <a:ext cx="7991280" cy="4206960"/>
        </p:xfrm>
        <a:graphic>
          <a:graphicData uri="http://schemas.openxmlformats.org/drawingml/2006/table">
            <a:tbl>
              <a:tblPr/>
              <a:tblGrid>
                <a:gridCol w="1870200"/>
                <a:gridCol w="1869840"/>
                <a:gridCol w="2211480"/>
                <a:gridCol w="2039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мороди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Абрикос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2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54900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Сравни величины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341360"/>
          <a:ext cx="7991280" cy="4479840"/>
        </p:xfrm>
        <a:graphic>
          <a:graphicData uri="http://schemas.openxmlformats.org/drawingml/2006/table">
            <a:tbl>
              <a:tblPr/>
              <a:tblGrid>
                <a:gridCol w="1870200"/>
                <a:gridCol w="1869840"/>
                <a:gridCol w="2211480"/>
                <a:gridCol w="20397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мороди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160 </a:t>
                      </a: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Абрикос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32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20 </a:t>
                      </a: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г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80 </a:t>
                      </a:r>
                      <a:r>
                        <a:rPr b="1" lang="ru-RU" sz="20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532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ВЫВОД: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600"/>
                </a:solidFill>
                <a:latin typeface="Verdana"/>
              </a:rPr>
              <a:t>При одинаковом количестве: 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если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цена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 в несколько раз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больше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то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стоимость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 во столько же раз </a:t>
            </a:r>
            <a:r>
              <a:rPr b="0" lang="ru-RU" sz="2800" spc="-1" strike="noStrike" u="sng">
                <a:solidFill>
                  <a:srgbClr val="2c2600"/>
                </a:solidFill>
                <a:uFillTx/>
                <a:latin typeface="Verdana"/>
              </a:rPr>
              <a:t>больше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92360" y="3892320"/>
            <a:ext cx="3166920" cy="1555560"/>
          </a:xfrm>
          <a:prstGeom prst="rect">
            <a:avLst/>
          </a:prstGeom>
          <a:solidFill>
            <a:srgbClr val="dc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зминутка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2" descr="http://galereika.net/_ph/19/2/746227295.gif"/>
          <p:cNvPicPr/>
          <p:nvPr/>
        </p:nvPicPr>
        <p:blipFill>
          <a:blip r:embed="rId1"/>
          <a:stretch/>
        </p:blipFill>
        <p:spPr>
          <a:xfrm>
            <a:off x="611280" y="98100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248" name="Богатырская сила духа!!!!- (mp3cut.ru).mp3" descr=""/>
          <p:cNvPicPr/>
          <p:nvPr/>
        </p:nvPicPr>
        <p:blipFill>
          <a:blip r:embed="rId2"/>
          <a:stretch/>
        </p:blipFill>
        <p:spPr>
          <a:xfrm>
            <a:off x="3643200" y="4357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188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4000" y="529920"/>
            <a:ext cx="8496000" cy="275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Запиши условие задачи в таблицу.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В магазине на 150 рублей купили помидоров по 40 руб.</a:t>
            </a:r>
            <a:r>
              <a:rPr b="0" lang="en-US" sz="2800" spc="-1" strike="noStrike">
                <a:solidFill>
                  <a:srgbClr val="2c2600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кг и столько же огурцов по 20 руб.</a:t>
            </a:r>
            <a:r>
              <a:rPr b="0" lang="en-US" sz="2800" spc="-1" strike="noStrike">
                <a:solidFill>
                  <a:srgbClr val="2c2600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2c2600"/>
                </a:solidFill>
                <a:latin typeface="Verdana"/>
              </a:rPr>
              <a:t>кг. Сколько стоили огурцы?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3500280"/>
          <a:ext cx="7993080" cy="1920960"/>
        </p:xfrm>
        <a:graphic>
          <a:graphicData uri="http://schemas.openxmlformats.org/drawingml/2006/table">
            <a:tbl>
              <a:tblPr/>
              <a:tblGrid>
                <a:gridCol w="1870200"/>
                <a:gridCol w="1871640"/>
                <a:gridCol w="2209680"/>
                <a:gridCol w="2041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1872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Помидоры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1872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500"/>
                          </a:solidFill>
                          <a:latin typeface="Verdana"/>
                        </a:rPr>
                        <a:t>Огурцы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49d"/>
                      </a:solidFill>
                    </a:lnL>
                    <a:lnR w="5760">
                      <a:solidFill>
                        <a:srgbClr val="fff49d"/>
                      </a:solidFill>
                    </a:lnR>
                    <a:lnT w="5760">
                      <a:solidFill>
                        <a:srgbClr val="fff49d"/>
                      </a:solidFill>
                    </a:lnT>
                    <a:lnB w="5760">
                      <a:solidFill>
                        <a:srgbClr val="fff49d"/>
                      </a:solidFill>
                    </a:lnB>
                    <a:solidFill>
                      <a:srgbClr val="c8b300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Диман</cp:lastModifiedBy>
  <dcterms:modified xsi:type="dcterms:W3CDTF">2014-07-05T02:17:57Z</dcterms:modified>
  <cp:revision>116</cp:revision>
  <dc:subject/>
  <dc:title>Тема:</dc:title>
</cp:coreProperties>
</file>