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850-095A-40B8-8C8C-7B5C71BF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6AB-3D8E-46C7-93AA-36EF9214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564-4744-475B-9E6A-9F396DA3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B9C-CFAC-4F13-80CC-7E657290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5A0-B87B-46FA-80BC-CCFA11D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5F1-B85D-4FF2-8264-2406210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3D8-70A6-494D-ABB0-E8D21FF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01D-2787-41BC-9A2D-E5D8167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CE8-BF43-4A3B-8B49-B8CDB230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B25-6B8F-4DC5-B865-113F7566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1D6-890D-4AC6-8AFE-CE5ACD8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C8A-4407-4DBC-A5DA-4CFA6267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E1E2-2473-430E-8FF0-42974EC09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родные промыслы»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НОД по познавательному развитию для детей 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 Селютина М.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очки, ягодки, цветочки, Стебелечек, завито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хозяева три цвета: Черный, красный, золот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ивез товар такой? (Хохлом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cdn.bolshoyvopros.ru/files/users/images/7a/da/7ada01db37a59f0127b6912c35297dab.jpg"/>
          <p:cNvPicPr/>
          <p:nvPr/>
        </p:nvPicPr>
        <p:blipFill>
          <a:blip r:embed="rId1"/>
          <a:stretch/>
        </p:blipFill>
        <p:spPr>
          <a:xfrm>
            <a:off x="2700360" y="1700280"/>
            <a:ext cx="4286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хлома́ представляет собой декоративную роспись деревянной посуды и мебели, выполненную красным, зелеными и золотистыми тонами по чёрному фону. На дерево при выполнении росписи наносится незолотой, а серебристо- оловянный порошок. После этого изделие покрывается специальным составом и три-четыре раза обрабатывается в печи, чем достигается медово-золотистый цвет, придающий лёгкой деревянной посуде эффект массив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snoopic.ru/d/67431/d/4989800_7.jpg"/>
          <p:cNvPicPr/>
          <p:nvPr/>
        </p:nvPicPr>
        <p:blipFill>
          <a:blip r:embed="rId1"/>
          <a:stretch/>
        </p:blipFill>
        <p:spPr>
          <a:xfrm>
            <a:off x="3635280" y="1268280"/>
            <a:ext cx="4948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для вас одна игрушк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ошадка, не Петру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ый шелковый платочек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й сарафан в цветочек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рается рука в деревянные б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нутри секреты ес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три, а может ше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мянилась немнож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….(Русская матреш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avatars.mds.yandex.net/get-pdb/33827/e6485e34-4856-4a6e-8b0e-a51ef7568d62/s1200?webp=false"/>
          <p:cNvPicPr/>
          <p:nvPr/>
        </p:nvPicPr>
        <p:blipFill>
          <a:blip r:embed="rId1"/>
          <a:stretch/>
        </p:blipFill>
        <p:spPr>
          <a:xfrm>
            <a:off x="3564000" y="2997360"/>
            <a:ext cx="51069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3008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ёш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 русская красавица Чем она привлекает? Своей простотой и яркой росписью. Прелесть матрёшки не только в её красочности, но и в занимательности. Всех восхищают и удивляют куклы, вложенные одна в другую. Выражение лица у каждой матрёшки своё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известны семёновские и загорские матрёшки, а также полхов-майданские. Все они отличались элементами росписи, но каждая была «одета» в крестьянский костюм: расписной сарафан, платок, полушалок, передни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s://t4.ftcdn.net/jpg/00/51/87/35/500_F_51873512_eCrMHj6KINGF18yd86NTNzPvh3rFehP8.jpg"/>
          <p:cNvPicPr/>
          <p:nvPr/>
        </p:nvPicPr>
        <p:blipFill>
          <a:blip r:embed="rId1"/>
          <a:stretch/>
        </p:blipFill>
        <p:spPr>
          <a:xfrm>
            <a:off x="3780000" y="3716280"/>
            <a:ext cx="4762440" cy="219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barvinok64.ru/assets/images/products/1872/matreshka.jpg"/>
          <p:cNvPicPr/>
          <p:nvPr/>
        </p:nvPicPr>
        <p:blipFill>
          <a:blip r:embed="rId2"/>
          <a:stretch/>
        </p:blipFill>
        <p:spPr>
          <a:xfrm>
            <a:off x="3708360" y="549360"/>
            <a:ext cx="482904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где мы с вами сегодня побывали и о чем говори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давайте поиграем с вами в игры, в которые играли детки на Рус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елки с платочк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ки стоят парами друг за другом. Впереди водящий, он держит в руке над головой платоче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хо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, гори ясн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погасл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янь на неб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ки летя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и звенят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следней пары бегут вдоль колонны (один справа, другой слева). Тот, кто добежит до водящего первым, берет у него платочек и встает с ним впереди колонны, а опоздавший “горит”, т. е. води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понимаете такую пословицу: Красна птица перьем, а человек уменьем? (человек славится, тем, что он хорошо умеет делать, в чем он мастер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drevodelatel.ru/uploads/old/articles/5/79892314.jpg"/>
          <p:cNvPicPr/>
          <p:nvPr/>
        </p:nvPicPr>
        <p:blipFill>
          <a:blip r:embed="rId1"/>
          <a:stretch/>
        </p:blipFill>
        <p:spPr>
          <a:xfrm>
            <a:off x="1692360" y="1844640"/>
            <a:ext cx="5832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ята, сегодня я хочу вас пригласить попутешествовать по мастерским народных умельцев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щи нынч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нам приш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поведать нам секр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й, чудной крас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ввести нас в мир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преданий и доб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казать, что есть в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– люди – мастер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ss.metronews.ru/userfiles/materials/72/728792/858x540.jpg"/>
          <p:cNvPicPr/>
          <p:nvPr/>
        </p:nvPicPr>
        <p:blipFill>
          <a:blip r:embed="rId1"/>
          <a:stretch/>
        </p:blipFill>
        <p:spPr>
          <a:xfrm>
            <a:off x="3995640" y="1989000"/>
            <a:ext cx="4577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и, чайники и вазы Отличите эти сраз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фон снегов белей, Синий небушка син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евное это чудо  Привезли купцы откуда? (Из Гжели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s://ds02.infourok.ru/uploads/ex/0536/000890b5-6e5ff275/hello_html_m62d8ca5f.jpg"/>
          <p:cNvPicPr/>
          <p:nvPr/>
        </p:nvPicPr>
        <p:blipFill>
          <a:blip r:embed="rId1"/>
          <a:stretch/>
        </p:blipFill>
        <p:spPr>
          <a:xfrm>
            <a:off x="1403280" y="1724040"/>
            <a:ext cx="6408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жельские изделия всегда легко отличить: они сделаны из белой глины и расписаны голубовато-синими широкими мазками, воспроизводящими цветочные композиции или сценки из народной жизни. В гжельском промысле всегда отводилось большое место настольной скульптуре. Это небольшие фигурки или группа фигурок высотой от 5 до 20 см, изображающие персонажей сказок, сюжетных или бытовых сценок, а также детские игруш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ds03.infourok.ru/uploads/ex/11af/00022106-5f01ac48/img57.jpg"/>
          <p:cNvPicPr/>
          <p:nvPr/>
        </p:nvPicPr>
        <p:blipFill>
          <a:blip r:embed="rId1"/>
          <a:stretch/>
        </p:blipFill>
        <p:spPr>
          <a:xfrm>
            <a:off x="3492360" y="1700280"/>
            <a:ext cx="5183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 на досточке девица Иль удалый молодец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-конь и чудо птица- Это значит … (Городец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fs00.infourok.ru/images/doc/180/206381/hello_html_m3f24d127.jpg"/>
          <p:cNvPicPr/>
          <p:nvPr/>
        </p:nvPicPr>
        <p:blipFill>
          <a:blip r:embed="rId1"/>
          <a:stretch/>
        </p:blipFill>
        <p:spPr>
          <a:xfrm>
            <a:off x="2484360" y="1916280"/>
            <a:ext cx="419580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ецкая деревянная игрушка разнообразна по тематике: люди, лошади, пароходы и т. д. Выразительность формы, яркие, живые краски, наивный «детский» орнамент всё это придаёт игрушке оригинальность, свеже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cdn-nus-1.pinme.ru/tumb/600/photo/7a/f2f6/7af2f65a24b2106282ee92ee81763379.jpeg"/>
          <p:cNvPicPr/>
          <p:nvPr/>
        </p:nvPicPr>
        <p:blipFill>
          <a:blip r:embed="rId1"/>
          <a:stretch/>
        </p:blipFill>
        <p:spPr>
          <a:xfrm>
            <a:off x="4356000" y="620640"/>
            <a:ext cx="40640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й формы, железные В хозяйстве очень полезны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е, желтые, красные Удивительно прекрасны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остовские подносы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proxy.imgsmail.ru/?h=MsrM2G0dst_PxThsh8RVmA&amp;e=1371544105&amp;url717=img-fotki.yandex.ru/get/9152/86441892.525/0_c2d97_c442c52d_XL.jpg"/>
          <p:cNvPicPr/>
          <p:nvPr/>
        </p:nvPicPr>
        <p:blipFill>
          <a:blip r:embed="rId1"/>
          <a:stretch/>
        </p:blipFill>
        <p:spPr>
          <a:xfrm>
            <a:off x="2700360" y="1844640"/>
            <a:ext cx="4175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3008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Жо́стовская ро́спись — народный промысел художественной росписи металлических подносов, существующий в деревне Жостово. Роспись производится обычно по чёрному фону (иногда по красному, синему, зелёному, серебряному), причем мастер работает сразу над несколькими поднос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сновной мотив росписи — цветочный букет простой композиции, в котором чередуются крупные садовые и мелкие полевые цве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 назначению подносы делятся на две группы: для бытовых целей (под самовары, для подачи пищи) и как украш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 форме подносы бывают круглые, восьмиугольные, комбинированные, прямоугольные, овальны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g1.liveinternet.ru/images/attach/c/6/90/196/90196603_2222299_007.jpg"/>
          <p:cNvPicPr/>
          <p:nvPr/>
        </p:nvPicPr>
        <p:blipFill>
          <a:blip r:embed="rId1"/>
          <a:stretch/>
        </p:blipFill>
        <p:spPr>
          <a:xfrm>
            <a:off x="3635280" y="180504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7T15:45:43Z</dcterms:created>
  <dc:creator>анастасия</dc:creator>
  <dc:description/>
  <dc:language>en-US</dc:language>
  <cp:lastModifiedBy>Анастасия</cp:lastModifiedBy>
  <dcterms:modified xsi:type="dcterms:W3CDTF">2020-04-09T09:48:38Z</dcterms:modified>
  <cp:revision>2</cp:revision>
  <dc:subject/>
  <dc:title>Народные промыслы</dc:title>
</cp:coreProperties>
</file>