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1B43-3A13-4DA8-BA2E-2ED3FCC7C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9A6E-4508-4E88-8339-6DF2E861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FF10-861C-43EF-A7BB-A868208A7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DFE1-EFFA-4EB7-B703-54F13FB89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5329-0747-4FE0-A108-81B08BA98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BFC0-A115-4B9E-9077-2F70736F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F89A-ACD7-42EF-A8E2-EEB95149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407A-827A-428B-B57A-D1D9F432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7E3E-0990-4D92-8F30-6A6330E3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0A34-9605-4268-86D2-AED93546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0BCA-2E41-45D1-8594-4C37D9C8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5AA1-F96A-41AD-9D7D-0E306EE1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C896-4075-4553-968B-15D55E2AEE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252360" y="333000"/>
            <a:ext cx="37418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Васюткино озеро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5280" y="1844640"/>
            <a:ext cx="2479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ктор Петрович Астафь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3197160" y="260280"/>
            <a:ext cx="5946840" cy="6166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468360" y="3357720"/>
            <a:ext cx="222408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179280" y="698400"/>
            <a:ext cx="8713800" cy="6330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готовка к сочинению по теме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 помогло Васютке выжить в тайге?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303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Мальчик, детство которого прошло в тайг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727280" y="148428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йга – это бескрайние леса, где водится много животных и нет человека. Трудно выжить человеку в тайге, если он не знает её законов. Васютка из рассказа Виктора Астафьева с детства воспитывался в тайг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2340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Качества Васют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знание ле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смел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терп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смекал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63280" y="0"/>
            <a:ext cx="7380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он заблудился в тайге, ему помогл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н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конов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лес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у него было ружьё, спички, хлеб. Он смог подстрелить птиц и приготовить их, переночевать в лесу, опознавать, где север, найти по признакам природы ре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дно было мальчику преодолевать страх в ночном лесу. Ему казалось, что кто-то к нему крадётся, но он смог проявить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мел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раз к нему приходило отчаяние, но он был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ерпели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боролся за жизнь. Вышел к реке, и даже когда судно прошло мимо, не отчаял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сютка  много раз проявлял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мекалк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и когда побежал в сторону, обратную той, откуда слышался гудок теплохода, и когда ватником защищал от ветра в сыром лесу разгорающийся костёр. и когда подвязал тесёмкой от кальсон оторвавшуюся подошву сап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40384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Озеро названо в честь Васютки не з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им словом, Васютка оказался сильным человеком. В честь такого не стыдно и озеро наз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37335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10:58:04Z</dcterms:created>
  <dc:creator>admin</dc:creator>
  <dc:description/>
  <dc:language>en-US</dc:language>
  <cp:lastModifiedBy>school127</cp:lastModifiedBy>
  <dcterms:modified xsi:type="dcterms:W3CDTF">2020-04-09T06:31:13Z</dcterms:modified>
  <cp:revision>4</cp:revision>
  <dc:subject/>
  <dc:title>«Васюткино озеро»</dc:title>
</cp:coreProperties>
</file>