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24.wmf" ContentType="image/x-wmf"/>
  <Override PartName="/ppt/media/image7.jpeg" ContentType="image/jpeg"/>
  <Override PartName="/ppt/media/image28.jpeg" ContentType="image/jpeg"/>
  <Override PartName="/ppt/media/image23.wmf" ContentType="image/x-wmf"/>
  <Override PartName="/ppt/media/image9.jpeg" ContentType="image/jpeg"/>
  <Override PartName="/ppt/media/image11.png" ContentType="image/png"/>
  <Override PartName="/ppt/media/image12.jpeg" ContentType="image/jpeg"/>
  <Override PartName="/ppt/media/image13.png" ContentType="image/png"/>
  <Override PartName="/ppt/media/image18.png" ContentType="image/png"/>
  <Override PartName="/ppt/media/image6.jpeg" ContentType="image/jpeg"/>
  <Override PartName="/ppt/media/image29.jpeg" ContentType="image/jpeg"/>
  <Override PartName="/ppt/media/image8.jpeg" ContentType="image/jpeg"/>
  <Override PartName="/ppt/media/image30.jpeg" ContentType="image/jpeg"/>
  <Override PartName="/ppt/media/image15.png" ContentType="image/png"/>
  <Override PartName="/ppt/media/image31.jpeg" ContentType="image/jpeg"/>
  <Override PartName="/ppt/media/image4.jpeg" ContentType="image/jpeg"/>
  <Override PartName="/ppt/media/image25.jpeg" ContentType="image/jpeg"/>
  <Override PartName="/ppt/media/image5.jpeg" ContentType="image/jpeg"/>
  <Override PartName="/ppt/media/image26.jpeg" ContentType="image/jpeg"/>
  <Override PartName="/ppt/media/image3.png" ContentType="image/png"/>
  <Override PartName="/ppt/media/image20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4.png" ContentType="image/png"/>
  <Override PartName="/ppt/media/image16.png" ContentType="image/png"/>
  <Override PartName="/ppt/media/image32.jpeg" ContentType="image/jpeg"/>
  <Override PartName="/ppt/media/image17.png" ContentType="image/png"/>
  <Override PartName="/ppt/media/image21.png" ContentType="image/png"/>
  <Override PartName="/ppt/media/image22.wmf" ContentType="image/x-wmf"/>
  <Override PartName="/ppt/media/image1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Text Box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dt" idx="3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4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9EF77B8-FF90-4168-B0EB-B8ED8A18BEAB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D9BAAE1-CF4F-481D-A3FF-D69CACED7BF1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911FD0C-ABCC-426D-9165-52684606E863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D64F71C-D3E4-463D-A5F1-30425156EB40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49A1C45-1767-4D9D-AFED-1B1360C9BD75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FF931B6-C3DC-4439-BA32-2DB0A4F28F5E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66DB2EA-8D56-49B9-8006-A40DA0D1E7AC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464C98B-D8E3-46B2-B931-3CD29524DDCF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4F4634F-164E-4805-B415-CD5D85F5D23D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9591CAA-D7A7-42EB-A615-6C19878825AA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1A09406-D725-484D-B129-D08FFE9FF702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0ABB843-7B04-40D2-910F-7C01DC616D98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F772EC2-E121-48EF-85BF-F0C1651B2BD5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8E1D554-01F3-4E4C-AF7F-24DF365A9E4A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805BB6A-F9CE-4FC7-ACC2-6BD0B0ED34A7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36C8D2D-1428-4BEC-B3BF-0B33808F75DD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6627F54-3BCF-41ED-8857-0E7517283F4F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F5FDD31-924D-4357-9318-781AB8AA818E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8C4CCDE-69FC-4C32-A60D-066C1B6AF71C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FBBEF7B-24D7-40E5-BE34-8E00898C2D84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4AD84DB-8484-4E1F-9273-99A60316B666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A72F465-8C36-4922-90B0-B70C54FA3953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8300288-3674-4896-99AF-786F484A57B4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63EF7F2-7461-45F7-99C9-6AFFD4BF9951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2CD3C7E-4BFF-4FF1-8D41-BDD1D73F8E2F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A15F23D-7E65-4C03-AA86-F75542140B6F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9031499-AA69-46A3-B60C-45459C36ED63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F1517D9-5445-4ECA-99F6-257B87479B36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F2E372E-9A59-4177-90AE-07DA10E534B9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6508B48-81E0-4D54-B303-576D82DF5F82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8ACB31D-5FE8-48F3-9672-DF6237F5DC83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D07F7DD-07F8-4CC1-A0E8-E60585853D91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072F1B1-FB24-4DE4-979C-75F2B72DE015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0F09811-4C04-4B7E-9BCF-5A8DABF948E1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6E8D794-2DE4-470B-BFEC-4BFBF5F12273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3B1CAC9-9CD6-4621-A605-61FB55323416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60E0390-F922-4261-87CE-BF9C6C516600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82F19E7-0766-4AF8-883B-F413A8EA2E17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788D01F-D04B-4D83-9521-8E725DB30E5D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BD337FF-1D5E-46B5-B781-6DCE6E28E5AB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46B18BE-DDB7-4D58-B5D3-92559CD90797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05E11AC-DCCA-4634-A0B6-EB826E37006F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00299F4-4F9D-487E-B6B7-547F857C4C23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F555844-3DD7-43E2-8D85-170BFDF3C717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9CF3749-A243-49DB-BE5E-CDED360ACE1F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D2478BA-60FA-4286-8B7C-14CE675572A6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8EDE849-339C-4F17-B8F4-44E05BD349CA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A6F11DB-FB74-41E0-BBDB-998803A3E7A6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1407B5-850E-46F0-B018-F88ACBB5CB8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8A25F8-6BED-482D-8238-1E0972410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CFFDDB-8C42-490D-98B2-EF422FF05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F82973-9F8E-4AEE-AD38-BAAD9181FE5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1EEA48-04D2-4728-B703-63DE946C4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3C737D-204F-4BD1-BED4-FAB5B12AE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1BC9E9-653C-4393-8A87-6C0D13719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5ABF31-6AFB-4DE6-BD01-19E040BDA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CD96AE-4219-4698-BF74-654CB26DD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48AC26-7A59-4DA2-95BA-A84AD8DA2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C32175-EEAA-4D0F-9260-9FEF2B3E6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972753-9CD1-42DE-AFB7-DC6FD6C92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051C7BD-8437-4669-AE0F-9D596CD68252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wmf"/><Relationship Id="rId3" Type="http://schemas.openxmlformats.org/officeDocument/2006/relationships/image" Target="../media/image2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096480" cy="7072200"/>
          </a:xfrm>
          <a:prstGeom prst="rect">
            <a:avLst/>
          </a:prstGeom>
          <a:ln w="0">
            <a:noFill/>
          </a:ln>
        </p:spPr>
      </p:pic>
      <p:sp>
        <p:nvSpPr>
          <p:cNvPr id="50" name="Text Box 2"/>
          <p:cNvSpPr/>
          <p:nvPr/>
        </p:nvSpPr>
        <p:spPr>
          <a:xfrm>
            <a:off x="357120" y="214200"/>
            <a:ext cx="8429760" cy="421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РГАНИЗАЦИЯ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ДЕЯТЕЛЬНОСТИ ДЕТЕЙ НА ПРОГУЛКЕ </a:t>
            </a:r>
            <a:br>
              <a:rPr sz="2800"/>
            </a:br>
            <a:r>
              <a:rPr b="1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      ДЕТСКОМ  САДУ                                                           в соответствие с ФГОС Д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тарший воспитатель ГБДОУ                                                                                          детского сада №10 Невского района  Санкт-Петербурга                                               Смирнова О.Р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анкт-Петербург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202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1"/>
          <p:cNvGrpSpPr/>
          <p:nvPr/>
        </p:nvGrpSpPr>
        <p:grpSpPr>
          <a:xfrm>
            <a:off x="438120" y="225360"/>
            <a:ext cx="8344080" cy="644760"/>
            <a:chOff x="438120" y="225360"/>
            <a:chExt cx="8344080" cy="644760"/>
          </a:xfrm>
        </p:grpSpPr>
        <p:pic>
          <p:nvPicPr>
            <p:cNvPr id="77" name="Picture 2" descr=""/>
            <p:cNvPicPr/>
            <p:nvPr/>
          </p:nvPicPr>
          <p:blipFill>
            <a:blip r:embed="rId1"/>
            <a:stretch/>
          </p:blipFill>
          <p:spPr>
            <a:xfrm>
              <a:off x="438120" y="225360"/>
              <a:ext cx="8344080" cy="64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Text Box 3"/>
            <p:cNvSpPr/>
            <p:nvPr/>
          </p:nvSpPr>
          <p:spPr>
            <a:xfrm>
              <a:off x="500040" y="285840"/>
              <a:ext cx="8228160" cy="50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ПОРЯДОК ОДЕВАНИЯ ДЕТЕЙ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79" name="Picture 4" descr=""/>
          <p:cNvPicPr/>
          <p:nvPr/>
        </p:nvPicPr>
        <p:blipFill>
          <a:blip r:embed="rId2"/>
          <a:stretch/>
        </p:blipFill>
        <p:spPr>
          <a:xfrm>
            <a:off x="6143760" y="3214800"/>
            <a:ext cx="2411280" cy="321444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5"/>
          <p:cNvSpPr/>
          <p:nvPr/>
        </p:nvSpPr>
        <p:spPr>
          <a:xfrm>
            <a:off x="214200" y="1928880"/>
            <a:ext cx="55008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 избежание перегревания детей необходимо придерживаться следующего порядка одевания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ачале  дети надевают  колготки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тем кофты, комбинезон, обувь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лишь в последнюю очередь шапки,  верхнюю одежду и шарф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1" descr=""/>
          <p:cNvPicPr/>
          <p:nvPr/>
        </p:nvPicPr>
        <p:blipFill>
          <a:blip r:embed="rId1"/>
          <a:stretch/>
        </p:blipFill>
        <p:spPr>
          <a:xfrm>
            <a:off x="1857240" y="1000080"/>
            <a:ext cx="578664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1" descr=""/>
          <p:cNvPicPr/>
          <p:nvPr/>
        </p:nvPicPr>
        <p:blipFill>
          <a:blip r:embed="rId1"/>
          <a:stretch/>
        </p:blipFill>
        <p:spPr>
          <a:xfrm>
            <a:off x="0" y="-46080"/>
            <a:ext cx="9204480" cy="6904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"/>
          <p:cNvSpPr/>
          <p:nvPr/>
        </p:nvSpPr>
        <p:spPr>
          <a:xfrm>
            <a:off x="390600" y="898560"/>
            <a:ext cx="850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Rectangle 3"/>
          <p:cNvSpPr/>
          <p:nvPr/>
        </p:nvSpPr>
        <p:spPr>
          <a:xfrm>
            <a:off x="2433600" y="922320"/>
            <a:ext cx="626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Arial"/>
              </a:rPr>
              <a:t>Возвращение с прогулки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Rectangle 4"/>
          <p:cNvSpPr/>
          <p:nvPr/>
        </p:nvSpPr>
        <p:spPr>
          <a:xfrm>
            <a:off x="5072040" y="1785960"/>
            <a:ext cx="3643200" cy="1643040"/>
          </a:xfrm>
          <a:prstGeom prst="rect">
            <a:avLst/>
          </a:prstGeom>
          <a:solidFill>
            <a:srgbClr val="ffffff"/>
          </a:solidFill>
          <a:ln cap="sq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мощник  воспитателя помогает детям развязать шарфы, расстегнуть и снять верхнюю  одежду, сложить одежду в шкафчик. Раздевшись, дети  спокойно идут в группу и играю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Rectangle 5"/>
          <p:cNvSpPr/>
          <p:nvPr/>
        </p:nvSpPr>
        <p:spPr>
          <a:xfrm>
            <a:off x="928800" y="1785960"/>
            <a:ext cx="3286080" cy="1643040"/>
          </a:xfrm>
          <a:prstGeom prst="rect">
            <a:avLst/>
          </a:prstGeom>
          <a:solidFill>
            <a:srgbClr val="ffffff"/>
          </a:solidFill>
          <a:ln cap="sq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мощник  воспитателя уводит  с участка первую подгруппу детей. Дети второй подгруппы продолжают гулять еще в течение 10—15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инут с воспитателе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Rectangle 6"/>
          <p:cNvSpPr/>
          <p:nvPr/>
        </p:nvSpPr>
        <p:spPr>
          <a:xfrm>
            <a:off x="554040" y="4221000"/>
            <a:ext cx="8174160" cy="1079640"/>
          </a:xfrm>
          <a:prstGeom prst="rect">
            <a:avLst/>
          </a:prstGeom>
          <a:solidFill>
            <a:srgbClr val="ccffcc"/>
          </a:solidFill>
          <a:ln cap="sq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2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  <a:ea typeface="Microsoft YaHei"/>
              </a:rPr>
              <a:t>В летний период после возвращения  детей с прогулки   необходимо организовать  гигиеническую процедуру – мытьё ног.</a:t>
            </a:r>
            <a:r>
              <a:rPr b="0" i="1" lang="ru-RU" sz="1800" spc="-1" strike="noStrike">
                <a:solidFill>
                  <a:srgbClr val="ffffff"/>
                </a:solidFill>
                <a:latin typeface="Calibri"/>
                <a:ea typeface="Microsoft YaHei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AutoShape 7"/>
          <p:cNvSpPr/>
          <p:nvPr/>
        </p:nvSpPr>
        <p:spPr>
          <a:xfrm>
            <a:off x="4214880" y="2463840"/>
            <a:ext cx="857160" cy="460440"/>
          </a:xfrm>
          <a:prstGeom prst="rightArrow">
            <a:avLst>
              <a:gd name="adj1" fmla="val 50000"/>
              <a:gd name="adj2" fmla="val 49988"/>
            </a:avLst>
          </a:prstGeom>
          <a:solidFill>
            <a:srgbClr val="4f81bd"/>
          </a:solidFill>
          <a:ln cap="sq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"/>
          <p:cNvSpPr/>
          <p:nvPr/>
        </p:nvSpPr>
        <p:spPr>
          <a:xfrm>
            <a:off x="357120" y="285840"/>
            <a:ext cx="8358120" cy="67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ТРЕБОВАНИЯ К ОДЕЖДЕ ДЕТЕЙ ДЛЯ ПРОГУЛК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бы обеспечить малышам комфортные ощущения во время активности на свежем воздухе, важно обеспечить соблюдение требований к одежд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любое время года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вь и одежда ребенка должна соответствовать актуальным погодным условиям,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сковывать свободы движений, препятствовать перегреву или переохлаждению — об </a:t>
            </a: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этом важно систематически информировать  родителе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незначительных колебаниях температуры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весенне-осенний период (+3 — 3 градуса)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отсутствии сильного ветра важно проследить, чтобы на малышах было одето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и слоя одежды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первый — белье, второй — колготы и водолазка, свитер, третий — теплые брюки, утепленная куртка, непромокаемые ботинки, шапка и шарф, перчатки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установлении минусовой температуры в пределах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 -4 до -10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дусов на дошкольников надевают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и слоя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ежды, пуховик или теплое пальто, утепленную шапку, варежки, зимние сапоги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более низких температурах количество слоев одежды увеличивается до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тырех-пяти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зависимости от ее характеристик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262699"/>
                </a:solidFill>
                <a:latin typeface="Times New Roman"/>
                <a:ea typeface="Times New Roman"/>
              </a:rPr>
              <a:t>       </a:t>
            </a:r>
            <a:r>
              <a:rPr b="0" lang="ru-RU" sz="1800" spc="-1" strike="noStrike">
                <a:solidFill>
                  <a:srgbClr val="262699"/>
                </a:solidFill>
                <a:latin typeface="Times New Roman"/>
                <a:ea typeface="Times New Roman"/>
              </a:rPr>
              <a:t>В летнее время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лыши не допускаются на прогулку без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ловных уборов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выполненных из дышащих материалов и обеспечивающих достаточный уровень защиты от солнц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1857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1"/>
          <p:cNvGrpSpPr/>
          <p:nvPr/>
        </p:nvGrpSpPr>
        <p:grpSpPr>
          <a:xfrm>
            <a:off x="579600" y="73080"/>
            <a:ext cx="8045280" cy="1355400"/>
            <a:chOff x="579600" y="73080"/>
            <a:chExt cx="8045280" cy="1355400"/>
          </a:xfrm>
        </p:grpSpPr>
        <p:pic>
          <p:nvPicPr>
            <p:cNvPr id="91" name="Picture 2" descr=""/>
            <p:cNvPicPr/>
            <p:nvPr/>
          </p:nvPicPr>
          <p:blipFill>
            <a:blip r:embed="rId1"/>
            <a:stretch/>
          </p:blipFill>
          <p:spPr>
            <a:xfrm>
              <a:off x="579600" y="73080"/>
              <a:ext cx="8045280" cy="135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Text Box 3"/>
            <p:cNvSpPr/>
            <p:nvPr/>
          </p:nvSpPr>
          <p:spPr>
            <a:xfrm>
              <a:off x="642960" y="331920"/>
              <a:ext cx="7927920" cy="95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2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ПОРЯДОК ХРАНЕНИЯ ОДЕЖДЫ В ШКАФЧИКЕ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3" name="Text Box 4"/>
          <p:cNvSpPr/>
          <p:nvPr/>
        </p:nvSpPr>
        <p:spPr>
          <a:xfrm>
            <a:off x="428760" y="1928880"/>
            <a:ext cx="4321080" cy="3929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262080" indent="-262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31640"/>
                <a:tab algn="l" pos="1346040"/>
                <a:tab algn="l" pos="2260440"/>
                <a:tab algn="l" pos="3174840"/>
                <a:tab algn="l" pos="4089240"/>
                <a:tab algn="l" pos="5003640"/>
                <a:tab algn="l" pos="5918040"/>
                <a:tab algn="l" pos="6832440"/>
                <a:tab algn="l" pos="7746840"/>
                <a:tab algn="l" pos="8661240"/>
                <a:tab algn="l" pos="957564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верхней полке кладется  шарф, шапка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262080" indent="-262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31640"/>
                <a:tab algn="l" pos="1346040"/>
                <a:tab algn="l" pos="2260440"/>
                <a:tab algn="l" pos="3174840"/>
                <a:tab algn="l" pos="4089240"/>
                <a:tab algn="l" pos="5003640"/>
                <a:tab algn="l" pos="5918040"/>
                <a:tab algn="l" pos="6832440"/>
                <a:tab algn="l" pos="7746840"/>
                <a:tab algn="l" pos="8661240"/>
                <a:tab algn="l" pos="957564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фту, колготки, тёплые штаны, верхнюю одежду вешают на крючок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262080" indent="-262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31640"/>
                <a:tab algn="l" pos="1346040"/>
                <a:tab algn="l" pos="2260440"/>
                <a:tab algn="l" pos="3174840"/>
                <a:tab algn="l" pos="4089240"/>
                <a:tab algn="l" pos="5003640"/>
                <a:tab algn="l" pos="5918040"/>
                <a:tab algn="l" pos="6832440"/>
                <a:tab algn="l" pos="7746840"/>
                <a:tab algn="l" pos="8661240"/>
                <a:tab algn="l" pos="957564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кавички на резинке  должны быть продернуты через рукава  и вешалку верхней одежды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262080" indent="-262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31640"/>
                <a:tab algn="l" pos="1346040"/>
                <a:tab algn="l" pos="2260440"/>
                <a:tab algn="l" pos="3174840"/>
                <a:tab algn="l" pos="4089240"/>
                <a:tab algn="l" pos="5003640"/>
                <a:tab algn="l" pos="5918040"/>
                <a:tab algn="l" pos="6832440"/>
                <a:tab algn="l" pos="7746840"/>
                <a:tab algn="l" pos="8661240"/>
                <a:tab algn="l" pos="957564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вь ставят на нижнюю полку, сверху кладут  носк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31640"/>
                <a:tab algn="l" pos="1346040"/>
                <a:tab algn="l" pos="2260440"/>
                <a:tab algn="l" pos="3174840"/>
                <a:tab algn="l" pos="4089240"/>
                <a:tab algn="l" pos="5003640"/>
                <a:tab algn="l" pos="5918040"/>
                <a:tab algn="l" pos="6832440"/>
                <a:tab algn="l" pos="7746840"/>
                <a:tab algn="l" pos="8661240"/>
                <a:tab algn="l" pos="9575640"/>
                <a:tab algn="l" pos="988380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31640"/>
                <a:tab algn="l" pos="1346040"/>
                <a:tab algn="l" pos="2260440"/>
                <a:tab algn="l" pos="3174840"/>
                <a:tab algn="l" pos="4089240"/>
                <a:tab algn="l" pos="5003640"/>
                <a:tab algn="l" pos="5918040"/>
                <a:tab algn="l" pos="6832440"/>
                <a:tab algn="l" pos="7746840"/>
                <a:tab algn="l" pos="8661240"/>
                <a:tab algn="l" pos="9575640"/>
                <a:tab algn="l" pos="988380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Picture 5" descr=""/>
          <p:cNvPicPr/>
          <p:nvPr/>
        </p:nvPicPr>
        <p:blipFill>
          <a:blip r:embed="rId2"/>
          <a:stretch/>
        </p:blipFill>
        <p:spPr>
          <a:xfrm>
            <a:off x="4929120" y="4357800"/>
            <a:ext cx="2881440" cy="187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1"/>
          <p:cNvSpPr/>
          <p:nvPr/>
        </p:nvSpPr>
        <p:spPr>
          <a:xfrm>
            <a:off x="357120" y="500040"/>
            <a:ext cx="8358120" cy="60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ПРОДОЛЖИТЕЛЬНОСТЬ ПРОГУЛКИ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комендуемая продолжительность прогулок (дневной, проводимой перед обедом, и вечерней, организуемой после полуденного сна) </a:t>
            </a:r>
            <a:r>
              <a:rPr b="1" lang="ru-RU" sz="1800" spc="-1" strike="noStrike" u="sng">
                <a:solidFill>
                  <a:srgbClr val="16165d"/>
                </a:solidFill>
                <a:uFillTx/>
                <a:latin typeface="Times New Roman"/>
                <a:ea typeface="Times New Roman"/>
              </a:rPr>
              <a:t>составляет 3-4 часа в день</a:t>
            </a:r>
            <a:r>
              <a:rPr b="0" lang="ru-RU" sz="1800" spc="-1" strike="noStrike">
                <a:solidFill>
                  <a:srgbClr val="16165d"/>
                </a:solidFill>
                <a:latin typeface="Times New Roman"/>
                <a:ea typeface="Times New Roman"/>
              </a:rPr>
              <a:t>,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 установление четких временных рамок остается правом ДОУ ввиду необходимости учета установленного распорядка дня, климатических условий, групп здоровья воспитаннико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зависимо от регионального компонента воспитатели обязаны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еспечивать максимально долгое (в переделах установленных временных рамок, с перерывами на прием пищи и здоровый сон) пребывание дошкольников на свежем воздухе в летний период времени для достижения стойкого оздоровительного эффект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16165d"/>
                </a:solidFill>
                <a:latin typeface="Times New Roman"/>
                <a:ea typeface="Times New Roman"/>
              </a:rPr>
              <a:t>Время прогулки с дошкольниками при температуре ниже -15 градусов и скорости ветра более 7 м/с сокращается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ение о сокращении или отмене прогулок принимает </a:t>
            </a:r>
            <a:r>
              <a:rPr b="0" lang="ru-RU" sz="1800" spc="-1" strike="noStrike">
                <a:solidFill>
                  <a:srgbClr val="262699"/>
                </a:solidFill>
                <a:latin typeface="Times New Roman"/>
                <a:ea typeface="Times New Roman"/>
              </a:rPr>
              <a:t>заведующий или старший воспитатель после фактической оценки погодных условий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1857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1"/>
          <p:cNvGrpSpPr/>
          <p:nvPr/>
        </p:nvGrpSpPr>
        <p:grpSpPr>
          <a:xfrm>
            <a:off x="298440" y="-133200"/>
            <a:ext cx="8344080" cy="893520"/>
            <a:chOff x="298440" y="-133200"/>
            <a:chExt cx="8344080" cy="893520"/>
          </a:xfrm>
        </p:grpSpPr>
        <p:pic>
          <p:nvPicPr>
            <p:cNvPr id="97" name="Picture 2" descr=""/>
            <p:cNvPicPr/>
            <p:nvPr/>
          </p:nvPicPr>
          <p:blipFill>
            <a:blip r:embed="rId1"/>
            <a:stretch/>
          </p:blipFill>
          <p:spPr>
            <a:xfrm>
              <a:off x="298440" y="-133200"/>
              <a:ext cx="8344080" cy="89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Text Box 3"/>
            <p:cNvSpPr/>
            <p:nvPr/>
          </p:nvSpPr>
          <p:spPr>
            <a:xfrm>
              <a:off x="357120" y="0"/>
              <a:ext cx="82281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2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ТРЕБОВАНИЯ К СОДЕРЖАНИЮ ПРОГУЛОК НА  УЧАСТКЕ  ДОУ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9" name="AutoShape 4"/>
          <p:cNvSpPr/>
          <p:nvPr/>
        </p:nvSpPr>
        <p:spPr>
          <a:xfrm>
            <a:off x="500040" y="2071800"/>
            <a:ext cx="214200" cy="3571920"/>
          </a:xfrm>
          <a:prstGeom prst="downArrow">
            <a:avLst>
              <a:gd name="adj1" fmla="val 50000"/>
              <a:gd name="adj2" fmla="val 50027"/>
            </a:avLst>
          </a:prstGeom>
          <a:solidFill>
            <a:srgbClr val="c00000"/>
          </a:solidFill>
          <a:ln cap="sq"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AutoShape 5"/>
          <p:cNvSpPr/>
          <p:nvPr/>
        </p:nvSpPr>
        <p:spPr>
          <a:xfrm>
            <a:off x="7215120" y="2071800"/>
            <a:ext cx="214560" cy="1857240"/>
          </a:xfrm>
          <a:prstGeom prst="downArrow">
            <a:avLst>
              <a:gd name="adj1" fmla="val 50000"/>
              <a:gd name="adj2" fmla="val 49933"/>
            </a:avLst>
          </a:prstGeom>
          <a:solidFill>
            <a:srgbClr val="c00000"/>
          </a:solidFill>
          <a:ln cap="sq"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AutoShape 6"/>
          <p:cNvSpPr/>
          <p:nvPr/>
        </p:nvSpPr>
        <p:spPr>
          <a:xfrm>
            <a:off x="5500800" y="2000160"/>
            <a:ext cx="214200" cy="3786120"/>
          </a:xfrm>
          <a:prstGeom prst="downArrow">
            <a:avLst>
              <a:gd name="adj1" fmla="val 50000"/>
              <a:gd name="adj2" fmla="val 49999"/>
            </a:avLst>
          </a:prstGeom>
          <a:solidFill>
            <a:srgbClr val="c00000"/>
          </a:solidFill>
          <a:ln cap="sq"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AutoShape 7"/>
          <p:cNvSpPr/>
          <p:nvPr/>
        </p:nvSpPr>
        <p:spPr>
          <a:xfrm>
            <a:off x="3714840" y="2000160"/>
            <a:ext cx="214200" cy="785880"/>
          </a:xfrm>
          <a:prstGeom prst="downArrow">
            <a:avLst>
              <a:gd name="adj1" fmla="val 50000"/>
              <a:gd name="adj2" fmla="val 50023"/>
            </a:avLst>
          </a:prstGeom>
          <a:solidFill>
            <a:srgbClr val="c00000"/>
          </a:solidFill>
          <a:ln cap="sq"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AutoShape 8"/>
          <p:cNvSpPr/>
          <p:nvPr/>
        </p:nvSpPr>
        <p:spPr>
          <a:xfrm>
            <a:off x="1571760" y="2071800"/>
            <a:ext cx="214200" cy="500040"/>
          </a:xfrm>
          <a:prstGeom prst="downArrow">
            <a:avLst>
              <a:gd name="adj1" fmla="val 50000"/>
              <a:gd name="adj2" fmla="val 50029"/>
            </a:avLst>
          </a:prstGeom>
          <a:solidFill>
            <a:srgbClr val="c00000"/>
          </a:solidFill>
          <a:ln cap="sq"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Rectangle 9"/>
          <p:cNvSpPr/>
          <p:nvPr/>
        </p:nvSpPr>
        <p:spPr>
          <a:xfrm>
            <a:off x="6072120" y="4143240"/>
            <a:ext cx="28576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дивидуальная работа по различным                                                                                            направлениям  развития воспитанников; по образовательным областям ФГОС Д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Rectangle 10"/>
          <p:cNvSpPr/>
          <p:nvPr/>
        </p:nvSpPr>
        <p:spPr>
          <a:xfrm>
            <a:off x="571680" y="928800"/>
            <a:ext cx="821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улка должна состоять из следующих  структурных элементов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1"/>
          <p:cNvSpPr/>
          <p:nvPr/>
        </p:nvSpPr>
        <p:spPr>
          <a:xfrm>
            <a:off x="928800" y="2714760"/>
            <a:ext cx="20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блюде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2"/>
          <p:cNvSpPr/>
          <p:nvPr/>
        </p:nvSpPr>
        <p:spPr>
          <a:xfrm>
            <a:off x="214200" y="5715000"/>
            <a:ext cx="271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удовые поруче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Text Box 13"/>
          <p:cNvSpPr/>
          <p:nvPr/>
        </p:nvSpPr>
        <p:spPr>
          <a:xfrm>
            <a:off x="3286080" y="6000840"/>
            <a:ext cx="45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стоятельная деятельность дете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Text Box 14"/>
          <p:cNvSpPr/>
          <p:nvPr/>
        </p:nvSpPr>
        <p:spPr>
          <a:xfrm>
            <a:off x="1928880" y="3143160"/>
            <a:ext cx="3429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игательная активность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вижные, спортивные игры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ртивные упражне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4000"/>
                            </p:stCondLst>
                            <p:childTnLst>
                              <p:par>
                                <p:cTn id="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6000"/>
                            </p:stCondLst>
                            <p:childTnLst>
                              <p:par>
                                <p:cTn id="18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8000"/>
                            </p:stCondLst>
                            <p:childTnLst>
                              <p:par>
                                <p:cTn id="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0000"/>
                            </p:stCondLst>
                            <p:childTnLst>
                              <p:par>
                                <p:cTn id="2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000"/>
                            </p:stCondLst>
                            <p:childTnLst>
                              <p:par>
                                <p:cTn id="3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6000"/>
                            </p:stCondLst>
                            <p:childTnLst>
                              <p:par>
                                <p:cTn id="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8000"/>
                            </p:stCondLst>
                            <p:childTnLst>
                              <p:par>
                                <p:cTn id="47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1" descr=""/>
          <p:cNvPicPr/>
          <p:nvPr/>
        </p:nvPicPr>
        <p:blipFill>
          <a:blip r:embed="rId1"/>
          <a:stretch/>
        </p:blipFill>
        <p:spPr>
          <a:xfrm>
            <a:off x="2000160" y="1285920"/>
            <a:ext cx="5357880" cy="464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1"/>
          <p:cNvSpPr/>
          <p:nvPr/>
        </p:nvSpPr>
        <p:spPr>
          <a:xfrm>
            <a:off x="357120" y="0"/>
            <a:ext cx="8358120" cy="73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НАЧАЛО ПРОГУЛК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ПОГОД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холодное время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да целесообразно начинать прогулку с </a:t>
            </a:r>
            <a:r>
              <a:rPr b="1" lang="ru-RU" sz="18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подвижных игр или выполнения трудовых поручений,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огающих поддерживать оптимальную температуру тела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ru-RU" sz="18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в дождливые дни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малоподвижных видов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и, позволяющих находится под крышей (</a:t>
            </a:r>
            <a:r>
              <a:rPr b="1" lang="ru-RU" sz="18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игры, рассказы, наблюдения</a:t>
            </a:r>
            <a:r>
              <a:rPr b="0" lang="ru-RU" sz="18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)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</a:t>
            </a: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 жаркие дни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</a:t>
            </a: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 экспериментов с водой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УЧЕТ ПРЕДЫДУЩИХ ВИДОВ ДЕЯТЕЛЬНОСТ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если прогулке предшествовала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ивная интеллектуальная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бота, целесообразно предоставить дошкольникам возможности удовлетворить возрастную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отребность в движении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леснуть эмоции во время </a:t>
            </a:r>
            <a:r>
              <a:rPr b="1" lang="ru-RU" sz="1800" spc="-1" strike="noStrike">
                <a:solidFill>
                  <a:srgbClr val="262699"/>
                </a:solidFill>
                <a:latin typeface="Times New Roman"/>
                <a:ea typeface="Times New Roman"/>
              </a:rPr>
              <a:t>подвижных игр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если перед выходом на улицу дети были вовлечены в физическую или музыкальную активность, можно сразу приступить к </a:t>
            </a:r>
            <a:r>
              <a:rPr b="1" lang="ru-RU" sz="1800" spc="-1" strike="noStrike" u="sng">
                <a:solidFill>
                  <a:srgbClr val="262699"/>
                </a:solidFill>
                <a:uFillTx/>
                <a:latin typeface="Times New Roman"/>
                <a:ea typeface="Times New Roman"/>
              </a:rPr>
              <a:t>наблюдениям, выполнению проектов, развивающим спокойным играм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22228b"/>
                </a:solidFill>
                <a:latin typeface="Times New Roman"/>
                <a:ea typeface="Times New Roman"/>
              </a:rPr>
              <a:t>Залогом полезной и увлекательной прогулк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соответствующей требованиям ФГОС ДО и позволяющей реализовывать актуальные педагогические задачи, является </a:t>
            </a:r>
            <a:r>
              <a:rPr b="1" lang="ru-RU" sz="18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последовательная смена структурных компонентов прогулк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857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1"/>
          <p:cNvSpPr/>
          <p:nvPr/>
        </p:nvSpPr>
        <p:spPr>
          <a:xfrm>
            <a:off x="357120" y="500040"/>
            <a:ext cx="8358120" cy="558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85760" algn="ctr">
              <a:lnSpc>
                <a:spcPct val="100000"/>
              </a:lnSpc>
              <a:tabLst>
                <a:tab algn="l" pos="0"/>
                <a:tab algn="l" pos="185760"/>
                <a:tab algn="l" pos="1100160"/>
                <a:tab algn="l" pos="2014560"/>
                <a:tab algn="l" pos="2928960"/>
                <a:tab algn="l" pos="3843360"/>
                <a:tab algn="l" pos="4757760"/>
                <a:tab algn="l" pos="5672160"/>
                <a:tab algn="l" pos="6586560"/>
                <a:tab algn="l" pos="7500960"/>
                <a:tab algn="l" pos="8415360"/>
                <a:tab algn="l" pos="9329760"/>
                <a:tab algn="l" pos="1024416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ПОСЛЕДОВАТЕЛЬНОСТЬ СТРУКТУРНЫХ КОМПОНЕНТОВ ПРОГУЛКИ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85760" algn="ctr">
              <a:lnSpc>
                <a:spcPct val="100000"/>
              </a:lnSpc>
              <a:tabLst>
                <a:tab algn="l" pos="0"/>
                <a:tab algn="l" pos="185760"/>
                <a:tab algn="l" pos="1100160"/>
                <a:tab algn="l" pos="2014560"/>
                <a:tab algn="l" pos="2928960"/>
                <a:tab algn="l" pos="3843360"/>
                <a:tab algn="l" pos="4757760"/>
                <a:tab algn="l" pos="5672160"/>
                <a:tab algn="l" pos="6586560"/>
                <a:tab algn="l" pos="7500960"/>
                <a:tab algn="l" pos="8415360"/>
                <a:tab algn="l" pos="9329760"/>
                <a:tab algn="l" pos="10244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ет варьироваться в зависимости от вида предыдущего занятия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85760" algn="ctr">
              <a:lnSpc>
                <a:spcPct val="100000"/>
              </a:lnSpc>
              <a:tabLst>
                <a:tab algn="l" pos="0"/>
                <a:tab algn="l" pos="185760"/>
                <a:tab algn="l" pos="1100160"/>
                <a:tab algn="l" pos="2014560"/>
                <a:tab algn="l" pos="2928960"/>
                <a:tab algn="l" pos="3843360"/>
                <a:tab algn="l" pos="4757760"/>
                <a:tab algn="l" pos="5672160"/>
                <a:tab algn="l" pos="6586560"/>
                <a:tab algn="l" pos="7500960"/>
                <a:tab algn="l" pos="8415360"/>
                <a:tab algn="l" pos="9329760"/>
                <a:tab algn="l" pos="10244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85760" algn="just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185760"/>
                <a:tab algn="l" pos="1100160"/>
                <a:tab algn="l" pos="2014560"/>
                <a:tab algn="l" pos="2928960"/>
                <a:tab algn="l" pos="3843360"/>
                <a:tab algn="l" pos="4757760"/>
                <a:tab algn="l" pos="5672160"/>
                <a:tab algn="l" pos="6586560"/>
                <a:tab algn="l" pos="7500960"/>
                <a:tab algn="l" pos="8415360"/>
                <a:tab algn="l" pos="9329760"/>
                <a:tab algn="l" pos="10244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дети находились на занятии, требующем повышенной познавательной активности и умственного напряжения, то вначале прогулки  проводятся подвижные игры, пробежки, затем – наблюдения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85760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185760"/>
                <a:tab algn="l" pos="1100160"/>
                <a:tab algn="l" pos="2014560"/>
                <a:tab algn="l" pos="2928960"/>
                <a:tab algn="l" pos="3843360"/>
                <a:tab algn="l" pos="4757760"/>
                <a:tab algn="l" pos="5672160"/>
                <a:tab algn="l" pos="6586560"/>
                <a:tab algn="l" pos="7500960"/>
                <a:tab algn="l" pos="8415360"/>
                <a:tab algn="l" pos="9329760"/>
                <a:tab algn="l" pos="10244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85760" algn="just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185760"/>
                <a:tab algn="l" pos="1100160"/>
                <a:tab algn="l" pos="2014560"/>
                <a:tab algn="l" pos="2928960"/>
                <a:tab algn="l" pos="3843360"/>
                <a:tab algn="l" pos="4757760"/>
                <a:tab algn="l" pos="5672160"/>
                <a:tab algn="l" pos="6586560"/>
                <a:tab algn="l" pos="7500960"/>
                <a:tab algn="l" pos="8415360"/>
                <a:tab algn="l" pos="9329760"/>
                <a:tab algn="l" pos="10244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до прогулки было физкультурное или музыкальное занятие,  прогулка начинается с наблюдения или спокойной игр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85760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185760"/>
                <a:tab algn="l" pos="1100160"/>
                <a:tab algn="l" pos="2014560"/>
                <a:tab algn="l" pos="2928960"/>
                <a:tab algn="l" pos="3843360"/>
                <a:tab algn="l" pos="4757760"/>
                <a:tab algn="l" pos="5672160"/>
                <a:tab algn="l" pos="6586560"/>
                <a:tab algn="l" pos="7500960"/>
                <a:tab algn="l" pos="8415360"/>
                <a:tab algn="l" pos="9329760"/>
                <a:tab algn="l" pos="10244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85760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185760"/>
                <a:tab algn="l" pos="1100160"/>
                <a:tab algn="l" pos="2014560"/>
                <a:tab algn="l" pos="2928960"/>
                <a:tab algn="l" pos="3843360"/>
                <a:tab algn="l" pos="4757760"/>
                <a:tab algn="l" pos="5672160"/>
                <a:tab algn="l" pos="6586560"/>
                <a:tab algn="l" pos="7500960"/>
                <a:tab algn="l" pos="8415360"/>
                <a:tab algn="l" pos="9329760"/>
                <a:tab algn="l" pos="10244160"/>
                <a:tab algn="l" pos="10333080"/>
                <a:tab algn="l" pos="10782360"/>
              </a:tabLst>
            </a:pPr>
            <a:r>
              <a:rPr b="1" lang="ru-RU" sz="2000" spc="-1" strike="noStrike" u="sng">
                <a:solidFill>
                  <a:srgbClr val="2d2db9"/>
                </a:solidFill>
                <a:uFillTx/>
                <a:latin typeface="Times New Roman"/>
                <a:ea typeface="Times New Roman"/>
              </a:rPr>
              <a:t>Каждый из обязательных компонентов прогулки длится от 7 до 15 минут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осуществляется на фоне самостоятельной деятельности дете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85760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185760"/>
                <a:tab algn="l" pos="1100160"/>
                <a:tab algn="l" pos="2014560"/>
                <a:tab algn="l" pos="2928960"/>
                <a:tab algn="l" pos="3843360"/>
                <a:tab algn="l" pos="4757760"/>
                <a:tab algn="l" pos="5672160"/>
                <a:tab algn="l" pos="6586560"/>
                <a:tab algn="l" pos="7500960"/>
                <a:tab algn="l" pos="8415360"/>
                <a:tab algn="l" pos="9329760"/>
                <a:tab algn="l" pos="10244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85760" algn="just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185760"/>
                <a:tab algn="l" pos="1100160"/>
                <a:tab algn="l" pos="2014560"/>
                <a:tab algn="l" pos="2928960"/>
                <a:tab algn="l" pos="3843360"/>
                <a:tab algn="l" pos="4757760"/>
                <a:tab algn="l" pos="5672160"/>
                <a:tab algn="l" pos="6586560"/>
                <a:tab algn="l" pos="7500960"/>
                <a:tab algn="l" pos="8415360"/>
                <a:tab algn="l" pos="9329760"/>
                <a:tab algn="l" pos="10244160"/>
                <a:tab algn="l" pos="10333080"/>
                <a:tab algn="l" pos="1078236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одержание прогулок определяется программой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ознакомлению детей с окружающим с учетом предшествующей деятельности детей, педагогических и оздоровительных задач, и строится в соответствии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календарным планированием в каждой возрастной группе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"/>
          <p:cNvSpPr/>
          <p:nvPr/>
        </p:nvSpPr>
        <p:spPr>
          <a:xfrm>
            <a:off x="457200" y="571680"/>
            <a:ext cx="8229600" cy="555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28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Прогулка — это уникальная возможность не только оздоровить детей, но и обогатить ребенка новыми знаниями, показать опыты, материал для которых предоставляет сама природа, развить внимание, память, речь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«День, проведённый без прогулки – потерян для малыша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Picture 2" descr="C:\Users\Марина\Desktop\scrn_big_1.jpg"/>
          <p:cNvPicPr/>
          <p:nvPr/>
        </p:nvPicPr>
        <p:blipFill>
          <a:blip r:embed="rId1"/>
          <a:stretch/>
        </p:blipFill>
        <p:spPr>
          <a:xfrm>
            <a:off x="3214800" y="3286080"/>
            <a:ext cx="2857320" cy="121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1"/>
          <p:cNvSpPr/>
          <p:nvPr/>
        </p:nvSpPr>
        <p:spPr>
          <a:xfrm>
            <a:off x="357120" y="214200"/>
            <a:ext cx="8358120" cy="66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НАБЛЮДЕН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ивному всестороннему развитию дошкольников способствует наблюдение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: объектами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живой природы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ениям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тицами на участке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вотными — во время прогулок за пределами ОУ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иродными явлениям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ижением облаков в разное время года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ждем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адением и таянием снега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трудом взрослых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орника, водителя, строителя и т.д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857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1"/>
          <p:cNvSpPr/>
          <p:nvPr/>
        </p:nvSpPr>
        <p:spPr>
          <a:xfrm>
            <a:off x="357120" y="357120"/>
            <a:ext cx="8358120" cy="64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НАБЛЮДЕН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целью накопления у детей значимого жизненного опыта и расширения знаний об окружающем мире во время прогулки проводят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ные виды наблюдений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атковременные,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званные сформировать первичные </a:t>
            </a:r>
            <a:r>
              <a:rPr b="0" lang="ru-RU" sz="18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представления о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предметах и объектах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как выглядит воробей, какие звуки издает)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лгосрочные,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собствующие расширению имеющихся знаний </a:t>
            </a:r>
            <a:r>
              <a:rPr b="0" lang="ru-RU" sz="18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(сезонные изменения лиственных  деревьев, стадии роста цветка, процесс изменения снега в течение зимних месяцев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организации наблюдений обязательным условием является учет возрастного фактор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ладшими дошкольникам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для которых характерна значительная рассеянность внимания, наблюдения проводят в течение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7-10 минут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воспитанниками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ршей и подготовительных групп —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15-25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Созерцание окружающей природы осуществляется </a:t>
            </a:r>
            <a:r>
              <a:rPr b="1" lang="ru-RU" sz="18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ежедневно</a:t>
            </a:r>
            <a:r>
              <a:rPr b="0" lang="ru-RU" sz="18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, </a:t>
            </a:r>
            <a:r>
              <a:rPr b="1" i="1" lang="ru-RU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с обязательной </a:t>
            </a:r>
            <a:r>
              <a:rPr b="1" i="1" lang="ru-RU" sz="18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сменой объектов наблюдения </a:t>
            </a:r>
            <a:r>
              <a:rPr b="1" i="1" lang="ru-RU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и длительности данного вида активности </a:t>
            </a:r>
            <a:r>
              <a:rPr b="0" lang="ru-RU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для поддержания высокой </a:t>
            </a:r>
            <a:r>
              <a:rPr b="1" lang="ru-RU" sz="18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заинтересованности</a:t>
            </a: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алышей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1857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1e8f5"/>
            </a:gs>
            <a:gs pos="100000">
              <a:srgbClr val="1ccbd4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" name="Group 1"/>
          <p:cNvGrpSpPr/>
          <p:nvPr/>
        </p:nvGrpSpPr>
        <p:grpSpPr>
          <a:xfrm>
            <a:off x="579600" y="103320"/>
            <a:ext cx="8343720" cy="687240"/>
            <a:chOff x="579600" y="103320"/>
            <a:chExt cx="8343720" cy="687240"/>
          </a:xfrm>
        </p:grpSpPr>
        <p:pic>
          <p:nvPicPr>
            <p:cNvPr id="116" name="Picture 2" descr=""/>
            <p:cNvPicPr/>
            <p:nvPr/>
          </p:nvPicPr>
          <p:blipFill>
            <a:blip r:embed="rId1"/>
            <a:stretch/>
          </p:blipFill>
          <p:spPr>
            <a:xfrm>
              <a:off x="579600" y="103320"/>
              <a:ext cx="8343720" cy="68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Text Box 3"/>
            <p:cNvSpPr/>
            <p:nvPr/>
          </p:nvSpPr>
          <p:spPr>
            <a:xfrm>
              <a:off x="642960" y="214200"/>
              <a:ext cx="8228160" cy="49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2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НАБЛЮДЕНИЯ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8" name="Text Box 4"/>
          <p:cNvSpPr/>
          <p:nvPr/>
        </p:nvSpPr>
        <p:spPr>
          <a:xfrm>
            <a:off x="214200" y="1357200"/>
            <a:ext cx="5786640" cy="476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169920"/>
                <a:tab algn="l" pos="1084320"/>
                <a:tab algn="l" pos="1998720"/>
                <a:tab algn="l" pos="2913120"/>
                <a:tab algn="l" pos="3827520"/>
                <a:tab algn="l" pos="4741920"/>
                <a:tab algn="l" pos="5656320"/>
                <a:tab algn="l" pos="6570720"/>
                <a:tab algn="l" pos="7485120"/>
                <a:tab algn="l" pos="8399520"/>
                <a:tab algn="l" pos="9313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РГАНИЗАЦИЯ   НАБЛЮДЕНИЙ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169920"/>
                <a:tab algn="l" pos="1084320"/>
                <a:tab algn="l" pos="1998720"/>
                <a:tab algn="l" pos="2913120"/>
                <a:tab algn="l" pos="3827520"/>
                <a:tab algn="l" pos="4741920"/>
                <a:tab algn="l" pos="5656320"/>
                <a:tab algn="l" pos="6570720"/>
                <a:tab algn="l" pos="7485120"/>
                <a:tab algn="l" pos="8399520"/>
                <a:tab algn="l" pos="93139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169920"/>
                <a:tab algn="l" pos="1084320"/>
                <a:tab algn="l" pos="1998720"/>
                <a:tab algn="l" pos="2913120"/>
                <a:tab algn="l" pos="3827520"/>
                <a:tab algn="l" pos="4741920"/>
                <a:tab algn="l" pos="5656320"/>
                <a:tab algn="l" pos="6570720"/>
                <a:tab algn="l" pos="7485120"/>
                <a:tab algn="l" pos="8399520"/>
                <a:tab algn="l" pos="9313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планировании наблюдений воспитатель продумывает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169920"/>
                <a:tab algn="l" pos="1084320"/>
                <a:tab algn="l" pos="1998720"/>
                <a:tab algn="l" pos="2913120"/>
                <a:tab algn="l" pos="3827520"/>
                <a:tab algn="l" pos="4741920"/>
                <a:tab algn="l" pos="5656320"/>
                <a:tab algn="l" pos="6570720"/>
                <a:tab algn="l" pos="7485120"/>
                <a:tab algn="l" pos="8399520"/>
                <a:tab algn="l" pos="93139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algn="just">
              <a:lnSpc>
                <a:spcPct val="80000"/>
              </a:lnSpc>
              <a:spcBef>
                <a:spcPts val="451"/>
              </a:spcBef>
              <a:buClr>
                <a:srgbClr val="008000"/>
              </a:buClr>
              <a:buFont typeface="Wingdings" charset="2"/>
              <a:buChar char=""/>
              <a:tabLst>
                <a:tab algn="l" pos="169920"/>
                <a:tab algn="l" pos="1084320"/>
                <a:tab algn="l" pos="1998720"/>
                <a:tab algn="l" pos="2913120"/>
                <a:tab algn="l" pos="3827520"/>
                <a:tab algn="l" pos="4741920"/>
                <a:tab algn="l" pos="5656320"/>
                <a:tab algn="l" pos="6570720"/>
                <a:tab algn="l" pos="7485120"/>
                <a:tab algn="l" pos="8399520"/>
                <a:tab algn="l" pos="9313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орудование и материалы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используемые по ходу наблюдения, размещение детей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algn="just">
              <a:lnSpc>
                <a:spcPct val="80000"/>
              </a:lnSpc>
              <a:spcBef>
                <a:spcPts val="451"/>
              </a:spcBef>
              <a:buClr>
                <a:srgbClr val="008000"/>
              </a:buClr>
              <a:buFont typeface="Wingdings" charset="2"/>
              <a:buChar char=""/>
              <a:tabLst>
                <a:tab algn="l" pos="169920"/>
                <a:tab algn="l" pos="1084320"/>
                <a:tab algn="l" pos="1998720"/>
                <a:tab algn="l" pos="2913120"/>
                <a:tab algn="l" pos="3827520"/>
                <a:tab algn="l" pos="4741920"/>
                <a:tab algn="l" pos="5656320"/>
                <a:tab algn="l" pos="6570720"/>
                <a:tab algn="l" pos="7485120"/>
                <a:tab algn="l" pos="8399520"/>
                <a:tab algn="l" pos="9313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algn="just">
              <a:lnSpc>
                <a:spcPct val="80000"/>
              </a:lnSpc>
              <a:spcBef>
                <a:spcPts val="451"/>
              </a:spcBef>
              <a:buClr>
                <a:srgbClr val="008000"/>
              </a:buClr>
              <a:buFont typeface="Wingdings" charset="2"/>
              <a:buChar char=""/>
              <a:tabLst>
                <a:tab algn="l" pos="169920"/>
                <a:tab algn="l" pos="1084320"/>
                <a:tab algn="l" pos="1998720"/>
                <a:tab algn="l" pos="2913120"/>
                <a:tab algn="l" pos="3827520"/>
                <a:tab algn="l" pos="4741920"/>
                <a:tab algn="l" pos="5656320"/>
                <a:tab algn="l" pos="6570720"/>
                <a:tab algn="l" pos="7485120"/>
                <a:tab algn="l" pos="8399520"/>
                <a:tab algn="l" pos="9313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емы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влечения внимания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ей к наблюдению  </a:t>
            </a:r>
            <a:r>
              <a:rPr b="0" lang="ru-RU" sz="20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(сюрпризные моменты, загадки, постановка познавательной задачи, проблемная ситуация)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algn="just">
              <a:lnSpc>
                <a:spcPct val="80000"/>
              </a:lnSpc>
              <a:spcBef>
                <a:spcPts val="451"/>
              </a:spcBef>
              <a:buClr>
                <a:srgbClr val="008000"/>
              </a:buClr>
              <a:buFont typeface="Wingdings" charset="2"/>
              <a:buChar char=""/>
              <a:tabLst>
                <a:tab algn="l" pos="169920"/>
                <a:tab algn="l" pos="1084320"/>
                <a:tab algn="l" pos="1998720"/>
                <a:tab algn="l" pos="2913120"/>
                <a:tab algn="l" pos="3827520"/>
                <a:tab algn="l" pos="4741920"/>
                <a:tab algn="l" pos="5656320"/>
                <a:tab algn="l" pos="6570720"/>
                <a:tab algn="l" pos="7485120"/>
                <a:tab algn="l" pos="8399520"/>
                <a:tab algn="l" pos="93139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algn="just">
              <a:lnSpc>
                <a:spcPct val="80000"/>
              </a:lnSpc>
              <a:spcBef>
                <a:spcPts val="451"/>
              </a:spcBef>
              <a:buClr>
                <a:srgbClr val="008000"/>
              </a:buClr>
              <a:buFont typeface="Wingdings" charset="2"/>
              <a:buChar char=""/>
              <a:tabLst>
                <a:tab algn="l" pos="169920"/>
                <a:tab algn="l" pos="1084320"/>
                <a:tab algn="l" pos="1998720"/>
                <a:tab algn="l" pos="2913120"/>
                <a:tab algn="l" pos="3827520"/>
                <a:tab algn="l" pos="4741920"/>
                <a:tab algn="l" pos="5656320"/>
                <a:tab algn="l" pos="6570720"/>
                <a:tab algn="l" pos="7485120"/>
                <a:tab algn="l" pos="8399520"/>
                <a:tab algn="l" pos="9313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емы активизации умственной деятельности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ru-RU" sz="20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поисковые вопросы, действия, сравнение, использование детского опыт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84320" indent="-1843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169920"/>
                <a:tab algn="l" pos="1084320"/>
                <a:tab algn="l" pos="1998720"/>
                <a:tab algn="l" pos="2913120"/>
                <a:tab algn="l" pos="3827520"/>
                <a:tab algn="l" pos="4741920"/>
                <a:tab algn="l" pos="5656320"/>
                <a:tab algn="l" pos="6570720"/>
                <a:tab algn="l" pos="7485120"/>
                <a:tab algn="l" pos="8399520"/>
                <a:tab algn="l" pos="93139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Picture 5" descr=""/>
          <p:cNvPicPr/>
          <p:nvPr/>
        </p:nvPicPr>
        <p:blipFill>
          <a:blip r:embed="rId2"/>
          <a:stretch/>
        </p:blipFill>
        <p:spPr>
          <a:xfrm>
            <a:off x="6572160" y="3071880"/>
            <a:ext cx="2071800" cy="1785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1"/>
          <p:cNvSpPr/>
          <p:nvPr/>
        </p:nvSpPr>
        <p:spPr>
          <a:xfrm>
            <a:off x="357120" y="214200"/>
            <a:ext cx="8358120" cy="722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соответствии с рекомендуемой методикой проведения прогулки в ДОУ по ФГОС                                                      наблюдения проводятся по следующем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ЛГОРИТМУ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тановление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кт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облака движутся по небу)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е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язей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ду частями объект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копление впечатлений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полученных в ходе наблюдений (облака движутся друг за другом, большие облака движутся медленнее, чем маленькие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дение сопоставлений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облака движутся при наличии ветра)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ведение итогов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осенью облака двигаются стремительно, а летом — медленно)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857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" name="Group 1"/>
          <p:cNvGrpSpPr/>
          <p:nvPr/>
        </p:nvGrpSpPr>
        <p:grpSpPr>
          <a:xfrm>
            <a:off x="438120" y="103320"/>
            <a:ext cx="8344080" cy="1114200"/>
            <a:chOff x="438120" y="103320"/>
            <a:chExt cx="8344080" cy="1114200"/>
          </a:xfrm>
        </p:grpSpPr>
        <p:pic>
          <p:nvPicPr>
            <p:cNvPr id="122" name="Picture 2" descr=""/>
            <p:cNvPicPr/>
            <p:nvPr/>
          </p:nvPicPr>
          <p:blipFill>
            <a:blip r:embed="rId1"/>
            <a:stretch/>
          </p:blipFill>
          <p:spPr>
            <a:xfrm>
              <a:off x="438120" y="103320"/>
              <a:ext cx="8344080" cy="1114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Text Box 3"/>
            <p:cNvSpPr/>
            <p:nvPr/>
          </p:nvSpPr>
          <p:spPr>
            <a:xfrm>
              <a:off x="500040" y="285840"/>
              <a:ext cx="8228160" cy="78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2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ОРГАНИЗАЦИЯ ДВИГАТЕЛЬНОЙ АКТИВНОСТИ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4" name="Rectangle 4"/>
          <p:cNvSpPr/>
          <p:nvPr/>
        </p:nvSpPr>
        <p:spPr>
          <a:xfrm>
            <a:off x="214200" y="1714680"/>
            <a:ext cx="8643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 u="sng">
                <a:solidFill>
                  <a:srgbClr val="2d2db9"/>
                </a:solidFill>
                <a:uFillTx/>
                <a:latin typeface="Times New Roman"/>
                <a:ea typeface="Times New Roman"/>
              </a:rPr>
              <a:t>Подвижные игры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но дополнять или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заменять  </a:t>
            </a:r>
            <a:r>
              <a:rPr b="0" lang="ru-RU" sz="1800" spc="-1" strike="noStrike" u="sng">
                <a:solidFill>
                  <a:srgbClr val="2d2db9"/>
                </a:solidFill>
                <a:uFillTx/>
                <a:latin typeface="Times New Roman"/>
                <a:ea typeface="Times New Roman"/>
              </a:rPr>
              <a:t>спортивными упражнениями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 в старшем дошкольном возрасте </a:t>
            </a:r>
            <a:r>
              <a:rPr b="0" lang="ru-RU" sz="18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спортивным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 u="sng">
                <a:solidFill>
                  <a:srgbClr val="2d2db9"/>
                </a:solidFill>
                <a:uFillTx/>
                <a:latin typeface="Times New Roman"/>
                <a:ea typeface="Times New Roman"/>
              </a:rPr>
              <a:t>играми, играми с элементами соревнований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К спортивным упражнениям относятся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тание на санках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лыжах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тание на велосипедах, самокатах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К спортивным играм относятся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родки,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скетбол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дминтон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тольный теннис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утбол, хокке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5"/>
          <p:cNvSpPr/>
          <p:nvPr/>
        </p:nvSpPr>
        <p:spPr>
          <a:xfrm>
            <a:off x="642960" y="1071720"/>
            <a:ext cx="7929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В двигательную деятельность детей на прогулке следует включать</a:t>
            </a:r>
            <a:r>
              <a:rPr b="1" lang="ru-RU" sz="2000" spc="-1" strike="noStrike">
                <a:solidFill>
                  <a:srgbClr val="7030a0"/>
                </a:solidFill>
                <a:latin typeface="Calibri"/>
                <a:ea typeface="Microsoft YaHei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Picture 6" descr=""/>
          <p:cNvPicPr/>
          <p:nvPr/>
        </p:nvPicPr>
        <p:blipFill>
          <a:blip r:embed="rId2"/>
          <a:stretch/>
        </p:blipFill>
        <p:spPr>
          <a:xfrm>
            <a:off x="5416560" y="3857760"/>
            <a:ext cx="3265560" cy="270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1"/>
          <p:cNvSpPr/>
          <p:nvPr/>
        </p:nvSpPr>
        <p:spPr>
          <a:xfrm>
            <a:off x="357120" y="285840"/>
            <a:ext cx="835812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ПОДВИЖНЫЕ ИГРЫ ДЕТЕЙ НА ПРОГУЛК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ительность проведения подвижных игр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 u="sng">
                <a:solidFill>
                  <a:srgbClr val="2d2db9"/>
                </a:solidFill>
                <a:uFillTx/>
                <a:latin typeface="Times New Roman"/>
                <a:ea typeface="Times New Roman"/>
              </a:rPr>
              <a:t>на утренней прогулк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-10 минут - младшей группы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-15 — средней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-25 — старшей и подготовительной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 u="sng">
                <a:solidFill>
                  <a:srgbClr val="2d2db9"/>
                </a:solidFill>
                <a:uFillTx/>
                <a:latin typeface="Times New Roman"/>
                <a:ea typeface="Times New Roman"/>
              </a:rPr>
              <a:t>на вечерней прогулке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-15 минут для младших дошкольников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-15 минут — для средних и старших групп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младшая группа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комендуется проводить </a:t>
            </a: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игры с текстовым сопровождением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усматривающие </a:t>
            </a: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овторение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днотипных действий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средняя группа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ы с ролью и  предварительной подготовкой;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старшая и подготовительная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па —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ртивные соревнования, эстафеты, сюжетно-развлекательные игры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ок двигательной активности заканчивается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епенным снижением уровня активности через </a:t>
            </a:r>
            <a:r>
              <a:rPr b="1" lang="ru-RU" sz="20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малоподвижные игры и забавы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усматривают необходимость разучивания </a:t>
            </a:r>
            <a:r>
              <a:rPr b="1" lang="ru-RU" sz="20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3-4 новых игр с воспитанниками ежемесячно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их последующим повторением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1"/>
          <p:cNvSpPr/>
          <p:nvPr/>
        </p:nvSpPr>
        <p:spPr>
          <a:xfrm>
            <a:off x="468360" y="1341360"/>
            <a:ext cx="806436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одвижных играх развиваютс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е движения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имается умственное напряжение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ываются физические и моральные качеств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2000" spc="-1" strike="noStrike" u="sng">
                <a:solidFill>
                  <a:srgbClr val="262699"/>
                </a:solidFill>
                <a:uFillTx/>
                <a:latin typeface="Times New Roman"/>
                <a:ea typeface="Times New Roman"/>
              </a:rPr>
              <a:t>На прогулке включаем подвижные игры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-3 игры большой подвижности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-3 игры малой и  средней подвижности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гры на выбор дете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вижная игра может быть проведена в начале прогулки, если образовательная деятельность  была связана с долгим сидением детей. Если же они идут гулять после музыкального или физкультурного занятия, то игру можно провести в середине  прогулки или за полчаса до её окончан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WordArt 2"/>
          <p:cNvSpPr txBox="1"/>
          <p:nvPr/>
        </p:nvSpPr>
        <p:spPr>
          <a:xfrm>
            <a:off x="1476360" y="549360"/>
            <a:ext cx="640872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5efc56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Times New Roman"/>
              </a:rPr>
              <a:t>Двигательная активность</a:t>
            </a:r>
            <a:endParaRPr b="1" lang="en-US" sz="1800" spc="1" strike="noStrike">
              <a:ln cap="sq" w="9360">
                <a:solidFill>
                  <a:srgbClr val="000000"/>
                </a:solidFill>
                <a:miter/>
              </a:ln>
              <a:solidFill>
                <a:srgbClr val="5efc56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1"/>
          <p:cNvSpPr/>
          <p:nvPr/>
        </p:nvSpPr>
        <p:spPr>
          <a:xfrm>
            <a:off x="357120" y="214200"/>
            <a:ext cx="8358120" cy="61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ТРУДОВАЯ ДЕЯТЕЛЬНОСТЬ НА  ПРОГУЛК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ирование трудовой деятельности дошкольников во время пребывания на свежем воздухе — важная составляющая методики проведения прогулки в ДОУ по ФГОС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условии, что трудовые поручения являются </a:t>
            </a:r>
            <a:r>
              <a:rPr b="1" lang="ru-RU" sz="20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посильными, увлекательными и разнообразным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ный вид деятельности помогает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лотить детский коллектив, развить значимые навыки — целеустремленность, готовность к взаимопомощи, ответственность, инициативность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удовая деятельность во время прогулки может организовываться через: выполнение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индивидуальных трудовых поручений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данная форма работы требует времени, но подходит </a:t>
            </a:r>
            <a:r>
              <a:rPr b="1" lang="ru-RU" sz="20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для малышей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</a:t>
            </a:r>
            <a:r>
              <a:rPr b="1" lang="ru-RU" sz="20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средних и старших детей-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уют так же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работу в группах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коллективный труд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старших детей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 учетом возраста трудовая активность в группах детского сада реализуется следующим образо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1"/>
          <p:cNvSpPr/>
          <p:nvPr/>
        </p:nvSpPr>
        <p:spPr>
          <a:xfrm>
            <a:off x="357120" y="285840"/>
            <a:ext cx="8358120" cy="64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ТРУДОВАЯ ДЕЯТЕЛЬНОСТЬ НА  ПРОГУЛК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нникам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ладшего возраста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дагог дает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стые поручени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включающие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-2 действия (принести один цветок и листик для поделок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работают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непосредственной близости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рядом),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ношения взаимозависимости при этом отсутствуют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повая деятельность полностью контролируется воспитателем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ей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редней группы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тель предварительн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лит на подгруппы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оваривает задачи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особенности их исполнения для каждой группы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 чего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атически контролирует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чество работы каждого «трудового отряда»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д детьми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аршего дошкольного возраст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вится задача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после чего воспитатель инициирует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лективное обсуждение порядка действий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помогает в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пределении обязанностей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дети самостоятельно реализуют поставленную трудовую задачу с незначительной помощью со стороны педагога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Group 1"/>
          <p:cNvGrpSpPr/>
          <p:nvPr/>
        </p:nvGrpSpPr>
        <p:grpSpPr>
          <a:xfrm>
            <a:off x="298440" y="262080"/>
            <a:ext cx="8612280" cy="687240"/>
            <a:chOff x="298440" y="262080"/>
            <a:chExt cx="8612280" cy="687240"/>
          </a:xfrm>
        </p:grpSpPr>
        <p:pic>
          <p:nvPicPr>
            <p:cNvPr id="133" name="Picture 2" descr=""/>
            <p:cNvPicPr/>
            <p:nvPr/>
          </p:nvPicPr>
          <p:blipFill>
            <a:blip r:embed="rId1"/>
            <a:stretch/>
          </p:blipFill>
          <p:spPr>
            <a:xfrm>
              <a:off x="298440" y="262080"/>
              <a:ext cx="8612280" cy="68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Text Box 3"/>
            <p:cNvSpPr/>
            <p:nvPr/>
          </p:nvSpPr>
          <p:spPr>
            <a:xfrm>
              <a:off x="357120" y="357120"/>
              <a:ext cx="8499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2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ТРУДОВЫЕ ПОРУЧЕНИЯ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5" name="Rectangle 4"/>
          <p:cNvSpPr/>
          <p:nvPr/>
        </p:nvSpPr>
        <p:spPr>
          <a:xfrm>
            <a:off x="642960" y="1500120"/>
            <a:ext cx="7858080" cy="33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тель привлекает детей: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8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сбору игрушек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8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8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азанию посильной помощи по наведению порядка на участке после прогулки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8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8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ильному уходу за растениями и т.д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1"/>
          <p:cNvSpPr/>
          <p:nvPr/>
        </p:nvSpPr>
        <p:spPr>
          <a:xfrm>
            <a:off x="285840" y="214200"/>
            <a:ext cx="8102520" cy="64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оцесс воспитания и образования детей непрерыве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ьшие потенциальные возможности для всестороннего гармонического развития личности ребенка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ложены в процессе воспитательно-образовательной работы с детьми в условиях прогулки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есь как нигде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лышам предоставляются уникальные условия для всестороннего развити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в полной мере удовлетворяются его потребности в активных движениях, в самостоятельных действиях при ознакомлении с окружающим миром, в новых ярких впечатлениях, в свободной игре, как с природным материалом, так и с игрушкам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ако в силу возрастных особенностей малыши сами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могут использовать все время прогулки с максимальной пользой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своего развития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ru-RU" sz="2000" spc="-1" strike="noStrike">
                <a:solidFill>
                  <a:srgbClr val="262699"/>
                </a:solidFill>
                <a:latin typeface="Times New Roman"/>
                <a:ea typeface="Times New Roman"/>
              </a:rPr>
              <a:t>Взрослый должен правильно </a:t>
            </a:r>
            <a:r>
              <a:rPr b="1" lang="ru-RU" sz="2000" spc="-1" strike="noStrike">
                <a:solidFill>
                  <a:srgbClr val="262699"/>
                </a:solidFill>
                <a:latin typeface="Times New Roman"/>
                <a:ea typeface="Times New Roman"/>
              </a:rPr>
              <a:t>руководить деятельностью детей  в соответствие в ФГОС ДО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1"/>
          <p:cNvSpPr/>
          <p:nvPr/>
        </p:nvSpPr>
        <p:spPr>
          <a:xfrm>
            <a:off x="357120" y="500040"/>
            <a:ext cx="835812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ИГРОВАЯ ДЕЯТЕЛЬНОСТЬ НА  ПРОГУЛК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целью сохранения и укрепления детского здоровья, профилактики интеллектуального напряжения и формирования моральных качеств </a:t>
            </a:r>
            <a:r>
              <a:rPr b="1" lang="ru-RU" sz="20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при организации прогулки в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етском саду согласно ФГОС </a:t>
            </a:r>
            <a:r>
              <a:rPr b="1" lang="ru-RU" sz="20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значительное место отводят игровой деятельности детей, а именно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вижным играм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язанным с бегом, прыжками, метанием предметом, обходом препятствий, удержанием равновесия)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одным играм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ам с элементами спорта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эстафеты, городки, ведение мяча по правилам баскетбола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ам-экспериментам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играм с водой, песком, снегом и др.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дактическим играм, особенно, словесным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угадывание предмета по описанию, поиск общих характеристик)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тель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ет условия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развития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южетно-ролевых игр дете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организации игровой деятельности на прогулке воспитателю важно принимать во внимание погодные условия, возрастной фактор и время пребывания на свежем воздухе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1"/>
          <p:cNvSpPr/>
          <p:nvPr/>
        </p:nvSpPr>
        <p:spPr>
          <a:xfrm>
            <a:off x="428760" y="1071720"/>
            <a:ext cx="8137440" cy="55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ru-RU" sz="1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В холодные дни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есообразно начинать прогулку с иг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ьшой подвижности,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вязанных с бегом, метанием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ыжками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анные игры помогают детям лучш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носить холодную погоду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ru-RU" sz="2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В сырую, дождливую погоду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осенью, весной) следует организовывать 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алоподвижные игры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которые  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е требуют большого пространств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ru-RU" sz="2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В теплые весенние, летние дни и ранней осенью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едует проводить игры с прыжками, бегом, метанием, упражнения на равновесие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ru-RU" sz="2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В жаркую погоду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одятся 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гры с водой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ние </a:t>
            </a: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бессюжетных народных игр с предметам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Используют кольцеброс, кегли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лементы спортивных игр: городки, бадминтон, волейбол, футбол, хоккей и т.д.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WordArt 2"/>
          <p:cNvSpPr txBox="1"/>
          <p:nvPr/>
        </p:nvSpPr>
        <p:spPr>
          <a:xfrm>
            <a:off x="2700360" y="260280"/>
            <a:ext cx="374472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632983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Times New Roman"/>
              </a:rPr>
              <a:t>Выбор игры</a:t>
            </a:r>
            <a:endParaRPr b="0" lang="en-US" sz="1800" spc="1" strike="noStrike">
              <a:ln cap="sq" w="9360">
                <a:solidFill>
                  <a:srgbClr val="000000"/>
                </a:solidFill>
                <a:miter/>
              </a:ln>
              <a:solidFill>
                <a:srgbClr val="632983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39" name="Picture 3" descr=""/>
          <p:cNvPicPr/>
          <p:nvPr/>
        </p:nvPicPr>
        <p:blipFill>
          <a:blip r:embed="rId1"/>
          <a:stretch/>
        </p:blipFill>
        <p:spPr>
          <a:xfrm rot="20400000">
            <a:off x="8146800" y="2762280"/>
            <a:ext cx="861840" cy="9367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4" descr=""/>
          <p:cNvPicPr/>
          <p:nvPr/>
        </p:nvPicPr>
        <p:blipFill>
          <a:blip r:embed="rId2"/>
          <a:stretch/>
        </p:blipFill>
        <p:spPr>
          <a:xfrm>
            <a:off x="8172360" y="1428840"/>
            <a:ext cx="971640" cy="7110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5" descr=""/>
          <p:cNvPicPr/>
          <p:nvPr/>
        </p:nvPicPr>
        <p:blipFill>
          <a:blip r:embed="rId3"/>
          <a:stretch/>
        </p:blipFill>
        <p:spPr>
          <a:xfrm>
            <a:off x="8388360" y="4286160"/>
            <a:ext cx="755640" cy="75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1"/>
          <p:cNvSpPr/>
          <p:nvPr/>
        </p:nvSpPr>
        <p:spPr>
          <a:xfrm>
            <a:off x="395280" y="907920"/>
            <a:ext cx="8137440" cy="595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олезные игры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при помощи которых расширяются знания и представления детей об окружающем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ctr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дактические игры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бики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то и др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ctr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левые игры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ы в семью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смонавтов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газин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ьницу и т.д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тель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огает развить сюжет игры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подобрать или создать необходимый для игры материал. Использовать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меты-заменител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др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WordArt 2"/>
          <p:cNvSpPr txBox="1"/>
          <p:nvPr/>
        </p:nvSpPr>
        <p:spPr>
          <a:xfrm>
            <a:off x="2700360" y="260280"/>
            <a:ext cx="374472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632983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Times New Roman"/>
              </a:rPr>
              <a:t>Выбор игры</a:t>
            </a:r>
            <a:endParaRPr b="0" lang="en-US" sz="1800" spc="1" strike="noStrike">
              <a:ln cap="sq" w="9360">
                <a:solidFill>
                  <a:srgbClr val="000000"/>
                </a:solidFill>
                <a:miter/>
              </a:ln>
              <a:solidFill>
                <a:srgbClr val="632983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001080" cy="6572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1"/>
          <p:cNvSpPr/>
          <p:nvPr/>
        </p:nvSpPr>
        <p:spPr>
          <a:xfrm>
            <a:off x="357120" y="357120"/>
            <a:ext cx="835812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САМОСТОЯТЕЛЬНАЯ ДЕЯТЕЛЬНОСТЬ ДЕТЕЙ НА  ПРОГУЛК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стоятельная деятельность детей организуется под контролем воспитателя при полном обеспечении безопасности. Данный элемент прогулки способствует формированию инициативности, коммуникативных навыков, использованию различных видов пособий с учетом их назначения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едует отметить, что порядок реализации структурных элементов прогулки, длительность которых (за исключением самостоятельно активности дошкольников) не должна превышать 7-15 минут, может варьироваться воспитателем с учетом погодных условий, распорядка дня, самочувствия и настроения детей и других факторо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Во время ведения прогулки педагогу важно уделять особое внимание </a:t>
            </a:r>
            <a:r>
              <a:rPr b="1" lang="ru-RU" sz="2000" spc="-1" strike="noStrike" u="sng">
                <a:solidFill>
                  <a:srgbClr val="7030a0"/>
                </a:solidFill>
                <a:uFillTx/>
                <a:latin typeface="Times New Roman"/>
                <a:ea typeface="Times New Roman"/>
              </a:rPr>
              <a:t>малоинициативным детям</a:t>
            </a:r>
            <a:r>
              <a:rPr b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, имеющим </a:t>
            </a:r>
            <a:r>
              <a:rPr b="1" lang="ru-RU" sz="2000" spc="-1" strike="noStrike" u="sng">
                <a:solidFill>
                  <a:srgbClr val="7030a0"/>
                </a:solidFill>
                <a:uFillTx/>
                <a:latin typeface="Times New Roman"/>
                <a:ea typeface="Times New Roman"/>
              </a:rPr>
              <a:t>сниженную потребность в физической активности</a:t>
            </a:r>
            <a:r>
              <a:rPr b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, воспитанникам </a:t>
            </a:r>
            <a:r>
              <a:rPr b="1" lang="ru-RU" sz="2000" spc="-1" strike="noStrike" u="sng">
                <a:solidFill>
                  <a:srgbClr val="7030a0"/>
                </a:solidFill>
                <a:uFillTx/>
                <a:latin typeface="Times New Roman"/>
                <a:ea typeface="Times New Roman"/>
              </a:rPr>
              <a:t>с ОВЗ, </a:t>
            </a:r>
            <a:r>
              <a:rPr b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чтобы предупредить длительное нахождение на свежем воздухе без движений, несущее высокие риски для здоровья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1"/>
          <p:cNvSpPr/>
          <p:nvPr/>
        </p:nvSpPr>
        <p:spPr>
          <a:xfrm>
            <a:off x="357120" y="500040"/>
            <a:ext cx="8358120" cy="61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ИНДИВИДУАЛЬНАЯ РАБОТА НА ПРОГУЛК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целью обеспечения оптимальных условий для гармоничного возрастного развития во время прогулки воспитатель проводит непродолжительные индивидуальную работу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образовательным областям ФГОС ДО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8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навательном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8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чевому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8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циально-коммуникативному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8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ическом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8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удожественно-эстетическому развитию детей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дивидуальная работа с воспитанниками отражается в индивидуальном плане, она может включать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седы, игры с различными предметами, разучивание скороговорок, выполнение упражнений для развития ловкости, внимательности, равновесия и др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риалы и оборудование, необходимые для ведения индивидуально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дагогической работы, воспитатель готовит заблаговременно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" name="Group 1"/>
          <p:cNvGrpSpPr/>
          <p:nvPr/>
        </p:nvGrpSpPr>
        <p:grpSpPr>
          <a:xfrm>
            <a:off x="438120" y="255600"/>
            <a:ext cx="8259840" cy="1127160"/>
            <a:chOff x="438120" y="255600"/>
            <a:chExt cx="8259840" cy="1127160"/>
          </a:xfrm>
        </p:grpSpPr>
        <p:pic>
          <p:nvPicPr>
            <p:cNvPr id="148" name="Picture 2" descr=""/>
            <p:cNvPicPr/>
            <p:nvPr/>
          </p:nvPicPr>
          <p:blipFill>
            <a:blip r:embed="rId2"/>
            <a:stretch/>
          </p:blipFill>
          <p:spPr>
            <a:xfrm>
              <a:off x="438120" y="255600"/>
              <a:ext cx="8259840" cy="112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Text Box 3"/>
            <p:cNvSpPr/>
            <p:nvPr/>
          </p:nvSpPr>
          <p:spPr>
            <a:xfrm>
              <a:off x="500040" y="357120"/>
              <a:ext cx="81424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2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САМОСТОЯТЕЛЬНАЯ</a:t>
              </a:r>
              <a:r>
                <a:rPr b="1" lang="ru-RU" sz="2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1" lang="ru-RU" sz="2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ДВИГАТЕЛЬНАЯ АКТИВН</a:t>
              </a:r>
              <a:r>
                <a:rPr b="1" lang="ru-RU" sz="28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ОСТЬ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0" name="Rectangle 4"/>
          <p:cNvSpPr/>
          <p:nvPr/>
        </p:nvSpPr>
        <p:spPr>
          <a:xfrm>
            <a:off x="214200" y="1285920"/>
            <a:ext cx="8715600" cy="4972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57320">
              <a:lnSpc>
                <a:spcPct val="100000"/>
              </a:lnSpc>
              <a:buClr>
                <a:srgbClr val="e46c0a"/>
              </a:buClr>
              <a:buFont typeface="Wingdings" charset="2"/>
              <a:buChar char=""/>
              <a:tabLst>
                <a:tab algn="l" pos="177840"/>
                <a:tab algn="l" pos="1092240"/>
                <a:tab algn="l" pos="2006640"/>
                <a:tab algn="l" pos="2921040"/>
                <a:tab algn="l" pos="3835440"/>
                <a:tab algn="l" pos="4749840"/>
                <a:tab algn="l" pos="5664240"/>
                <a:tab algn="l" pos="6578640"/>
                <a:tab algn="l" pos="7493040"/>
                <a:tab algn="l" pos="8407440"/>
                <a:tab algn="l" pos="9321840"/>
                <a:tab algn="l" pos="1023624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16165d"/>
                </a:solidFill>
                <a:latin typeface="Times New Roman"/>
                <a:ea typeface="Times New Roman"/>
              </a:rPr>
              <a:t>Характер и продолжительность зависят от индивидуальных потребностей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r>
              <a:rPr b="1" lang="ru-RU" sz="2000" spc="-1" strike="noStrike">
                <a:solidFill>
                  <a:srgbClr val="16165d"/>
                </a:solidFill>
                <a:latin typeface="Times New Roman"/>
                <a:ea typeface="Times New Roman"/>
              </a:rPr>
              <a:t>интересов детей, развивающей среды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77840" indent="-157320">
              <a:lnSpc>
                <a:spcPct val="100000"/>
              </a:lnSpc>
              <a:buClr>
                <a:srgbClr val="e46c0a"/>
              </a:buClr>
              <a:buFont typeface="Wingdings" charset="2"/>
              <a:buChar char=""/>
              <a:tabLst>
                <a:tab algn="l" pos="177840"/>
                <a:tab algn="l" pos="1092240"/>
                <a:tab algn="l" pos="2006640"/>
                <a:tab algn="l" pos="2921040"/>
                <a:tab algn="l" pos="3835440"/>
                <a:tab algn="l" pos="4749840"/>
                <a:tab algn="l" pos="5664240"/>
                <a:tab algn="l" pos="6578640"/>
                <a:tab algn="l" pos="7493040"/>
                <a:tab algn="l" pos="8407440"/>
                <a:tab algn="l" pos="9321840"/>
                <a:tab algn="l" pos="1023624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дивидуальные задания (в соответствие с календарным планированием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77840" indent="-157320">
              <a:lnSpc>
                <a:spcPct val="100000"/>
              </a:lnSpc>
              <a:buClr>
                <a:srgbClr val="e46c0a"/>
              </a:buClr>
              <a:buFont typeface="Wingdings" charset="2"/>
              <a:buChar char=""/>
              <a:tabLst>
                <a:tab algn="l" pos="177840"/>
                <a:tab algn="l" pos="1092240"/>
                <a:tab algn="l" pos="2006640"/>
                <a:tab algn="l" pos="2921040"/>
                <a:tab algn="l" pos="3835440"/>
                <a:tab algn="l" pos="4749840"/>
                <a:tab algn="l" pos="5664240"/>
                <a:tab algn="l" pos="6578640"/>
                <a:tab algn="l" pos="7493040"/>
                <a:tab algn="l" pos="8407440"/>
                <a:tab algn="l" pos="9321840"/>
                <a:tab algn="l" pos="1023624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зависимости от погодных условий двигательная деятельность детей на воздухе может быть различной интенсивности, чтобы дети не переохлаждались или не перегревались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77840" indent="-157320">
              <a:lnSpc>
                <a:spcPct val="100000"/>
              </a:lnSpc>
              <a:buClr>
                <a:srgbClr val="e46c0a"/>
              </a:buClr>
              <a:buFont typeface="Wingdings" charset="2"/>
              <a:buChar char=""/>
              <a:tabLst>
                <a:tab algn="l" pos="177840"/>
                <a:tab algn="l" pos="1092240"/>
                <a:tab algn="l" pos="2006640"/>
                <a:tab algn="l" pos="2921040"/>
                <a:tab algn="l" pos="3835440"/>
                <a:tab algn="l" pos="4749840"/>
                <a:tab algn="l" pos="5664240"/>
                <a:tab algn="l" pos="6578640"/>
                <a:tab algn="l" pos="7493040"/>
                <a:tab algn="l" pos="8407440"/>
                <a:tab algn="l" pos="9321840"/>
                <a:tab algn="l" pos="1023624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ю двигательной активности  воспитатель продумывает перед выходом на прогулку, ориентируясь на конкретные метеоусловия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77840" indent="-157320">
              <a:lnSpc>
                <a:spcPct val="100000"/>
              </a:lnSpc>
              <a:buClr>
                <a:srgbClr val="e46c0a"/>
              </a:buClr>
              <a:buFont typeface="Wingdings" charset="2"/>
              <a:buChar char=""/>
              <a:tabLst>
                <a:tab algn="l" pos="177840"/>
                <a:tab algn="l" pos="1092240"/>
                <a:tab algn="l" pos="2006640"/>
                <a:tab algn="l" pos="2921040"/>
                <a:tab algn="l" pos="3835440"/>
                <a:tab algn="l" pos="4749840"/>
                <a:tab algn="l" pos="5664240"/>
                <a:tab algn="l" pos="6578640"/>
                <a:tab algn="l" pos="7493040"/>
                <a:tab algn="l" pos="8407440"/>
                <a:tab algn="l" pos="9321840"/>
                <a:tab algn="l" pos="1023624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допускается длительное нахождение детей на прогулке без движений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77840" indent="-157320">
              <a:lnSpc>
                <a:spcPct val="100000"/>
              </a:lnSpc>
              <a:buClr>
                <a:srgbClr val="e46c0a"/>
              </a:buClr>
              <a:buFont typeface="Wingdings" charset="2"/>
              <a:buChar char=""/>
              <a:tabLst>
                <a:tab algn="l" pos="177840"/>
                <a:tab algn="l" pos="1092240"/>
                <a:tab algn="l" pos="2006640"/>
                <a:tab algn="l" pos="2921040"/>
                <a:tab algn="l" pos="3835440"/>
                <a:tab algn="l" pos="4749840"/>
                <a:tab algn="l" pos="5664240"/>
                <a:tab algn="l" pos="6578640"/>
                <a:tab algn="l" pos="7493040"/>
                <a:tab algn="l" pos="8407440"/>
                <a:tab algn="l" pos="9321840"/>
                <a:tab algn="l" pos="1023624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ого внимания требуют дети со сниженной подвижностью, малоинициативные, которых следует вовлекать в подвижные игр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77840" indent="-157320">
              <a:lnSpc>
                <a:spcPct val="100000"/>
              </a:lnSpc>
              <a:buClr>
                <a:srgbClr val="e46c0a"/>
              </a:buClr>
              <a:buFont typeface="Wingdings" charset="2"/>
              <a:buChar char=""/>
              <a:tabLst>
                <a:tab algn="l" pos="177840"/>
                <a:tab algn="l" pos="1092240"/>
                <a:tab algn="l" pos="2006640"/>
                <a:tab algn="l" pos="2921040"/>
                <a:tab algn="l" pos="3835440"/>
                <a:tab algn="l" pos="4749840"/>
                <a:tab algn="l" pos="5664240"/>
                <a:tab algn="l" pos="6578640"/>
                <a:tab algn="l" pos="7493040"/>
                <a:tab algn="l" pos="8407440"/>
                <a:tab algn="l" pos="9321840"/>
                <a:tab algn="l" pos="1023624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ы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высоким уровнем интенсивности движений </a:t>
            </a:r>
            <a:r>
              <a:rPr b="1" lang="ru-RU" sz="2000" spc="-1" strike="noStrike">
                <a:solidFill>
                  <a:srgbClr val="262699"/>
                </a:solidFill>
                <a:latin typeface="Times New Roman"/>
                <a:ea typeface="Times New Roman"/>
              </a:rPr>
              <a:t>не следует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одить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онце утренней прогулки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д уходом с участка, так как дети в этом случае становятся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возбуждённым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что отрицательно сказывается на характере дневного сна, увеличивает длительность периода засыпания, может быть причиной снижения аппетит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"/>
          <p:cNvSpPr/>
          <p:nvPr/>
        </p:nvSpPr>
        <p:spPr>
          <a:xfrm>
            <a:off x="285840" y="428760"/>
            <a:ext cx="8643960" cy="63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зависимости от целей и задач прогулки воспитатель готовит необходимый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носной материал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пособия для различных видов детской деятельности, соответствующей санитарно-гигиеническим требования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оспитатель должен руководить самостоятельной деятельностью детей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еспечить им полную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безопасность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учить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использовать пособия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оответствии с их предназначением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существлять постоянный контроль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еятельности детей на протяжении всей прогул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2"/>
          <p:cNvSpPr/>
          <p:nvPr/>
        </p:nvSpPr>
        <p:spPr>
          <a:xfrm>
            <a:off x="357120" y="500040"/>
            <a:ext cx="8286840" cy="497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иды прогулок в детском сад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По месту проведени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666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территории участка детского сада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666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пределами территории детского сад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содержанию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666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адиционна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666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атическа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666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ева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666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скурсия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666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ход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"/>
          <p:cNvSpPr/>
          <p:nvPr/>
        </p:nvSpPr>
        <p:spPr>
          <a:xfrm>
            <a:off x="357120" y="357120"/>
            <a:ext cx="8358120" cy="58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ФГОС ДО И ВИДЫ ПРОГУЛО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имо прогулочной активности, организуемой с использованием устоявшихся структурных компонентов, активному всестороннему развитию воспитанников по ФГОС.ДО способствует проведение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атических прогулок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которые могут быть продолжением выбранного инфоповода дня, например, праздничного или памятного события, или выстраиваться по принципу доминирования отдельного вида детской деятельности — игровой, исследовательской, проектной. Прогулок-походов (проводятся не чаще 1-2 раз в год, предусматривают обязательный выход за территорию на расстояние не более двух километров)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лекательных прогулок,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рганизуемых со сказочным персонажем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улок-событий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ртивных прогулок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удовых акций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улок- квестов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условиях важности сохранения высокого познавательного интереса у поколения малышей, растущих в стремительно меняющемся мире, воспитатель вправе активно экспериментировать с формами прогулочной деятельности, сохраняя обязательные структурные компоненты данной структурной единицы режима дня — организованную активность дошкольников под руководством педагога, взаимодействие малышей без вмешательства (но под контролем) взрослого, самозанятость ребенка)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1"/>
          <p:cNvGrpSpPr/>
          <p:nvPr/>
        </p:nvGrpSpPr>
        <p:grpSpPr>
          <a:xfrm>
            <a:off x="142920" y="73080"/>
            <a:ext cx="8737200" cy="968400"/>
            <a:chOff x="142920" y="73080"/>
            <a:chExt cx="8737200" cy="968400"/>
          </a:xfrm>
        </p:grpSpPr>
        <p:pic>
          <p:nvPicPr>
            <p:cNvPr id="55" name="Picture 2" descr=""/>
            <p:cNvPicPr/>
            <p:nvPr/>
          </p:nvPicPr>
          <p:blipFill>
            <a:blip r:embed="rId1"/>
            <a:stretch/>
          </p:blipFill>
          <p:spPr>
            <a:xfrm>
              <a:off x="142920" y="73080"/>
              <a:ext cx="8737200" cy="96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Text Box 3"/>
            <p:cNvSpPr/>
            <p:nvPr/>
          </p:nvSpPr>
          <p:spPr>
            <a:xfrm>
              <a:off x="207000" y="214200"/>
              <a:ext cx="8620920" cy="71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ЦЕЛИ И ЗАДАЧИ ПРОГУЛКИ В ДОШКОЛЬНОМ УЧРЕЖДЕНИИ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Rectangle 4"/>
          <p:cNvSpPr/>
          <p:nvPr/>
        </p:nvSpPr>
        <p:spPr>
          <a:xfrm>
            <a:off x="214200" y="949320"/>
            <a:ext cx="8643960" cy="5733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ОГУЛКА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очень важный режимный момент жизнедеятельности детей в ДО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ЦЕЛИ ПРОГУЛКИ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ru-RU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укрепление здоровья, физическое развитие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профилактика утомления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ru-RU" sz="20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развитие детей по образовательным областям ФГОС ДО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ru-RU" sz="2000" spc="-1" strike="noStrike">
                <a:solidFill>
                  <a:srgbClr val="381850"/>
                </a:solidFill>
                <a:latin typeface="Times New Roman"/>
                <a:ea typeface="Times New Roman"/>
              </a:rPr>
              <a:t>восстановление сниженных в процессе деятельности  функциональных   ресурсов организм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ЗАДАЧИ ПРОГУЛКИ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оказывать закаливающее воздействие на организм в естественных условиях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способствовать повышению уровня физической подготовленности детей дошкольного возраста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оптимизировать двигательную активность детей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способствовать  познавательному, речевому, художественно-эстетическому, социально-эмоциональному и личностному развитию дете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1"/>
          <p:cNvSpPr/>
          <p:nvPr/>
        </p:nvSpPr>
        <p:spPr>
          <a:xfrm>
            <a:off x="357120" y="357120"/>
            <a:ext cx="8358120" cy="67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ЦЕЛЕВЫЕ ПРОГУЛ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менее важный момент — сохранить оптимальное соотношение между игровой и остальными видами деятельности,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виду того, что первая как основной способ знакомства малышей с миром должна оставаться приоритетно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ое внимание должно быть уделено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рганизации целевых прогулок в ДОУ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ФГОС, подчиненных, как заложено в названии, единой цели — изучению комплекса предметов или явлений (например, знакомство с осенним лесом)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оведение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целевых прогулок 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 младшими школьниками осуществляется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аз в неделю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воспитанниками постарше —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важды в неделю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 время прогулочной деятельности, предусматривающей выход за территорию детского сада, у педагога появляется возможность акцентировать внимание младших дошколят на отдельных предметах, объектах и их роли в общественной жизни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транспорт, школа, магазин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ознакомить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правилами культурного и безопасного поведения воспитанников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таршей и подготовительной групп. Дополнительным плюсом целевых прогулок является развитие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носливости малышей, привитие навыков движения в колонне с соблюдением правил, установленных воспитателем, овладение другими значимыми практическими умениями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1"/>
          <p:cNvSpPr/>
          <p:nvPr/>
        </p:nvSpPr>
        <p:spPr>
          <a:xfrm>
            <a:off x="395280" y="1052640"/>
            <a:ext cx="8424720" cy="54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0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Эффективность прогулок</a:t>
            </a:r>
            <a:r>
              <a:rPr b="0" i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дошкольном учреждении во многом </a:t>
            </a:r>
            <a:r>
              <a:rPr b="0" i="1" lang="ru-RU" sz="20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определяется пониманием их значимости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,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оторое состоит в том, чтобы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довлетворить естественную биологическую потребность ребенка в движении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еспечить развитие и тренировку всех систем и функций организма ребенка через специально организованную для данного возраста двигательную активность и физические нагрузки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формировать навыки в разных видах движений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собствовать развитию двигательных качеств и способностей ребенка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имулировать функциональные возможности каждого ребенка и развивать детскую самостоятельность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ть оптимальные условия для разностороннего развития детей: активизации мыслительной деятельности, поиска адекватных форм поведения, формирования положительных эмоциональных и нравственно-волевых проявлений дете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WordArt 2"/>
          <p:cNvSpPr txBox="1"/>
          <p:nvPr/>
        </p:nvSpPr>
        <p:spPr>
          <a:xfrm>
            <a:off x="2000160" y="714240"/>
            <a:ext cx="5667480" cy="33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Times New Roman"/>
              </a:rPr>
              <a:t>Эффективность прогулок</a:t>
            </a:r>
            <a:endParaRPr b="0" lang="en-US" sz="1800" spc="1" strike="noStrike">
              <a:ln cap="sq"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001080" cy="671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"/>
          <p:cNvSpPr/>
          <p:nvPr/>
        </p:nvSpPr>
        <p:spPr>
          <a:xfrm>
            <a:off x="500400" y="312840"/>
            <a:ext cx="78998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ипичные недостатки  в организации прогулк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Text Box 3"/>
          <p:cNvSpPr/>
          <p:nvPr/>
        </p:nvSpPr>
        <p:spPr>
          <a:xfrm>
            <a:off x="214200" y="1357200"/>
            <a:ext cx="8643960" cy="4362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сутствие плана прогулок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уществление присмотра за детьми, вместо занятий и разностороннего развития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достаток смены видов деятельности детей во время прогулки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однообразие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сутствие личностно – ориентированного подхода к детям с учетом особенности их развития и состояния здоровья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говоры взрослых между собой, присутствие посторонних лиц на территории дошкольного учреждения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285840" y="404640"/>
            <a:ext cx="8102520" cy="626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цесс воспитания и образования детей непрерывен. Большие потенциальные возможности для всестороннего гармонического развития личности ребенка заложены в процессе воспитательно-образовательной работы с детьми в условиях прогулки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есь как нигде малышам </a:t>
            </a:r>
            <a:r>
              <a:rPr b="1" lang="ru-RU" sz="2000" spc="-1" strike="noStrike">
                <a:solidFill>
                  <a:srgbClr val="262699"/>
                </a:solidFill>
                <a:latin typeface="Times New Roman"/>
                <a:ea typeface="Times New Roman"/>
              </a:rPr>
              <a:t>предоставляются уникальные условия для всестороннего развити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в полной мере удовлетворяются его потребности в активных движениях, в самостоятельных действиях при ознакомлении с окружающим миром, в новых ярких впечатлениях, в свободной игре, как с природным материалом, так и с игрушкам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ако в силу возрастных особенностей малыши сами не могут использовать все время прогулки с максимальной пользой для своего развития. Взрослый должен педагогически правильно руководить их деятельностью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1"/>
          <p:cNvSpPr/>
          <p:nvPr/>
        </p:nvSpPr>
        <p:spPr>
          <a:xfrm>
            <a:off x="457200" y="274680"/>
            <a:ext cx="8229600" cy="17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3200"/>
            </a:br>
            <a:r>
              <a:rPr b="1" i="1" lang="ru-RU" sz="1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СПАСИБО ЗА ВНИМАНИЕ!</a:t>
            </a:r>
            <a:br>
              <a:rPr sz="1800"/>
            </a:br>
            <a:br>
              <a:rPr sz="1800"/>
            </a:br>
            <a:r>
              <a:rPr b="1" i="1" lang="ru-RU" sz="1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ХОРОШЕЙ ПРОГУЛКИ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Picture 2" descr=""/>
          <p:cNvPicPr/>
          <p:nvPr/>
        </p:nvPicPr>
        <p:blipFill>
          <a:blip r:embed="rId1"/>
          <a:stretch/>
        </p:blipFill>
        <p:spPr>
          <a:xfrm>
            <a:off x="3286080" y="2714760"/>
            <a:ext cx="250020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" descr=""/>
          <p:cNvPicPr/>
          <p:nvPr/>
        </p:nvPicPr>
        <p:blipFill>
          <a:blip r:embed="rId2"/>
          <a:stretch/>
        </p:blipFill>
        <p:spPr>
          <a:xfrm>
            <a:off x="3714840" y="2143080"/>
            <a:ext cx="2857320" cy="114300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4"/>
          <p:cNvSpPr/>
          <p:nvPr/>
        </p:nvSpPr>
        <p:spPr>
          <a:xfrm>
            <a:off x="785880" y="5673240"/>
            <a:ext cx="6858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«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 утверждении порядка организации и осуществления образовательной деятельности по основным общеобразовательным программам -образовательным программам дошкольного образования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»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" name="Picture 2" descr="C:\Users\Марина\Desktop\scrn_big_1.jpg"/>
          <p:cNvPicPr/>
          <p:nvPr/>
        </p:nvPicPr>
        <p:blipFill>
          <a:blip r:embed="rId3"/>
          <a:stretch/>
        </p:blipFill>
        <p:spPr>
          <a:xfrm>
            <a:off x="857160" y="2143080"/>
            <a:ext cx="2857680" cy="114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1"/>
          <p:cNvSpPr/>
          <p:nvPr/>
        </p:nvSpPr>
        <p:spPr>
          <a:xfrm>
            <a:off x="357120" y="500040"/>
            <a:ext cx="8358120" cy="61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БЕЗОПАСНОСТЬ НА ПРОГУЛК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Чтобы обеспечить безопасность воспитанников во время пребывания на свежем воздухе, непосредственно перед проведением прогулки в детском саду по ФГОС ответственный </a:t>
            </a:r>
            <a:r>
              <a:rPr b="1" lang="ru-RU" sz="2000" spc="-1" strike="noStrike" u="sng">
                <a:solidFill>
                  <a:srgbClr val="2d2db9"/>
                </a:solidFill>
                <a:uFillTx/>
                <a:latin typeface="Times New Roman"/>
                <a:ea typeface="Times New Roman"/>
              </a:rPr>
              <a:t>педагог осматривает групповой участок на предмет наличия опасных предметов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ценивает степень опасности предметов и объектов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с которыми взаимодействуют малыши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нахождении дошколятами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трых, колющих предметов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всего, что несет потенциальную опасность здоровью и жизни, необходимо в срочном порядке провести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влечение и утилизацию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Во время прогулки, чтобы избежать возникновения рисковых ситуаций, рекомендуется </a:t>
            </a: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бучать детей правилам безопасного поведения </a:t>
            </a: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 природных условиях, а также принципам взаимодействия с незнакомыми предметами</a:t>
            </a: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В ходе прогулочной активности дошкольников воспитатель обязан </a:t>
            </a:r>
            <a:r>
              <a:rPr b="1" lang="ru-RU" sz="2000" spc="-1" strike="noStrike" u="sng">
                <a:solidFill>
                  <a:srgbClr val="2d2db9"/>
                </a:solidFill>
                <a:uFillTx/>
                <a:latin typeface="Times New Roman"/>
                <a:ea typeface="Times New Roman"/>
              </a:rPr>
              <a:t>отслеживать: погодные условия и состояние воздуха.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лучае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никновения предпосылок приближения ливня, появления запаха сторонних газов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ледует немедленно организовать вывод детей с участка в групповое помещение до выявления обстоятельств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1"/>
          <p:cNvSpPr/>
          <p:nvPr/>
        </p:nvSpPr>
        <p:spPr>
          <a:xfrm>
            <a:off x="357120" y="500040"/>
            <a:ext cx="8358120" cy="61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БЕЗОПАСНОСТЬ НА ПРОГУЛКЕ</a:t>
            </a:r>
            <a:r>
              <a:rPr b="1" lang="ru-RU" sz="16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 u="sng">
                <a:solidFill>
                  <a:srgbClr val="2d2db9"/>
                </a:solidFill>
                <a:uFillTx/>
                <a:latin typeface="Times New Roman"/>
                <a:ea typeface="Times New Roman"/>
              </a:rPr>
              <a:t>3.Воспитатель во время прогулки контролирует положение дошкольников</a:t>
            </a:r>
            <a:r>
              <a:rPr b="0" lang="ru-RU" sz="2000" spc="-1" strike="noStrike" u="sng">
                <a:solidFill>
                  <a:srgbClr val="2d2db9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их деятельности, особенно при использовании игровой инвентаря и оборудования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Запрещается воспитателю покидать пределы участка и </a:t>
            </a:r>
            <a:r>
              <a:rPr b="1" lang="ru-RU" sz="2000" spc="-1" strike="noStrike" u="sng">
                <a:solidFill>
                  <a:srgbClr val="2d2db9"/>
                </a:solidFill>
                <a:uFillTx/>
                <a:latin typeface="Times New Roman"/>
                <a:ea typeface="Times New Roman"/>
              </a:rPr>
              <a:t>оставлять воспитанников без присмотр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5.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иодически проводит с детьми </a:t>
            </a:r>
            <a:r>
              <a:rPr b="1" lang="ru-RU" sz="2000" spc="-1" strike="noStrike" u="sng">
                <a:solidFill>
                  <a:srgbClr val="2d2db9"/>
                </a:solidFill>
                <a:uFillTx/>
                <a:latin typeface="Times New Roman"/>
                <a:ea typeface="Times New Roman"/>
              </a:rPr>
              <a:t>беседы о безопасном поведении на прогулке, об опасных ситуациях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лучае возникновения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чрезвычайной ситуации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амовольный уход ребенка,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авматизм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необходимо привлечь к присмотру за детьми другого сотрудника ДОУ</a:t>
            </a:r>
            <a:r>
              <a:rPr b="0" lang="ru-RU" sz="2000" spc="-1" strike="noStrike" u="sng">
                <a:solidFill>
                  <a:srgbClr val="2d2db9"/>
                </a:solidFill>
                <a:uFillTx/>
                <a:latin typeface="Times New Roman"/>
                <a:ea typeface="Times New Roman"/>
              </a:rPr>
              <a:t>, </a:t>
            </a:r>
            <a:r>
              <a:rPr b="1" lang="ru-RU" sz="2000" spc="-1" strike="noStrike" u="sng">
                <a:solidFill>
                  <a:srgbClr val="2d2db9"/>
                </a:solidFill>
                <a:uFillTx/>
                <a:latin typeface="Times New Roman"/>
                <a:ea typeface="Times New Roman"/>
              </a:rPr>
              <a:t>срочно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 u="sng">
                <a:solidFill>
                  <a:srgbClr val="2d2db9"/>
                </a:solidFill>
                <a:uFillTx/>
                <a:latin typeface="Times New Roman"/>
                <a:ea typeface="Times New Roman"/>
              </a:rPr>
              <a:t>-уведомить администрацию и родителей о случившемся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 u="sng">
                <a:solidFill>
                  <a:srgbClr val="2d2db9"/>
                </a:solidFill>
                <a:uFillTx/>
                <a:latin typeface="Times New Roman"/>
                <a:ea typeface="Times New Roman"/>
              </a:rPr>
              <a:t>-обратиться за помощью </a:t>
            </a:r>
            <a:r>
              <a:rPr b="0" lang="ru-RU" sz="2000" spc="-1" strike="noStrike">
                <a:solidFill>
                  <a:srgbClr val="262699"/>
                </a:solidFill>
                <a:latin typeface="Times New Roman"/>
                <a:ea typeface="Times New Roman"/>
              </a:rPr>
              <a:t>к медицинской сестре (врачу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, </a:t>
            </a:r>
            <a:r>
              <a:rPr b="1" lang="ru-RU" sz="2000" spc="-1" strike="noStrike" u="sng">
                <a:solidFill>
                  <a:srgbClr val="2d2db9"/>
                </a:solidFill>
                <a:uFillTx/>
                <a:latin typeface="Times New Roman"/>
                <a:ea typeface="Times New Roman"/>
              </a:rPr>
              <a:t>при необходимости,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овать оперативную доставку пострадавшего в травмпункт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857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1" descr=""/>
          <p:cNvPicPr/>
          <p:nvPr/>
        </p:nvPicPr>
        <p:blipFill>
          <a:blip r:embed="rId1"/>
          <a:stretch/>
        </p:blipFill>
        <p:spPr>
          <a:xfrm>
            <a:off x="0" y="540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3"/>
          <p:cNvSpPr/>
          <p:nvPr/>
        </p:nvSpPr>
        <p:spPr>
          <a:xfrm>
            <a:off x="500040" y="333360"/>
            <a:ext cx="79297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ичины и профилактика травматизм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Text Box 4"/>
          <p:cNvSpPr/>
          <p:nvPr/>
        </p:nvSpPr>
        <p:spPr>
          <a:xfrm>
            <a:off x="468360" y="830160"/>
            <a:ext cx="7991280" cy="558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ушение дисциплины (шалости, неосторожность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сутствие контроля  со стороны воспитател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исправность игровых и спортивных сооружений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охой уход за территорией и зелеными насаждениям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достаточное освещени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" name="Picture 2" descr=""/>
          <p:cNvPicPr/>
          <p:nvPr/>
        </p:nvPicPr>
        <p:blipFill>
          <a:blip r:embed="rId2"/>
          <a:stretch/>
        </p:blipFill>
        <p:spPr>
          <a:xfrm>
            <a:off x="6286680" y="5072040"/>
            <a:ext cx="1714320" cy="121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1" descr=""/>
          <p:cNvPicPr/>
          <p:nvPr/>
        </p:nvPicPr>
        <p:blipFill>
          <a:blip r:embed="rId1"/>
          <a:stretch/>
        </p:blipFill>
        <p:spPr>
          <a:xfrm>
            <a:off x="-4680" y="-122400"/>
            <a:ext cx="9204120" cy="710280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2"/>
          <p:cNvSpPr/>
          <p:nvPr/>
        </p:nvSpPr>
        <p:spPr>
          <a:xfrm>
            <a:off x="3014640" y="985680"/>
            <a:ext cx="478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Подготовка к прогулк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Rectangle 3"/>
          <p:cNvSpPr/>
          <p:nvPr/>
        </p:nvSpPr>
        <p:spPr>
          <a:xfrm>
            <a:off x="216000" y="1530360"/>
            <a:ext cx="2714400" cy="2071800"/>
          </a:xfrm>
          <a:prstGeom prst="rect">
            <a:avLst/>
          </a:prstGeom>
          <a:solidFill>
            <a:srgbClr val="ffffff"/>
          </a:solidFill>
          <a:ln cap="sq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оспитатель выводит в раздевалку для одевания 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ервую подгруппу детей, в которую включает медленно одевающихся детей, детей с низкими навыками самообслуживани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Rectangle 4"/>
          <p:cNvSpPr/>
          <p:nvPr/>
        </p:nvSpPr>
        <p:spPr>
          <a:xfrm>
            <a:off x="3271680" y="2006640"/>
            <a:ext cx="2433960" cy="2066760"/>
          </a:xfrm>
          <a:prstGeom prst="rect">
            <a:avLst/>
          </a:prstGeom>
          <a:solidFill>
            <a:srgbClr val="ffffff"/>
          </a:solidFill>
          <a:ln cap="sq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омощник воспитателя  проводит гигиенические процедуры со второй подгруппой и выводит детей в приемную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6072120" y="2500200"/>
            <a:ext cx="2786040" cy="2000520"/>
          </a:xfrm>
          <a:prstGeom prst="rect">
            <a:avLst/>
          </a:prstGeom>
          <a:solidFill>
            <a:srgbClr val="ffffff"/>
          </a:solidFill>
          <a:ln cap="sq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оспитатель выходит с первой подгруппой детей на прогулку, а  помощник  воспитателя  заканчивает одевание второй подгруппы и провожает детей на участок к воспитателю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Rectangle 6"/>
          <p:cNvSpPr/>
          <p:nvPr/>
        </p:nvSpPr>
        <p:spPr>
          <a:xfrm>
            <a:off x="684360" y="4857840"/>
            <a:ext cx="8173800" cy="1643040"/>
          </a:xfrm>
          <a:prstGeom prst="rect">
            <a:avLst/>
          </a:prstGeom>
          <a:solidFill>
            <a:srgbClr val="ccffcc"/>
          </a:solidFill>
          <a:ln cap="sq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етей с ослабленным здоровьем  рекомендуется одевать и выводить на улицу со второй подгруппой, а заводить  с прогулки с первой подгруппо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AutoShape 7"/>
          <p:cNvSpPr/>
          <p:nvPr/>
        </p:nvSpPr>
        <p:spPr>
          <a:xfrm>
            <a:off x="2919240" y="2897280"/>
            <a:ext cx="357480" cy="285480"/>
          </a:xfrm>
          <a:prstGeom prst="rightArrow">
            <a:avLst>
              <a:gd name="adj1" fmla="val 50000"/>
              <a:gd name="adj2" fmla="val 50088"/>
            </a:avLst>
          </a:prstGeom>
          <a:solidFill>
            <a:srgbClr val="4f81bd"/>
          </a:solidFill>
          <a:ln cap="sq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AutoShape 8"/>
          <p:cNvSpPr/>
          <p:nvPr/>
        </p:nvSpPr>
        <p:spPr>
          <a:xfrm>
            <a:off x="5715000" y="3429000"/>
            <a:ext cx="357120" cy="28584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4f81bd"/>
          </a:solidFill>
          <a:ln cap="sq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9T07:42:37Z</dcterms:created>
  <dc:creator>Дворник О.П.</dc:creator>
  <dc:description/>
  <dc:language>en-US</dc:language>
  <cp:lastModifiedBy>Гость</cp:lastModifiedBy>
  <dcterms:modified xsi:type="dcterms:W3CDTF">2020-04-09T21:36:41Z</dcterms:modified>
  <cp:revision>141</cp:revision>
  <dc:subject>Методическое обеспечение</dc:subject>
  <dc:title>Прогулка в детском саду</dc:title>
</cp:coreProperties>
</file>