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camera.wav" ContentType="audio/x-wav"/>
  <Override PartName="/ppt/media/image22.png" ContentType="image/png"/>
  <Override PartName="/ppt/media/image5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applause.wav" ContentType="audio/x-wav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2C7-BB90-496B-99E2-6FE4DEB0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439-B760-43C5-AF97-1C3C3EF7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CA84C-E85B-497F-9641-C9C639B5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23445-6298-42A8-BAC2-7EB1DE9F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1FCCC-CEBA-4B16-BAEC-B248CE9D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927BC-85F0-4264-BEE0-C7AD7749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A4CC6-A957-4BB1-A4C1-94688891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0A7DF-8EB0-4D27-987C-2DF6E97B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76025-3F52-4DE2-A25A-3525AC5F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377B0-17D0-4F63-9FCD-B40E8D03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F1F9B-301D-4A72-B1EB-050B3515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CCB-13A0-47F6-81C6-3200AB52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44B-3BE8-40B3-91EB-68CB4589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641B-8618-41E7-BDE4-DCF663F8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3338-1F28-435E-B603-64AE09B7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B7F9-3D01-4494-903C-6A1E071C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A629-343F-43CA-BD08-F9CE1D30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1954-4CBA-438F-BDF5-3BF9F00A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A5F1-DA8F-427F-82F9-A9798926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B51D-B725-47F6-9A5B-D22F7670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8E0-6BE9-4F93-9429-F8071AA3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6D56-050C-4EDF-A133-F62E3FCD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48DD-4A2D-43FD-B9B8-46422DF4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B6FE-9782-4030-914C-24AC168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770B-47E1-48D3-8CC9-92F973A8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117B-DC53-4D1D-BEA7-984FB026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7E6C-2881-4127-BA1C-F9D6DA57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2D7D-01AC-472F-AD2C-48CAA64B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680C-8DAD-40CC-BA49-834B33EE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F6FD-ACEE-4962-A697-E92FCED9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A8C9-A188-4A77-91AC-1E7D6123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3D6-7D62-4C09-BD6A-F5C90341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4AEE-F249-4A51-966B-61284BF6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4FE3-790D-40B9-81BC-D726CD6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2AB57-613B-4F34-BE0E-CA52EFA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D619-1D00-4ADA-BB43-5E19889F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46578-4E0F-4D8D-872C-E03148E3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AA09-8F53-4E86-A13C-FC54E329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F1D6-112F-4C50-B01B-698B404C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C632-7C7D-494A-AEE5-97053F8A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C6C3-1415-403A-B532-440CF44E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B43F-F923-4B8C-B895-B97F2E56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2E8-F21B-4B2C-8A84-E89A5FEA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D017B-6EF3-4F80-86C4-F51281A9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5767-5155-4E92-9AE5-9EFA82E9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10D4-9097-4677-8320-BA841614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8B7CD-EA03-4896-84FB-220607CA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A856-9617-4782-843E-D22FB9C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FCC7-5245-4A5B-BB40-EDC54E01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1A350-E483-40DF-B254-4374FEA9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0A8C-EB8D-4625-AFA6-1A37467C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596F-1368-4725-8BCA-75036A77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9F37-EE01-4C4E-93CF-713D94BB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82E-9529-420D-8D55-EBA88C81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879C5-C16C-484D-8097-E00F6B4D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C478-D97E-4B90-BFAA-7419C7BB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A0921-3BEA-4F02-AC4E-29AAC527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33DC-6353-4ADA-AD4C-E9679660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B3C7C-16D9-4510-8EC8-CC2897B4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B82CB-3A92-4ABF-AC97-7176777D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E14B2-0729-410E-A9A8-B1E19F8B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D7F3-6A87-4AD7-8C42-7C6D4B73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F077-BD07-4696-8E77-17CF6580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469B-C748-4BF9-82E0-2B67EE5B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2EC-E224-4002-A8A7-367ED5B7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55476-1539-432C-88E7-FD86518D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FED68-4AF6-4100-A64D-61E7EF83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32B3A-CCC7-4132-B2C0-3769474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3093-F14B-4A70-9587-B2AF0F9E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E5EE9-ECEB-4B63-9CA7-97954018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53218-1FE5-485E-84FB-55AC39A4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DBB16-0CD9-432F-8467-EA2CDC0C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E90BB-FE6C-4E45-9C4E-0DB327BB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0C33A-9246-4CD3-A63E-8173A79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63FE0-CC2E-49BF-8F57-711B3489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DD5-51F7-4C6F-9C95-E808E3C3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0B831-B622-4C35-9E29-D552E303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BACD-A24E-4C5D-9ACB-77B9CCD5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D0D9D-3BB2-41C6-A13C-A79A1ABD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701F2-BFBE-4017-B290-DE337F13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0D588-EF8C-473D-B416-A8A4E580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A69CA-3C29-4BE5-A429-1D3483EE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7B159-1AAF-4D06-945A-666FAB6B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313C1-DA06-471B-87ED-E5586F06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7354-FA71-43FA-BC2D-6964D7ED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996EB-AD95-42C1-8843-65669DAE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977-C0C5-484B-9A3F-0DEACC21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370C-3324-4548-9642-35E85D7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68142-BC9E-4CA1-921B-903E7A21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5CC3-50C7-4DEA-A5C7-2CC9DC33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2D98D-942B-42C3-AE41-25D78327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60DE3-711D-4EC9-98BB-7F75E2EC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FBC44-CC4D-4CE5-980E-FB4ABF6C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56D71-640B-4607-BD76-47A6566A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1C747-A6B4-4ADA-82D9-751446AB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C7455-2527-4B8F-BB5C-CD75D218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2AA24-97A6-4A43-981A-F5D8F860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F32-4E5B-46D2-9CEE-98D6AEBE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E579C-A357-4C81-90E7-3A814BDF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11D0A-EE5C-4A00-AA85-9F240F1E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66D8C-B08A-4EE6-9BF5-B2A981E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E61D2-7347-4DEA-A67E-BAAC2B45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6FA14-A1C0-487B-92D9-5CDDB613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2043C-82E2-4304-B23F-0C4D02E5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902CC-3D4C-43A7-9C35-169C1F3C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B854E-CD32-44F8-B7DB-01D1059E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65A6F-E628-4B20-BB4A-96A36D7F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8CE8B-EE76-40A1-9C4B-397C63E2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898E-EB27-41E4-93B2-93CFA76C44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B2EB-F96C-4895-A509-00EC46C83E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A32E-07D5-4915-8CE3-3B04E94707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2DC8-DF6A-40CC-8728-852D154EB4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F690-8799-42FD-B269-22CF6CD657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F7A8-4F33-4F3B-AA8B-39F5277C96D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3AC0-8606-4B57-BE50-6A1089375F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C7B0-A117-4B5C-B629-C7AFD61D5D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1DBD-D264-4A73-93A2-BFBD359CE2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243160" y="2865600"/>
            <a:ext cx="6431040" cy="344304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3" descr=""/>
          <p:cNvPicPr/>
          <p:nvPr/>
        </p:nvPicPr>
        <p:blipFill>
          <a:blip r:embed="rId2"/>
          <a:stretch/>
        </p:blipFill>
        <p:spPr>
          <a:xfrm>
            <a:off x="1762200" y="901800"/>
            <a:ext cx="46623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142920" y="1367640"/>
            <a:ext cx="8029440" cy="1923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добрый, вежливый, честный, щедрый, сильный, внимательный, заботлив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данный, умеющий хранить секреты, отзывчивый, хорошо учится, любезный, терпеливый, доверчивый, веселый, строгий, общитель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корыстный, трудолюб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826920" y="3933720"/>
            <a:ext cx="788040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сливый, жадный, льстив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гатый, ленивый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адный, ябеда, глупый, вор, каприза, задира, лживый, злой, невеж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5"/>
          <p:cNvSpPr/>
          <p:nvPr/>
        </p:nvSpPr>
        <p:spPr>
          <a:xfrm>
            <a:off x="357120" y="214200"/>
            <a:ext cx="8572680" cy="4287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Какими качествами должен обладать дру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4"/>
          <p:cNvSpPr txBox="1"/>
          <p:nvPr/>
        </p:nvSpPr>
        <p:spPr>
          <a:xfrm>
            <a:off x="2286000" y="142920"/>
            <a:ext cx="56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дразнись, не зазнавайся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WordArt 5"/>
          <p:cNvSpPr txBox="1"/>
          <p:nvPr/>
        </p:nvSpPr>
        <p:spPr>
          <a:xfrm>
            <a:off x="1928880" y="1285920"/>
            <a:ext cx="63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школе всем помочь старайся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WordArt 6"/>
          <p:cNvSpPr txBox="1"/>
          <p:nvPr/>
        </p:nvSpPr>
        <p:spPr>
          <a:xfrm>
            <a:off x="1143000" y="2428920"/>
            <a:ext cx="588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ря не хмурься, будь смелей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9" name="WordArt 7"/>
          <p:cNvSpPr txBox="1"/>
          <p:nvPr/>
        </p:nvSpPr>
        <p:spPr>
          <a:xfrm>
            <a:off x="571680" y="3571920"/>
            <a:ext cx="4819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найдешь себе друзей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2554200" y="3068640"/>
            <a:ext cx="4857840" cy="321480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5" descr=""/>
          <p:cNvPicPr/>
          <p:nvPr/>
        </p:nvPicPr>
        <p:blipFill>
          <a:blip r:embed="rId2"/>
          <a:stretch/>
        </p:blipFill>
        <p:spPr>
          <a:xfrm>
            <a:off x="500040" y="853920"/>
            <a:ext cx="2859120" cy="114624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6" descr=""/>
          <p:cNvPicPr/>
          <p:nvPr/>
        </p:nvPicPr>
        <p:blipFill>
          <a:blip r:embed="rId3"/>
          <a:stretch/>
        </p:blipFill>
        <p:spPr>
          <a:xfrm>
            <a:off x="4138560" y="907920"/>
            <a:ext cx="3841920" cy="92736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4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1785960" y="1071720"/>
            <a:ext cx="5500800" cy="55339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"/>
          <p:cNvSpPr/>
          <p:nvPr/>
        </p:nvSpPr>
        <p:spPr>
          <a:xfrm>
            <a:off x="1869840" y="21420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чему так говоря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Что такое дружба?-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Спросила я у птиц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Это когда  коршун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Летает вместе с </a:t>
            </a: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          синицей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Спросила я у зверя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-Что такое  дружба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Это, когда зайцу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Лисицы бояться не нужно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А после спросила у девочки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858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Дружба – что такое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Это что-то  огромное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Радостное, большо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Это когда  ребята все </a:t>
            </a: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      сразу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Все вместе играют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Это когда мальчишк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4e3b30"/>
                </a:solidFill>
                <a:latin typeface="Comic Sans MS"/>
              </a:rPr>
              <a:t>Девчонок не задирают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Дружить  должны  все  </a:t>
            </a: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    на свете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И звери, и птицы, и </a:t>
            </a: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              дети!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WordArt 7"/>
          <p:cNvSpPr txBox="1"/>
          <p:nvPr/>
        </p:nvSpPr>
        <p:spPr>
          <a:xfrm>
            <a:off x="1908000" y="18900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 что такое дружб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3" descr=""/>
          <p:cNvPicPr/>
          <p:nvPr/>
        </p:nvPicPr>
        <p:blipFill>
          <a:blip r:embed="rId1"/>
          <a:stretch/>
        </p:blipFill>
        <p:spPr>
          <a:xfrm>
            <a:off x="-1822320" y="622440"/>
            <a:ext cx="11191680" cy="596736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4" descr=""/>
          <p:cNvPicPr/>
          <p:nvPr/>
        </p:nvPicPr>
        <p:blipFill>
          <a:blip r:embed="rId2"/>
          <a:stretch/>
        </p:blipFill>
        <p:spPr>
          <a:xfrm>
            <a:off x="1901880" y="-291960"/>
            <a:ext cx="516888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2588400" y="35712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ери послов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"/>
          <p:cNvSpPr/>
          <p:nvPr/>
        </p:nvSpPr>
        <p:spPr>
          <a:xfrm>
            <a:off x="5357880" y="1071720"/>
            <a:ext cx="3500280" cy="571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ам погибай,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4786200" y="1928880"/>
            <a:ext cx="3500640" cy="571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тарый друг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4286160" y="4643280"/>
            <a:ext cx="4572000" cy="5716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Дерево сильно корнями,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2357280" y="3571920"/>
            <a:ext cx="4786560" cy="571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Дружба крепка не лестью,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2714760" y="5572080"/>
            <a:ext cx="3500280" cy="5716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Друга на деньги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7"/>
          <p:cNvSpPr/>
          <p:nvPr/>
        </p:nvSpPr>
        <p:spPr>
          <a:xfrm>
            <a:off x="785880" y="1143000"/>
            <a:ext cx="3500280" cy="5716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ет друга – ищи,  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8"/>
          <p:cNvSpPr/>
          <p:nvPr/>
        </p:nvSpPr>
        <p:spPr>
          <a:xfrm>
            <a:off x="428760" y="1928880"/>
            <a:ext cx="4143240" cy="571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Дружба – что стекло: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9"/>
          <p:cNvSpPr/>
          <p:nvPr/>
        </p:nvSpPr>
        <p:spPr>
          <a:xfrm>
            <a:off x="428760" y="2786040"/>
            <a:ext cx="3929040" cy="5716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е имей 100 рублей,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0"/>
          <p:cNvSpPr/>
          <p:nvPr/>
        </p:nvSpPr>
        <p:spPr>
          <a:xfrm>
            <a:off x="5000760" y="2714760"/>
            <a:ext cx="3500280" cy="571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Друг познается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1"/>
          <p:cNvSpPr/>
          <p:nvPr/>
        </p:nvSpPr>
        <p:spPr>
          <a:xfrm>
            <a:off x="357120" y="4643280"/>
            <a:ext cx="3500640" cy="5716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Дружба не гриб -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2443680" y="357120"/>
            <a:ext cx="36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то с кем друж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571680" y="871200"/>
            <a:ext cx="664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1. Забавные бурундучки Чип и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2. Добрая Белоснежка и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3. Забавный Винни Пух и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4. Добрый Малыш и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5. Доверчивый Буратино и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6. Зеленый крокодил Гена и .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4357800" y="1714680"/>
            <a:ext cx="1876320" cy="1452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2214360" cy="1663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3"/>
          <a:stretch/>
        </p:blipFill>
        <p:spPr>
          <a:xfrm>
            <a:off x="6286680" y="214200"/>
            <a:ext cx="2090520" cy="1571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"/>
          <p:cNvPicPr/>
          <p:nvPr/>
        </p:nvPicPr>
        <p:blipFill>
          <a:blip r:embed="rId4"/>
          <a:stretch/>
        </p:blipFill>
        <p:spPr>
          <a:xfrm>
            <a:off x="500040" y="2357280"/>
            <a:ext cx="1285920" cy="1754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5"/>
          <a:stretch/>
        </p:blipFill>
        <p:spPr>
          <a:xfrm>
            <a:off x="2571840" y="428760"/>
            <a:ext cx="1643040" cy="2239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6"/>
          <a:stretch/>
        </p:blipFill>
        <p:spPr>
          <a:xfrm>
            <a:off x="6858000" y="192888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"/>
          <p:cNvPicPr/>
          <p:nvPr/>
        </p:nvPicPr>
        <p:blipFill>
          <a:blip r:embed="rId7"/>
          <a:stretch/>
        </p:blipFill>
        <p:spPr>
          <a:xfrm>
            <a:off x="571680" y="4500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"/>
          <p:cNvPicPr/>
          <p:nvPr/>
        </p:nvPicPr>
        <p:blipFill>
          <a:blip r:embed="rId8"/>
          <a:stretch/>
        </p:blipFill>
        <p:spPr>
          <a:xfrm>
            <a:off x="6929280" y="4071960"/>
            <a:ext cx="1643400" cy="25002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"/>
          <p:cNvPicPr/>
          <p:nvPr/>
        </p:nvPicPr>
        <p:blipFill>
          <a:blip r:embed="rId9"/>
          <a:stretch/>
        </p:blipFill>
        <p:spPr>
          <a:xfrm>
            <a:off x="2786040" y="3422520"/>
            <a:ext cx="3429000" cy="324972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10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5"/>
          <p:cNvSpPr txBox="1"/>
          <p:nvPr/>
        </p:nvSpPr>
        <p:spPr>
          <a:xfrm>
            <a:off x="971640" y="2637000"/>
            <a:ext cx="7561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 дружбы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другом разделю всё вместе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другом буду всегда </a:t>
            </a: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честен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Если в чём-то я не прав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Друг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подскажет – он не вра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обиду друга я не дам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 променяю , </a:t>
            </a: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не предам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 того беги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скорей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то чернит своих </a:t>
            </a: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друзей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ижаться не спеш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ружбой школьной </a:t>
            </a: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дорожу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3:04:00Z</dcterms:created>
  <dc:creator>ВХОД</dc:creator>
  <dc:description/>
  <dc:language>en-US</dc:language>
  <cp:lastModifiedBy>Leila</cp:lastModifiedBy>
  <dcterms:modified xsi:type="dcterms:W3CDTF">2020-04-09T09:24:59Z</dcterms:modified>
  <cp:revision>51</cp:revision>
  <dc:subject/>
  <dc:title>Школьная  дружба</dc:title>
</cp:coreProperties>
</file>