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BB4-2AA4-4E11-9546-FAC8EAF1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4D5-712C-4506-B584-49C02397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2E3-1D0C-49E8-8D8F-F8ACF3D6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184-BD21-46D3-9F26-51CBD919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FB3-4CB1-4550-9A8D-57ADB85E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8F8-4F31-4A87-8DEA-C657F306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69A-D124-48C2-85CC-F05634B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8B5-35D9-49AC-94F9-3FEC12F2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706-F8DE-4633-907D-846C88C0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1DD-BE8E-4585-8B46-AA5229E0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1FC-FE16-4854-8D2B-8B70863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C64-C67B-435C-B1CE-F19F609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D5D1-AD6A-45C3-907C-474DB2373200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Здоровьесберегающие технологии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4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49230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Работа с родител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66552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5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665520" cy="244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Администратор\Desktop\image (2).jpg"/>
          <p:cNvPicPr/>
          <p:nvPr/>
        </p:nvPicPr>
        <p:blipFill>
          <a:blip r:embed="rId3"/>
          <a:stretch/>
        </p:blipFill>
        <p:spPr>
          <a:xfrm>
            <a:off x="4788000" y="1268280"/>
            <a:ext cx="3438360" cy="5427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дминистратор\Desktop\img14.jpg"/>
          <p:cNvPicPr/>
          <p:nvPr/>
        </p:nvPicPr>
        <p:blipFill>
          <a:blip r:embed="rId1"/>
          <a:stretch/>
        </p:blipFill>
        <p:spPr>
          <a:xfrm>
            <a:off x="3419640" y="430200"/>
            <a:ext cx="540036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4383000" y="4508640"/>
            <a:ext cx="302436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eorgia"/>
                <a:ea typeface="Arial"/>
              </a:rPr>
              <a:t>Благодарим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4371480"/>
            <a:ext cx="7127640" cy="20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Здоровье – это состояние полного физического, психического и социального благополучия, а не просто отсутствие болезней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(Всемирная организация здравоохранения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1"/>
          <a:stretch/>
        </p:blipFill>
        <p:spPr>
          <a:xfrm>
            <a:off x="4267080" y="115920"/>
            <a:ext cx="4572000" cy="7967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eorgia"/>
              </a:rPr>
              <a:t>Что же такое здоровьесберегающие технологии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дминистратор\Desktop\kaverznie-voprosi.jpg"/>
          <p:cNvPicPr/>
          <p:nvPr/>
        </p:nvPicPr>
        <p:blipFill>
          <a:blip r:embed="rId1"/>
          <a:stretch/>
        </p:blipFill>
        <p:spPr>
          <a:xfrm>
            <a:off x="4932360" y="201132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3419640" y="3213000"/>
            <a:ext cx="5662440" cy="3529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32000" y="549000"/>
            <a:ext cx="5832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Здоровье сберегающие технологии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то разнообразные формы и виды деятельности, направленные на сохранение и укрепление здоровья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Формы организации здоровьесберегающе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591516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Физкультурные заня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0550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Самостоятельная деятельность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6" descr=""/>
          <p:cNvPicPr/>
          <p:nvPr/>
        </p:nvPicPr>
        <p:blipFill>
          <a:blip r:embed="rId2"/>
          <a:stretch/>
        </p:blipFill>
        <p:spPr>
          <a:xfrm>
            <a:off x="4859280" y="1600200"/>
            <a:ext cx="30830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Подвижные и спортивные иг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5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038480" cy="269712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7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Гимна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2697120"/>
          </a:xfrm>
          <a:prstGeom prst="rect">
            <a:avLst/>
          </a:prstGeom>
          <a:ln w="0">
            <a:noFill/>
          </a:ln>
        </p:spPr>
      </p:pic>
      <p:pic>
        <p:nvPicPr>
          <p:cNvPr id="61" name="Объект 6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0243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9:15:46Z</dcterms:created>
  <dc:creator>kurs</dc:creator>
  <dc:description/>
  <dc:language>en-US</dc:language>
  <cp:lastModifiedBy>DNA7 X86</cp:lastModifiedBy>
  <dcterms:modified xsi:type="dcterms:W3CDTF">2018-02-25T13:22:05Z</dcterms:modified>
  <cp:revision>61</cp:revision>
  <dc:subject/>
  <dc:title>Инновационные</dc:title>
</cp:coreProperties>
</file>