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211-94DD-48DB-9A4A-BDC7F09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E57-9186-43CD-AC9D-09F26E6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8BA-07B7-455C-8404-E6620454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D7A-9958-41E2-B5FE-2D3CE1DE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346-6997-4DD1-B03D-36FC945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850-4A2D-4B85-BE31-FFD0D43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9A0-4D42-4AB0-A8EB-5313A595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89E-7AA5-4C57-9F45-89979C2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8B4-F029-45C6-B523-DD79BC9B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F09-EFBD-48D2-9C23-155AD24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3B8-5724-48A5-8798-FC8A707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EA0-0738-4FC6-B426-3E791A3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E987-0F03-4516-AFBF-2AA922552CE1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Здоровьесберегающие технологии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4923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66552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65520" cy="244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Администратор\Desktop\image (2).jpg"/>
          <p:cNvPicPr/>
          <p:nvPr/>
        </p:nvPicPr>
        <p:blipFill>
          <a:blip r:embed="rId3"/>
          <a:stretch/>
        </p:blipFill>
        <p:spPr>
          <a:xfrm>
            <a:off x="4788000" y="1268280"/>
            <a:ext cx="3438360" cy="542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истратор\Desktop\img14.jpg"/>
          <p:cNvPicPr/>
          <p:nvPr/>
        </p:nvPicPr>
        <p:blipFill>
          <a:blip r:embed="rId1"/>
          <a:stretch/>
        </p:blipFill>
        <p:spPr>
          <a:xfrm>
            <a:off x="3419640" y="430200"/>
            <a:ext cx="54003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4383000" y="4508640"/>
            <a:ext cx="302436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eorgia"/>
                <a:ea typeface="Arial"/>
              </a:rPr>
              <a:t>Благодарим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371480"/>
            <a:ext cx="712764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Здоровье – это состояние полного физического, психического и социального благополучия, а не просто отсутствие болезней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(Всемирная организация здравоохранени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1"/>
          <a:stretch/>
        </p:blipFill>
        <p:spPr>
          <a:xfrm>
            <a:off x="4267080" y="115920"/>
            <a:ext cx="4572000" cy="7967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Что же такое здоровьесберегающие технологии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дминистратор\Desktop\kaverznie-voprosi.jpg"/>
          <p:cNvPicPr/>
          <p:nvPr/>
        </p:nvPicPr>
        <p:blipFill>
          <a:blip r:embed="rId1"/>
          <a:stretch/>
        </p:blipFill>
        <p:spPr>
          <a:xfrm>
            <a:off x="4932360" y="201132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662440" cy="352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32000" y="549000"/>
            <a:ext cx="5832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Здоровье сберегающие технологии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 разнообразные формы и виды деятельности, направленные на сохранение и укрепление здоровья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Формы организации здоровьесберегающе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59151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Физкультурные за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055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6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30830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Подвижные и спортивны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5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038480" cy="269712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7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269712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6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0243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9:15:46Z</dcterms:created>
  <dc:creator>kurs</dc:creator>
  <dc:description/>
  <dc:language>en-US</dc:language>
  <cp:lastModifiedBy>DNA7 X86</cp:lastModifiedBy>
  <dcterms:modified xsi:type="dcterms:W3CDTF">2018-02-25T13:22:05Z</dcterms:modified>
  <cp:revision>61</cp:revision>
  <dc:subject/>
  <dc:title>Инновационные</dc:title>
</cp:coreProperties>
</file>