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239-3C1E-4B7F-9816-63859A53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6D7-99C8-4721-9749-C10A52C9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DF9-EFFD-4319-BD48-AA48D882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D2C-F43A-43FA-AEC8-82DFFD14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30D7-556A-43C5-8EF2-FB662BB8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E54C-D5E1-4E98-A9B1-02111D12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4CDA-DD9E-4FC1-A6DD-AB05CCA8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BBF2-98D3-41EC-B686-86E4C306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560A-0315-4BCC-BF5F-5E3320D2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6528-13C3-425D-AD3D-E74B3B9C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6094-A9D5-43FA-8554-90EF594E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7D7-29A1-4383-B5A1-4A5E9E8F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B63D-6570-4570-91C6-3B4436A1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DA97-36D1-4199-BF61-06315437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5BD1-F4B1-4260-8E4A-B2DC246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D508-6C9F-45DE-88AC-CBB5C5DC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D856-D182-4183-A058-341C178D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8340-5277-4DBB-9600-41625F0C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82DF-DEAE-4AF8-9DC0-B090F0CD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8160-36CA-4A02-9522-4C93169C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A968-069A-4EF5-8CE5-55FF9705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D7C6-EF0F-40E4-9075-AAF08276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2A5-39A8-405E-9ADC-F4A1797C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AB2D-2282-4867-8B8B-C81EFE96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7701-A0DF-4BA5-A495-383F0E0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1BF4-5DFD-4DD5-BA06-72EA587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05A5-F319-451C-A1B1-870EFFDA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027F-7BAE-413C-982D-E6FB93CD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D5BC-EEFD-4D56-8BFE-27F10CEA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86F9-FC6C-4549-86FD-F8AC59C4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42ED-C205-467F-8BEE-982011F7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6FCF-3333-4940-BC47-7473C083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F534-033F-4E5B-AE43-E07F519C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DFF-B808-4DAB-8CAC-2D5CE71A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C4FD8-71D7-4B01-B172-91E26F74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48E07-C9AF-48B3-9A11-37E3B6BF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52E83-AF97-42BD-9A97-4E6572D8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E5E8-326D-4EA7-88D9-D7F95A9D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5375F-D86C-403B-89EF-3F71CBD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0F87-039B-4E4C-A0AB-BED8219E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989B-FDD1-4325-AE7E-7C6D63C4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FED0-2D42-4C5C-BCE2-1C6B0AD5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9362-FA69-4071-B7BC-824DEFC5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532-ACB1-437E-A76F-31AE701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3F7-3248-4936-BBD4-7D06E583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A02-FA67-4665-9FFA-7CB1F80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EEF-20C0-42B3-8060-B6791FEB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488-3B2A-43EF-A7EE-82986781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BCF3-B495-421A-AD2D-A17AC9AE306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0093-898B-470D-A450-12E3C6DD33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F407-8ED1-4C05-B86A-5407BF4A72A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A907-B1A2-42AC-9662-AC73AD4C82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2107-0F3D-45DF-87D6-073C687362A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C2F0-FA72-43DC-AE40-57A284B2F5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7C55-4B41-4E82-AC76-963289663FB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9AAC-63E1-4CF6-8F5A-AEBB6DF729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IRLS2016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1720" y="928800"/>
            <a:ext cx="738648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바탕"/>
                <a:ea typeface="바탕"/>
              </a:rPr>
              <a:t>Система работы общеобразовательного учреждения по формированию навыков чтения у младших школьник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499920" y="4642920"/>
            <a:ext cx="42721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a452a"/>
                </a:solidFill>
                <a:latin typeface="Times New Roman"/>
              </a:rPr>
              <a:t>Кауфман Анжелика Олеговн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a452a"/>
                </a:solidFill>
                <a:latin typeface="Times New Roman"/>
              </a:rPr>
              <a:t>директор СОШ №5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Bookman Old Style"/>
              </a:rPr>
              <a:t>Задачи популяризации чтения, </a:t>
            </a:r>
            <a:br>
              <a:rPr sz="2000"/>
            </a:br>
            <a:r>
              <a:rPr b="1" lang="ru-RU" sz="2000" spc="-1" strike="noStrike">
                <a:solidFill>
                  <a:srgbClr val="4a452a"/>
                </a:solidFill>
                <a:latin typeface="Bookman Old Style"/>
              </a:rPr>
              <a:t>которые реализовывает школьная библиотека (ИБ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428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йствие формированию благоприятной для продвижения чтения информационной среды и доступности необходимой литерату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движение лучших образцов литературы (текстов, книг, жанров, типов изданий) в широкие слои читат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формирование общественного мнения о ценности и значимости чтения и книжной культу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здание положительных и привлекательных образов читающего человека, книги, литературы, библиотек, книжных магазинов и других социальных институтов, связанных с чтени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влечение в активное квалифицированное чтение детей и подрост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7BFD-0A5B-4756-B044-8A0220C70FF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Работа по формированию полноценного навыка чтения у учащихся в общеобразовательном учре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4" descr=""/>
          <p:cNvPicPr/>
          <p:nvPr/>
        </p:nvPicPr>
        <p:blipFill>
          <a:blip r:embed="rId1"/>
          <a:stretch/>
        </p:blipFill>
        <p:spPr>
          <a:xfrm>
            <a:off x="554040" y="1066680"/>
            <a:ext cx="8255160" cy="5205600"/>
          </a:xfrm>
          <a:prstGeom prst="rect">
            <a:avLst/>
          </a:prstGeom>
          <a:ln w="0">
            <a:noFill/>
          </a:ln>
        </p:spPr>
      </p:pic>
      <p:sp>
        <p:nvSpPr>
          <p:cNvPr id="1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1CC-2EE4-4593-9754-EBCCCBA6EF16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Bookman Old Style"/>
              </a:rPr>
              <a:t>Методическая работа в школ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Одна из главных </a:t>
            </a:r>
            <a:r>
              <a:rPr b="1" lang="ru-RU" sz="1800" spc="-1" strike="noStrike">
                <a:solidFill>
                  <a:srgbClr val="4a452a"/>
                </a:solidFill>
                <a:latin typeface="Bookman Old Style"/>
              </a:rPr>
              <a:t>задач </a:t>
            </a: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методической работы в школе - совершенствование навыков чтения у младших школьни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Организована работа МО по </a:t>
            </a:r>
            <a:r>
              <a:rPr b="1" lang="ru-RU" sz="1800" spc="-1" strike="noStrike">
                <a:solidFill>
                  <a:srgbClr val="4a452a"/>
                </a:solidFill>
                <a:latin typeface="Bookman Old Style"/>
              </a:rPr>
              <a:t>направления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1. Изучение и анализ нормативных документов, региональных проектов, программ (региональный образовательный проект "Читающая школа", "Час чтения"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2. Изучение содержания и результатов международного исследования PIR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 </a:t>
            </a: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3. Разработка школьного образовательного проекта по продвижению детского чтения (</a:t>
            </a:r>
            <a:r>
              <a:rPr b="0" i="1" lang="ru-RU" sz="1800" spc="-1" strike="noStrike">
                <a:solidFill>
                  <a:srgbClr val="c00000"/>
                </a:solidFill>
                <a:latin typeface="Bookman Old Style"/>
              </a:rPr>
              <a:t>расскажите об электронном пособии, в разработке которого участвовали ваши учителя - это продукт проектной деятельности.  Как оно используется в практике работы ваших учителей</a:t>
            </a:r>
            <a:r>
              <a:rPr b="0" i="1" lang="ru-RU" sz="1800" spc="-1" strike="noStrike">
                <a:solidFill>
                  <a:srgbClr val="4a452a"/>
                </a:solidFill>
                <a:latin typeface="Bookman Old Styl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Раскройте работу педагогов по этим направлениям. Можете добавить на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0C70-14F1-41D9-9420-2F9603D8986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зработка школьного образовательного проекта по продвижению детского чтен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расскажите об электронном пособии, в разработке которого участвовали ваши учителя - это продукт проектной деятельности.  Как оно используется в практике работы ваших учителе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F29D-2960-41A0-84B0-99B291C5C62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частие младших школьников в конкурсах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конкурсы чтецов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7C02-7894-434F-9914-C99FE1BFAED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 открытых уроках, которые будут продемонстрированы.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Почему эти предметы выбрали? Какие стратегии смыслового чтения, приёмы организации продуктивного чтения освоили и продемонстрируют учител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532E-A8AD-488F-B140-590B8B3A539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зультативность работы учителе школы по формированию навыков чтения младших школь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62FD-396B-4925-8916-6044C3C24DB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바탕"/>
                <a:ea typeface="바탕"/>
              </a:rPr>
              <a:t>Нормативно-правовые докумен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8571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바탕"/>
              </a:rPr>
              <a:t>Указ Президента РФ от 7 мая 2018 г. № 204 "О национальных целях и стратегических задачах развития Российской Федерации на период до 2024 года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바탕"/>
              </a:rPr>
              <a:t>Паспорт национального проекта "Образование", утверждённый президиумом Совета при Президенте Российской Федерации по стратегическому развитию и национальным проектам (протокол от 3 сентября 2018 г. №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바탕"/>
              </a:rPr>
              <a:t>ФГОС НО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바탕"/>
              </a:rPr>
              <a:t>Концепция программы поддержки детского и юношеского чтения в Российской Федерации, утверждённая распоряжением Правительства от 03.06. 2017 № 1155-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1F4A-99EA-4FEC-B8FC-E429C6286917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바탕"/>
                <a:ea typeface="바탕"/>
              </a:rPr>
              <a:t>Указ Президента РФ от 7 мая 2018 г. № 204 "О национальных целях и стратегических задачах развития Россиской Федерации на период до 2024 года"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71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еспечение глобальной конкурентоспособности российского образования, вхождение Российской Федерации в число 10 ведущих стран мира по качеству общего 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8A61-50E6-4D0C-947A-B7DC5C05969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바탕"/>
                <a:ea typeface="바탕"/>
              </a:rPr>
              <a:t>Федер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4a452a"/>
                </a:solidFill>
                <a:latin typeface="바탕"/>
                <a:ea typeface="바탕"/>
              </a:rPr>
              <a:t>"Современная школ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57160" y="1643040"/>
          <a:ext cx="7572600" cy="3630600"/>
        </p:xfrm>
        <a:graphic>
          <a:graphicData uri="http://schemas.openxmlformats.org/drawingml/2006/table">
            <a:tbl>
              <a:tblPr/>
              <a:tblGrid>
                <a:gridCol w="5429520"/>
                <a:gridCol w="2143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Срок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바탕"/>
                        </a:rPr>
                        <a:t>Обеспечение к 2024 году для детей в возрасте от 5 до 18 лет доступных для каждого и качественных условий для воспитания гармонично развитой и социально ответственной личности путем увеличения охвата дополнительным образованием до 80% от общего числа детей, обновления содержания и методов дополнительного образования детей, развития кадрового потенциала и модернизации инфраструктуры системы дополнительного образования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1.10.2018 г. – 31.12.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0555-816C-41DD-B0DB-3A8D3E616476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바탕"/>
                <a:ea typeface="바탕"/>
              </a:rPr>
              <a:t>Национальный проект "Образовани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57160" y="1346040"/>
          <a:ext cx="7500960" cy="3902400"/>
        </p:xfrm>
        <a:graphic>
          <a:graphicData uri="http://schemas.openxmlformats.org/drawingml/2006/table">
            <a:tbl>
              <a:tblPr/>
              <a:tblGrid>
                <a:gridCol w="5072040"/>
                <a:gridCol w="2428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e1c11"/>
                          </a:solidFill>
                          <a:latin typeface="바탕"/>
                          <a:ea typeface="바탕"/>
                        </a:rPr>
                        <a:t>Ц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e1c11"/>
                          </a:solidFill>
                          <a:latin typeface="바탕"/>
                          <a:ea typeface="바탕"/>
                        </a:rPr>
                        <a:t>Срок реал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еспечение глобальной конкурентоспособности российского образования, вхождение Российской Федерации в число 10 ведущих стран мира по качеству общего образ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спитание гармонично развитой и социально ответственной личности на основе духовно-нравственных ценностей народов Российской Федерации, исторических и национально-культурных тради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1.11.2018 - 31.12.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6530-9AA0-433F-8BB7-DB029951316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Bookman Old Style"/>
                <a:ea typeface="바탕"/>
              </a:rPr>
              <a:t>«Концепция программы поддержки детского и юношеского чтения </a:t>
            </a:r>
            <a:br>
              <a:rPr sz="3200"/>
            </a:br>
            <a:r>
              <a:rPr b="0" lang="ru-RU" sz="3200" spc="-1" strike="noStrike">
                <a:solidFill>
                  <a:srgbClr val="4a452a"/>
                </a:solidFill>
                <a:latin typeface="Bookman Old Style"/>
                <a:ea typeface="바탕"/>
              </a:rPr>
              <a:t>в Российской Федераци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14240" y="2143080"/>
          <a:ext cx="7972560" cy="3286080"/>
        </p:xfrm>
        <a:graphic>
          <a:graphicData uri="http://schemas.openxmlformats.org/drawingml/2006/table">
            <a:tbl>
              <a:tblPr/>
              <a:tblGrid>
                <a:gridCol w="3986280"/>
                <a:gridCol w="398628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ок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вышение статуса чтения, читательской активности и качества чтения, развитие культурной и читательской компетенции детей и юноше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нет основой для разработки соответствующей подпрограммы государственной программы «Информационное общество (2011—2020 год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8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6140-36B8-48FF-A7F3-2808EA56768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바탕"/>
                <a:ea typeface="바탕"/>
                <a:hlinkClick r:id="rId1"/>
              </a:rPr>
              <a:t>Международные исследования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바탕"/>
              </a:rPr>
              <a:t>Учащиеся начальной школы участвуют в исследованиях PIRLS и TIM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C7F5-5392-444F-80A2-AF19DFE9CDD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643040" y="2643120"/>
          <a:ext cx="6095880" cy="2786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95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Calibri"/>
                        </a:rPr>
                        <a:t>Как школьники читают и понимают тек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к в начальной и средней школе знают математику и естественные нау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바탕"/>
                <a:ea typeface="바탕"/>
              </a:rPr>
              <a:t>Международное исследование PIRL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71720" y="1357200"/>
          <a:ext cx="7215120" cy="4375440"/>
        </p:xfrm>
        <a:graphic>
          <a:graphicData uri="http://schemas.openxmlformats.org/drawingml/2006/table">
            <a:tbl>
              <a:tblPr/>
              <a:tblGrid>
                <a:gridCol w="2404800"/>
                <a:gridCol w="2405160"/>
                <a:gridCol w="2405160"/>
              </a:tblGrid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то участ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то проверя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гда проход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5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 исследовании участвуют дети, которые оканчивают начальную школ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читается, что именно к этому моменту ученики настолько развивают свои навыки чтения и работы с текстом, что они становятся базой для учёбы в средней и старшей шко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к школьники умеют читать и понимать тек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аз в пять лет. С 2001 года его проводили уже четыре раза. Последний раз в 2016 год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AF0-6F27-4F20-B53C-071657C1FC5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4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600" spc="-1" strike="noStrike">
                <a:solidFill>
                  <a:srgbClr val="4a452a"/>
                </a:solidFill>
                <a:latin typeface="Bookman Old Style"/>
                <a:ea typeface="바탕"/>
              </a:rPr>
              <a:t>ЦЕЛЬ- ФОРМИРОВАНИЕ ЧИТАТЕЛЬСКОЙ КОМПЕТЕНТНОСТИ МЛАДШЕГО В УСЛОВИЯХ РЕАЛИЗАЦИИ ФГОС, </a:t>
            </a:r>
            <a:br>
              <a:rPr sz="1600"/>
            </a:br>
            <a:r>
              <a:rPr b="1" lang="ru-RU" sz="1600" spc="-1" strike="noStrike">
                <a:solidFill>
                  <a:srgbClr val="4a452a"/>
                </a:solidFill>
                <a:latin typeface="Bookman Old Style"/>
                <a:ea typeface="바탕"/>
              </a:rPr>
              <a:t>ИСПОЛЬЗУЯ УЧЕБНЫЕ И ВОСПИТАТЕЛЬНЫЕ РЕСУРСЫ ОБРАЗОВАТЕЛЬ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00080" y="1856880"/>
            <a:ext cx="72295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адач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ИЗУЧИТЬ ПСИХОЛОГО-ПЕДАГОГИЧЕСКУЮ И МЕТОДИЧЕСКУЮ ЛИТЕРАТУРУ ПО ПРОБЛЕМЕ ДЕТСКОГО ЧТЕНИ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ЫДЕЛИТЬ МЕТОДЫ И ПРИЁМЫ ФОРМИРОВАНИЯ ЧИТАТЕЛЬСКОЙ КОМПЕТЕНТНОСТИ НА УРОКАХ И ВО ВНЕУРОЧНОЕ ВРЕМ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ОСВАИВАТЬ ТЕХНОЛОГИЮ ПРОДУКТИВНОГО(ОСМЫСЛЕННОГО) ЧТЕНИ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РАЗВИВАТЬ ПОТРЕБНОСТЬ В ЧТЕНИИ(САМОСТОЯТЕЛЬНОМ, ИНИЦИАТИВНОМ) ПОСРЕДСТВОМ ИСПОЛЬЗОВАНИЯ РАЗНООБРАЗНЫХ ФОРМ ВНЕКЛАССНОЙ ДЕЯТЕЛЬНО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СФОРМИРОВАТЬ НАВЫК ЧТЕНИЯ НА ВЫСОКОМ УРОВНЕ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РИВИВАТЬ ИНТЕРЕС И ЛЮБОВЬ К ЧТЕНИЮ, СТРЕМЛЕНИЕ К САМОСТОЯТЕЛЬНОМУ ЧТЕНИЮ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КОНСОЛИДИРОВАТЬ УСИЛИЯ ПЕДАГОГОВ, РОДИТЕЛЕЙ, БИБЛИОТЕКАРЯ В ДЕЛЕ ПОВЫШЕНИЯ ПРЕСТИЖА ЧТ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34:29Z</dcterms:created>
  <dc:creator>osv</dc:creator>
  <dc:description/>
  <dc:language>en-US</dc:language>
  <cp:lastModifiedBy>мама</cp:lastModifiedBy>
  <dcterms:modified xsi:type="dcterms:W3CDTF">2019-01-27T16:45:11Z</dcterms:modified>
  <cp:revision>58</cp:revision>
  <dc:subject/>
  <dc:title>Слайд 1</dc:title>
</cp:coreProperties>
</file>