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D39-9EA0-49EF-B442-4E4CE5F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58E-1893-4BA1-932F-C8AE6B09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358-8570-45AF-BA7E-3254FEF0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76C-B989-479C-9ACD-765114E9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CC06-0E47-4570-AEBA-5294D57C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74D2-7597-4783-984D-1A45DCE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86FA-D782-4932-AD03-95C2A922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96B3-A56E-4E33-A3F2-EF8A4C53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3BE1-E936-4142-9680-28C4530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6D34-4B5F-4B10-9AE3-8568BCF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8CCD-9FBA-4866-A9C7-98F3C28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E61-523A-4831-BA4E-54223FA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B37-CDBD-4F5B-B8B5-041FE74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001-FC81-4874-AF0E-1E3BA63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54C1-CDE7-426A-8E8F-5FC5C17A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E5E4-A377-4A4A-B0AF-74826AD8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6A4-6EA1-466A-9B35-3021571A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8E02-DACE-43F0-8374-4CF5CC5E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1DAE-AA06-46F8-9E37-9FB1470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C653-C3B4-4201-AE02-3760BA35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6EC6-3A00-4F6A-BD8F-9602EE8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00A1-A53C-4B9E-ABCF-7C16D4C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9DB-D3E4-4CA4-BDCC-DF555F8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840E-7CDC-40D4-98F7-597A5ADF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CC36-352A-4AF8-BDF4-A6B734ED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D56D-B6FE-42CA-86A3-46D3CB3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131D-345B-46EE-B183-AB8BC4C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9565-455E-4EDA-A469-E934B96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C3FD-F4A6-4FB8-AA29-CBAEEC71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9D10-6A32-4C29-9F1B-4E000544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716E-A0AB-4341-A248-7F406F80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37A2-104D-4644-BF60-4601084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AF68-1F07-402A-8BF8-F7FD2EB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033-6A85-4FEC-9482-2F2C386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3880-993E-4D17-8F4A-C023037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D4AA-BB48-45B2-9EC5-7B6C1E4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1192-AB2D-4BBD-9BD5-52A29F3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15C7-C260-4BB6-9EB7-CB4A3EE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C2E9-44D6-460B-8E82-7F3004C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700BA-BDCC-449A-AFD9-855BE58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E15D-8B7D-4D7F-9850-B5AA113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3D41-74A6-42F0-9531-997C4FAF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6C05-F343-4903-85A4-37D5D7E0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873-BCE5-4978-9A18-8C510F26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892-5BBE-4564-801F-07C7B15F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177-E524-44E3-9C60-AA427D7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B0C-A594-4587-85EB-E493DE8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099-8238-4855-A95D-523674F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FC63-D1AD-4E1D-A6B5-F36ED001E83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A961-FBDD-43D9-B6DE-56C92E2C2D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874-B3E4-480F-A79D-18FE593085C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B237-C872-4201-B813-B7EE0EC1CB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2FE-0084-4DF5-94C6-955B3967F33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2AA-735B-4D2E-91A9-46FF4C4D2D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867-B3F0-4D9C-867F-BF5F1F98514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D43-46C7-4FC6-9D00-9A43F6729D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IRLS2016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720" y="928800"/>
            <a:ext cx="738648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바탕"/>
                <a:ea typeface="바탕"/>
              </a:rPr>
              <a:t>Система работы общеобразовательного учреждения по формированию навыков чтения у младших школьник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499920" y="4642920"/>
            <a:ext cx="42721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Times New Roman"/>
              </a:rPr>
              <a:t>Кауфман Анжелика Олеговн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a452a"/>
                </a:solidFill>
                <a:latin typeface="Times New Roman"/>
              </a:rPr>
              <a:t>директор СОШ №5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Bookman Old Style"/>
              </a:rPr>
              <a:t>Задачи популяризации чтения, </a:t>
            </a:r>
            <a:br>
              <a:rPr sz="2000"/>
            </a:br>
            <a:r>
              <a:rPr b="1" lang="ru-RU" sz="2000" spc="-1" strike="noStrike">
                <a:solidFill>
                  <a:srgbClr val="4a452a"/>
                </a:solidFill>
                <a:latin typeface="Bookman Old Style"/>
              </a:rPr>
              <a:t>которые реализовывает школьная библиотека (И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428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йствие формированию благоприятной для продвижения чтения информационной среды и доступности необходимой литерату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движение лучших образцов литературы (текстов, книг, жанров, типов изданий) в широкие слои читат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формирование общественного мнения о ценности и значимости чтения и книжной культу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здание положительных и привлекательных образов читающего человека, книги, литературы, библиотек, книжных магазинов и других социальных институтов, связанных с чтени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влечение в активное квалифицированное чтение детей и подрост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0DB-CCA4-4DE4-BF0C-51459E8CF2A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Работа по формированию полноценного навыка чтения у учащихся в общеобразовательном учре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4" descr=""/>
          <p:cNvPicPr/>
          <p:nvPr/>
        </p:nvPicPr>
        <p:blipFill>
          <a:blip r:embed="rId1"/>
          <a:stretch/>
        </p:blipFill>
        <p:spPr>
          <a:xfrm>
            <a:off x="554040" y="1066680"/>
            <a:ext cx="8255160" cy="5205600"/>
          </a:xfrm>
          <a:prstGeom prst="rect">
            <a:avLst/>
          </a:prstGeom>
          <a:ln w="0">
            <a:noFill/>
          </a:ln>
        </p:spPr>
      </p:pic>
      <p:sp>
        <p:nvSpPr>
          <p:cNvPr id="1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14F-0942-4D9B-A9E1-8CECF5033F4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Bookman Old Style"/>
              </a:rPr>
              <a:t>Методическая работа в школ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Одна из главных </a:t>
            </a:r>
            <a:r>
              <a:rPr b="1" lang="ru-RU" sz="1800" spc="-1" strike="noStrike">
                <a:solidFill>
                  <a:srgbClr val="4a452a"/>
                </a:solidFill>
                <a:latin typeface="Bookman Old Style"/>
              </a:rPr>
              <a:t>задач </a:t>
            </a: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методической работы в школе - совершенствование навыков чтения у младших школь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Организована работа МО по </a:t>
            </a:r>
            <a:r>
              <a:rPr b="1" lang="ru-RU" sz="1800" spc="-1" strike="noStrike">
                <a:solidFill>
                  <a:srgbClr val="4a452a"/>
                </a:solidFill>
                <a:latin typeface="Bookman Old Style"/>
              </a:rPr>
              <a:t>направлен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1. Изучение и анализ нормативных документов, региональных проектов, программ (региональный образовательный проект "Читающая школа", "Час чтения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2. Изучение содержания и результатов международного исследования PIR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 </a:t>
            </a:r>
            <a:r>
              <a:rPr b="0" lang="ru-RU" sz="1800" spc="-1" strike="noStrike">
                <a:solidFill>
                  <a:srgbClr val="4a452a"/>
                </a:solidFill>
                <a:latin typeface="Bookman Old Style"/>
              </a:rPr>
              <a:t>3. Разработка школьного образовательного проекта по продвижению детского чтения (</a:t>
            </a:r>
            <a:r>
              <a:rPr b="0" i="1" lang="ru-RU" sz="1800" spc="-1" strike="noStrike">
                <a:solidFill>
                  <a:srgbClr val="c00000"/>
                </a:solidFill>
                <a:latin typeface="Bookman Old Style"/>
              </a:rPr>
              <a:t>расскажите об электронном пособии, в разработке которого участвовали ваши учителя - это продукт проектной деятельности.  Как оно используется в практике работы ваших учителей</a:t>
            </a:r>
            <a:r>
              <a:rPr b="0" i="1" lang="ru-RU" sz="1800" spc="-1" strike="noStrike">
                <a:solidFill>
                  <a:srgbClr val="4a452a"/>
                </a:solidFill>
                <a:latin typeface="Bookman Old Styl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Раскройте работу педагогов по этим направлениям. Можете добавить 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760-73FF-4669-BCE4-ECD6E0F9D43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зработка школьного образовательного проекта по продвижению детского чтен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расскажите об электронном пособии, в разработке которого участвовали ваши учителя - это продукт проектной деятельности.  Как оно используется в практике работы ваших учителе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C9F-E7E0-4B62-9112-24D5C6EE6EE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астие младших школьников в конкурсах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конкурсы чтецов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1368-F159-4C58-AA62-DC08EAE52B9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 открытых уроках, которые будут продемонстрированы.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очему эти предметы выбрали? Какие стратегии смыслового чтения, приёмы организации продуктивного чтения освоили и продемонстрируют учител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843-8F39-484D-940E-02DE7FCDB6D7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зультативность работы учителе школы по формированию навыков чтен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72E-33F4-4C19-96FD-989E76CCF81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바탕"/>
                <a:ea typeface="바탕"/>
              </a:rPr>
              <a:t>Нормативно-правовые докумен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571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Указ Президента РФ от 7 мая 2018 г. № 204 "О национальных целях и стратегических задачах развития Российской Федерации на период до 2024 года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Паспорт национального проекта "Образование", утверждённый президиумом Совета при Президенте Российской Федерации по стратегическому развитию и национальным проектам (протокол от 3 сентября 2018 г. №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ФГОС НО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바탕"/>
              </a:rPr>
              <a:t>Концепция программы поддержки детского и юношеского чтения в Российской Федерации, утверждённая распоряжением Правительства от 03.06. 2017 № 1155-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DC38-D2A1-4F21-B8D5-9A75742CFFB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바탕"/>
                <a:ea typeface="바탕"/>
              </a:rPr>
              <a:t>Указ Президента РФ от 7 мая 2018 г. № 204 "О национальных целях и стратегических задачах развития Россиской Федерации на период до 2024 года"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71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еспечение глобальной конкурентоспособности российского образования, вхождение Российской Федерации в число 10 ведущих стран мира по качеству общего 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731C-A866-42EC-9412-9BC5ADC5954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바탕"/>
                <a:ea typeface="바탕"/>
              </a:rPr>
              <a:t>Федеральный проект </a:t>
            </a:r>
            <a:br>
              <a:rPr sz="3200"/>
            </a:br>
            <a:r>
              <a:rPr b="1" lang="ru-RU" sz="3200" spc="-1" strike="noStrike">
                <a:solidFill>
                  <a:srgbClr val="4a452a"/>
                </a:solidFill>
                <a:latin typeface="바탕"/>
                <a:ea typeface="바탕"/>
              </a:rPr>
              <a:t>"Современная школ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7160" y="1643040"/>
          <a:ext cx="7572600" cy="3630600"/>
        </p:xfrm>
        <a:graphic>
          <a:graphicData uri="http://schemas.openxmlformats.org/drawingml/2006/table">
            <a:tbl>
              <a:tblPr/>
              <a:tblGrid>
                <a:gridCol w="5429520"/>
                <a:gridCol w="2143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바탕"/>
                        </a:rPr>
                        <a:t>Обеспечение к 2024 году для детей в возрасте от 5 до 18 лет доступных для каждого и качественных условий для воспитания гармонично развитой и социально ответственной личности путем увеличения охвата дополнительным образованием до 80% от общего числа детей, обновления содержания и методов дополнительного образования детей, развития кадрового потенциала и модернизации инфраструктуры системы дополнительного образования де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1.10.2018 г. – 31.12.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BCD5-6779-4719-85AC-5025CF5A534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바탕"/>
                <a:ea typeface="바탕"/>
              </a:rPr>
              <a:t>Национальный проект "Образовани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57160" y="1346040"/>
          <a:ext cx="7500960" cy="3902400"/>
        </p:xfrm>
        <a:graphic>
          <a:graphicData uri="http://schemas.openxmlformats.org/drawingml/2006/table">
            <a:tbl>
              <a:tblPr/>
              <a:tblGrid>
                <a:gridCol w="5072040"/>
                <a:gridCol w="242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e1c11"/>
                          </a:solidFill>
                          <a:latin typeface="바탕"/>
                          <a:ea typeface="바탕"/>
                        </a:rPr>
                        <a:t>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e1c11"/>
                          </a:solidFill>
                          <a:latin typeface="바탕"/>
                          <a:ea typeface="바탕"/>
                        </a:rPr>
                        <a:t>Срок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еспечение глобальной конкурентоспособности российского образования, вхождение Российской Федерации в число 10 ведущих стран мира по качеству общего образ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спитание гармонично развитой и социально ответственной личности на основе духовно-нравственных ценностей народов Российской Федерации, исторических и национально-культурных тради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1.11.2018 - 31.12.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E525-BCD8-4D33-B378-B49AA7E094E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Bookman Old Style"/>
                <a:ea typeface="바탕"/>
              </a:rPr>
              <a:t>«Концепция программы поддержки детского и юношеского чтения 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Bookman Old Style"/>
                <a:ea typeface="바탕"/>
              </a:rPr>
              <a:t>в Российской Федераци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14240" y="2143080"/>
          <a:ext cx="7972560" cy="328608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вышение статуса чтения, читательской активности и качества чтения, развитие культурной и читательской компетенции детей и юнош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нет основой для разработки соответствующей подпрограммы государственной программы «Информационное общество (2011—2020 год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4F3-886C-496C-8080-CB0A55261F8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바탕"/>
                <a:ea typeface="바탕"/>
                <a:hlinkClick r:id="rId1"/>
              </a:rPr>
              <a:t>Международные исследования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바탕"/>
              </a:rPr>
              <a:t>Учащиеся начальной школы участвуют в исследованиях PIRLS и TIM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97F7-C150-48F5-99ED-474E11B6991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43040" y="2643120"/>
          <a:ext cx="6095880" cy="2786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Calibri"/>
                        </a:rPr>
                        <a:t>Как школьники читают и понимают тек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 в начальной и средней школе знают математику и естественные нау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바탕"/>
                <a:ea typeface="바탕"/>
              </a:rPr>
              <a:t>Международное исследование PIR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71720" y="1357200"/>
          <a:ext cx="7215120" cy="4375440"/>
        </p:xfrm>
        <a:graphic>
          <a:graphicData uri="http://schemas.openxmlformats.org/drawingml/2006/table">
            <a:tbl>
              <a:tblPr/>
              <a:tblGrid>
                <a:gridCol w="2404800"/>
                <a:gridCol w="2405160"/>
                <a:gridCol w="2405160"/>
              </a:tblGrid>
              <a:tr h="622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то уча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то провер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гда прохо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5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 исследовании участвуют дети, которые оканчивают начальную шко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читается, что именно к этому моменту ученики настолько развивают свои навыки чтения и работы с текстом, что они становятся базой для учёбы в средней и старшей шко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к школьники умеют читать и понимать тек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 в пять лет. С 2001 года его проводили уже четыре раза. Последний раз в 2016 год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F4B-0DC7-46EE-90D5-567D616D7AD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Bookman Old Style"/>
                <a:ea typeface="바탕"/>
              </a:rPr>
              <a:t>ЦЕЛЬ- ФОРМИРОВАНИЕ ЧИТАТЕЛЬСКОЙ КОМПЕТЕНТНОСТИ МЛАДШЕГО В УСЛОВИЯХ РЕАЛИЗАЦИИ ФГОС, </a:t>
            </a:r>
            <a:br>
              <a:rPr sz="1600"/>
            </a:br>
            <a:r>
              <a:rPr b="1" lang="ru-RU" sz="1600" spc="-1" strike="noStrike">
                <a:solidFill>
                  <a:srgbClr val="4a452a"/>
                </a:solidFill>
                <a:latin typeface="Bookman Old Style"/>
                <a:ea typeface="바탕"/>
              </a:rPr>
              <a:t>ИСПОЛЬЗУЯ УЧЕБНЫЕ И ВОСПИТАТЕЛЬНЫЕ РЕСУРСЫ ОБРАЗОВАТЕЛЬ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00080" y="1856880"/>
            <a:ext cx="72295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дач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ЗУЧИТЬ ПСИХОЛОГО-ПЕДАГОГИЧЕСКУЮ И МЕТОДИЧЕСКУЮ ЛИТЕРАТУРУ ПО ПРОБЛЕМЕ ДЕТСКОГО ЧТ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ЫДЕЛИТЬ МЕТОДЫ И ПРИЁМЫ ФОРМИРОВАНИЯ ЧИТАТЕЛЬСКОЙ КОМПЕТЕНТНОСТИ НА УРОКАХ И ВО ВНЕУРОЧНОЕ ВРЕМ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ОСВАИВАТЬ ТЕХНОЛОГИЮ ПРОДУКТИВНОГО(ОСМЫСЛЕННОГО) ЧТ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РАЗВИВАТЬ ПОТРЕБНОСТЬ В ЧТЕНИИ(САМОСТОЯТЕЛЬНОМ, ИНИЦИАТИВНОМ) ПОСРЕДСТВОМ ИСПОЛЬЗОВАНИЯ РАЗНООБРАЗНЫХ ФОРМ ВНЕКЛАССНОЙ ДЕЯТЕЛЬ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СФОРМИРОВАТЬ НАВЫК ЧТЕНИЯ НА ВЫСОКОМ УРОВНЕ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РИВИВАТЬ ИНТЕРЕС И ЛЮБОВЬ К ЧТЕНИЮ, СТРЕМЛЕНИЕ К САМОСТОЯТЕЛЬНОМУ ЧТЕНИЮ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ОНСОЛИДИРОВАТЬ УСИЛИЯ ПЕДАГОГОВ, РОДИТЕЛЕЙ, БИБЛИОТЕКАРЯ В ДЕЛЕ ПОВЫШЕНИЯ ПРЕСТИЖА ЧТ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34:29Z</dcterms:created>
  <dc:creator>osv</dc:creator>
  <dc:description/>
  <dc:language>en-US</dc:language>
  <cp:lastModifiedBy>мама</cp:lastModifiedBy>
  <dcterms:modified xsi:type="dcterms:W3CDTF">2019-01-27T16:45:11Z</dcterms:modified>
  <cp:revision>58</cp:revision>
  <dc:subject/>
  <dc:title>Слайд 1</dc:title>
</cp:coreProperties>
</file>