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D09-EA46-4765-8715-B0EDF533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303-5271-43EB-8756-04245F0C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D8B-4573-47D7-BAFE-CE737FFD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963-4D43-4B87-B607-A137373D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7F4D-B56E-400F-AC1D-D1225596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842C-F8EB-490A-A65E-694EF1E2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676D-092C-4699-AFD1-C995FA88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893-1D21-4F9A-8EB7-6284E76A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FF8A-E69D-4481-85B5-035C958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268-021A-475E-84E3-F6AE078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2B2-33C2-4FD4-A64B-E9C3D7A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7D3-0B18-4E39-89A0-1CF6DE8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6514-FE4A-43A0-9DF8-56682EA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6AE-1E26-4B55-B6AA-00F780F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7F37-43A4-4165-A6AE-54C33491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CD2E-4463-4513-BEEF-D9F0B337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1510-BE2D-4186-AC7F-2738CD6A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E1C-379E-4D6A-AA2E-6AB1B8C4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7F5-1389-40D6-8514-82E16B32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6D5-B729-4D96-B0A4-548CEE2D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75A-C286-4DAB-AF67-7C61A6B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3F5-1A55-4A80-8B2B-8626D12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040-8F21-42F1-9DA5-AC6D60B2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8DB-AC5C-4057-9F3D-61C7B64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F166-CF3C-48F9-9A14-FE4C6A789D26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378-33AE-44DD-AEA3-50F27B1CE856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44440" y="6278400"/>
            <a:ext cx="7832880" cy="6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Библиотека\война\солдат3.gif"/>
          <p:cNvPicPr/>
          <p:nvPr/>
        </p:nvPicPr>
        <p:blipFill>
          <a:blip r:embed="rId2"/>
          <a:stretch/>
        </p:blipFill>
        <p:spPr>
          <a:xfrm>
            <a:off x="500040" y="1928880"/>
            <a:ext cx="1671840" cy="2477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286080" y="428760"/>
            <a:ext cx="5533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Автор: Шарыпова Али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Образовательное учреждение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Муниципальное общеобразовательное учреждение «Лиц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Sakkal Majall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Sakkal Majalla"/>
              </a:rPr>
              <a:t>г.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Балашова Саратов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2 «б» клас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Руководитель: Каретникова Улья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Геннад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428840" y="500040"/>
            <a:ext cx="73580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ле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еликой Победы в моей  семь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00040" y="290160"/>
            <a:ext cx="8143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Номинация:  Презентация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Герои  Великой Отечественной  войны  Саратовской  области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428760" y="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гиональный интернет-конкурс творческих работ обучающихся, воспитанников и педагогов «Победа народа в сердцах поколений», проходящего в рамках празднования 75-летия Победы в Великой Отечественной вой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68032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-360" y="1599840"/>
            <a:ext cx="8929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черашним школьницам доверили сложную задачу – охранять от налётов фашистской авиации военно-промышленные комплексы, мосты, переправы, аэродромы, склад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рсанткам ни в чём поблажек не давали: приходилось самим копать землянки, ставить столбы, проводить провода. Девушки прошли сложную подготовку и досконально изучили все немецкие самолёты, шум мото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нём бесстрашно стояли на наблюдательных вышках высотой до 40 метров, которые  качались от ветра. Ночью слушали небо в слуховой яме. В темноте опознать тип самолёта можно было только по шуму мотора. И в этом музыкальному женскому слуху не было равных. Девушки за несколько километров могли узнать, какой летит самолёт и в каком направлении, его дальность и высот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 полученных данных наблюдатели тут же сообщали в штаб. Ошибок нельзя было допускать ни при каких обстоятель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600" spc="-1" strike="noStrike">
                <a:solidFill>
                  <a:srgbClr val="ccffff"/>
                </a:solidFill>
                <a:latin typeface="Times New Roman"/>
              </a:rPr>
              <a:t>Я помню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43200" y="1143000"/>
            <a:ext cx="5500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Шарыпова  Екатерина  родилась в 1923  г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Когда  началась  война, ей  было всего 18 л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А уже в апреле 1942 года  добровольно  ушла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действующую  арм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В 17 отдельном      батальоне ПВО  молодая    красивая девушка прослужила  до мая  1943 года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С   мая 1943 года  моя прабабушка стала служи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  736  зенитном артиллерийском пол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ужественно защища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саратовское небо отважные  дочери Росси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ыполнявшие  свой воинский  долг  пере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народом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Прабабушка была награжд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орденами и медал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1753920" cy="204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1571760" y="3137040"/>
            <a:ext cx="187308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ogon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348000" y="3141720"/>
            <a:ext cx="54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0036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   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143000" y="4902120"/>
            <a:ext cx="1084320" cy="170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7072200" y="835200"/>
            <a:ext cx="1859040" cy="15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7072200" y="4981680"/>
            <a:ext cx="1714680" cy="148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857160" y="525600"/>
            <a:ext cx="2367000" cy="160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1500120" y="2428920"/>
            <a:ext cx="2230560" cy="1517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3786120" y="4259160"/>
            <a:ext cx="2700360" cy="1683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1"/>
          <p:cNvSpPr/>
          <p:nvPr/>
        </p:nvSpPr>
        <p:spPr>
          <a:xfrm>
            <a:off x="3614760" y="714240"/>
            <a:ext cx="21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Спасиб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з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ир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Шарып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катерина Кусаино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ата рожд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__.__.19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есто рожден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аратовская обл., г. Балашов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именование награ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ден Отечественной войны II степени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рхив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АМ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ртотек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Юбилейная картотека награжд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сположение докумен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каф 61, ящик 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омер документа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C:\Users\user\Desktop\2б\шарыпова\IMG_20200227_121159 - копия.jpg"/>
          <p:cNvPicPr/>
          <p:nvPr/>
        </p:nvPicPr>
        <p:blipFill>
          <a:blip r:embed="rId2"/>
          <a:stretch/>
        </p:blipFill>
        <p:spPr>
          <a:xfrm>
            <a:off x="714240" y="2428920"/>
            <a:ext cx="340380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Эта память в веках - не зажившие ран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От беды, от войны край родной сбережё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Наши дедушки, бабушки - войн ветеран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В ноги кланяется вам весь российский народ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рои  Великой Отечественной  войны  Саратовской  области – простые люд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горжусь, что среди них была моя прабабушка Екатерина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5:23:34Z</dcterms:created>
  <dc:creator>Вячеслав</dc:creator>
  <dc:description/>
  <dc:language>en-US</dc:language>
  <cp:lastModifiedBy>user</cp:lastModifiedBy>
  <dcterms:modified xsi:type="dcterms:W3CDTF">2020-04-05T16:13:13Z</dcterms:modified>
  <cp:revision>115</cp:revision>
  <dc:subject/>
  <dc:title>Слайд 1</dc:title>
</cp:coreProperties>
</file>