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gif" ContentType="image/gif"/>
  <Override PartName="/ppt/media/image12.jpeg" ContentType="image/jpeg"/>
  <Override PartName="/ppt/media/image1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6DA-98C5-483D-BF90-31FAC9C0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9A7-6D28-4339-B856-1008FFCE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C55-B068-4647-8D82-AA4EB83B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58E-AE0D-497D-AD18-C52937C7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042C-AA75-41D0-A5B3-45C0633A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3A07-436B-4565-ABDD-3D8678D8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D546-66CC-4AD7-AFEE-449E065F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4208-6C75-4D5D-AE90-620FF5B2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1B9A-7BEB-4812-B45D-042C4532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9B64-7B1F-47CC-B7E4-84AECC1D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D900-EBFB-40ED-8FE1-66646971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A7A-50CF-4EDC-9E02-C6B7E666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CA09-0B67-4ECC-94A9-CD7EC89C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2C2E-FEE4-443C-9717-CC985D5B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AE1C-0EC5-44FF-9382-2C2A6F2A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4DBA-1D6F-4E52-A126-E295562C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DDA2-50C6-4A14-A35D-021D2AD9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A367-A3F1-474F-9D17-EC2CB574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000-DF36-4093-A7B3-22E7FD42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E55-4442-4309-A3D6-E27E2C10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EF4-9905-48BB-82F7-2CC05F57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2E7-868A-4A8A-92B8-62C1047F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F4B-9BDA-4E8F-9F9F-040B6CC4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82B-F1F5-4990-8388-6FE3E19E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3D02-2511-4736-AB6C-3486F6AFD7E4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17DF-657B-49CD-8AC7-DE9C2250C00F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44440" y="6278400"/>
            <a:ext cx="7832880" cy="6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Библиотека\война\солдат3.gif"/>
          <p:cNvPicPr/>
          <p:nvPr/>
        </p:nvPicPr>
        <p:blipFill>
          <a:blip r:embed="rId2"/>
          <a:stretch/>
        </p:blipFill>
        <p:spPr>
          <a:xfrm>
            <a:off x="500040" y="1928880"/>
            <a:ext cx="1671840" cy="2477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3286080" y="428760"/>
            <a:ext cx="5533920" cy="72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Автор: Шарыпова Али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Образовательное учреждение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Муниципальное общеобразовательное учреждение «Лицей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Sakkal Majall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Sakkal Majalla"/>
              </a:rPr>
              <a:t>г. 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Балашова Саратовской обла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2 «б» клас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Руководитель: Каретникова Улья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  <a:ea typeface="Sakkal Majalla"/>
              </a:rPr>
              <a:t>Геннадьев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1428840" y="500040"/>
            <a:ext cx="735804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ле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еликой Победы в моей  семь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500040" y="290160"/>
            <a:ext cx="81439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Номинация:  Презентация 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  <a:ea typeface="Times New Roman"/>
              </a:rPr>
              <a:t>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Герои  Великой Отечественной  войны  Саратовской  области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  <a:ea typeface="Times New Roman"/>
              </a:rPr>
              <a:t>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428760" y="0"/>
            <a:ext cx="835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гиональный интернет-конкурс творческих работ обучающихся, воспитанников и педагогов «Победа народа в сердцах поколений», проходящего в рамках празднования 75-летия Победы в Великой Отечественной вой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68032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-360" y="1599840"/>
            <a:ext cx="8929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черашним школьницам доверили сложную задачу – охранять от налётов фашистской авиации военно-промышленные комплексы, мосты, переправы, аэродромы, склад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рсанткам ни в чём поблажек не давали: приходилось самим копать землянки, ставить столбы, проводить провода. Девушки прошли сложную подготовку и досконально изучили все немецкие самолёты, шум мотор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нём бесстрашно стояли на наблюдательных вышках высотой до 40 метров, которые  качались от ветра. Ночью слушали небо в слуховой яме. В темноте опознать тип самолёта можно было только по шуму мотора. И в этом музыкальному женскому слуху не было равных. Девушки за несколько километров могли узнать, какой летит самолёт и в каком направлении, его дальность и высот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 полученных данных наблюдатели тут же сообщали в штаб. Ошибок нельзя было допускать ни при каких обстоятельст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5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2600" spc="-1" strike="noStrike">
                <a:solidFill>
                  <a:srgbClr val="ccffff"/>
                </a:solidFill>
                <a:latin typeface="Times New Roman"/>
              </a:rPr>
              <a:t>Я помню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643200" y="1143000"/>
            <a:ext cx="5500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imes New Roman"/>
              </a:rPr>
              <a:t>Шарыпова  Екатерина  родилась в 1923  г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imes New Roman"/>
              </a:rPr>
              <a:t>Когда  началась  война, ей  было всего 18 л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imes New Roman"/>
              </a:rPr>
              <a:t>А уже в апреле 1942 года  добровольно  ушла 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imes New Roman"/>
              </a:rPr>
              <a:t>действующую  арм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ffff66"/>
                </a:solidFill>
                <a:latin typeface="Times New Roman"/>
              </a:rPr>
              <a:t>В 17 отдельном      батальоне ПВО  молодая    красивая девушка прослужила  до мая  1943 года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С   мая 1943 года  моя прабабушка стала служи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в  736  зенитном артиллерийском полк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Мужественно защища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саратовское небо отважные  дочери Росси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выполнявшие  свой воинский  долг  пере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народом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Прабабушка была награжд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орденами и медал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2"/>
          <a:stretch/>
        </p:blipFill>
        <p:spPr>
          <a:xfrm>
            <a:off x="285840" y="785880"/>
            <a:ext cx="1753920" cy="204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1571760" y="3137040"/>
            <a:ext cx="187308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ogon3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348000" y="3141720"/>
            <a:ext cx="54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0036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                   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1143000" y="4902120"/>
            <a:ext cx="1084320" cy="170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7072200" y="835200"/>
            <a:ext cx="1859040" cy="152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7072200" y="4981680"/>
            <a:ext cx="1714680" cy="148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857160" y="525600"/>
            <a:ext cx="2367000" cy="1603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1500120" y="2428920"/>
            <a:ext cx="2230560" cy="1517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3786120" y="4259160"/>
            <a:ext cx="2700360" cy="1683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1"/>
          <p:cNvSpPr/>
          <p:nvPr/>
        </p:nvSpPr>
        <p:spPr>
          <a:xfrm>
            <a:off x="3614760" y="714240"/>
            <a:ext cx="21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Спасиб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з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мир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Шарыпо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Екатерина Кусаино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ата рожд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__.__.19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есто рождени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аратовская обл., г. Балашов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аименование наград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рден Отечественной войны II степени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Архив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АМО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артотек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Юбилейная картотека награжд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сположение документ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шкаф 61, ящик 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омер документа: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9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C:\Users\user\Desktop\2б\шарыпова\IMG_20200227_121159 - копия.jpg"/>
          <p:cNvPicPr/>
          <p:nvPr/>
        </p:nvPicPr>
        <p:blipFill>
          <a:blip r:embed="rId2"/>
          <a:stretch/>
        </p:blipFill>
        <p:spPr>
          <a:xfrm>
            <a:off x="714240" y="2428920"/>
            <a:ext cx="3403800" cy="3525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Эта память в веках - не зажившие ран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От беды, от войны край родной сбережёт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Наши дедушки, бабушки - войн ветеран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В ноги кланяется вам весь российский народ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рои  Великой Отечественной  войны  Саратовской  области – простые люд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 горжусь, что среди них была моя прабабушка Екатерина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5:23:34Z</dcterms:created>
  <dc:creator>Вячеслав</dc:creator>
  <dc:description/>
  <dc:language>en-US</dc:language>
  <cp:lastModifiedBy>user</cp:lastModifiedBy>
  <dcterms:modified xsi:type="dcterms:W3CDTF">2020-04-05T16:13:13Z</dcterms:modified>
  <cp:revision>115</cp:revision>
  <dc:subject/>
  <dc:title>Слайд 1</dc:title>
</cp:coreProperties>
</file>