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024-0B38-434F-A7A4-154C9A4F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E3F-35E7-4146-924A-808BAC2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DF1-B228-4EB4-A349-FE5018B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056-5319-4C56-8644-424AD7FC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0B35-C3B6-4EBB-8C8E-222499C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EAE1-5F1E-4DC4-8DCA-459F439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BEE-087E-4128-930C-0E0C2AF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42D0-48E0-403F-B7B0-C9A1594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06AC-BB51-41DE-BEEC-76D8A1F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5A4F-13EC-4ACD-ADAE-1306BFB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51D1-7C20-43D4-B4D5-35F12C5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AC5-B705-4225-AE66-A7314C8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859E-A789-42BA-B268-4919CE2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36B-8538-42C6-B5A0-DFF2E85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860-4DC6-43DD-A86A-213B3A1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172B-77C3-4BF2-872B-A4730FC3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C1CA-A4BD-4B74-B057-8557B617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842-6D5A-4170-BC17-DBCFDFD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ACA-CA12-4620-92C8-D9E1522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CF9-E27A-4376-B9D8-ACF5FF0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C49-416E-4437-BEBD-DD7960B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154-282E-42AF-A78E-59EA2D59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6D0-C577-4A29-8D7B-672C48B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16D-1106-498C-A8FA-6F9F0B8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F5B3-84CC-4F8B-877C-0F7B8A113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657-8677-40E7-9964-72F9AC258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Спряжение глагола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спряжения глаголов в русском язы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лаголы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л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.ч.                                                      Мн.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ш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втор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глаг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агол – самостоятельная часть речи, которая обозначает действие предм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да с грохотом падает с отвесной ска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и отвечает на вопросы: что делать? что сделать? и их формы: что делаю?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овая тем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спряж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Спряжени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это изменение глагола по лицам и числ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усском языке выделяются глаголы </a:t>
            </a:r>
            <a:r>
              <a:rPr b="0" i="1" lang="en-US" sz="3200" spc="-1" strike="noStrike">
                <a:solidFill>
                  <a:srgbClr val="7a5212"/>
                </a:solidFill>
                <a:latin typeface="Times New Roman"/>
              </a:rPr>
              <a:t>I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7a5212"/>
                </a:solidFill>
                <a:latin typeface="Times New Roman"/>
              </a:rPr>
              <a:t>II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спряж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разноспрягаем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аго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яжение необходимо уметь определять, чтобы верно писать безударные окончания глаг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39690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окончание ударное и о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ут, -ют в 3 лице мн.ч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оконч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дарное и о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т, -ят в 3 лице мн. ч.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ли же окончание безударное, то спряжение глагола определяется 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по начальной форм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с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 (выучить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яжению относятс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кроме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рить, стелить, зиждить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роиться, создаваться) и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зыбить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колебаться, качаться)  –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нать, дышать, держать, слыш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смотреть, терпеть, вертеть, зависеть, видеть, ненавидеть, обид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 остальные глаголы относя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ряжению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УЧИТЬ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5" name="Picture 2" descr="http://900igr.net/up/datas/109456/006.jpg"/>
          <p:cNvPicPr/>
          <p:nvPr/>
        </p:nvPicPr>
        <p:blipFill>
          <a:blip r:embed="rId1"/>
          <a:stretch/>
        </p:blipFill>
        <p:spPr>
          <a:xfrm>
            <a:off x="1187280" y="1341360"/>
            <a:ext cx="696456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ю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Ю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Ч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ю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ять, веять, реять, таять, чуять, лаять, каяться,  маяться, надеяться, лелеять, затеять, блеять, хая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лаголы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.ч.                                                    Мн.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шь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т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6:01:14Z</dcterms:created>
  <dc:creator>Ермаковы</dc:creator>
  <dc:description/>
  <dc:language>en-US</dc:language>
  <cp:lastModifiedBy>Ирина</cp:lastModifiedBy>
  <dcterms:modified xsi:type="dcterms:W3CDTF">2020-04-09T08:06:33Z</dcterms:modified>
  <cp:revision>26</cp:revision>
  <dc:subject/>
  <dc:title>Спряжение глаголов</dc:title>
</cp:coreProperties>
</file>