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04B-EC7E-48F3-96CA-6488FA4E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9DB-F074-40B8-AD4C-61326D61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560-1B97-4325-ACC0-BC43211C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074-86F6-4340-AAEE-B866EAE6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2D2-26C8-45D5-AB6E-C80BE2A9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AD4D-4D5C-4373-B9DE-76851B53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1B22-77CA-431D-A724-392C8C8B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9340-7DBD-4B97-AF62-EB58D1C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2D44-4FFC-4BAB-A3D7-B97D7EF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6864-BEA2-46B6-B1A4-30CCF9B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5A9E-E56D-4257-91F8-119B661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C7E-22D4-4FFC-B1EF-51D676A6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56A7-6BB2-4B16-9F11-F9406FC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D367-F4E7-4E4D-9E87-A39AA63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874-7BD1-41DD-AFBD-8B45EF0E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BD0F-8519-4C99-BF8D-C86E3609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E251-96FF-4316-91DA-EE22165D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B8B-7218-47FE-BD86-793E45A2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47D-1512-4118-A84B-6D93A8F5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F59-CC8E-4777-841C-D7347313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2AD-F2D5-4C32-9AA7-B19628BF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A61-7D21-4E4C-835A-4709A03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5E4-E2F6-4E96-B757-95F93EB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D55-59E3-4A12-842B-37B77CB2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D62-A0FD-4613-8700-DE956D870A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7DF8-8576-4FF0-B688-0D26A562E4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Спряжение глагола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собенности спряжения глаголов в русском язы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Глаголы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I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л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.ч.                                                      Мн.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л.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л.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ш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л.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пи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втор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такое глаго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лагол – самостоятельная часть речи, которая обозначает действие предм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ода с грохотом падает с отвесной ска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и отвечает на вопросы: что делать? что сделать? и их формы: что делаю?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овая тем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такое спряж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Спряжени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это изменение глагола по лицам и числ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усском языке выделяются глаголы </a:t>
            </a:r>
            <a:r>
              <a:rPr b="0" i="1" lang="en-US" sz="3200" spc="-1" strike="noStrike">
                <a:solidFill>
                  <a:srgbClr val="7a5212"/>
                </a:solidFill>
                <a:latin typeface="Times New Roman"/>
              </a:rPr>
              <a:t>I </a:t>
            </a:r>
            <a:r>
              <a:rPr b="0" i="1" lang="ru-RU" sz="3200" spc="-1" strike="noStrike">
                <a:solidFill>
                  <a:srgbClr val="7a5212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7a5212"/>
                </a:solidFill>
                <a:latin typeface="Times New Roman"/>
              </a:rPr>
              <a:t>II </a:t>
            </a:r>
            <a:r>
              <a:rPr b="0" i="1" lang="ru-RU" sz="3200" spc="-1" strike="noStrike">
                <a:solidFill>
                  <a:srgbClr val="7a5212"/>
                </a:solidFill>
                <a:latin typeface="Times New Roman"/>
              </a:rPr>
              <a:t>спряж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а также </a:t>
            </a:r>
            <a:r>
              <a:rPr b="0" i="1" lang="ru-RU" sz="3200" spc="-1" strike="noStrike">
                <a:solidFill>
                  <a:srgbClr val="7a5212"/>
                </a:solidFill>
                <a:latin typeface="Times New Roman"/>
              </a:rPr>
              <a:t>разноспрягаем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лаго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яжение необходимо уметь определять, чтобы верно писать безударные окончания глаго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39690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окончание ударное и о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ут, -ют в 3 лице мн.ч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оконч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дарное и о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т, -ят в 3 лице мн. ч.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сли же окончание безударное, то спряжение глагола определяется 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по начальной форм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с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 (выучить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яжению относятс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кроме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брить, стелить, зиждить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троиться, создаваться) и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зыбить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колебаться, качаться)  –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гнать, дышать, держать, слыш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на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смотреть, терпеть, вертеть, зависеть, видеть, ненавидеть, обиде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 остальные глаголы относя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ряжению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ЫУЧИТЬ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5" name="Picture 2" descr="http://900igr.net/up/datas/109456/006.jpg"/>
          <p:cNvPicPr/>
          <p:nvPr/>
        </p:nvPicPr>
        <p:blipFill>
          <a:blip r:embed="rId1"/>
          <a:stretch/>
        </p:blipFill>
        <p:spPr>
          <a:xfrm>
            <a:off x="1187280" y="1341360"/>
            <a:ext cx="696456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пределение 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ю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Ю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Ч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пряжению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ять, веять, реять, таять, чуять, лаять, каяться,  маяться, надеяться, лелеять, затеять, блеять, хая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Глаголы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пря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.ч.                                                    Мн.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л.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л.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шь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л.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т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ду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6:01:14Z</dcterms:created>
  <dc:creator>Ермаковы</dc:creator>
  <dc:description/>
  <dc:language>en-US</dc:language>
  <cp:lastModifiedBy>Ирина</cp:lastModifiedBy>
  <dcterms:modified xsi:type="dcterms:W3CDTF">2020-04-09T08:06:33Z</dcterms:modified>
  <cp:revision>26</cp:revision>
  <dc:subject/>
  <dc:title>Спряжение глаголов</dc:title>
</cp:coreProperties>
</file>