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88C-E76D-4850-820C-81719B66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DE1-0EF3-483E-B2AC-30C4D09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906-2683-4D10-9138-3A12E555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337-E437-4109-9143-F48147C6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A35-93F0-4C68-89DC-562298FA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BF8-AC08-4C39-91F2-6F9646C1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233-0150-4058-B24B-E8C09CC3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8E6-6E0B-4565-9D37-88887047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BD2-DD8D-48B8-A1EC-04A7C248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FB5-926A-4706-91BB-B7AF241D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E10-074E-44F7-A989-3D672EF8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9EE-4F7A-4600-99B3-1D456354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9F76-1CDA-4AD3-94F9-1B86F517A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1571760" y="100692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Урок  технологии в 1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Тема: «Весна. Какие краски у весны?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Аппликация «Подснежн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wallpage.ru/imgbig/wallpapers_43435.jpg"/>
          <p:cNvPicPr/>
          <p:nvPr/>
        </p:nvPicPr>
        <p:blipFill>
          <a:blip r:embed="rId2"/>
          <a:stretch/>
        </p:blipFill>
        <p:spPr>
          <a:xfrm>
            <a:off x="2500200" y="2714760"/>
            <a:ext cx="4500720" cy="3000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4152600" y="5715000"/>
            <a:ext cx="496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ла Тонькина Марина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БОУ «Дуденевск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skyclipart.ru/uploads/posts/2010-05/1274357084_plakat_nojnitsi.jpg"/>
          <p:cNvPicPr/>
          <p:nvPr/>
        </p:nvPicPr>
        <p:blipFill>
          <a:blip r:embed="rId2"/>
          <a:stretch/>
        </p:blipFill>
        <p:spPr>
          <a:xfrm>
            <a:off x="500040" y="642960"/>
            <a:ext cx="8143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1857240" y="21420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етали аппликации. Их формы. Способ их изготовления и соеди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8" descr=""/>
          <p:cNvPicPr/>
          <p:nvPr/>
        </p:nvPicPr>
        <p:blipFill>
          <a:blip r:embed="rId2"/>
          <a:srcRect l="0" t="34068" r="74512" b="14229"/>
          <a:stretch/>
        </p:blipFill>
        <p:spPr>
          <a:xfrm>
            <a:off x="324000" y="1125360"/>
            <a:ext cx="4248000" cy="4824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"/>
          <p:cNvPicPr/>
          <p:nvPr/>
        </p:nvPicPr>
        <p:blipFill>
          <a:blip r:embed="rId3"/>
          <a:srcRect l="28376" t="45292" r="52712" b="19839"/>
          <a:stretch/>
        </p:blipFill>
        <p:spPr>
          <a:xfrm>
            <a:off x="5148360" y="1125360"/>
            <a:ext cx="3095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214200" y="357120"/>
            <a:ext cx="72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готовь дет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дай форму деталям – изог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готовь компози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http://detionline.org/wp-content/uploads/2012/04/podsneznik.jpg"/>
          <p:cNvPicPr/>
          <p:nvPr/>
        </p:nvPicPr>
        <p:blipFill>
          <a:blip r:embed="rId2"/>
          <a:srcRect l="0" t="0" r="0" b="55838"/>
          <a:stretch/>
        </p:blipFill>
        <p:spPr>
          <a:xfrm>
            <a:off x="204840" y="4881600"/>
            <a:ext cx="5715000" cy="1419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"/>
          <p:cNvPicPr/>
          <p:nvPr/>
        </p:nvPicPr>
        <p:blipFill>
          <a:blip r:embed="rId3"/>
          <a:srcRect l="28376" t="45292" r="52712" b="19839"/>
          <a:stretch/>
        </p:blipFill>
        <p:spPr>
          <a:xfrm>
            <a:off x="214200" y="2492280"/>
            <a:ext cx="1693800" cy="2305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"/>
          <p:cNvPicPr/>
          <p:nvPr/>
        </p:nvPicPr>
        <p:blipFill>
          <a:blip r:embed="rId4"/>
          <a:srcRect l="53385" t="45894" r="28018" b="19640"/>
          <a:stretch/>
        </p:blipFill>
        <p:spPr>
          <a:xfrm>
            <a:off x="6588000" y="1989000"/>
            <a:ext cx="23050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https://ds04.infourok.ru/uploads/ex/0783/0003ff22-4c74e530/img28.jpg"/>
          <p:cNvPicPr/>
          <p:nvPr/>
        </p:nvPicPr>
        <p:blipFill>
          <a:blip r:embed="rId2"/>
          <a:stretch/>
        </p:blipFill>
        <p:spPr>
          <a:xfrm>
            <a:off x="357120" y="571680"/>
            <a:ext cx="84297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2000160" y="2000160"/>
            <a:ext cx="564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ВЫ  МОЛОДЦЫ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2214720" y="1071720"/>
            <a:ext cx="507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Рыхлый снег на солнце тает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етерок в ветвях играет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Звонче птичьи голос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Значит, к нам пришла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ped-kopilka.ru/upload/blogs/9226_9b2604103857be744307290b84d68022.jpg.jpg"/>
          <p:cNvPicPr/>
          <p:nvPr/>
        </p:nvPicPr>
        <p:blipFill>
          <a:blip r:embed="rId2"/>
          <a:stretch/>
        </p:blipFill>
        <p:spPr>
          <a:xfrm>
            <a:off x="2000160" y="3071880"/>
            <a:ext cx="4929120" cy="328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2571840" y="28584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dagmintrud.ru/upload/iblock/7a0/7a017bc79d1be7f630c6e1070ace71d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http://www.neizvestniy-geniy.ru/images/works/photo/2017/02/1736779_1.jpg"/>
          <p:cNvPicPr/>
          <p:nvPr/>
        </p:nvPicPr>
        <p:blipFill>
          <a:blip r:embed="rId2"/>
          <a:stretch/>
        </p:blipFill>
        <p:spPr>
          <a:xfrm>
            <a:off x="357120" y="1785960"/>
            <a:ext cx="378612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Поляна подснежников"/>
          <p:cNvPicPr/>
          <p:nvPr/>
        </p:nvPicPr>
        <p:blipFill>
          <a:blip r:embed="rId3"/>
          <a:stretch/>
        </p:blipFill>
        <p:spPr>
          <a:xfrm>
            <a:off x="4572000" y="1785960"/>
            <a:ext cx="4214880" cy="3841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2500200" y="28584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ервоцветы весен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http://magicwall.ru/wallpapers/spring-flowers-14_thekrankis_ncsa.jpg"/>
          <p:cNvPicPr/>
          <p:nvPr/>
        </p:nvPicPr>
        <p:blipFill>
          <a:blip r:embed="rId2"/>
          <a:stretch/>
        </p:blipFill>
        <p:spPr>
          <a:xfrm>
            <a:off x="142920" y="3429000"/>
            <a:ext cx="4143240" cy="3214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http://www.2fons.ru/pic/201405/1280x800/2fons.ru-9075.jpg"/>
          <p:cNvPicPr/>
          <p:nvPr/>
        </p:nvPicPr>
        <p:blipFill>
          <a:blip r:embed="rId3"/>
          <a:stretch/>
        </p:blipFill>
        <p:spPr>
          <a:xfrm>
            <a:off x="4643280" y="357120"/>
            <a:ext cx="4286520" cy="27860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5286240" y="364320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робивался сквозь снежок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дивительный росток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амый первый, самый нежный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амый бархатный цвето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flipH="1">
            <a:off x="356400" y="78588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 лесной проталин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ырос цветик мален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ячется в валеж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Маленький   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900igr.net/up/datas/89335/007.jpg"/>
          <p:cNvPicPr/>
          <p:nvPr/>
        </p:nvPicPr>
        <p:blipFill>
          <a:blip r:embed="rId2"/>
          <a:stretch/>
        </p:blipFill>
        <p:spPr>
          <a:xfrm>
            <a:off x="642960" y="714240"/>
            <a:ext cx="7858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071720" y="571680"/>
            <a:ext cx="6572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15987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Аппликация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наклеивание деталей композиции на основ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2"/>
          <a:srcRect l="53385" t="45894" r="28018" b="19640"/>
          <a:stretch/>
        </p:blipFill>
        <p:spPr>
          <a:xfrm>
            <a:off x="2916360" y="620640"/>
            <a:ext cx="3311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3.bp.blogspot.com/-DZDJJsU46SI/WP-XftS92zI/AAAAAAAACjw/rRFnAahpghI6-vmCHtTS0b71kOpGye_ywCLcB/s1600/9628.jpg"/>
          <p:cNvPicPr/>
          <p:nvPr/>
        </p:nvPicPr>
        <p:blipFill>
          <a:blip r:embed="rId2"/>
          <a:stretch/>
        </p:blipFill>
        <p:spPr>
          <a:xfrm>
            <a:off x="285840" y="1000080"/>
            <a:ext cx="8286840" cy="5143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928880" y="28584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ериалы и инструмен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5:25:25Z</dcterms:created>
  <dc:creator>User</dc:creator>
  <dc:description/>
  <dc:language>en-US</dc:language>
  <cp:lastModifiedBy>Admin</cp:lastModifiedBy>
  <dcterms:modified xsi:type="dcterms:W3CDTF">2020-04-09T08:24:45Z</dcterms:modified>
  <cp:revision>28</cp:revision>
  <dc:subject/>
  <dc:title>Слайд 1</dc:title>
</cp:coreProperties>
</file>