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A45-4391-43F7-B04F-4704177F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A5C-5EC6-4CFE-8A12-E4A3EAA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2BA-0CBC-4070-B9D2-31E865CC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DAF-C3E5-449E-BF74-145E67ED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9470-FE6E-4F70-BFD5-1F18E405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167A-14F3-4971-9A95-D566E81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A16D-1E36-4B19-9452-9A57D603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863-9FDA-461A-A867-2180E9A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A42-6DB7-4552-9EE2-6C0520E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D4B9-47BE-4E3B-AFDA-8F184D2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C33B-4EE4-4C6B-84B7-66BBDF3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BFD-2340-46C7-A60E-DBA3A5C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760F-E280-41CE-839C-FC4AA1CE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158C-308D-407C-9E61-5822D8A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ED8F-500F-49D6-87A4-CDF0BB3E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7BBA-74FA-4342-ADF0-A7FA958C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FF64-D422-415F-B2D5-8F330D41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CD1F-E0FA-4D0B-834F-F6C224E3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DD74-7718-471E-B4F3-D434F6F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7699-1A90-4684-84D8-5BC9140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EEA6-F232-4CAB-9173-213B5239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B029-2089-4D04-8E80-324E317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21F-9CA3-44DC-8A8A-DEEBF62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35F1-C3E3-448F-A7CE-41CAF8CE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05E5-5711-45F4-B853-D9E107F2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C2BE-50AE-436F-8B48-20933AF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121D-551B-410A-9A5C-C0A0C99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0298-BA3A-45A6-9744-77670D5F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DA73-9300-4B0C-A3B6-8333CBF8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BD14-3D62-4004-937D-C8387EED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567A-FE80-4058-B4C9-161C5690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4238-E78D-4320-836B-BAA1C66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6648-ACD2-4580-B082-14CFF96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4AC-4CBA-4931-9207-A0CB384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68D6-CB4A-4F02-A97E-D8A560B3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4816-BFFF-4C7F-8BB7-28BA7660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EFAA-A27C-4831-9FBC-77C4DC9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6009-944C-4DDA-BC61-1872DE4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26AD-2B98-4951-8934-FF9FDD8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A8DF-7472-4965-866B-E25C40EB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7068-F51D-4E5B-8F8B-91D555D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0EB0-E361-45AE-BFFE-926A53E8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6958-CCD8-4E68-9DAC-CC99DAAA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B209-E4E0-4903-8B07-E8C8034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712-7224-4404-858F-A88A1A30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0A59-5561-40FD-838D-8C1C684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F411-7C0D-4EB5-BA40-D9AAFF38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C48A-3BC3-4097-AA32-0AFC40ED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8EE9-59E4-4FE1-904E-2489ECA8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7D778-4562-4041-B50A-B4C31AE2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AF20-B5A1-4F77-96F4-D136815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63E1-3093-45EF-B4BC-6FB26B3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4C92-5EB9-4743-B122-AEC4B890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5DB9-159B-4E53-91E4-DC6C7B87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BF61-31A2-4531-AF1C-F9347F92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7D4-4242-4636-8B2C-9B445D3F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9FED-8057-4FCF-93B5-DF932E6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96B-A943-43E0-BA72-CF77F568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157-0A9D-4406-B797-1D43B4FA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264-55F4-4D96-9BEB-AA838E62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1520-82BB-4D64-A462-4AB70D334434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0E2-6549-4B90-AFE9-C2E02E624B81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575-4374-4692-869F-FB42FC3380C0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D8FA-1B8B-4852-9B81-765313D2336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8B1D-1405-4525-97F1-CB9E7E9C9E1C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89308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Gothic"/>
              </a:rPr>
              <a:t>ВЕДЕНИЕ ДОМАШНЕГО ХОЗЯЙСТВ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42920" y="2060640"/>
            <a:ext cx="688032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66"/>
                </a:solidFill>
                <a:latin typeface="Book Antiqua"/>
              </a:rPr>
              <a:t>Основы технологии оклейки стен обоями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-17460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Винилов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0" name="Picture 5" descr="винил"/>
          <p:cNvPicPr/>
          <p:nvPr/>
        </p:nvPicPr>
        <p:blipFill>
          <a:blip r:embed="rId1"/>
          <a:stretch/>
        </p:blipFill>
        <p:spPr>
          <a:xfrm>
            <a:off x="2181240" y="836640"/>
            <a:ext cx="45514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0600" y="11592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Фотообои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3" name="Picture 5" descr="фотообои"/>
          <p:cNvPicPr/>
          <p:nvPr/>
        </p:nvPicPr>
        <p:blipFill>
          <a:blip r:embed="rId1"/>
          <a:stretch/>
        </p:blipFill>
        <p:spPr>
          <a:xfrm>
            <a:off x="1230480" y="1268280"/>
            <a:ext cx="6559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12708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Жидки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5" name="Picture 6" descr="жидкие2"/>
          <p:cNvPicPr/>
          <p:nvPr/>
        </p:nvPicPr>
        <p:blipFill>
          <a:blip r:embed="rId1"/>
          <a:stretch/>
        </p:blipFill>
        <p:spPr>
          <a:xfrm>
            <a:off x="1619280" y="1197000"/>
            <a:ext cx="5370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Расчет количества рулонов для оклейки комнат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П.Р. «Выполните развёрнутый план своей комнаты для расчёта количества рулонов.»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324000" y="2624040"/>
            <a:ext cx="8640720" cy="36846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-396720" y="63086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49100"/>
                </a:solidFill>
                <a:latin typeface="Arial"/>
              </a:rPr>
              <a:t>Развернутый план ком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Алгоритм подсчёта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расхода обое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just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    </a:t>
            </a: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Количество обоев (пленки) для оклеивания того или иного помещения измеряют рулонами, подсчитывают, используя информацию о высоте и площади комнаты, ширине обоев, количестве имеющихся окон и дверей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just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Измерьте общую длину стен и определите, сколько полотнищ обоев той или иной длины потребуется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Затем длину рулона разделите на длину одного полотна и узнайте, сколько полотнищ сможете выкроить из одного рулона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just">
              <a:spcBef>
                <a:spcPts val="9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a4252"/>
                </a:solidFill>
                <a:latin typeface="Century Gothic"/>
              </a:rPr>
              <a:t>Разделив общее число полотнищ, необходимых для оклейки всех комнат, на число полотнищ этой же длины в одном рулоне, вы определите требуемое количество рулонов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6040" y="0"/>
            <a:ext cx="7682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Инструменты и приспособления для обойных работ. Назовите.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530280" y="1197000"/>
            <a:ext cx="83152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2736720" cy="851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3166920" cy="1084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500040" y="1785960"/>
            <a:ext cx="2376360" cy="1300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4"/>
          <a:stretch/>
        </p:blipFill>
        <p:spPr>
          <a:xfrm>
            <a:off x="4788000" y="2133720"/>
            <a:ext cx="2590560" cy="1287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5"/>
          <a:stretch/>
        </p:blipFill>
        <p:spPr>
          <a:xfrm>
            <a:off x="642960" y="3857760"/>
            <a:ext cx="2592360" cy="1538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6"/>
          <a:stretch/>
        </p:blipFill>
        <p:spPr>
          <a:xfrm>
            <a:off x="5219640" y="3860640"/>
            <a:ext cx="1022400" cy="2160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7"/>
          <a:stretch/>
        </p:blipFill>
        <p:spPr>
          <a:xfrm>
            <a:off x="357120" y="5829480"/>
            <a:ext cx="4176720" cy="1028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"/>
          <p:cNvPicPr/>
          <p:nvPr/>
        </p:nvPicPr>
        <p:blipFill>
          <a:blip r:embed="rId8"/>
          <a:stretch/>
        </p:blipFill>
        <p:spPr>
          <a:xfrm>
            <a:off x="7667640" y="3860640"/>
            <a:ext cx="949320" cy="244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4"/>
          <p:cNvSpPr/>
          <p:nvPr/>
        </p:nvSpPr>
        <p:spPr>
          <a:xfrm>
            <a:off x="715680" y="13572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— нож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428000" y="155736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б —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нож для разрезки трещ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214560" y="3214800"/>
            <a:ext cx="34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в —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валик для разравн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наклеенных об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4212000" y="335772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г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— щетка для разглаживания об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468360" y="5445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д —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кисть для нанесения к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150160" y="616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е 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— от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050920" y="649116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485a4"/>
                </a:solidFill>
                <a:latin typeface="Arial"/>
              </a:rPr>
              <a:t>ж —</a:t>
            </a: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6733440" y="630864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85a4"/>
                </a:solidFill>
                <a:latin typeface="Arial"/>
              </a:rPr>
              <a:t>з — роликовый 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8244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Алгоритм выполнения подготовки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entury Gothic"/>
              </a:rPr>
              <a:t> поверхности под обои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16000" y="162864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ция рабочего места, осмотр поверхности сте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мачивание старых обое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даление старых обое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глаживание поверхност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ен и очистка от брызг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твор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 других загрязнени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5. Расшивка трещи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6. Подмазывание трещи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7. Шлифование подмазанны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с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Алгоритм выполнения обойных работ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258560" y="1371600"/>
            <a:ext cx="81867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. Приготовление клеевых составо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2. Промазывание стен грунтовкой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3. Промазывание стен клеем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. Нарезка полотнищ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5. Разметка вертикальной линии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6. Нанесение клеевого состава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на полотнище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7. Разглаживание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8. Срезание краев обое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9. Оклеивание углов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0. Оклеивание стен вокруг дверей и окон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11. Наклеивание обоев вокруг выключателей и розето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6960" y="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Совмещение рисунка обоев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032360" cy="397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1027080" y="560880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е 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935960" y="558972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ильное 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s://images.wallpaperscraft.ru/image/komnata_postel_uyut_komfort_spalnya_64345_2560x1440.jpg"/>
          <p:cNvPicPr/>
          <p:nvPr/>
        </p:nvPicPr>
        <p:blipFill>
          <a:blip r:embed="rId1"/>
          <a:stretch/>
        </p:blipFill>
        <p:spPr>
          <a:xfrm>
            <a:off x="900000" y="1268280"/>
            <a:ext cx="7151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7682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entury Gothic"/>
              </a:rPr>
              <a:t>Правила безопасности при оклейке стен обоям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427280" y="1386000"/>
            <a:ext cx="4537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9100"/>
                </a:solidFill>
                <a:latin typeface="Century Gothic"/>
              </a:rPr>
              <a:t>1. </a:t>
            </a:r>
            <a:r>
              <a:rPr b="0" lang="ru-RU" sz="2400" spc="-1" strike="noStrike">
                <a:solidFill>
                  <a:srgbClr val="0a4252"/>
                </a:solidFill>
                <a:latin typeface="Century Gothic"/>
              </a:rPr>
              <a:t>Соблюдать осторожность при приготовлении клейстера. Не наклонять лицо близко к горячей воде при вливании в нее жидкой крахмальной массы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4252"/>
                </a:solidFill>
                <a:latin typeface="Century Gothic"/>
              </a:rPr>
              <a:t>2. Запрещается работать на приставной лестнице. При оклейке стен обоями нужно пользоваться лестницей-стремянкой, стулом, стол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4252"/>
                </a:solidFill>
                <a:latin typeface="Century Gothic"/>
              </a:rPr>
              <a:t>3. После завершения оклейки помещения обоями надо тщательно вымыть руки с мыло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908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Обои</a:t>
            </a:r>
            <a:r>
              <a:rPr b="0" lang="ru-RU" sz="4000" spc="-1" strike="noStrike">
                <a:solidFill>
                  <a:srgbClr val="0f647b"/>
                </a:solidFill>
                <a:latin typeface="Century Gothic"/>
              </a:rPr>
              <a:t> – отделочный материал, на бумажной основе с печатным или тисненным рисунком на одно- или многоцветном фоне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3428640"/>
            <a:ext cx="8115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a4252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a4252"/>
                </a:solidFill>
                <a:latin typeface="Century Gothic"/>
              </a:rPr>
              <a:t>Обои выпускают шириной от 500 до 1200 мм и длиной в рулоне от 7  до 30 м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89080" y="16992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Century Gothic"/>
              </a:rPr>
              <a:t>Классификация обоев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3429000" y="4071960"/>
            <a:ext cx="2500200" cy="71424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 вдавленным мелким рису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429000" y="3214800"/>
            <a:ext cx="2500200" cy="71424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 рельефным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371520" y="4714920"/>
            <a:ext cx="2557440" cy="10177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ысокостойкие – винилов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флезили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428760" y="3429000"/>
            <a:ext cx="2500200" cy="42876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достой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28760" y="4071960"/>
            <a:ext cx="2500200" cy="42876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3127320" y="5056200"/>
            <a:ext cx="3087720" cy="10969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 глубоким рису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ногосл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6215040" y="2643120"/>
            <a:ext cx="2714760" cy="8701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4252"/>
                </a:solidFill>
                <a:latin typeface="Century Gothic"/>
              </a:rPr>
              <a:t>гладкие одно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6215040" y="1197000"/>
            <a:ext cx="2630520" cy="1289160"/>
          </a:xfrm>
          <a:prstGeom prst="rect">
            <a:avLst/>
          </a:prstGeom>
          <a:gradFill rotWithShape="0">
            <a:gsLst>
              <a:gs pos="0">
                <a:srgbClr val="f49100"/>
              </a:gs>
              <a:gs pos="100000">
                <a:srgbClr val="1cade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4252"/>
                </a:solidFill>
                <a:latin typeface="Arial"/>
              </a:rPr>
              <a:t>в зависимости от рису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3429000" y="2714760"/>
            <a:ext cx="2500200" cy="35712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лад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3276720" y="1197000"/>
            <a:ext cx="2652480" cy="1289160"/>
          </a:xfrm>
          <a:prstGeom prst="rect">
            <a:avLst/>
          </a:prstGeom>
          <a:gradFill rotWithShape="0">
            <a:gsLst>
              <a:gs pos="0">
                <a:srgbClr val="f49100"/>
              </a:gs>
              <a:gs pos="100000">
                <a:srgbClr val="1cade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4252"/>
                </a:solidFill>
                <a:latin typeface="Arial"/>
              </a:rPr>
              <a:t>по виду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371520" y="1197000"/>
            <a:ext cx="2557440" cy="1289160"/>
          </a:xfrm>
          <a:prstGeom prst="rect">
            <a:avLst/>
          </a:prstGeom>
          <a:gradFill rotWithShape="0">
            <a:gsLst>
              <a:gs pos="0">
                <a:srgbClr val="f49100"/>
              </a:gs>
              <a:gs pos="100000">
                <a:srgbClr val="1cade4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4252"/>
                </a:solidFill>
                <a:latin typeface="Arial"/>
              </a:rPr>
              <a:t>по водо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428760" y="2714760"/>
            <a:ext cx="2500200" cy="42840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бы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6116760" y="3833640"/>
            <a:ext cx="2728800" cy="667080"/>
          </a:xfrm>
          <a:prstGeom prst="rect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4252"/>
                </a:solidFill>
                <a:latin typeface="Century Gothic"/>
              </a:rPr>
              <a:t>узор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360" y="255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Виды обоев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8147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Бумажн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Велюров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Текстильн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текловолокнист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Виниловы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Акриловые обо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Фото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Жидкие обо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Бумажн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1" name="Picture 5" descr="bim14"/>
          <p:cNvPicPr/>
          <p:nvPr/>
        </p:nvPicPr>
        <p:blipFill>
          <a:blip r:embed="rId1"/>
          <a:stretch/>
        </p:blipFill>
        <p:spPr>
          <a:xfrm>
            <a:off x="731880" y="98100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Велюров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4" name="Picture 5" descr="1199461152_091"/>
          <p:cNvPicPr/>
          <p:nvPr/>
        </p:nvPicPr>
        <p:blipFill>
          <a:blip r:embed="rId1"/>
          <a:stretch/>
        </p:blipFill>
        <p:spPr>
          <a:xfrm>
            <a:off x="728640" y="1338120"/>
            <a:ext cx="7947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-63360"/>
            <a:ext cx="76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Текстильн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6" name="Picture 5" descr="текстильн"/>
          <p:cNvPicPr/>
          <p:nvPr/>
        </p:nvPicPr>
        <p:blipFill>
          <a:blip r:embed="rId1"/>
          <a:stretch/>
        </p:blipFill>
        <p:spPr>
          <a:xfrm>
            <a:off x="1835280" y="1052640"/>
            <a:ext cx="42494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Стекловолокнистые обои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8" name="Picture 6" descr="oboi_steklo"/>
          <p:cNvPicPr/>
          <p:nvPr/>
        </p:nvPicPr>
        <p:blipFill>
          <a:blip r:embed="rId1"/>
          <a:stretch/>
        </p:blipFill>
        <p:spPr>
          <a:xfrm>
            <a:off x="1403280" y="1341360"/>
            <a:ext cx="6105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4:37:53Z</dcterms:created>
  <dc:creator>Станкевская Л.П.</dc:creator>
  <dc:description/>
  <dc:language>en-US</dc:language>
  <cp:lastModifiedBy>Elena</cp:lastModifiedBy>
  <dcterms:modified xsi:type="dcterms:W3CDTF">2020-04-09T15:42:18Z</dcterms:modified>
  <cp:revision>47</cp:revision>
  <dc:subject>Ремонт в квартире</dc:subject>
  <dc:title>Технология ведения дома </dc:title>
</cp:coreProperties>
</file>