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857-230C-4DF6-9B35-8FA537F5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B2B-09DE-450A-9736-BB296254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5B0-2D82-4002-86FF-40AB440A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07A-97D6-4A2E-BC9F-84FC6FF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5B46-44B2-4895-99AA-ACC787D9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F94D-023B-431A-9127-9461C20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EA74-7437-4020-85F2-4D7114B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CEA-8042-4D49-8336-0BA0FE7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389-0A96-41B6-B400-CA8968E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3A62-1735-40A1-B744-CA5D7F5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2B87-E61E-4717-AA7D-E76CFBE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03E-35B5-4366-869A-99F4CAD0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E97-A55C-45F8-8764-86C01A2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DAD9-3AEC-4898-822C-6757C46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C142-A04B-40AC-9375-61A786D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1F52-BC15-4CB8-A963-DDCA04CE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40D-A20D-45FA-9DFF-A9CF3B83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9E5F-CE2A-4716-BA34-C2F57F51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E0CA-3735-4FF2-972B-9742155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4ECE-1C72-4672-8003-A0D8E58A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AF5B-6CFA-4F5E-A4C3-E367CEA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3D6E-A8F5-406F-B821-3BA99233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B5A-C45D-4433-8449-93A5A752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FFBF-17AC-4B77-945B-D24C58AF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DA9D-6E78-441D-8896-148FD674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955C-5D69-44D7-8BFE-2E99F76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4ED4-DAB7-4896-9C8C-E0ED992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8386-674C-4AE0-88DD-67B1D4EA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F64B-426C-4D3A-ADF4-F8D9B814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FA69-8AF8-40A5-88A0-7E76AAFF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2C82-A798-412D-A78F-CF9C0DFB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70B2-25ED-4367-9983-CDDECD8C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30CC-8786-4167-9EF0-88BC3C89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E2C-AD1B-42F3-BC86-9055307A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ED85-F2BB-4400-851C-8D0C2A48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A9BB-0960-4B3A-8907-AB4B2185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1ACD-3143-467A-80E3-FC1C40D2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67D1-42B8-4C9E-BD4A-C919760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DC54-B6DC-4713-BF4F-8935953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4CF9-558F-4F0D-AC05-9F2443E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3EFF-68E0-43C6-A1F7-12A6FE3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D34F-B08F-40B1-9A3C-5E3F95AC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5A73-F462-440A-B47B-C71AF036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8891-D7FC-4A21-A629-F7975CA3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ADB-6B47-460E-B00C-3962245D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4E4CC-AFE5-4632-BC15-740DA69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B6C2-947A-489F-B17E-2F2D127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97E9-6591-4774-9CFD-9E6E1A5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9DE9-ED0C-40BE-A204-BF603C63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173C-CCB5-470B-9CF2-4EAFF9E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743C-CF01-45C6-BFF0-00EA27CD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CC0FD-57E5-4008-B4BD-D235A33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DEAE-C808-4D7A-9FCF-6606BD8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0AD3-CD54-4A91-90FB-B18743E8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FC6E-C73D-41B3-97BC-34001075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3DD-4E57-4E78-9CE4-AAD8E4E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D5C4-3D7D-4C66-A9D9-41A31CC9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CE6-9287-4272-B619-675C3CC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DE1-D331-458F-9546-1C1D11C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51E-602D-4697-A639-E3AED23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1418-F759-4AFD-84DB-F693F7F9405C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964-A485-482C-924E-4F4C88CA5601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8C14-F97B-4BC8-AAB3-0034912C4965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30BC-84AD-4B69-A757-6776BDDC51E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2F3-4851-4DE6-8E2B-0B3E18BC9114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89308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Gothic"/>
              </a:rPr>
              <a:t>ВЕДЕНИЕ ДОМАШНЕГО ХОЗЯЙСТВ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42920" y="2060640"/>
            <a:ext cx="688032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66"/>
                </a:solidFill>
                <a:latin typeface="Book Antiqua"/>
              </a:rPr>
              <a:t>Основы технологии оклейки стен обоями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-17460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Винилов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0" name="Picture 5" descr="винил"/>
          <p:cNvPicPr/>
          <p:nvPr/>
        </p:nvPicPr>
        <p:blipFill>
          <a:blip r:embed="rId1"/>
          <a:stretch/>
        </p:blipFill>
        <p:spPr>
          <a:xfrm>
            <a:off x="2181240" y="836640"/>
            <a:ext cx="45514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0600" y="11592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Фотообои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3" name="Picture 5" descr="фотообои"/>
          <p:cNvPicPr/>
          <p:nvPr/>
        </p:nvPicPr>
        <p:blipFill>
          <a:blip r:embed="rId1"/>
          <a:stretch/>
        </p:blipFill>
        <p:spPr>
          <a:xfrm>
            <a:off x="1230480" y="1268280"/>
            <a:ext cx="6559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12708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Жидки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5" name="Picture 6" descr="жидкие2"/>
          <p:cNvPicPr/>
          <p:nvPr/>
        </p:nvPicPr>
        <p:blipFill>
          <a:blip r:embed="rId1"/>
          <a:stretch/>
        </p:blipFill>
        <p:spPr>
          <a:xfrm>
            <a:off x="1619280" y="1197000"/>
            <a:ext cx="5370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Расчет количества рулонов для оклейки комнат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П.Р. «Выполните развёрнутый план своей комнаты для расчёта количества рулонов.»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324000" y="2624040"/>
            <a:ext cx="8640720" cy="36846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-396720" y="63086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49100"/>
                </a:solidFill>
                <a:latin typeface="Arial"/>
              </a:rPr>
              <a:t>Развернутый план ком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лгоритм подсчёта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расхода обое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just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    </a:t>
            </a: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Количество обоев (пленки) для оклеивания того или иного помещения измеряют рулонами, подсчитывают, используя информацию о высоте и площади комнаты, ширине обоев, количестве имеющихся окон и дверей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just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Измерьте общую длину стен и определите, сколько полотнищ обоев той или иной длины потребуется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Затем длину рулона разделите на длину одного полотна и узнайте, сколько полотнищ сможете выкроить из одного рулона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just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Разделив общее число полотнищ, необходимых для оклейки всех комнат, на число полотнищ этой же длины в одном рулоне, вы определите требуемое количество рулонов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6040" y="0"/>
            <a:ext cx="7682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Инструменты и приспособления для обойных работ. Назовите.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530280" y="1197000"/>
            <a:ext cx="83152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2736720" cy="851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3166920" cy="1084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500040" y="1785960"/>
            <a:ext cx="2376360" cy="130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4"/>
          <a:stretch/>
        </p:blipFill>
        <p:spPr>
          <a:xfrm>
            <a:off x="4788000" y="2133720"/>
            <a:ext cx="2590560" cy="1287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5"/>
          <a:stretch/>
        </p:blipFill>
        <p:spPr>
          <a:xfrm>
            <a:off x="642960" y="3857760"/>
            <a:ext cx="2592360" cy="1538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6"/>
          <a:stretch/>
        </p:blipFill>
        <p:spPr>
          <a:xfrm>
            <a:off x="5219640" y="3860640"/>
            <a:ext cx="1022400" cy="216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7"/>
          <a:stretch/>
        </p:blipFill>
        <p:spPr>
          <a:xfrm>
            <a:off x="357120" y="5829480"/>
            <a:ext cx="4176720" cy="1028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8"/>
          <a:stretch/>
        </p:blipFill>
        <p:spPr>
          <a:xfrm>
            <a:off x="7667640" y="3860640"/>
            <a:ext cx="949320" cy="244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4"/>
          <p:cNvSpPr/>
          <p:nvPr/>
        </p:nvSpPr>
        <p:spPr>
          <a:xfrm>
            <a:off x="715680" y="13572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— нож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428000" y="155736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б —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нож для разрезки трещ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214560" y="3214800"/>
            <a:ext cx="34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в —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валик для разравн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наклеенных об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4212000" y="335772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г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— щетка для разглаживания об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468360" y="5445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д —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кисть для нанесения к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150160" y="616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е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— от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050920" y="649116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ж —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6733440" y="630864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з — роликовый 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8244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Алгоритм выполнения подготовки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 поверхности под обои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16000" y="162864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ция рабочего места, осмотр поверхности сте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мачивание старых обое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даление старых обое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глаживание поверхност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ен и очистка от брызг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твор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 других загрязнени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5. Расшивка трещи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6. Подмазывание трещи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7. Шлифование подмазанны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с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Алгоритм выполнения обойных работ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258560" y="1371600"/>
            <a:ext cx="81867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. Приготовление клеевых составо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2. Промазывание стен грунтовкой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3. Промазывание стен клеем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. Нарезка полотнищ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5. Разметка вертикальной линии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6. Нанесение клеевого состава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на полотнище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7. Разглаживание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8. Срезание краев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9. Оклеивание угло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0. Оклеивание стен вокруг дверей и окон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1. Наклеивание обоев вокруг выключателей и розето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6960" y="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Совмещение рисунка обоев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032360" cy="397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1027080" y="56088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е 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935960" y="55897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ое 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s://images.wallpaperscraft.ru/image/komnata_postel_uyut_komfort_spalnya_64345_2560x1440.jpg"/>
          <p:cNvPicPr/>
          <p:nvPr/>
        </p:nvPicPr>
        <p:blipFill>
          <a:blip r:embed="rId1"/>
          <a:stretch/>
        </p:blipFill>
        <p:spPr>
          <a:xfrm>
            <a:off x="900000" y="1268280"/>
            <a:ext cx="7151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7682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Правила безопасности при оклейке стен обоям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427280" y="1386000"/>
            <a:ext cx="4537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9100"/>
                </a:solidFill>
                <a:latin typeface="Century Gothic"/>
              </a:rPr>
              <a:t>1. </a:t>
            </a:r>
            <a:r>
              <a:rPr b="0" lang="ru-RU" sz="2400" spc="-1" strike="noStrike">
                <a:solidFill>
                  <a:srgbClr val="0a4252"/>
                </a:solidFill>
                <a:latin typeface="Century Gothic"/>
              </a:rPr>
              <a:t>Соблюдать осторожность при приготовлении клейстера. Не наклонять лицо близко к горячей воде при вливании в нее жидкой крахмальной массы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4252"/>
                </a:solidFill>
                <a:latin typeface="Century Gothic"/>
              </a:rPr>
              <a:t>2. Запрещается работать на приставной лестнице. При оклейке стен обоями нужно пользоваться лестницей-стремянкой, стулом, стол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4252"/>
                </a:solidFill>
                <a:latin typeface="Century Gothic"/>
              </a:rPr>
              <a:t>3. После завершения оклейки помещения обоями надо тщательно вымыть руки с мыл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08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Обои</a:t>
            </a:r>
            <a:r>
              <a:rPr b="0" lang="ru-RU" sz="4000" spc="-1" strike="noStrike">
                <a:solidFill>
                  <a:srgbClr val="0f647b"/>
                </a:solidFill>
                <a:latin typeface="Century Gothic"/>
              </a:rPr>
              <a:t> – отделочный материал, на бумажной основе с печатным или тисненным рисунком на одно- или многоцветном фоне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3428640"/>
            <a:ext cx="8115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a4252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a4252"/>
                </a:solidFill>
                <a:latin typeface="Century Gothic"/>
              </a:rPr>
              <a:t>Обои выпускают шириной от 500 до 1200 мм и длиной в рулоне от 7  до 30 м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89080" y="16992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Century Gothic"/>
              </a:rPr>
              <a:t>Классификация обоев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3429000" y="4071960"/>
            <a:ext cx="2500200" cy="71424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 вдавленным мелким рису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429000" y="3214800"/>
            <a:ext cx="2500200" cy="71424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 рельефным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371520" y="4714920"/>
            <a:ext cx="2557440" cy="10177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ысокостойкие – винилов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флезили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428760" y="3429000"/>
            <a:ext cx="2500200" cy="42876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достой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28760" y="4071960"/>
            <a:ext cx="2500200" cy="42876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3127320" y="5056200"/>
            <a:ext cx="3087720" cy="10969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 глубоким рису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ногосл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6215040" y="2643120"/>
            <a:ext cx="2714760" cy="8701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4252"/>
                </a:solidFill>
                <a:latin typeface="Century Gothic"/>
              </a:rPr>
              <a:t>гладкие одно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6215040" y="1197000"/>
            <a:ext cx="2630520" cy="1289160"/>
          </a:xfrm>
          <a:prstGeom prst="rect">
            <a:avLst/>
          </a:prstGeom>
          <a:gradFill rotWithShape="0">
            <a:gsLst>
              <a:gs pos="0">
                <a:srgbClr val="f49100"/>
              </a:gs>
              <a:gs pos="100000">
                <a:srgbClr val="1cade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4252"/>
                </a:solidFill>
                <a:latin typeface="Arial"/>
              </a:rPr>
              <a:t>в зависимости от рису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3429000" y="2714760"/>
            <a:ext cx="2500200" cy="3571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лад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3276720" y="1197000"/>
            <a:ext cx="2652480" cy="1289160"/>
          </a:xfrm>
          <a:prstGeom prst="rect">
            <a:avLst/>
          </a:prstGeom>
          <a:gradFill rotWithShape="0">
            <a:gsLst>
              <a:gs pos="0">
                <a:srgbClr val="f49100"/>
              </a:gs>
              <a:gs pos="100000">
                <a:srgbClr val="1cade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4252"/>
                </a:solidFill>
                <a:latin typeface="Arial"/>
              </a:rPr>
              <a:t>по виду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371520" y="1197000"/>
            <a:ext cx="2557440" cy="1289160"/>
          </a:xfrm>
          <a:prstGeom prst="rect">
            <a:avLst/>
          </a:prstGeom>
          <a:gradFill rotWithShape="0">
            <a:gsLst>
              <a:gs pos="0">
                <a:srgbClr val="f49100"/>
              </a:gs>
              <a:gs pos="100000">
                <a:srgbClr val="1cade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4252"/>
                </a:solidFill>
                <a:latin typeface="Arial"/>
              </a:rPr>
              <a:t>по водо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428760" y="2714760"/>
            <a:ext cx="2500200" cy="42840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бы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6116760" y="3833640"/>
            <a:ext cx="2728800" cy="66708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4252"/>
                </a:solidFill>
                <a:latin typeface="Century Gothic"/>
              </a:rPr>
              <a:t>узор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360" y="255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Виды обоев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8147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Бумажн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Велюров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Текстильн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текловолокнист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Винилов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Акриловые обо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Фото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Жидки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Бумажн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1" name="Picture 5" descr="bim14"/>
          <p:cNvPicPr/>
          <p:nvPr/>
        </p:nvPicPr>
        <p:blipFill>
          <a:blip r:embed="rId1"/>
          <a:stretch/>
        </p:blipFill>
        <p:spPr>
          <a:xfrm>
            <a:off x="731880" y="98100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Велюров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4" name="Picture 5" descr="1199461152_091"/>
          <p:cNvPicPr/>
          <p:nvPr/>
        </p:nvPicPr>
        <p:blipFill>
          <a:blip r:embed="rId1"/>
          <a:stretch/>
        </p:blipFill>
        <p:spPr>
          <a:xfrm>
            <a:off x="728640" y="1338120"/>
            <a:ext cx="7947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-6336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Текстильн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6" name="Picture 5" descr="текстильн"/>
          <p:cNvPicPr/>
          <p:nvPr/>
        </p:nvPicPr>
        <p:blipFill>
          <a:blip r:embed="rId1"/>
          <a:stretch/>
        </p:blipFill>
        <p:spPr>
          <a:xfrm>
            <a:off x="1835280" y="1052640"/>
            <a:ext cx="42494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Стекловолокнист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8" name="Picture 6" descr="oboi_steklo"/>
          <p:cNvPicPr/>
          <p:nvPr/>
        </p:nvPicPr>
        <p:blipFill>
          <a:blip r:embed="rId1"/>
          <a:stretch/>
        </p:blipFill>
        <p:spPr>
          <a:xfrm>
            <a:off x="1403280" y="1341360"/>
            <a:ext cx="6105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4:37:53Z</dcterms:created>
  <dc:creator>Станкевская Л.П.</dc:creator>
  <dc:description/>
  <dc:language>en-US</dc:language>
  <cp:lastModifiedBy>Elena</cp:lastModifiedBy>
  <dcterms:modified xsi:type="dcterms:W3CDTF">2020-04-09T15:42:18Z</dcterms:modified>
  <cp:revision>47</cp:revision>
  <dc:subject>Ремонт в квартире</dc:subject>
  <dc:title>Технология ведения дома </dc:title>
</cp:coreProperties>
</file>