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9DAA-A824-4D1D-9848-8938DC0F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AF9E-B902-46B4-89C5-9D0B6DD5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0B0A-A273-4B30-848A-16E0DF12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F8E5-97B2-487E-B7FB-E66B41B4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9845-6786-41EA-8FC1-E1AB514E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4545-CDBA-4EE6-9543-D40D4F14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E96D-83B2-4140-8F99-2CEAE505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47AD-99D5-4868-85DE-9346952D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F801-03BF-4D18-AF57-4C79927F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E518-2B61-4A78-9569-755972FC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ECA4-316E-43B3-9175-446F2607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C5BE-957F-4009-AC85-E6CE89EC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3908-59CA-4FEF-AB46-3833F057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9F2A-2760-444C-B4AA-BD7B640F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AFFA-9AF7-452C-B0D4-2314CC11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D8D4-569D-4EF5-82D8-D6DE63C1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9B04-21F5-4348-8159-50A1F507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62DEC-6CEA-49B5-B4D4-C7EE6A42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CFA93-1E5C-4B98-AED0-577B896B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EA03F-5455-4FA1-A835-3DAA73C2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85AE8-D0E6-4331-A39B-571DC396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2C576-1277-484D-B27E-2C4372DE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937B-E9AD-4758-923F-F003463F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2EF01-979E-4532-BE6F-F9B80DCB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903FC-C042-4F6D-BA7B-222B75AD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164CC-42DD-4089-B51E-143BB0E5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C577E-5B83-4902-A62A-5D62977A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9FE7E-170D-43FF-86AB-39A2D1C6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B0589-BECF-404A-B11B-B66334CF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D7D55-81C9-45CA-A61E-2584C0AE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EE24C-1007-4A84-B06F-4C73EB71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84D1C-B13B-4864-9EEA-37A3C7D5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6E751-2E5E-48BD-A1A3-CBFD92E1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4B94-F714-4C18-B0CF-66A60F1F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BBC7D-24CC-407B-B750-2AE19790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A91D3-0BD3-4B53-901D-612247A4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0CBE5-519F-44C4-AAC7-19E3D1B9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1E609-DFBA-4360-9A36-03B7CC35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1E336-571C-402F-A8E8-ABE59FA2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755D5-34B7-43DF-A2C6-7F50E5D4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600D1-3418-4D59-82A8-44BB533E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065D1-1CC2-4232-AA50-1C6B3FC1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9D79E-146D-4B60-A36F-30924A62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C29E2-531B-464B-91A2-B8263693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2939-1322-4DE0-BDD8-362465F3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074E9-56A0-45CA-8D13-23B4E0BA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467A8-14E2-496C-9319-7D718884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13964-CBF1-4281-B03E-3B47E34C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A246A-CCEC-4311-BF57-0638880C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35897-5C27-414D-B603-CEC30C02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696CA-3663-4E19-AD79-5F6D5D0C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08F3B-6DB8-4A3D-A28E-C569A26E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88BD3-E443-4CBB-BE5E-E7B387DF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23967-0F2D-4F7F-A26B-BF9E5FA5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DEC5C-6681-4534-8A5E-F7CEDD58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9B57-130F-4971-9D9C-22B8ACB3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0E5F7-67F8-40EE-98FE-392E6C37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1D54-8FCE-4337-BA39-32F280F0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9286-F45D-4144-A55D-2A4FB7E0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9533-F6EC-4ACB-809C-72C1314F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D97C91-AAB3-49C4-B4FF-33124827F7C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96A7E-3764-435E-94CE-F480E716E66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07697C-7B64-4C52-9790-D0383F7638F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60B3C9-9FC6-40ED-9FF7-56FA1ACA12E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9C3141-D45E-4189-9FED-F1409EF663A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900" spc="-1" strike="noStrike">
                <a:solidFill>
                  <a:srgbClr val="002060"/>
                </a:solidFill>
                <a:latin typeface="Trebuchet MS"/>
              </a:rPr>
              <a:t>Ты – архитектор. Замысел архитектурного проекта и его осуществление. </a:t>
            </a:r>
            <a:br>
              <a:rPr sz="4900"/>
            </a:br>
            <a:br>
              <a:rPr sz="4900"/>
            </a:br>
            <a:r>
              <a:rPr b="1" i="1" lang="ru-RU" sz="3600" spc="-1" strike="noStrike">
                <a:solidFill>
                  <a:srgbClr val="002060"/>
                </a:solidFill>
                <a:latin typeface="Trebuchet MS"/>
              </a:rPr>
              <a:t>ИЗО 7 класс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143000" y="4365720"/>
            <a:ext cx="6858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2"/>
          <p:cNvSpPr/>
          <p:nvPr/>
        </p:nvSpPr>
        <p:spPr>
          <a:xfrm>
            <a:off x="1726200" y="5661000"/>
            <a:ext cx="6640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се размеры в миллиметрах!!!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пример 110 – это 11 сантиметров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1"/>
          <a:stretch/>
        </p:blipFill>
        <p:spPr>
          <a:xfrm>
            <a:off x="1042920" y="115920"/>
            <a:ext cx="67690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880" cy="366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rebuchet MS"/>
              </a:rPr>
              <a:t>Архитектура – древнегреческое слово, состоящее из двух: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rebuchet MS"/>
              </a:rPr>
              <a:t>«архи» - старший;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rebuchet MS"/>
              </a:rPr>
              <a:t>«тект» - строитель.</a:t>
            </a:r>
            <a:br>
              <a:rPr sz="4400"/>
            </a:b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90c226"/>
                </a:solidFill>
                <a:latin typeface="Trebuchet MS"/>
              </a:rPr>
              <a:t>      </a:t>
            </a:r>
            <a:r>
              <a:rPr b="1" i="1" lang="ru-RU" sz="3000" spc="-1" strike="noStrike">
                <a:solidFill>
                  <a:srgbClr val="ff0000"/>
                </a:solidFill>
                <a:latin typeface="Trebuchet MS"/>
              </a:rPr>
              <a:t>Архитектура</a:t>
            </a:r>
            <a:r>
              <a:rPr b="0" lang="ru-RU" sz="3000" spc="-1" strike="noStrike">
                <a:solidFill>
                  <a:srgbClr val="c00000"/>
                </a:solidFill>
                <a:latin typeface="Trebuchet MS"/>
              </a:rPr>
              <a:t> - это огромная книга</a:t>
            </a: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ru-RU" sz="3000" spc="-1" strike="noStrike">
                <a:solidFill>
                  <a:srgbClr val="c00000"/>
                </a:solidFill>
                <a:latin typeface="Trebuchet MS"/>
              </a:rPr>
              <a:t> на страницах которой отражены эпохи жизни человечества. Любое архитектурное сооружение несёт на себе печать своего времени. </a:t>
            </a:r>
            <a:br>
              <a:rPr sz="3000"/>
            </a:br>
            <a:r>
              <a:rPr b="0" lang="ru-RU" sz="3000" spc="-1" strike="noStrike">
                <a:solidFill>
                  <a:srgbClr val="c00000"/>
                </a:solidFill>
                <a:latin typeface="Trebuchet MS"/>
              </a:rPr>
              <a:t>       Каждой эпохе присущ свой стиль.</a:t>
            </a:r>
            <a:endParaRPr b="0" lang="en-US" sz="3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263664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rebuchet MS"/>
              </a:rPr>
              <a:t>   </a:t>
            </a:r>
            <a:r>
              <a:rPr b="1" lang="ru-RU" sz="3000" spc="-1" strike="noStrike" u="sng">
                <a:solidFill>
                  <a:srgbClr val="ff0000"/>
                </a:solidFill>
                <a:uFillTx/>
                <a:latin typeface="Trebuchet MS"/>
              </a:rPr>
              <a:t>Что же такое  </a:t>
            </a:r>
            <a:r>
              <a:rPr b="1" i="1" lang="ru-RU" sz="3000" spc="-1" strike="noStrike" u="sng">
                <a:solidFill>
                  <a:srgbClr val="ff0000"/>
                </a:solidFill>
                <a:uFillTx/>
                <a:latin typeface="Trebuchet MS"/>
              </a:rPr>
              <a:t>стиль</a:t>
            </a:r>
            <a:r>
              <a:rPr b="1" lang="ru-RU" sz="3000" spc="-1" strike="noStrike" u="sng">
                <a:solidFill>
                  <a:srgbClr val="ff0000"/>
                </a:solidFill>
                <a:uFillTx/>
                <a:latin typeface="Trebuchet MS"/>
              </a:rPr>
              <a:t> ?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rebuchet MS"/>
              </a:rPr>
              <a:t>        </a:t>
            </a:r>
            <a:r>
              <a:rPr b="0" lang="ru-RU" sz="3000" spc="-1" strike="noStrike">
                <a:solidFill>
                  <a:srgbClr val="c00000"/>
                </a:solidFill>
                <a:latin typeface="Trebuchet MS"/>
              </a:rPr>
              <a:t>Слово «стиль» произошло от греческого слова «стилос», что означает – палочка для письма по воску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Trebuchet MS"/>
              </a:rPr>
              <a:t>        </a:t>
            </a:r>
            <a:r>
              <a:rPr b="0" lang="ru-RU" sz="3000" spc="-1" strike="noStrike">
                <a:solidFill>
                  <a:srgbClr val="c00000"/>
                </a:solidFill>
                <a:latin typeface="Trebuchet MS"/>
              </a:rPr>
              <a:t>Под стилем подразумевается характерный почерк художников – архитекторов, свойственный ряду явлений жизни, объединяющих их между собой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rebuchet MS"/>
              </a:rPr>
              <a:t>Архитектурные стили</a:t>
            </a:r>
            <a:r>
              <a:rPr b="0" lang="ru-RU" sz="3200" spc="-1" strike="noStrike">
                <a:solidFill>
                  <a:srgbClr val="ff0000"/>
                </a:solidFill>
                <a:latin typeface="Trebuchet M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Rectangle 16"/>
          <p:cNvSpPr/>
          <p:nvPr/>
        </p:nvSpPr>
        <p:spPr>
          <a:xfrm>
            <a:off x="-1260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a3c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Rectangle 21"/>
          <p:cNvSpPr/>
          <p:nvPr/>
        </p:nvSpPr>
        <p:spPr>
          <a:xfrm>
            <a:off x="1116000" y="536400"/>
            <a:ext cx="381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Античность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2" name="Picture 22" descr="C:\Users\user\Desktop\Новая папка\v_antichnom_stile_1_1600.jpg"/>
          <p:cNvPicPr/>
          <p:nvPr/>
        </p:nvPicPr>
        <p:blipFill>
          <a:blip r:embed="rId1"/>
          <a:stretch/>
        </p:blipFill>
        <p:spPr>
          <a:xfrm>
            <a:off x="530280" y="1179360"/>
            <a:ext cx="3579840" cy="2465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C:\Users\user\Desktop\Новая папка\s1200 (1).jpg"/>
          <p:cNvPicPr/>
          <p:nvPr/>
        </p:nvPicPr>
        <p:blipFill>
          <a:blip r:embed="rId2"/>
          <a:stretch/>
        </p:blipFill>
        <p:spPr>
          <a:xfrm>
            <a:off x="4606920" y="117936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2"/>
          <p:cNvSpPr/>
          <p:nvPr/>
        </p:nvSpPr>
        <p:spPr>
          <a:xfrm>
            <a:off x="4618080" y="511200"/>
            <a:ext cx="39956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rebuchet MS"/>
              </a:rPr>
              <a:t>Романский стиль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6" descr="C:\Users\user\Desktop\Новая папка\s1200.jpg"/>
          <p:cNvPicPr/>
          <p:nvPr/>
        </p:nvPicPr>
        <p:blipFill>
          <a:blip r:embed="rId3"/>
          <a:stretch/>
        </p:blipFill>
        <p:spPr>
          <a:xfrm>
            <a:off x="536400" y="4352760"/>
            <a:ext cx="1737000" cy="2327400"/>
          </a:xfrm>
          <a:prstGeom prst="rect">
            <a:avLst/>
          </a:prstGeom>
          <a:ln w="0">
            <a:noFill/>
          </a:ln>
        </p:spPr>
      </p:pic>
      <p:sp>
        <p:nvSpPr>
          <p:cNvPr id="276" name="TextBox 1"/>
          <p:cNvSpPr/>
          <p:nvPr/>
        </p:nvSpPr>
        <p:spPr>
          <a:xfrm>
            <a:off x="879120" y="3894120"/>
            <a:ext cx="9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отик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4"/>
          <a:srcRect l="11188" t="0" r="6711" b="0"/>
          <a:stretch/>
        </p:blipFill>
        <p:spPr>
          <a:xfrm>
            <a:off x="2579760" y="4948200"/>
            <a:ext cx="2977920" cy="2160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5"/>
          <a:srcRect l="2609" t="8535" r="3973" b="0"/>
          <a:stretch/>
        </p:blipFill>
        <p:spPr>
          <a:xfrm>
            <a:off x="5573880" y="4267080"/>
            <a:ext cx="3097080" cy="22212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2"/>
          <p:cNvSpPr/>
          <p:nvPr/>
        </p:nvSpPr>
        <p:spPr>
          <a:xfrm>
            <a:off x="3370680" y="450864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озрожден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6584760" y="379584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арокк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rebuchet MS"/>
              </a:rPr>
              <a:t>Классицизм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6960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rebuchet MS"/>
              </a:rPr>
              <a:t>Современная архитектур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4194000" y="3429000"/>
            <a:ext cx="4950000" cy="30956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395280" y="1150920"/>
            <a:ext cx="45705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Архитектурный макет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rebuchet MS"/>
              </a:rPr>
              <a:t>      </a:t>
            </a:r>
            <a:r>
              <a:rPr b="1" i="1" lang="ru-RU" sz="3000" spc="-1" strike="noStrike">
                <a:solidFill>
                  <a:srgbClr val="7030a0"/>
                </a:solidFill>
                <a:latin typeface="Trebuchet MS"/>
              </a:rPr>
              <a:t>Архитекту́рный маке́т</a:t>
            </a: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 (фр. </a:t>
            </a:r>
            <a:r>
              <a:rPr b="0" i="1" lang="fr-FR" sz="3000" spc="-1" strike="noStrike">
                <a:solidFill>
                  <a:srgbClr val="7030a0"/>
                </a:solidFill>
                <a:latin typeface="Trebuchet MS"/>
              </a:rPr>
              <a:t>maquette</a:t>
            </a: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, от итал. </a:t>
            </a:r>
            <a:r>
              <a:rPr b="0" i="1" lang="it-IT" sz="3000" spc="-1" strike="noStrike">
                <a:solidFill>
                  <a:srgbClr val="7030a0"/>
                </a:solidFill>
                <a:latin typeface="Trebuchet MS"/>
              </a:rPr>
              <a:t>macchietta</a:t>
            </a: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 — </a:t>
            </a:r>
            <a:r>
              <a:rPr b="0" i="1" lang="ru-RU" sz="3000" spc="-1" strike="noStrike">
                <a:solidFill>
                  <a:srgbClr val="7030a0"/>
                </a:solidFill>
                <a:latin typeface="Trebuchet MS"/>
              </a:rPr>
              <a:t>набросок</a:t>
            </a: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) — объёмно-пространственное изображение проекти-руемого или существующего </a:t>
            </a:r>
            <a:r>
              <a:rPr b="1" i="1" lang="ru-RU" sz="3000" spc="-1" strike="noStrike">
                <a:solidFill>
                  <a:srgbClr val="7030a0"/>
                </a:solidFill>
                <a:latin typeface="Trebuchet MS"/>
              </a:rPr>
              <a:t>сооружения, архитектурного ансамбля, города.</a:t>
            </a: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       </a:t>
            </a: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Макеты создаются, чтобы проверить </a:t>
            </a:r>
            <a:r>
              <a:rPr b="1" i="1" lang="ru-RU" sz="3000" spc="-1" strike="noStrike">
                <a:solidFill>
                  <a:srgbClr val="7030a0"/>
                </a:solidFill>
                <a:latin typeface="Trebuchet MS"/>
              </a:rPr>
              <a:t>архитектурную композицию</a:t>
            </a: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, согласованность частей сооружений, наглядно ознакомиться с увязкой </a:t>
            </a:r>
            <a:r>
              <a:rPr b="1" i="1" lang="ru-RU" sz="3000" spc="-1" strike="noStrike">
                <a:solidFill>
                  <a:srgbClr val="7030a0"/>
                </a:solidFill>
                <a:latin typeface="Trebuchet MS"/>
              </a:rPr>
              <a:t>рельефа</a:t>
            </a: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 местности и основных объемов.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Творческая практическая работ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Сбор макета архитектурных сооружений из деталей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Природный </a:t>
            </a:r>
            <a:r>
              <a:rPr b="1" i="1" lang="ru-RU" sz="3000" spc="-1" strike="noStrike">
                <a:solidFill>
                  <a:srgbClr val="7030a0"/>
                </a:solidFill>
                <a:latin typeface="Trebuchet MS"/>
              </a:rPr>
              <a:t>ландшафт</a:t>
            </a: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 (водоемы, возвышенности, растения)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Здания (</a:t>
            </a:r>
            <a:r>
              <a:rPr b="1" i="1" lang="ru-RU" sz="3000" spc="-1" strike="noStrike">
                <a:solidFill>
                  <a:srgbClr val="7030a0"/>
                </a:solidFill>
                <a:latin typeface="Trebuchet MS"/>
              </a:rPr>
              <a:t>вертикальные части</a:t>
            </a: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, несущие всю тяжесть сооружения: стены, опоры, столбы, колонны; </a:t>
            </a:r>
            <a:r>
              <a:rPr b="1" i="1" lang="ru-RU" sz="3000" spc="-1" strike="noStrike">
                <a:solidFill>
                  <a:srgbClr val="7030a0"/>
                </a:solidFill>
                <a:latin typeface="Trebuchet MS"/>
              </a:rPr>
              <a:t>горизонтальные части</a:t>
            </a: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, несомые: балки, перекрытия, крыша; лестницы)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Trebuchet MS"/>
              </a:rPr>
              <a:t>Малые архитектурные формы</a:t>
            </a: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 (беседки, скамейки, фонари и т.д.); </a:t>
            </a:r>
            <a:r>
              <a:rPr b="1" i="1" lang="ru-RU" sz="3000" spc="-1" strike="noStrike">
                <a:solidFill>
                  <a:srgbClr val="7030a0"/>
                </a:solidFill>
                <a:latin typeface="Trebuchet MS"/>
              </a:rPr>
              <a:t>мосты, дороги</a:t>
            </a:r>
            <a:r>
              <a:rPr b="0" lang="ru-RU" sz="30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0" y="1628280"/>
            <a:ext cx="91440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rebuchet MS"/>
              </a:rPr>
              <a:t>         </a:t>
            </a: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При выполнении работы не забывайте о трёх основных свойствах архитектуры, которые выделил древнеримский теоретик искусства Витрувий:</a:t>
            </a:r>
            <a:r>
              <a:rPr b="0" lang="ru-RU" sz="4400" spc="-1" strike="noStrike">
                <a:solidFill>
                  <a:srgbClr val="c00000"/>
                </a:solidFill>
                <a:latin typeface="Trebuchet MS"/>
              </a:rPr>
              <a:t>  </a:t>
            </a:r>
            <a:r>
              <a:rPr b="0" i="1" lang="ru-RU" sz="4400" spc="-1" strike="noStrike">
                <a:solidFill>
                  <a:srgbClr val="c00000"/>
                </a:solidFill>
                <a:latin typeface="Trebuchet MS"/>
              </a:rPr>
              <a:t>польза, прочность, красота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1T13:57:31Z</dcterms:created>
  <dc:creator>User</dc:creator>
  <dc:description/>
  <dc:language>en-US</dc:language>
  <cp:lastModifiedBy>елена садовая</cp:lastModifiedBy>
  <dcterms:modified xsi:type="dcterms:W3CDTF">2020-04-09T14:33:25Z</dcterms:modified>
  <cp:revision>32</cp:revision>
  <dc:subject/>
  <dc:title>Архитектурные стили   Античность</dc:title>
</cp:coreProperties>
</file>