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6D2-91A0-40AF-89F7-A783897D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9F7-A194-4906-98EB-1F39784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23E-B6FA-4043-9729-1605D624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11C-BA1B-4F6A-90DF-78404E79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51B-8A50-42A7-8EF0-DA8AFBC9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E87B-771A-4E4D-9F52-0C742BA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D4C2-E9F2-445D-B6DE-ED8BEDC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A1E-38AF-4881-9499-9FEA6B77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AEBC-8C46-42F0-B054-2D14EE04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1D2-0B91-4934-A54A-54FC6CC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BF6-244E-4111-9D90-A83A193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EC8-F011-45FA-BC63-B73E6D0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F36-9A8F-4E4D-8D43-5C62202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E357-B127-4171-BEE8-394B701D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4242-234B-411E-95C5-EC9E09D9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3B1A-F432-48A1-A39B-265858AE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027-1FEA-4350-A891-9C16369A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4150-9F54-4455-9AA6-A69D1A03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8256-6322-43B3-AD43-7272BBCD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6D39-D206-4562-8189-5BD0795F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17C4-2171-4D8F-90F8-7A98148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22C6-AF69-4987-998F-57AF312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703-D5D9-4D94-BEE6-51A53F4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405A-DFF9-4158-BCFB-BD43A69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5287-128D-4EF1-99FC-1BA91FF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09EE-3C08-4DC2-A766-47BFA7F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DCAD-6DD0-4609-8481-B59376D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5193-0C33-49A6-BFA0-17911D4C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1049-1422-4D8B-A04F-761A8761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423D-DF4D-41F7-B00A-641ABC5C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2685-DFBD-472C-BDEE-0D07CAB2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1819-AF2B-4983-BA14-67478F9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1B93-92F7-4054-A710-8310AE8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D00-3C62-415D-89DB-19E6C0A1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83F5-3CE5-4AF5-A3D1-32A544D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A01E-0DB7-4E90-9AE8-5AC359B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8043-361A-4974-91D2-41E00C2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8CDB-E3D0-4D1C-AE72-5008271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98AB-928C-43D7-845C-3236EE6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C127-0E9A-45E7-9E10-A597C58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57FD-CD78-4A02-BB8E-04AFA1CC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1A8D-78E4-4527-ADA2-724DE2CA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AC77-9025-4482-846F-0922F49D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3BF90-45AC-4BD0-80CF-E03BF33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F44-A3BE-4656-8E79-7D354B7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4E8F-D6A4-4657-A461-C54A197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0E25-5791-4D26-B0F0-58EE0AD5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61B2-8CCF-4C0A-A3AE-A5F56BFD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C247-2AF0-4B8A-9686-1EC08048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AA9C-A12C-426A-B67A-A38D6CC3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33BD-F86E-4CBD-8014-AA8C50E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ADC6-98BC-4918-AEDD-C5EFE44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E8A8-70CC-455B-8898-03E7457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1EFA-BBE9-4A2C-906C-5B68B4BD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9C54-00BE-41A3-9CF6-7F6CBA51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969-5EC8-4368-B440-7E46912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DEBC5-CCCA-4FF9-A1D1-7D1B80FB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C2C-C394-4F64-8ACC-4377E68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6E5-3CA8-4D8A-B23F-16A9C29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C49-D353-4118-B0DD-9A32738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6DFD3-DD91-4268-B520-6728C9A6C0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04CF5-A0B8-480F-AA60-CAFA424AE0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8CDD3-272A-4C42-AF99-A5D9BEEEFB7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8A787-0AB0-496D-8C35-FA50D9E63C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B7D88-B7E9-484B-BCE3-EC243291FC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002060"/>
                </a:solidFill>
                <a:latin typeface="Trebuchet MS"/>
              </a:rPr>
              <a:t>Ты – архитектор. Замысел архитектурного проекта и его осуществление. </a:t>
            </a:r>
            <a:br>
              <a:rPr sz="4900"/>
            </a:br>
            <a:br>
              <a:rPr sz="4900"/>
            </a:br>
            <a:r>
              <a:rPr b="1" i="1" lang="ru-RU" sz="3600" spc="-1" strike="noStrike">
                <a:solidFill>
                  <a:srgbClr val="002060"/>
                </a:solidFill>
                <a:latin typeface="Trebuchet MS"/>
              </a:rPr>
              <a:t>ИЗО 7 класс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3000" y="4365720"/>
            <a:ext cx="6858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1726200" y="5661000"/>
            <a:ext cx="664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размеры в миллиметрах!!!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 110 – это 11 сантиметро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7690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36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Архитектура – древнегреческое слово, состоящее из двух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«архи» - старший;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«тект» - строитель.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90c226"/>
                </a:solidFill>
                <a:latin typeface="Trebuchet MS"/>
              </a:rPr>
              <a:t>      </a:t>
            </a:r>
            <a:r>
              <a:rPr b="1" i="1" lang="ru-RU" sz="3000" spc="-1" strike="noStrike">
                <a:solidFill>
                  <a:srgbClr val="ff0000"/>
                </a:solidFill>
                <a:latin typeface="Trebuchet MS"/>
              </a:rPr>
              <a:t>Архитектура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- это огромная книга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на страницах которой отражены эпохи жизни человечества. Любое архитектурное сооружение несёт на себе печать своего времени. </a:t>
            </a:r>
            <a:br>
              <a:rPr sz="3000"/>
            </a:b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      Каждой эпохе присущ свой стиль.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Что же такое 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стиль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 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        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Слово «стиль» произошло от греческого слова «стилос», что означает – палочка для письма по воску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       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Под стилем подразумевается характерный почерк художников – архитекторов, свойственный ряду явлений жизни, объединяющих их между собо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Архитектурные стили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-1260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1116000" y="53640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Античность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2" descr="C:\Users\user\Desktop\Новая папка\v_antichnom_stile_1_1600.jpg"/>
          <p:cNvPicPr/>
          <p:nvPr/>
        </p:nvPicPr>
        <p:blipFill>
          <a:blip r:embed="rId1"/>
          <a:stretch/>
        </p:blipFill>
        <p:spPr>
          <a:xfrm>
            <a:off x="530280" y="1179360"/>
            <a:ext cx="3579840" cy="2465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user\Desktop\Новая папка\s1200 (1).jpg"/>
          <p:cNvPicPr/>
          <p:nvPr/>
        </p:nvPicPr>
        <p:blipFill>
          <a:blip r:embed="rId2"/>
          <a:stretch/>
        </p:blipFill>
        <p:spPr>
          <a:xfrm>
            <a:off x="4606920" y="117936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4618080" y="511200"/>
            <a:ext cx="3995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Романский стил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6" descr="C:\Users\user\Desktop\Новая папка\s1200.jpg"/>
          <p:cNvPicPr/>
          <p:nvPr/>
        </p:nvPicPr>
        <p:blipFill>
          <a:blip r:embed="rId3"/>
          <a:stretch/>
        </p:blipFill>
        <p:spPr>
          <a:xfrm>
            <a:off x="536400" y="4352760"/>
            <a:ext cx="1737000" cy="2327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879120" y="389412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оти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4"/>
          <a:srcRect l="11188" t="0" r="6711" b="0"/>
          <a:stretch/>
        </p:blipFill>
        <p:spPr>
          <a:xfrm>
            <a:off x="2579760" y="4948200"/>
            <a:ext cx="2977920" cy="216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5"/>
          <a:srcRect l="2609" t="8535" r="3973" b="0"/>
          <a:stretch/>
        </p:blipFill>
        <p:spPr>
          <a:xfrm>
            <a:off x="5573880" y="4267080"/>
            <a:ext cx="3097080" cy="2221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370680" y="45086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зрожд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6584760" y="37958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арокк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Классициз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696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овременная архитекту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194000" y="3429000"/>
            <a:ext cx="4950000" cy="3095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395280" y="1150920"/>
            <a:ext cx="4570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Архитектурный мак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    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Архитекту́рный маке́т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фр. </a:t>
            </a:r>
            <a:r>
              <a:rPr b="0" i="1" lang="fr-FR" sz="3000" spc="-1" strike="noStrike">
                <a:solidFill>
                  <a:srgbClr val="7030a0"/>
                </a:solidFill>
                <a:latin typeface="Trebuchet MS"/>
              </a:rPr>
              <a:t>maquette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от итал. </a:t>
            </a:r>
            <a:r>
              <a:rPr b="0" i="1" lang="it-IT" sz="3000" spc="-1" strike="noStrike">
                <a:solidFill>
                  <a:srgbClr val="7030a0"/>
                </a:solidFill>
                <a:latin typeface="Trebuchet MS"/>
              </a:rPr>
              <a:t>macchietta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 — </a:t>
            </a:r>
            <a:r>
              <a:rPr b="0" i="1" lang="ru-RU" sz="3000" spc="-1" strike="noStrike">
                <a:solidFill>
                  <a:srgbClr val="7030a0"/>
                </a:solidFill>
                <a:latin typeface="Trebuchet MS"/>
              </a:rPr>
              <a:t>набросок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) — объёмно-пространственное изображение проекти-руемого или существующего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сооружения, архитектурного ансамбля, города.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      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Макеты создаются, чтобы проверить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архитектурную композицию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согласованность частей сооружений, наглядно ознакомиться с увязкой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рельефа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местности и основных объемов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Творческая практи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Сбор макета архитектурных сооружений из детале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Природный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ландшафт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водоемы, возвышенности, растения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Здания (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вертикальные част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несущие всю тяжесть сооружения: стены, опоры, столбы, колонны;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горизонтальные част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несомые: балки, перекрытия, крыша; лестницы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Малые архитектурные формы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беседки, скамейки, фонари и т.д.);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мосты, дорог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162828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        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При выполнении работы не забывайте о трёх основных свойствах архитектуры, которые выделил древнеримский теоретик искусства Витрувий:</a:t>
            </a: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i="1" lang="ru-RU" sz="4400" spc="-1" strike="noStrike">
                <a:solidFill>
                  <a:srgbClr val="c00000"/>
                </a:solidFill>
                <a:latin typeface="Trebuchet MS"/>
              </a:rPr>
              <a:t>польза, прочность, красота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3:57:31Z</dcterms:created>
  <dc:creator>User</dc:creator>
  <dc:description/>
  <dc:language>en-US</dc:language>
  <cp:lastModifiedBy>елена садовая</cp:lastModifiedBy>
  <dcterms:modified xsi:type="dcterms:W3CDTF">2020-04-09T14:33:25Z</dcterms:modified>
  <cp:revision>32</cp:revision>
  <dc:subject/>
  <dc:title>Архитектурные стили   Античность</dc:title>
</cp:coreProperties>
</file>