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7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FE5A-5584-46D8-BCEA-A5F069EE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4139-6C83-42F2-9162-47F92E78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76A7-04B3-4AD7-AFE0-BA1AE0097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878A-1F4D-4994-A361-A043C7E5B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E43E-9D35-4CAE-B63C-1D1B4497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99CE-B801-4BB4-B43B-D44E83D4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DB31-A972-49F5-9F36-F7044389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800E-3666-4901-A2F6-804618B9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1337-23AE-42A8-BF8D-67D14182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D1CC-6572-48F2-95CE-CA13B238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39D8-9124-4ED9-A7A9-92152B65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E068-9B58-4AD6-A8A0-D981BB99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056C-971B-4749-A80D-F77BC1A6C4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533520" y="3886200"/>
            <a:ext cx="7696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икторина для учащих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3 - 4 клас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WordArt 7" descr=""/>
          <p:cNvPicPr/>
          <p:nvPr/>
        </p:nvPicPr>
        <p:blipFill>
          <a:blip r:embed="rId1"/>
          <a:stretch/>
        </p:blipFill>
        <p:spPr>
          <a:xfrm>
            <a:off x="-298440" y="1438200"/>
            <a:ext cx="861372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fab8"/>
            </a:gs>
            <a:gs pos="100000">
              <a:srgbClr val="fbe4a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Баба  Яга"/>
          <p:cNvPicPr/>
          <p:nvPr/>
        </p:nvPicPr>
        <p:blipFill>
          <a:blip r:embed="rId1"/>
          <a:stretch/>
        </p:blipFill>
        <p:spPr>
          <a:xfrm>
            <a:off x="5562720" y="304920"/>
            <a:ext cx="3200400" cy="40384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304920" y="2743200"/>
            <a:ext cx="7086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На лесной опуш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Сидит она в избуш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Спокойно жить не хо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Царевичей моро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Ступа с метелкою ей дор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Это – зловред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6781680" y="55627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Баба  Я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228600" y="457200"/>
            <a:ext cx="4800600" cy="40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Нам приятно было с вами веселиться и шут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А теперь мне разрешите Вам подарки подарит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691052"/>
          <p:cNvPicPr/>
          <p:nvPr/>
        </p:nvPicPr>
        <p:blipFill>
          <a:blip r:embed="rId1"/>
          <a:stretch/>
        </p:blipFill>
        <p:spPr>
          <a:xfrm>
            <a:off x="5029200" y="1828800"/>
            <a:ext cx="3740040" cy="4743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8750"/>
                            </p:stCondLst>
                            <p:childTnLst>
                              <p:par>
                                <p:cTn id="1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cc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228600" y="380880"/>
            <a:ext cx="83059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3300"/>
                </a:solidFill>
                <a:latin typeface="Arial"/>
              </a:rPr>
              <a:t>Отвечайте без подсказки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ru-RU" sz="3800" spc="-1" strike="noStrike">
                <a:solidFill>
                  <a:srgbClr val="ff3300"/>
                </a:solidFill>
                <a:latin typeface="Arial"/>
              </a:rPr>
              <a:t>Любите ли вы сказки? …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ru-RU" sz="3800" spc="-1" strike="noStrike">
                <a:solidFill>
                  <a:srgbClr val="ff3300"/>
                </a:solidFill>
                <a:latin typeface="Arial"/>
              </a:rPr>
              <a:t>А раз вы их любите и знаете,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ru-RU" sz="3800" spc="-1" strike="noStrike">
                <a:solidFill>
                  <a:srgbClr val="ff3300"/>
                </a:solidFill>
                <a:latin typeface="Arial"/>
              </a:rPr>
              <a:t>То, значит, без труда отгадаете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носорог"/>
          <p:cNvPicPr/>
          <p:nvPr/>
        </p:nvPicPr>
        <p:blipFill>
          <a:blip r:embed="rId1"/>
          <a:stretch/>
        </p:blipFill>
        <p:spPr>
          <a:xfrm>
            <a:off x="4724280" y="2819520"/>
            <a:ext cx="36864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2750"/>
                            </p:stCondLst>
                            <p:childTnLst>
                              <p:par>
                                <p:cTn id="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228600" y="380880"/>
            <a:ext cx="8610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Любят дети песн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танцы, шут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Любят все веселые минут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И ещё, поверьте, в целом свет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Любят сказки взрослые и де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мишка и луна"/>
          <p:cNvPicPr/>
          <p:nvPr/>
        </p:nvPicPr>
        <p:blipFill>
          <a:blip r:embed="rId1"/>
          <a:stretch/>
        </p:blipFill>
        <p:spPr>
          <a:xfrm>
            <a:off x="6095880" y="3809880"/>
            <a:ext cx="25243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cc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Айболит"/>
          <p:cNvPicPr/>
          <p:nvPr/>
        </p:nvPicPr>
        <p:blipFill>
          <a:blip r:embed="rId1"/>
          <a:stretch/>
        </p:blipFill>
        <p:spPr>
          <a:xfrm>
            <a:off x="4876920" y="228600"/>
            <a:ext cx="4032000" cy="52578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304920" y="1905120"/>
            <a:ext cx="4343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Лечит маленьких дет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Лечит птичек и зве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квозь очки свои гля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обрый доктор …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5638680" y="58672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99"/>
                </a:solidFill>
                <a:latin typeface="Arial"/>
              </a:rPr>
              <a:t>Айболи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cc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Колобок"/>
          <p:cNvPicPr/>
          <p:nvPr/>
        </p:nvPicPr>
        <p:blipFill>
          <a:blip r:embed="rId1"/>
          <a:stretch/>
        </p:blipFill>
        <p:spPr>
          <a:xfrm>
            <a:off x="380880" y="1219320"/>
            <a:ext cx="4191120" cy="54100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4800600" y="609480"/>
            <a:ext cx="4191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еред волком не дрожа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От медведя убе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о лисице на зу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се ж попался …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6477120" y="518148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Колоб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" descr="Емеля (2)"/>
          <p:cNvPicPr/>
          <p:nvPr/>
        </p:nvPicPr>
        <p:blipFill>
          <a:blip r:embed="rId1"/>
          <a:stretch/>
        </p:blipFill>
        <p:spPr>
          <a:xfrm>
            <a:off x="4643280" y="620640"/>
            <a:ext cx="4105440" cy="54723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304920" y="838080"/>
            <a:ext cx="3886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С рыбой дружит этот пар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Его сани едут с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Ведра ходят за во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Вспомните, кто он та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8" descr="Алёнушка  и  Иванушка"/>
          <p:cNvPicPr/>
          <p:nvPr/>
        </p:nvPicPr>
        <p:blipFill>
          <a:blip r:embed="rId1"/>
          <a:stretch/>
        </p:blipFill>
        <p:spPr>
          <a:xfrm>
            <a:off x="304920" y="457200"/>
            <a:ext cx="4114800" cy="5715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4800600" y="533520"/>
            <a:ext cx="4114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Нет ни речки, ни п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Где воды напит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Очень вкусная 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В ямке от копы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Кто герои этой сказ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5486400" y="5105520"/>
            <a:ext cx="3505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99ff"/>
                </a:solidFill>
                <a:latin typeface="Arial"/>
              </a:rPr>
              <a:t>Сестрица  Алёнушка  и  братец  Ивануш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Жар  птица"/>
          <p:cNvPicPr/>
          <p:nvPr/>
        </p:nvPicPr>
        <p:blipFill>
          <a:blip r:embed="rId1"/>
          <a:stretch/>
        </p:blipFill>
        <p:spPr>
          <a:xfrm>
            <a:off x="5715000" y="304920"/>
            <a:ext cx="3200400" cy="44193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304920" y="1523880"/>
            <a:ext cx="4876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Оперением г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Вся сверкает, как з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А Иван-дурак ноч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Ее ловит для ц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Он ей в хвост сум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Вцеп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А зовут её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562720" y="541008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Жар-пт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73237--10918333-m549x500"/>
          <p:cNvPicPr/>
          <p:nvPr/>
        </p:nvPicPr>
        <p:blipFill>
          <a:blip r:embed="rId1"/>
          <a:stretch/>
        </p:blipFill>
        <p:spPr>
          <a:xfrm>
            <a:off x="304920" y="1905120"/>
            <a:ext cx="3657600" cy="46479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4191120" y="30492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найте, этого плутиш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икому не обхитри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Людоеда, словно мыш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Умудрился проглоти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 шпоры звенят у него на нога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кажите мне, кто это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876920" y="5486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Кот  в сапог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ваховы</cp:lastModifiedBy>
  <dcterms:modified xsi:type="dcterms:W3CDTF">2020-04-09T12:44:17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