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6F3-17A9-447E-BD93-872788A9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10C-9E4E-4DC6-A646-AEE9B622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AFA-5976-42C3-A01D-540A562A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877-916B-44AF-A9F5-44705402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671-99AE-4864-BE4B-0094009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50F-8740-444A-B91B-BC09CDE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B31-CDA6-47F3-91EC-D35A8FC1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EC9-E560-432A-AE24-2BD1EEF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4D8-6C5F-47E9-BBF4-E5A0DB6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2C2-1C3F-4ED6-B9BA-AC1998F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C3D-DFA7-4B67-8D27-8E20B77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071-8EC2-4C0D-AD4C-7E5E4D8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ECB8-CFE1-4BE2-B815-81000D12C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33520" y="38862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икторина для уча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 - 4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7" descr=""/>
          <p:cNvPicPr/>
          <p:nvPr/>
        </p:nvPicPr>
        <p:blipFill>
          <a:blip r:embed="rId1"/>
          <a:stretch/>
        </p:blipFill>
        <p:spPr>
          <a:xfrm>
            <a:off x="-298440" y="1438200"/>
            <a:ext cx="86137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fab8"/>
            </a:gs>
            <a:gs pos="100000">
              <a:srgbClr val="fbe4a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Баба  Яга"/>
          <p:cNvPicPr/>
          <p:nvPr/>
        </p:nvPicPr>
        <p:blipFill>
          <a:blip r:embed="rId1"/>
          <a:stretch/>
        </p:blipFill>
        <p:spPr>
          <a:xfrm>
            <a:off x="5562720" y="304920"/>
            <a:ext cx="3200400" cy="4038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27432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а лесной опуш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идит она в изб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покойно жить не х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Царевичей моро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упа с метелкою ей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Это – зловр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781680" y="5562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Баба  Я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28600" y="457200"/>
            <a:ext cx="48006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Нам приятно было с вами веселиться и шу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 теперь мне разрешите Вам подарки подар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691052"/>
          <p:cNvPicPr/>
          <p:nvPr/>
        </p:nvPicPr>
        <p:blipFill>
          <a:blip r:embed="rId1"/>
          <a:stretch/>
        </p:blipFill>
        <p:spPr>
          <a:xfrm>
            <a:off x="5029200" y="1828800"/>
            <a:ext cx="3740040" cy="4743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75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8600" y="380880"/>
            <a:ext cx="8305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Отвечайте без подсказ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Любите ли вы сказки? …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А раз вы их любите и знаете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То, значит, без труда отгадает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носорог"/>
          <p:cNvPicPr/>
          <p:nvPr/>
        </p:nvPicPr>
        <p:blipFill>
          <a:blip r:embed="rId1"/>
          <a:stretch/>
        </p:blipFill>
        <p:spPr>
          <a:xfrm>
            <a:off x="4724280" y="2819520"/>
            <a:ext cx="3686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275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8600" y="38088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ят дети песн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танцы, шу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ят все веселые мину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И ещё, поверьте, в целом св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ят сказки взрослые и де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мишка и луна"/>
          <p:cNvPicPr/>
          <p:nvPr/>
        </p:nvPicPr>
        <p:blipFill>
          <a:blip r:embed="rId1"/>
          <a:stretch/>
        </p:blipFill>
        <p:spPr>
          <a:xfrm>
            <a:off x="6095880" y="3809880"/>
            <a:ext cx="252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Айболит"/>
          <p:cNvPicPr/>
          <p:nvPr/>
        </p:nvPicPr>
        <p:blipFill>
          <a:blip r:embed="rId1"/>
          <a:stretch/>
        </p:blipFill>
        <p:spPr>
          <a:xfrm>
            <a:off x="4876920" y="228600"/>
            <a:ext cx="40320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1905120"/>
            <a:ext cx="4343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чит маленьких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чит птичек и з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возь очки свои гля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брый доктор 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38680" y="586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Айбо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Колобок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800600" y="6094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еред волком не дрож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 медведя уб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 лисице на зу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се ж попался 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477120" y="5181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оло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Емеля (2)"/>
          <p:cNvPicPr/>
          <p:nvPr/>
        </p:nvPicPr>
        <p:blipFill>
          <a:blip r:embed="rId1"/>
          <a:stretch/>
        </p:blipFill>
        <p:spPr>
          <a:xfrm>
            <a:off x="4643280" y="620640"/>
            <a:ext cx="4105440" cy="5472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04920" y="838080"/>
            <a:ext cx="3886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 рыбой дружит этот па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Его сани едут 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едра ходят за в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спомните, кто он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Алёнушка  и  Иванушка"/>
          <p:cNvPicPr/>
          <p:nvPr/>
        </p:nvPicPr>
        <p:blipFill>
          <a:blip r:embed="rId1"/>
          <a:stretch/>
        </p:blipFill>
        <p:spPr>
          <a:xfrm>
            <a:off x="304920" y="457200"/>
            <a:ext cx="411480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800600" y="533520"/>
            <a:ext cx="4114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ет ни речки, ни п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де воды нап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чень вкусна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 ямке от копы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то герои этой сказ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86400" y="51055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Arial"/>
              </a:rPr>
              <a:t>Сестрица  Алёнушка  и  братец  Иван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Жар  птица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04920" y="1523880"/>
            <a:ext cx="487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перение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ся сверкает, как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А Иван-дурак ноч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Ее ловит для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н ей в хвост су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цеп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А зовут её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562720" y="5410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Жар-п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73237--10918333-m549x500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191120" y="30492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найте, этого плутиш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му не обхитр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доеда, словно мыш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мудрился проглот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шпоры звенят у него на ног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ажите мне, кто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76920" y="5486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т  в сапо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ваховы</cp:lastModifiedBy>
  <dcterms:modified xsi:type="dcterms:W3CDTF">2020-04-09T12:44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