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drumroll.wav" ContentType="audio/x-wav"/>
  <Override PartName="/ppt/media/image16.jpeg" ContentType="image/jpeg"/>
  <Override PartName="/ppt/media/image20.png" ContentType="image/png"/>
  <Override PartName="/ppt/media/image19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79F-C892-4F52-9739-39B72A3C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A3B-B425-4E67-9956-5216C634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68B-3B9A-4926-9EE4-201F2C19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2ED-B287-4DFF-AB66-545F4D65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7FAD-A882-4FC2-9986-B4ABFD19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074E-845A-4793-9C9D-85956834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966A-9D99-4EE0-8A94-4F5CB4AA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5660-08C6-4C31-B56B-A4F12C7F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F8B1-FF8F-49B6-AF3A-5CFC6271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5077-7FB2-427A-B19D-9DB57572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4E54-5EF6-44D8-8E66-0AEB4013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B4F-FA67-4562-93E5-25B02F80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BE19-5AE8-41A6-9007-795E78D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3CD0-9D57-4596-ADB2-7B5D2843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4969-5BA7-4625-B83F-14AF591C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F9B7-9195-40B5-A34C-10F62F6B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8E51-2FC6-4569-A764-CC3CA2C0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BD7BC-EF89-4E0E-A5E6-20FD7044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E5359-8C18-45B0-BC47-65019FEE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7518-8CC3-4399-BC1A-CC3E3502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9F3C-388F-472D-8EDE-F678ED50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91BD2-C2C6-4DA5-AE83-ADF52B5A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0F7-9C04-43B1-9C16-A30D0A60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6DFE-752E-4913-80C2-3F796F6F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D506-1D98-4528-BAB3-D6372A6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599B-7648-4FA8-B77E-D4EB69A6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A684F-03CE-4F82-8048-E8239B4E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83AB7-7515-41C9-ADA0-856D78AB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F4A49-21C0-4523-95E3-498D4B8B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66749-BDBA-43F4-9077-43B03F88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E96A7-A9C3-4BCB-85DE-4BD74B39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2913-5987-469D-B29F-713AC257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9588-E932-440B-B6C9-9EA9E237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08C-66AB-4FFD-9D83-AE22F2BE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6A16-003F-4E06-A321-1DAE6D91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4DD36-B913-4BA7-AC06-6752C982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DD59-3267-498C-AC49-6000528B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84E0-E8BB-4147-BDC1-6B9E6A81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EF74-B139-4F0B-882D-68A0657C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33313-695B-42AE-905C-7E883BF4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FA5DC-5B1A-48D2-BD8E-7E6373BB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75005-3633-4055-BF78-1AB52D49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9EDCE-A937-469A-8390-BC8114DE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A9AE1-12AA-4938-B79F-40A1DC69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C68-273B-408F-AA7E-581BF182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2B295-CC68-4BEF-BB87-A0C77335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72368-CEDF-4B97-85DC-AAE8F32F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ABB78-84C6-44E2-A0F4-45C8D258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D7C44-C111-4BD5-A276-99F01638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AF8B3-5C88-4517-904B-3538BA75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01EAC-5F68-4BD6-8EBD-557CEACB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9FEEF-626D-472F-9D42-F6875628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FF59D-B7B3-4A9C-9FC1-7933E69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B1776-9284-49DD-B687-3EC804D2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64A29-C388-4427-91E1-67495DD2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B9E-8380-492E-B543-0B714AD2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2581C-266C-4F14-A475-2F8FEAC1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6E5-42C7-4949-B477-0C2ED570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D8A-DDB0-4E32-982A-763A8ACE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2D2-F5AC-4C40-BDA7-754E896B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9414-BA59-4E9F-ABC7-22D31F4C7FF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BE53-81F3-47C0-80AD-20BB219B0B8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E149-64A3-461C-8482-ABE14796317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194E-349A-4D9C-BCAB-43603EDCDC0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C5E2-11C1-4E60-9C48-0E80F7B3C87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963720" y="920880"/>
            <a:ext cx="7783560" cy="1444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Trebuchet MS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3591000" y="3186000"/>
          <a:ext cx="196200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91000" y="3186000"/>
                    <a:ext cx="1962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5"/>
          <p:cNvGraphicFramePr/>
          <p:nvPr/>
        </p:nvGraphicFramePr>
        <p:xfrm>
          <a:off x="3591000" y="3186000"/>
          <a:ext cx="1962000" cy="4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91000" y="3186000"/>
                    <a:ext cx="1962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6"/>
          <p:cNvGraphicFramePr/>
          <p:nvPr/>
        </p:nvGraphicFramePr>
        <p:xfrm>
          <a:off x="3591000" y="3186000"/>
          <a:ext cx="1962000" cy="4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91000" y="3186000"/>
                    <a:ext cx="1962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7"/>
          <p:cNvGraphicFramePr/>
          <p:nvPr/>
        </p:nvGraphicFramePr>
        <p:xfrm>
          <a:off x="3591000" y="3186000"/>
          <a:ext cx="1962000" cy="4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91000" y="3186000"/>
                    <a:ext cx="1962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8"/>
          <p:cNvGraphicFramePr/>
          <p:nvPr/>
        </p:nvGraphicFramePr>
        <p:xfrm>
          <a:off x="3591000" y="3186000"/>
          <a:ext cx="1962000" cy="48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91000" y="3186000"/>
                    <a:ext cx="1962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Рисунок 3" descr="979289be9b10198d632527a43d0.jpg"/>
          <p:cNvPicPr/>
          <p:nvPr/>
        </p:nvPicPr>
        <p:blipFill>
          <a:blip r:embed="rId12"/>
          <a:stretch/>
        </p:blipFill>
        <p:spPr>
          <a:xfrm>
            <a:off x="0" y="2286000"/>
            <a:ext cx="9144000" cy="5224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9"/>
          <p:cNvSpPr/>
          <p:nvPr/>
        </p:nvSpPr>
        <p:spPr>
          <a:xfrm>
            <a:off x="2286000" y="235728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ерои  Великой Отечественной  войны  Саратовской  области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12"/>
          <p:cNvSpPr/>
          <p:nvPr/>
        </p:nvSpPr>
        <p:spPr>
          <a:xfrm>
            <a:off x="4357800" y="4714920"/>
            <a:ext cx="4786200" cy="2714760"/>
          </a:xfrm>
          <a:prstGeom prst="rect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rebuchet MS"/>
              </a:rPr>
              <a:t>Мои родные – защитники Род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rebuchet MS"/>
              </a:rPr>
              <a:t>Каретникова Виктория</a:t>
            </a:r>
            <a:r>
              <a:rPr b="0" lang="ru-RU" sz="2400" spc="-1" strike="noStrike">
                <a:solidFill>
                  <a:srgbClr val="ffc000"/>
                </a:solidFill>
                <a:latin typeface="Trebuchet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1 А класс, МОУ «Лицей» г. Балашова Саратовской обла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rebuchet MS"/>
              </a:rPr>
              <a:t>Руководитель</a:t>
            </a: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: Заярная Ольга Вале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214200" y="714240"/>
            <a:ext cx="221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Arial"/>
              </a:rPr>
              <a:t>Региональный интернет-конкурс творческих работ «Победа народа в сердцах поколени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3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7255080" cy="1382760"/>
          </a:xfrm>
          <a:prstGeom prst="rect">
            <a:avLst/>
          </a:prstGeom>
          <a:ln w="0">
            <a:noFill/>
          </a:ln>
        </p:spPr>
      </p:pic>
      <p:pic>
        <p:nvPicPr>
          <p:cNvPr id="262" name="Содержимое 5" descr="http://ia103.odnoklassniki.ru/getImage?photoId=501751076126&amp;photoType=0"/>
          <p:cNvPicPr/>
          <p:nvPr/>
        </p:nvPicPr>
        <p:blipFill>
          <a:blip r:embed="rId2"/>
          <a:stretch/>
        </p:blipFill>
        <p:spPr>
          <a:xfrm>
            <a:off x="357120" y="1643040"/>
            <a:ext cx="735804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4" descr=""/>
          <p:cNvPicPr/>
          <p:nvPr/>
        </p:nvPicPr>
        <p:blipFill>
          <a:blip r:embed="rId1"/>
          <a:stretch/>
        </p:blipFill>
        <p:spPr>
          <a:xfrm>
            <a:off x="603360" y="817560"/>
            <a:ext cx="8242200" cy="2979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8" descr=""/>
          <p:cNvPicPr/>
          <p:nvPr/>
        </p:nvPicPr>
        <p:blipFill>
          <a:blip r:embed="rId1"/>
          <a:stretch/>
        </p:blipFill>
        <p:spPr>
          <a:xfrm>
            <a:off x="244440" y="281160"/>
            <a:ext cx="8363160" cy="1187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Я назову  участников войны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Мои родные родились в Саратовской области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ни до конца выполнили свой долг перед Родиной в Отечественной войн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ни сражались с врагом. С каждым днём приближали час  Победы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Я горжусь ими!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3"/>
          <p:cNvSpPr/>
          <p:nvPr/>
        </p:nvSpPr>
        <p:spPr>
          <a:xfrm>
            <a:off x="714240" y="1714680"/>
            <a:ext cx="7429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трикеев Ефим Ефимович –– старш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евал. Был в плену. Бежал. Попал на фронт. Имел благодарность от Верховного Главнокомандующ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го имя занесено в Книгу Памяти «Они сражались за Родину» 1941-1945 , том 14, стр. 3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аждён орденами Отечественной войны 1-ой степени, Славы 2-ей степ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нулся с побе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C:\Users\user\Documents\история моей семьи\дед Ефим\SWScan00004 - копия.BMP"/>
          <p:cNvPicPr/>
          <p:nvPr/>
        </p:nvPicPr>
        <p:blipFill>
          <a:blip r:embed="rId2"/>
          <a:stretch/>
        </p:blipFill>
        <p:spPr>
          <a:xfrm>
            <a:off x="326880" y="285840"/>
            <a:ext cx="173052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55600" y="-158760"/>
            <a:ext cx="7450200" cy="1627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214200" y="1600200"/>
            <a:ext cx="376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шелев Леонид Алексеевич,1910 г.р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частник Великой Отечественной войны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Награждён Орденом Отечественной войны 1 степени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Picture 2" descr="C:\Users\user\Documents\история моей семьи\дед Леонид\Дед Леонид - копия.JPG"/>
          <p:cNvPicPr/>
          <p:nvPr/>
        </p:nvPicPr>
        <p:blipFill>
          <a:blip r:embed="rId2"/>
          <a:stretch/>
        </p:blipFill>
        <p:spPr>
          <a:xfrm>
            <a:off x="1000080" y="2357280"/>
            <a:ext cx="1679760" cy="1785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C:\Users\user\Documents\история моей семьи\дед Леонид\сканы\родители\ко - копия.jpeg"/>
          <p:cNvPicPr/>
          <p:nvPr/>
        </p:nvPicPr>
        <p:blipFill>
          <a:blip r:embed="rId3"/>
          <a:stretch/>
        </p:blipFill>
        <p:spPr>
          <a:xfrm>
            <a:off x="4286160" y="1785960"/>
            <a:ext cx="2036880" cy="20746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7"/>
          <p:cNvSpPr/>
          <p:nvPr/>
        </p:nvSpPr>
        <p:spPr>
          <a:xfrm>
            <a:off x="6072120" y="15238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шелев Константин Ефимович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11 г.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4714920" y="3571920"/>
            <a:ext cx="378612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частник Великой Отечественной вой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Награждён Орденом Отечественной войны 2 степ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4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0" y="2357280"/>
            <a:ext cx="82152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Маркушин Михаил Антонович родился в 1905 году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Был призван  в  Красную Армию в 1941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Рядовой. Защищал Родину от захватчиков. </a:t>
            </a: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Пропал без вести в марте 1942 г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н остался для родных живым. Отдал свою жизнь за свою семью, за меня,  за свою Родину, за свою Землю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9" name="Рисунок 4" descr="C:\Users\Sanj\Desktop\дед Леонид\IMG_2133.JPG"/>
          <p:cNvPicPr/>
          <p:nvPr/>
        </p:nvPicPr>
        <p:blipFill>
          <a:blip r:embed="rId2"/>
          <a:stretch/>
        </p:blipFill>
        <p:spPr>
          <a:xfrm>
            <a:off x="285840" y="285840"/>
            <a:ext cx="1603440" cy="2138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na\Мои документы\Документы\история моей семьи\IMG_1328.jpg"/>
          <p:cNvPicPr/>
          <p:nvPr/>
        </p:nvPicPr>
        <p:blipFill>
          <a:blip r:embed="rId2"/>
          <a:stretch/>
        </p:blipFill>
        <p:spPr>
          <a:xfrm>
            <a:off x="760320" y="1919160"/>
            <a:ext cx="2914920" cy="3886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177800" y="1600200"/>
            <a:ext cx="47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Атапин Николай Данилович, родился в 1912 году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Участник Великой Отечественной войны и войны с Японией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Вернулся с победой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2"/>
          <p:cNvSpPr/>
          <p:nvPr/>
        </p:nvSpPr>
        <p:spPr>
          <a:xfrm>
            <a:off x="285840" y="1643040"/>
            <a:ext cx="7786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на моих родных занесены в Книги Памяти « Они сражались за Роди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941-19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оссийская Федерация Саратовская область».Турковский район,  Романовский рай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и - проявили стойкость, бесстрашие и волю к побед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на героев никогда не забудутся в нашей сем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2357280" y="1609200"/>
            <a:ext cx="6429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Дорогие мои предки!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Пишет вам ваша праправнучка Вика. В нашей семье хранится память о вас. Вы ушли на фронт в первые дни войны. Много страданий выпало на вашу долю, на долю ваших жён и детей.  Мне 7 лет. Я учусь в лицее в первом  классе. Каждый год мы всей семьёй ходим на парад, посвящённый Дню Победы. Я часто думаю о вас. В школе, на уроках. На переменах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Спасибо, вам, за мир!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216000" y="2071800"/>
            <a:ext cx="208908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Мои родные - участники войны, своим героизмом  приближали Великую Победу. Скоро наступит 75-й День Победы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ни до конца выполнили свой долг перед Родиной в Отечественной войн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ни сражались с врагом. С каждым днём приближали час  Победы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Каждую весну, в День Победы, собираются горожане около обелиска, чтобы почтить память погибших, умерших от ран, возложить венки, оставить живые цветы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0" name="Picture 4" descr="символ"/>
          <p:cNvPicPr/>
          <p:nvPr/>
        </p:nvPicPr>
        <p:blipFill>
          <a:blip r:embed="rId2"/>
          <a:stretch/>
        </p:blipFill>
        <p:spPr>
          <a:xfrm>
            <a:off x="0" y="285840"/>
            <a:ext cx="1733400" cy="88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10:38Z</dcterms:created>
  <dc:creator>Main</dc:creator>
  <dc:description/>
  <dc:language>en-US</dc:language>
  <cp:lastModifiedBy>user</cp:lastModifiedBy>
  <dcterms:modified xsi:type="dcterms:W3CDTF">2020-04-09T11:16:15Z</dcterms:modified>
  <cp:revision>38</cp:revision>
  <dc:subject/>
  <dc:title>История возникновения чисел</dc:title>
</cp:coreProperties>
</file>