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drumroll.wav" ContentType="audio/x-wav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DB7-A2D4-4B40-85A2-D9DFF810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7A9-80DC-4051-A88C-E60A6B7A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665-ADE2-4E9D-A635-EF9289FA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8B9-2840-4E72-B4D8-092D2D17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0FD6-8635-4D0D-A9A9-6DD2DC7F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9E6-C127-4809-B924-CFFC97EA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6A6-D556-4E22-BBAC-DF308AC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EAA7-345A-4868-BF31-EFF1E7FF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7EDA-7971-4BC1-BA07-A297E2C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B2B-2DDA-438F-AB76-BD88E1D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369-87B3-43E6-8C7C-95F4009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2D4-41D8-4869-8A6B-4CBD11C4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A17D-34ED-4FB6-8B59-B129F9E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095-BDFA-49ED-8C84-5AF2CB3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139-6BD1-4FFE-8461-4BE1A1A5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2A5C-FF3A-43C0-B81B-B1CB8089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725-0943-4128-A7CD-CEE3B788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5160-ADAE-47BB-8514-50427152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4F6A-0B83-41A0-A480-B5B7128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3340-4B85-4A2F-A383-2C26E6D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DF63-61D2-4BDC-9E20-FB1B7D8C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2A1A-A524-4B1C-A20F-6BCE7E2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30F-4772-4B09-8756-649099E3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9CB0-43B2-4976-A32B-26E8BCB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4C34-7E7D-470D-935E-3083309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2B3E-BAE0-4D5D-8DC2-82C7E95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F721-A0B5-4382-A2DF-C1A3D9F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4A9A-DFFA-44B0-A758-9B8D678A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55DE-4DA5-4125-BF74-F14CE2D7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48CB-EDC2-43EF-8037-F753B42E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C0C1-F9F9-452A-9341-C8297EC6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3812-A54B-44AF-91DA-E0C95C75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9EF5-6716-4933-B943-795ACED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8AC-F8E7-4938-A467-54F7FFDC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C28A-52D0-400D-9A22-DF3F515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B5FE-9ABA-4DD8-88D5-D22D3F2A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39E4-7CE6-4349-B6B6-E4CB3DE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B579-33ED-4E64-A875-E2E8FB9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6DBB-9351-4DC3-B168-33814A57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4D97-79E8-49FC-ACFC-E694211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A23F-4429-426E-B0EB-48F7763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F2A4-A337-4972-BB1F-122977E7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021C-09BE-4465-BB31-D77FA3A7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565F-05AC-468A-9D4F-51C38000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3F5-CD65-4B8F-AAFF-87F13349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9D01-0F23-4C53-BA34-33D845EE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08F0-5BAF-4552-A618-D75EB5A7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C279-3E17-42FF-9370-ED9D2B48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888B-1E80-43A8-B618-4FD97A63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5052-8A44-4E06-A534-EC8AAF4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FD65-8ED3-42C9-ABC5-C9A0E74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BF73-6F1A-4D13-AA67-B27E772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AFE3-34AD-4DCE-8D6E-87B697B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F9F9-D524-4196-A618-458F82A6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A40C-4307-4C87-9AF4-2922B875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2EC-F1E2-493F-A765-2980771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CAE2-2298-4162-8D4D-C36A891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A06-C93F-47B8-B774-D84AB6C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F35-0F4C-4567-B6F9-FAA28FC6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8B6-EF04-48A9-A832-53529164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F13-1614-41EE-93F1-065D99474F3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93F-40F1-4271-BD10-0DF7D6DD342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983-BBFE-4612-BE15-2FC3CAF654B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9F2A-4F94-4B08-A1CA-076EA2C765F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1B7-B7A7-4A39-B1DD-9EE4F94DF97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963720" y="920880"/>
            <a:ext cx="7783560" cy="1444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Trebuchet MS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5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3591000" y="3186000"/>
          <a:ext cx="1962000" cy="48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91000" y="3186000"/>
                    <a:ext cx="1962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Рисунок 3" descr="979289be9b10198d632527a43d0.jpg"/>
          <p:cNvPicPr/>
          <p:nvPr/>
        </p:nvPicPr>
        <p:blipFill>
          <a:blip r:embed="rId12"/>
          <a:stretch/>
        </p:blipFill>
        <p:spPr>
          <a:xfrm>
            <a:off x="0" y="228600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9"/>
          <p:cNvSpPr/>
          <p:nvPr/>
        </p:nvSpPr>
        <p:spPr>
          <a:xfrm>
            <a:off x="2286000" y="2357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ерои  Великой Отечественной  войны  Саратовской  области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4357800" y="4714920"/>
            <a:ext cx="4786200" cy="271476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rebuchet MS"/>
              </a:rPr>
              <a:t>Мои родные – защитники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rebuchet MS"/>
              </a:rPr>
              <a:t>Каретникова Виктория</a:t>
            </a: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1 А класс, МОУ «Лицей» г. Балашова Саратовской обла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rebuchet MS"/>
              </a:rPr>
              <a:t>Руководитель</a:t>
            </a: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: Заярная Ольг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214200" y="714240"/>
            <a:ext cx="221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Региональный интернет-конкурс творческих работ «Победа народа в сердцах поколени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3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7255080" cy="138276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5" descr="http://ia103.odnoklassniki.ru/getImage?photoId=501751076126&amp;photoType=0"/>
          <p:cNvPicPr/>
          <p:nvPr/>
        </p:nvPicPr>
        <p:blipFill>
          <a:blip r:embed="rId2"/>
          <a:stretch/>
        </p:blipFill>
        <p:spPr>
          <a:xfrm>
            <a:off x="357120" y="164304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4" descr=""/>
          <p:cNvPicPr/>
          <p:nvPr/>
        </p:nvPicPr>
        <p:blipFill>
          <a:blip r:embed="rId1"/>
          <a:stretch/>
        </p:blipFill>
        <p:spPr>
          <a:xfrm>
            <a:off x="603360" y="817560"/>
            <a:ext cx="824220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8" descr=""/>
          <p:cNvPicPr/>
          <p:nvPr/>
        </p:nvPicPr>
        <p:blipFill>
          <a:blip r:embed="rId1"/>
          <a:stretch/>
        </p:blipFill>
        <p:spPr>
          <a:xfrm>
            <a:off x="244440" y="281160"/>
            <a:ext cx="8363160" cy="1187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Я назову  участников войны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ои родные родились в Саратовской област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до конца выполнили свой долг перед Родиной в Отечественной войн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сражались с врагом. С каждым днём приближали час  Побед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Я горжусь ими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714240" y="1714680"/>
            <a:ext cx="742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трикеев Ефим Ефимович –– старш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вал. Был в плену. Бежал. Попал на фронт. Имел благодарность от Верховного Главнокомандующ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имя занесено в Книгу Памяти «Они сражались за Родину» 1941-1945 , том 14, стр. 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ён орденами Отечественной войны 1-ой степени, Славы 2-ей степ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нулся с побе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C:\Users\user\Documents\история моей семьи\дед Ефим\SWScan00004 - копия.BMP"/>
          <p:cNvPicPr/>
          <p:nvPr/>
        </p:nvPicPr>
        <p:blipFill>
          <a:blip r:embed="rId2"/>
          <a:stretch/>
        </p:blipFill>
        <p:spPr>
          <a:xfrm>
            <a:off x="326880" y="285840"/>
            <a:ext cx="173052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7450200" cy="1627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14200" y="1600200"/>
            <a:ext cx="376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шелев Леонид Алексеевич,1910 г.р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аграждён Орденом Отечественной войны 1 степен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Picture 2" descr="C:\Users\user\Documents\история моей семьи\дед Леонид\Дед Леонид - копия.JPG"/>
          <p:cNvPicPr/>
          <p:nvPr/>
        </p:nvPicPr>
        <p:blipFill>
          <a:blip r:embed="rId2"/>
          <a:stretch/>
        </p:blipFill>
        <p:spPr>
          <a:xfrm>
            <a:off x="1000080" y="2357280"/>
            <a:ext cx="167976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user\Documents\история моей семьи\дед Леонид\сканы\родители\ко - копия.jpeg"/>
          <p:cNvPicPr/>
          <p:nvPr/>
        </p:nvPicPr>
        <p:blipFill>
          <a:blip r:embed="rId3"/>
          <a:stretch/>
        </p:blipFill>
        <p:spPr>
          <a:xfrm>
            <a:off x="4286160" y="1785960"/>
            <a:ext cx="2036880" cy="20746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7"/>
          <p:cNvSpPr/>
          <p:nvPr/>
        </p:nvSpPr>
        <p:spPr>
          <a:xfrm>
            <a:off x="6072120" y="15238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шелев Константин Ефимович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11 г.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4714920" y="3571920"/>
            <a:ext cx="37861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Награждён Орденом Отечественной войны 2 сте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0" y="2357280"/>
            <a:ext cx="8215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Маркушин Михаил Антонович родился в 1905 году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Был призван  в  Красную Армию в 1941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Рядовой. Защищал Родину от захватчиков. </a:t>
            </a:r>
            <a:r>
              <a:rPr b="0" lang="ru-RU" sz="2600" spc="-1" strike="noStrike">
                <a:solidFill>
                  <a:srgbClr val="ffff00"/>
                </a:solidFill>
                <a:latin typeface="Trebuchet MS"/>
              </a:rPr>
              <a:t>Пропал без вести в марте 1942 г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 остался для родных живым. Отдал свою жизнь за свою семью, за меня,  за свою Родину, за свою Землю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9" name="Рисунок 4" descr="C:\Users\Sanj\Desktop\дед Леонид\IMG_2133.JPG"/>
          <p:cNvPicPr/>
          <p:nvPr/>
        </p:nvPicPr>
        <p:blipFill>
          <a:blip r:embed="rId2"/>
          <a:stretch/>
        </p:blipFill>
        <p:spPr>
          <a:xfrm>
            <a:off x="285840" y="285840"/>
            <a:ext cx="1603440" cy="213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na\Мои документы\Документы\история моей семьи\IMG_1328.jpg"/>
          <p:cNvPicPr/>
          <p:nvPr/>
        </p:nvPicPr>
        <p:blipFill>
          <a:blip r:embed="rId2"/>
          <a:stretch/>
        </p:blipFill>
        <p:spPr>
          <a:xfrm>
            <a:off x="760320" y="191916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177800" y="1600200"/>
            <a:ext cx="47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Атапин Николай Данилович, родился в 1912 году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Участник Великой Отечественной войны и войны с Японией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Вернулся с победой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285840" y="1643040"/>
            <a:ext cx="7786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на моих родных занесены в Книги Памяти « Они сражались за Роди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941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ссийская Федерация Саратовская область».Турковский район,  Романовский рай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- проявили стойкость, бесстрашие и волю к побе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на героев никогда не забудутся в нашей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357280" y="1609200"/>
            <a:ext cx="64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Дорогие мои предки!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ишет вам ваша праправнучка Вика. В нашей семье хранится память о вас. Вы ушли на фронт в первые дни войны. Много страданий выпало на вашу долю, на долю ваших жён и детей.  Мне 7 лет. Я учусь в лицее в первом  классе. Каждый год мы всей семьёй ходим на парад, посвящённый Дню Победы. Я часто думаю о вас. В школе, на уроках. На переменах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пасибо, вам, за мир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2"/>
          <a:stretch/>
        </p:blipFill>
        <p:spPr>
          <a:xfrm>
            <a:off x="216000" y="207180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Мои родные - участники войны, своим героизмом  приближали Великую Победу. Скоро наступит 75-й День Победы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до конца выполнили свой долг перед Родиной в Отечественной войн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ни сражались с врагом. С каждым днём приближали час  Побед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Каждую весну, в День Победы, собираются горожане около обелиска, чтобы почтить память погибших, умерших от ран, возложить венки, оставить живые цветы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0" name="Picture 4" descr="символ"/>
          <p:cNvPicPr/>
          <p:nvPr/>
        </p:nvPicPr>
        <p:blipFill>
          <a:blip r:embed="rId2"/>
          <a:stretch/>
        </p:blipFill>
        <p:spPr>
          <a:xfrm>
            <a:off x="0" y="285840"/>
            <a:ext cx="1733400" cy="88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user</cp:lastModifiedBy>
  <dcterms:modified xsi:type="dcterms:W3CDTF">2020-04-09T11:16:15Z</dcterms:modified>
  <cp:revision>38</cp:revision>
  <dc:subject/>
  <dc:title>История возникновения чисел</dc:title>
</cp:coreProperties>
</file>