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3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877-7D40-4DA3-9CF2-042441BC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AFB-FD18-4249-B3FB-A79D418D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908-A303-4027-9F68-CB840B76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A8A-EBE1-4D23-BC69-0AAC5342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DF43-54CE-4C5D-8478-95CB9531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7732-CF03-4F4E-A413-DDB72310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100A-2354-4596-9825-7B50D629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2A82-DFD7-44B1-97B6-DD5986A7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1C15-6D60-4C6B-96C7-68A5AA66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5C03-1A4D-40BB-B6B1-E76D73CD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CF7D-DED8-4BDE-8454-48393DA6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56A-4567-4BEA-9C73-DF05DF53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9E47-F961-45EB-B273-42A4265E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756E-ABCF-48EA-AE71-ABD137A9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BE2C-67AF-43CA-A70E-BA897840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1055-2BA4-4B0C-A943-C6751514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CCF1-9B08-49B0-89DD-F5F54364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DC32D-DDB8-40E6-8E64-783A2793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FA266-7F2C-4880-AA93-88619D11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13646-ADC2-4BAE-B3B7-D03112CA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97EA9-73B0-4BFC-8020-64FF7770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F2D85-6F3F-4529-B315-43F47032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E79-8F46-4451-A201-39A58F71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566B9-1E57-4C90-950D-5C43ED90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DEC49-DC31-4726-B473-E9A1A11C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0F390-F5A6-4079-81E4-F787E94F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AE316-256F-4000-B25C-0F5C9CB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A3A94-9A6B-4623-B7BB-B8CF9AC8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A292E-DEFF-4A50-B759-C25590F8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12669-64AD-4DFD-8C5F-95FE52B9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C0BCD-5936-4FE6-BFF7-F8B92671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A1B71-FF69-4EB7-836C-1182D0C7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90CC0-F49E-4D3F-8639-A6188E57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926-16F6-4A01-B277-B5EE657B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34488-41CF-4A74-9585-EC924F98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C379A-B8AA-41B9-A3E8-A828CDFF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1F66F-37F7-4D4A-A2D8-A60DF6D9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CB27D-CAF5-45CE-A444-BE86518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1CF8C-22E0-4F5D-B511-9482D041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4F272-51DC-45C4-ABAE-0DA16CAF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1A4C2-D309-48F3-A4A5-21A72F44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A6EFC-BEE2-4FAC-B26B-F7A47405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F4AAA-D480-4632-83E7-8AA77D8B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5BE96-4F3C-484C-B2DB-77A9443A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3CF-F1B8-4FA2-A3A4-16AA90FA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9CE1B-2634-4C8E-8443-AFC5A69A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2E635-9F75-4D69-8C72-1F744A01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FE981-AB2E-4A8A-B263-2C190D1D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AF4D4-5596-4985-A0E3-AEAD16EB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BBBBC-EDCF-4931-A59F-95DA717E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1AC65-5E19-459A-B60F-229FDD34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09959-7105-4516-918B-74B5F5F1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1F0DD-5ADB-436B-A692-F5171AA0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D89B3-14D4-4054-B78A-9D2E6F11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3D464-5BE3-4212-A90C-0B27DE73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883-AAE6-400A-BEB0-A644F737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B85BB-CE6F-4466-ACA9-E16AC7AD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4C27C0-B0C7-4C97-BBB1-7DB8F286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C54EC-C630-4372-A70A-87C04222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8E2D2-2A5F-47C4-83E1-68862560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006E4-E9B9-48BF-BD33-E1544ED3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768E8-B831-4AA8-89B5-C7689378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6C2EB-E8CC-484F-8C8F-4AC0B79C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6E7C3-29D7-4DEE-BDA5-D4583505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AF3EE-22BF-4766-885A-D7BF40EB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DDB12-916C-4B72-8D60-A133BC4C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8EB-EC4C-466D-8377-05F8F94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786421-0A60-4F7D-B46C-29FEED60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B233D-73F3-465C-9A76-BFAAB8B1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7FDB9-3562-4B48-B37F-2B2350D9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96392-EBCB-4E45-B93B-3886DBA5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E9D78-FDA9-415D-A9CE-23CB72D7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39EEB-3E7A-4092-8DEC-6BF68053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BCE97A-D0C2-4F7B-B417-9CCE48EF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312645-C893-4746-ADCD-B096CD58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C63B60-4C7F-4033-AD3B-7AB5F10A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EC813-CA4B-400F-817E-2D111C0C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200-1AB8-4E65-8C17-9B098431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33992-C203-462F-9974-A684AD08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A5D34-A894-40BF-A9F4-7A261E0F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5803E8-C9EC-44CF-8338-4757EE9D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207867-BA71-481E-ADC8-2115FD01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2B9E6-E93E-47A9-B31D-411F2713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F43-AD0B-4DB7-AE37-50F6C936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0FB8-9185-493B-941B-4629139131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7B11-4D4E-45C0-8913-EF8F1466FD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93C0-F4DC-44E0-81B5-7A2680DA01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E33C-E3B6-42FA-B7BB-3294C79B60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9671-683F-435D-A6B2-60AC61AD4D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EF1E-AE94-4039-BA2B-70359C1D46B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1C92-9B84-4933-A076-3DE4857926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edsovet.su/load/321" TargetMode="External"/><Relationship Id="rId3" Type="http://schemas.openxmlformats.org/officeDocument/2006/relationships/hyperlink" Target="http://slavna.ucoz.ru/photo/skazki/5" TargetMode="External"/><Relationship Id="rId4" Type="http://schemas.openxmlformats.org/officeDocument/2006/relationships/hyperlink" Target="http://festival.1september.ru/articles/521177/" TargetMode="External"/><Relationship Id="rId5" Type="http://schemas.openxmlformats.org/officeDocument/2006/relationships/hyperlink" Target="http://klasnaocinka.com.ua/ru/article/viktorina--v-gostyakh-u-skazki-1-klass.html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C:\Users\Анна\Desktop\573770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ВИКТОРИНА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«В ГОСТЯХ У СКАЗКИ»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ВЕРНИТЕ НАС В СКАЗКУ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Содержимое 3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1000080" y="1643040"/>
            <a:ext cx="2076480" cy="14288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4" descr="C:\Users\1\Desktop\занятия из интернета для гпд\i (1).jpg"/>
          <p:cNvPicPr/>
          <p:nvPr/>
        </p:nvPicPr>
        <p:blipFill>
          <a:blip r:embed="rId3"/>
          <a:stretch/>
        </p:blipFill>
        <p:spPr>
          <a:xfrm>
            <a:off x="5786280" y="1785960"/>
            <a:ext cx="2514600" cy="2152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5" descr="C:\Users\1\Desktop\занятия из интернета для гпд\i (2).jpg"/>
          <p:cNvPicPr/>
          <p:nvPr/>
        </p:nvPicPr>
        <p:blipFill>
          <a:blip r:embed="rId4"/>
          <a:stretch/>
        </p:blipFill>
        <p:spPr>
          <a:xfrm>
            <a:off x="2500200" y="4286160"/>
            <a:ext cx="3514680" cy="22575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1071720" y="342900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6143760" y="42148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Зол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2857680" y="38577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Аленький цветоч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ВЕРНИТЕ НАС В СКАЗКУ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Содержимое 3" descr="C:\Users\1\Desktop\занятия из интернета для гпд\i (3).jpg"/>
          <p:cNvPicPr/>
          <p:nvPr/>
        </p:nvPicPr>
        <p:blipFill>
          <a:blip r:embed="rId2"/>
          <a:stretch/>
        </p:blipFill>
        <p:spPr>
          <a:xfrm>
            <a:off x="357120" y="178596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5357880" y="142884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5" descr="C:\Users\1\Desktop\занятия из интернета для гпд\i.jpg"/>
          <p:cNvPicPr/>
          <p:nvPr/>
        </p:nvPicPr>
        <p:blipFill>
          <a:blip r:embed="rId4"/>
          <a:stretch/>
        </p:blipFill>
        <p:spPr>
          <a:xfrm>
            <a:off x="3571920" y="4538520"/>
            <a:ext cx="2928960" cy="23194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285840" y="46432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Кот в сап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5572080" y="39290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Дудочка и кувши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6500880" y="4929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Двенадцать месяц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7" descr="C:\Users\Анна\Desktop\947748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КАЗОЧНЫЙ ПЕРЕПОЛОХ</a:t>
            </a:r>
            <a:br>
              <a:rPr sz="2400"/>
            </a:b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ПЕРЕПУТАЛИСЬ НАЗВАНИЯ СКАЗОК. СОЕДИНИТЕ НАЧАЛО И КОНЕЦ СКАЗОК, ЧТОБЫ ИСПРАВИТЬ ОШИБКИ. </a:t>
            </a:r>
            <a:br>
              <a:rPr sz="18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 Царевна                                            Ховрошечк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Иван-царевич и                                 семь гномов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рошечка –                                              лягушк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Финист                                              Бессмертный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Белоснежка и                                      серый вол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ощей –                                              Ясный сокол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2273400" y="1700280"/>
            <a:ext cx="4097160" cy="131760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992320" y="2200320"/>
            <a:ext cx="3170520" cy="1676520"/>
          </a:xfrm>
          <a:prstGeom prst="rect">
            <a:avLst/>
          </a:prstGeom>
          <a:ln w="0">
            <a:noFill/>
          </a:ln>
        </p:spPr>
      </p:pic>
      <p:pic>
        <p:nvPicPr>
          <p:cNvPr id="409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2346480" y="1695600"/>
            <a:ext cx="3524040" cy="117612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1706400" y="3054240"/>
            <a:ext cx="4310280" cy="1176480"/>
          </a:xfrm>
          <a:prstGeom prst="rect">
            <a:avLst/>
          </a:prstGeom>
          <a:ln w="0">
            <a:noFill/>
          </a:ln>
        </p:spPr>
      </p:pic>
      <p:pic>
        <p:nvPicPr>
          <p:cNvPr id="411" name="Прямая со стрелкой 12" descr=""/>
          <p:cNvPicPr/>
          <p:nvPr/>
        </p:nvPicPr>
        <p:blipFill>
          <a:blip r:embed="rId6"/>
          <a:stretch/>
        </p:blipFill>
        <p:spPr>
          <a:xfrm>
            <a:off x="2743200" y="2163600"/>
            <a:ext cx="3164040" cy="1676520"/>
          </a:xfrm>
          <a:prstGeom prst="rect">
            <a:avLst/>
          </a:prstGeom>
          <a:ln w="0">
            <a:noFill/>
          </a:ln>
        </p:spPr>
      </p:pic>
      <p:pic>
        <p:nvPicPr>
          <p:cNvPr id="412" name="Прямая со стрелкой 14" descr=""/>
          <p:cNvPicPr/>
          <p:nvPr/>
        </p:nvPicPr>
        <p:blipFill>
          <a:blip r:embed="rId7"/>
          <a:stretch/>
        </p:blipFill>
        <p:spPr>
          <a:xfrm>
            <a:off x="1994040" y="2981160"/>
            <a:ext cx="3809880" cy="1249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C:\Users\Анна\Desktop\95478168.jpg"/>
          <p:cNvPicPr/>
          <p:nvPr/>
        </p:nvPicPr>
        <p:blipFill>
          <a:blip r:embed="rId1"/>
          <a:stretch/>
        </p:blipFill>
        <p:spPr>
          <a:xfrm>
            <a:off x="-15840" y="12600"/>
            <a:ext cx="9159840" cy="68454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КОШЕЧКИ И СОБАЧКИ</a:t>
            </a:r>
            <a:br>
              <a:rPr sz="2800"/>
            </a:b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НАЗВАТЬ КЛИЧКУ КОШКИ ИЛИ СОБАКИ ИЗ: 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928520" y="16430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. «Малыш и Карлсон, который живёт на крыше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Бимбо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. «Крокодил Гена и его друзья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Тобик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. Золотой ключик, или приключения Буратино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Кот Базилио и  пудель Артемон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4. «Репка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Жучка и кошка Мурка)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5. «Доктор Айболит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Авва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6. «Снегурочка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Жучка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5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800"/>
                                        <p:tgtEl>
                                          <p:spTgt spid="4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4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4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4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C:\Users\Анна\Desktop\95608765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entury Schoolbook"/>
              </a:rPr>
              <a:t>ВОЛШЕБНЫЙ СУНДУЧОК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В сундучке  находятся предметы, которые в тридевятом царстве выполняли роль……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9" name="Рисунок 7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2500200" y="2143080"/>
            <a:ext cx="3929040" cy="2658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самолёта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телевизора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3" name="Рисунок 3" descr="C:\Users\1\Desktop\занятия из интернета для гпд\i (1).jpg"/>
          <p:cNvPicPr/>
          <p:nvPr/>
        </p:nvPicPr>
        <p:blipFill>
          <a:blip r:embed="rId2"/>
          <a:stretch/>
        </p:blipFill>
        <p:spPr>
          <a:xfrm>
            <a:off x="928800" y="2428920"/>
            <a:ext cx="2857320" cy="164304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C:\Users\1\Desktop\занятия из интернета для гпд\i (2).jpg"/>
          <p:cNvPicPr/>
          <p:nvPr/>
        </p:nvPicPr>
        <p:blipFill>
          <a:blip r:embed="rId3"/>
          <a:stretch/>
        </p:blipFill>
        <p:spPr>
          <a:xfrm>
            <a:off x="6072120" y="214308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5" descr="C:\Users\1\Desktop\занятия из интернета для гпд\i (4).jpg"/>
          <p:cNvPicPr/>
          <p:nvPr/>
        </p:nvPicPr>
        <p:blipFill>
          <a:blip r:embed="rId4"/>
          <a:stretch/>
        </p:blipFill>
        <p:spPr>
          <a:xfrm>
            <a:off x="3357720" y="5337000"/>
            <a:ext cx="2143080" cy="1521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0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8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6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тиральной маши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компаса, навигато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9" name="Рисунок 3" descr="C:\Users\1\Desktop\занятия из интернета для гпд\i (5).jpg"/>
          <p:cNvPicPr/>
          <p:nvPr/>
        </p:nvPicPr>
        <p:blipFill>
          <a:blip r:embed="rId2"/>
          <a:stretch/>
        </p:blipFill>
        <p:spPr>
          <a:xfrm>
            <a:off x="3143160" y="2071800"/>
            <a:ext cx="2319480" cy="17398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3429000" y="4929120"/>
            <a:ext cx="1952640" cy="130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6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втомобил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естора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Рисунок 3" descr="C:\Users\1\Desktop\занятия из интернета для гпд\i (1).jpg"/>
          <p:cNvPicPr/>
          <p:nvPr/>
        </p:nvPicPr>
        <p:blipFill>
          <a:blip r:embed="rId2"/>
          <a:stretch/>
        </p:blipFill>
        <p:spPr>
          <a:xfrm>
            <a:off x="3429000" y="1857240"/>
            <a:ext cx="3538440" cy="17100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4" descr="C:\Users\1\Desktop\занятия из интернета для гпд\i (2).jpg"/>
          <p:cNvPicPr/>
          <p:nvPr/>
        </p:nvPicPr>
        <p:blipFill>
          <a:blip r:embed="rId3"/>
          <a:stretch/>
        </p:blipFill>
        <p:spPr>
          <a:xfrm>
            <a:off x="3286080" y="4572000"/>
            <a:ext cx="307188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C:\Users\Анна\Desktop\47533973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entury Schoolbook"/>
              </a:rPr>
              <a:t>ТЕЛЕГРАМ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Спасите! Нас съел серый волк!»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Семеро козлят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Прибыть на ваш праздник не могу, так как от меня сбежали брюки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Мойдодыр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От дедушки ушел, от бабушки ушел. Скоро у вас буду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Колобок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А дорога далека, и корзина нелегк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есть бы на пенек, съесть бы пирожок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Машеньк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Пришлите, пожалуйста, капли, мы лягушками нынче объелись  и у нас животы разболелись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  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Цапли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Все осталось без изменений, вот только бабушку съел волк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Красная шапочк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C:\Users\Анна\Desktop\09177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entury Schoolbook"/>
              </a:rPr>
              <a:t>БЛИЦ - ОПРО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внес решающий вклад в процесс вытаскивания репки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не влез в терем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очему гуси-лебеди унесли братц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очему выгнала лисичка зайчика из дом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Сколько понадобилось муки, чтобы испечь колоб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медведи узнали, что к ним зашёл гость нежданный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звали медведей из сказки «Три медведя»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Что отвечала лиса, когда её пытались выгнать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Из чего была речка, берега которой укрыли сестрицу Аленушку, и братца Иванушку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звали волка, который поселился в теремк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Где взяла бабка муки для выпечки колоб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ой беспорядок устроила Машенька в чужом дом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ого сначала, а кого потом встретил колоб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ого цвета была чашка у Мишутки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вспомнит песенку Колоб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обманула лиса колобка?  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 Black"/>
              </a:rPr>
              <a:t>КОНКУРС 1. «УЗНАЙ СКАЗКУ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Содержимое 3" descr="http://antalpiti.ru/files/99604/tri_medveda.jpg"/>
          <p:cNvPicPr/>
          <p:nvPr/>
        </p:nvPicPr>
        <p:blipFill>
          <a:blip r:embed="rId2"/>
          <a:stretch/>
        </p:blipFill>
        <p:spPr>
          <a:xfrm>
            <a:off x="642960" y="2571840"/>
            <a:ext cx="3429000" cy="364320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4" descr="http://antalpiti.ru/files/99604/lisa_i_zhuravl.2.jpg"/>
          <p:cNvPicPr/>
          <p:nvPr/>
        </p:nvPicPr>
        <p:blipFill>
          <a:blip r:embed="rId3"/>
          <a:stretch/>
        </p:blipFill>
        <p:spPr>
          <a:xfrm>
            <a:off x="4857840" y="1571760"/>
            <a:ext cx="3457440" cy="321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with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C:\Users\Анна\Desktop\09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Всякой сказке бывает конец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Каждый, кто с нами играл –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4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ПОЛЬЗОВАННЫЕ РЕСУРС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pedsovet.su/load/321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- фон для слайдов презентации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slavna.ucoz.ru/photo/skazki/5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- иллюстрации к сказка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 Пособие «Внеклассные мероприятия». Авт. –сост. О.Е .Жиренко, Л.Н. Яровая, Л.П. Барылкина и др. – 3 –е изд. М.: ВАКО, 2010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 Пособие «Группа продлённого дня» 1 – 2 классы/ Авт. –сост.Л.И.Гайдина, А.В. Кочергина.-М.:ВАКО, 2010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4. Пособие «Литературные игры для детей». Агапова И.А., Давыдов М.А.  М.:ООО ИКТЦ «Лада», 200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festival.1september.ru/articles/521177/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- викторина «Путешествие по сказкам» 1 класс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klasnaocinka.com.ua/ru/article/viktorina--v-gostyakh-u-skazki-1-klass.html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- викторина «В гостях у сказки»  1 класс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3" descr="http://antalpiti.ru/files/99604/kolobok.jpg"/>
          <p:cNvPicPr/>
          <p:nvPr/>
        </p:nvPicPr>
        <p:blipFill>
          <a:blip r:embed="rId2"/>
          <a:stretch/>
        </p:blipFill>
        <p:spPr>
          <a:xfrm>
            <a:off x="1000080" y="3000240"/>
            <a:ext cx="3571920" cy="350064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4" descr="http://antalpiti.ru/files/99604/kot_v_sapogah2.jpg"/>
          <p:cNvPicPr/>
          <p:nvPr/>
        </p:nvPicPr>
        <p:blipFill>
          <a:blip r:embed="rId3"/>
          <a:stretch/>
        </p:blipFill>
        <p:spPr>
          <a:xfrm>
            <a:off x="4714920" y="1571760"/>
            <a:ext cx="3724200" cy="37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Содержимое 3" descr="http://antalpiti.ru/files/99604/lisa_i_zajac.jpg"/>
          <p:cNvPicPr/>
          <p:nvPr/>
        </p:nvPicPr>
        <p:blipFill>
          <a:blip r:embed="rId2"/>
          <a:stretch/>
        </p:blipFill>
        <p:spPr>
          <a:xfrm>
            <a:off x="500040" y="2500200"/>
            <a:ext cx="3905280" cy="40435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4" descr="http://antalpiti.ru/files/99604/belosnezhka.jpg"/>
          <p:cNvPicPr/>
          <p:nvPr/>
        </p:nvPicPr>
        <p:blipFill>
          <a:blip r:embed="rId3"/>
          <a:stretch/>
        </p:blipFill>
        <p:spPr>
          <a:xfrm>
            <a:off x="4786200" y="1714680"/>
            <a:ext cx="3643560" cy="371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Содержимое 3" descr="http://antalpiti.ru/files/99604/zolushka2.jpg"/>
          <p:cNvPicPr/>
          <p:nvPr/>
        </p:nvPicPr>
        <p:blipFill>
          <a:blip r:embed="rId2"/>
          <a:stretch/>
        </p:blipFill>
        <p:spPr>
          <a:xfrm>
            <a:off x="357120" y="2571840"/>
            <a:ext cx="3786120" cy="404316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4" descr="http://antalpiti.ru/files/99604/gusi-lebedi.jpg"/>
          <p:cNvPicPr/>
          <p:nvPr/>
        </p:nvPicPr>
        <p:blipFill>
          <a:blip r:embed="rId3"/>
          <a:stretch/>
        </p:blipFill>
        <p:spPr>
          <a:xfrm>
            <a:off x="4500720" y="1428840"/>
            <a:ext cx="3476520" cy="3476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C:\Users\Анна\Desktop\99901159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ИЗ ОДНОЙ ЛИ МЫ СКАЗКИ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1.  «Бременские музыканты»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сё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етух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оросёнок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2  «Снежная королева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а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Герда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збойница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3. «Волшебник изумрудного города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Элл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трашила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Гингема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4.  «Вини -  Пух и все, все, все»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Иа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ятачок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Филин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8" descr="C:\Users\1\Desktop\занятия из интернета для гпд - копия\i (4).jpg"/>
          <p:cNvPicPr/>
          <p:nvPr/>
        </p:nvPicPr>
        <p:blipFill>
          <a:blip r:embed="rId2"/>
          <a:stretch/>
        </p:blipFill>
        <p:spPr>
          <a:xfrm>
            <a:off x="4284720" y="1424160"/>
            <a:ext cx="45352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3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3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C:\Users\Анна\Desktop\99901159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ИЗ ОДНОЙ ЛИ МЫ СКАЗКИ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5.  «Маугли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Шерха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Багира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Тотошка 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6.  «Теремок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ягушка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лк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егемот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7.  «Три медведя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аша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ишутка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Железный  дровосек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8 «Доктор Айболит»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и – ч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армалей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арабас - Барабас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C:\Users\1\Desktop\занятия из интернета для гпд - копия\i (6).jpg"/>
          <p:cNvPicPr/>
          <p:nvPr/>
        </p:nvPicPr>
        <p:blipFill>
          <a:blip r:embed="rId2"/>
          <a:stretch/>
        </p:blipFill>
        <p:spPr>
          <a:xfrm>
            <a:off x="3203640" y="1484280"/>
            <a:ext cx="5256000" cy="453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6" descr="C:\Users\Анна\Desktop\09177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ВОЛШЕБНЫЕ СЛОВА</a:t>
            </a:r>
            <a:br>
              <a:rPr sz="2400"/>
            </a:b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КАКОМУ ГЕРОЮ ПРИНАДЛЕЖАТ СЛЕДУЮЩИЕ СЛОВА? КАК НАЗЫВАЕТСЯ СКАЗКА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9968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Сивка-бурка ,вещий каурка!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стань передо мной, как лист перед травой!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Иванушка-дурачок, сказка «Сивка-бурка»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з, два, три горшочек, вари!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Девочка, братья Гримм «Горшок каши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ети- лети , лепесток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ерез запад на восток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ерез север, через юг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звращайся, сделав круг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ишь коснёшься ты земли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ыть по-моему вели 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Женя, В. Катаев «Цветик-семицветик»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утабор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Калиф,  В. Гауф «Калиф-аист»)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т теперь тебя люблю я, вот теперь тебя хвалю я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А немытым трубочистам стыд и срам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Мойдодыр, К. Чуйковский «Мойдодыр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рекс Фекс Пекс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Буратино, А. Толстой « Золотой ключик, или приключения Буратино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amond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9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         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ВЕРНИТЕ НАС В СКАЗКУ!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Содержимое 3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714240" y="2286000"/>
            <a:ext cx="2405160" cy="18572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3214800" y="4357800"/>
            <a:ext cx="2571480" cy="192384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5" descr="C:\Users\1\Desktop\занятия из интернета для гпд\0419a61abde816db5df239b9d0ed2abe.jpg"/>
          <p:cNvPicPr/>
          <p:nvPr/>
        </p:nvPicPr>
        <p:blipFill>
          <a:blip r:embed="rId4"/>
          <a:stretch/>
        </p:blipFill>
        <p:spPr>
          <a:xfrm>
            <a:off x="5643720" y="185724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6"/>
          <p:cNvSpPr/>
          <p:nvPr/>
        </p:nvSpPr>
        <p:spPr>
          <a:xfrm>
            <a:off x="785880" y="42861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Царевна-ляг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3357720" y="3786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Курочка Ря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5857920" y="4714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44:57Z</dcterms:created>
  <dc:creator>Анна</dc:creator>
  <dc:description/>
  <dc:language>en-US</dc:language>
  <cp:lastModifiedBy>Технология</cp:lastModifiedBy>
  <dcterms:modified xsi:type="dcterms:W3CDTF">2016-08-24T07:52:23Z</dcterms:modified>
  <cp:revision>63</cp:revision>
  <dc:subject/>
  <dc:title>Слайд 1</dc:title>
</cp:coreProperties>
</file>