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908-F42B-4742-BC5E-B2EC508D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D07-55A4-4FB8-8E7F-0E68A564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4FA-E172-48D5-879D-8E893967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543-DD89-4A78-A382-CF13F915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B4B-F3F6-46F5-A261-41C8DFF6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18B-8750-4504-BED7-6C1B0193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6FE-063F-4091-83C3-2316D988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196-5746-4C6B-8952-55D55192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4FB-015F-40DD-AEEF-46EB7572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60F-0F50-42DA-9BEE-F2BE74FC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74B-E522-4B84-A671-025C00A0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9A3-678E-4CD9-A080-902C08FA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29BF-2602-4F81-9A26-C31F725C56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00280" y="1122120"/>
            <a:ext cx="8967600" cy="32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Внутренние различие регионов Африки.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д\з §50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"/>
          <p:cNvPicPr/>
          <p:nvPr/>
        </p:nvPicPr>
        <p:blipFill>
          <a:blip r:embed="rId1"/>
          <a:srcRect l="27068" t="32752" r="10169" b="16914"/>
          <a:stretch/>
        </p:blipFill>
        <p:spPr>
          <a:xfrm>
            <a:off x="2790720" y="554040"/>
            <a:ext cx="6481800" cy="6265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9"/>
          <p:cNvSpPr/>
          <p:nvPr/>
        </p:nvSpPr>
        <p:spPr>
          <a:xfrm>
            <a:off x="1703520" y="8424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гионы Афр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7464600" y="90792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6507720" y="649440"/>
            <a:ext cx="25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верная Афр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8688240" y="3392640"/>
            <a:ext cx="165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точная Афр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3511800" y="57085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Южная Афр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2602080" y="414648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нтральная Афр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1330200" y="2637000"/>
            <a:ext cx="2102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падная Афр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7" descr=""/>
          <p:cNvPicPr/>
          <p:nvPr/>
        </p:nvPicPr>
        <p:blipFill>
          <a:blip r:embed="rId2"/>
          <a:srcRect l="0" t="46703" r="62404" b="44025"/>
          <a:stretch/>
        </p:blipFill>
        <p:spPr>
          <a:xfrm>
            <a:off x="2995560" y="3411360"/>
            <a:ext cx="2232000" cy="4734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" descr=""/>
          <p:cNvPicPr/>
          <p:nvPr/>
        </p:nvPicPr>
        <p:blipFill>
          <a:blip r:embed="rId3"/>
          <a:srcRect l="78190" t="66134" r="10335" b="22020"/>
          <a:stretch/>
        </p:blipFill>
        <p:spPr>
          <a:xfrm>
            <a:off x="7770960" y="4869000"/>
            <a:ext cx="1199880" cy="12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Текст 2"/>
          <p:cNvSpPr/>
          <p:nvPr/>
        </p:nvSpPr>
        <p:spPr>
          <a:xfrm>
            <a:off x="1009800" y="376200"/>
            <a:ext cx="4039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верная Афр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6320" y="893520"/>
            <a:ext cx="42447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аны Средиземноморья экономически разви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годное ЭГП, очаг древней цивил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ая часть населения – на побережье: арабы, французы, бербе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 внутренних районах - месторожде­ния нефти и газа (Алжир, Ливия), фосфоритов (Марокко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упные промышленные центры: Каир, Ал­жир, Александрия, Тунис, Рабат и Касабла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ые культуры:  пшеница, кукуруза, хлопчатник длинноволокнистый, оливки, виноград, цитрусовые и финиковая паль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расли животноводства: овцеводство, козоводство и верблюдовод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ая проб­лема: обеспечение промышленности, сельского хозяйства и насе­ления пресной вод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Текст 4"/>
          <p:cNvSpPr/>
          <p:nvPr/>
        </p:nvSpPr>
        <p:spPr>
          <a:xfrm>
            <a:off x="7291440" y="25416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точная Афр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235200" y="694800"/>
            <a:ext cx="5729400" cy="60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бережье Индийского оке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дность минеральными ресурсами, кроме Замбии (мед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ая высокая точка материка: влк. Килиманджаро, 5895м и самая низкая: озеро Ассаль, - 153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она разломов: землетрясения и вулкан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льскохозяйственная специализация регио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фе-арабика: Эфиопия, Кения и Уган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ай: К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лопок и сизаль: Танзания, Уганда, К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Шкуры сельскохозяйственных животных: Танзания   Живой скот: Сомали и Джи­бу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яжелая промышленность развита слабо (Замб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гкая и пищевая промышленность: предприятия первичной переработки сельскохозяйственного сыр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требительские культур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о, сорго, маниок, кукуруза, бобовые и бат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Объект 3"/>
          <p:cNvSpPr/>
          <p:nvPr/>
        </p:nvSpPr>
        <p:spPr>
          <a:xfrm>
            <a:off x="750960" y="668160"/>
            <a:ext cx="4568760" cy="58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ьшая часть территории: возвышенные равни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стыни, зона Сахель (саванны) и экваториальные ле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ожный этнический состав и разноязычие насе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ногонаселенная - Нигерия и маленькая Кабо-Вер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гатые природные ресурсы: железо, марганец, бокситы, олово, алмазы, золото, нефть (шельф Гвинейского залив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арактерна горнодобывающая промышлен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дер обрабатывающей промышленности – Ниге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ао-бобы: Кот'д-Ивуар, Гана (веду­щие место в мир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бор и экспорт арахиса: Сенегал, Нигер и Гамб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ехи масличной пальмы и 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производство масла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игер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Текст 2"/>
          <p:cNvSpPr/>
          <p:nvPr/>
        </p:nvSpPr>
        <p:spPr>
          <a:xfrm>
            <a:off x="1152360" y="284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падная Афр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Текст 4"/>
          <p:cNvSpPr/>
          <p:nvPr/>
        </p:nvSpPr>
        <p:spPr>
          <a:xfrm>
            <a:off x="6950160" y="23508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шнеэкономические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бъект 5"/>
          <p:cNvSpPr/>
          <p:nvPr/>
        </p:nvSpPr>
        <p:spPr>
          <a:xfrm>
            <a:off x="6330960" y="847800"/>
            <a:ext cx="528012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¾ внешнего оборота Африки – высокоразвитые государства Европы, США, Япо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рганизация Африканского единства – 47 государст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Экспортные това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фть: 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Нигерия, Ливия, Алжи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езные руды: 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Либерия и Маврита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рганец и урановая руда: 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Габ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сфориты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: Марок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лопок: 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Египет, Судан, Чад, Мали, Танз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рахис: 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Сенегал, Гамбия, Суда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као-бобы: 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Кот-д´Ивуар, Гана, Ниге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фе: 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Эфиопия, Ангола, Кения, Уганда, Бурунди, Руан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сличная пальма: 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Нигерия, ДР Кон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иники (более 50% мировых поставок): 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Ливия, Алжи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ливковое масло: 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Тунис, Марок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итрусовые, виноградное вино, табак, древесина троп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8T12:55:22Z</dcterms:created>
  <dc:creator>Пользователь</dc:creator>
  <dc:description/>
  <dc:language>en-US</dc:language>
  <cp:lastModifiedBy>Пользователь</cp:lastModifiedBy>
  <dcterms:modified xsi:type="dcterms:W3CDTF">2020-04-09T06:56:49Z</dcterms:modified>
  <cp:revision>1</cp:revision>
  <dc:subject/>
  <dc:title>Внутренние различие регионов Африки.  д\з §50</dc:title>
</cp:coreProperties>
</file>