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D88-4771-4A1A-9584-9DE4B9B6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178-8BC9-4000-BBEC-1AA76DE4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426-6062-4BC6-A6EE-366EF257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AE9-7680-4627-A634-D9C4738F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03C3-B583-4B0C-9999-72047194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4D9E-465F-4D90-8E4F-6773B8CC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AC1D-103F-4628-8145-08A06284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81D4-11C1-478D-AA27-CD0D7F68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725E-62F0-4E75-8934-3F78314B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BFAB-EF06-4CAA-9AE2-092F2652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C990-5F0A-4805-9AE1-92BE13E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73C-CDD6-4B05-9C62-6C7F56F1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D1AF-1B66-4BD0-B0AA-6B50823F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87EB-865F-4F83-BCC6-7B3E3A5A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B48F-A006-4789-AA64-B8CEEFB5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8C48-12E3-4031-979C-A1AD3D17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599E-DC18-4524-9E2E-D49B869B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046E-B9D7-44DB-B018-7AD86A47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53AF-6091-4854-BC4D-82C589F3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1411-FA53-4A30-AA9D-36A061C0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7476-7B2B-451D-AF81-692550FE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4EC4-EB22-4B2D-AD6F-4A326CBB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FDE-56D5-4914-936C-78BAF05E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C860-3BC8-4A9A-936B-48EB0096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0570-9978-45E1-9233-0BD44C0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F566-3AA5-4D31-96DC-CB7EB36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49AD-BE19-42E0-B22F-68A1B86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7E33-BC1F-4192-83C5-56B9AE3D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5761-8315-42C3-994E-878B28C7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42C0-A20B-4144-A7E9-981227F1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947-80B6-44DF-BD32-736BB4C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406-74E3-418D-892D-432AA681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91B-B679-4C02-B3E8-3B9FEAAC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D1D-115A-41D5-9D69-34B3EA48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95B-D0F1-422F-888E-D7FC401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0D0-6E3C-475C-A184-9FAECDD8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8001-397C-4565-BE04-AC9CBAD16F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CECF-A606-448F-8BD9-66919DEBE4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2884-63D2-47DC-BD7A-FA66B8FDDC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ебования воинской деятельности, предъявляемые к моральным и индивидуально-психологическим качествам гражданин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4" descr="E:\Фотки ВСРС\1636360[1].jpg"/>
          <p:cNvPicPr/>
          <p:nvPr/>
        </p:nvPicPr>
        <p:blipFill>
          <a:blip r:embed="rId1"/>
          <a:stretch/>
        </p:blipFill>
        <p:spPr>
          <a:xfrm>
            <a:off x="642960" y="3071880"/>
            <a:ext cx="4311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развития этих качеств рекомендуются систематические занятия физической культурой и спортом, основу которых должны составлять самостоятельные занятия, эффективное использование учебного времени на уроках физической культуры, занятия в спортивных секция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оценки уровня своей физической подготовки можно воспользоваться нормативными данными по подготовленности студентов вузов и учащихся общеобразовательных учреждений в возрасте 17 ле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равни свои показатели в физической подготовке с приведенными нормативами, определи уровень подготовленности и пути повышения и укрепления своего физического здоровь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24000" y="1628640"/>
          <a:ext cx="8229600" cy="4281480"/>
        </p:xfrm>
        <a:graphic>
          <a:graphicData uri="http://schemas.openxmlformats.org/drawingml/2006/table">
            <a:tbl>
              <a:tblPr/>
              <a:tblGrid>
                <a:gridCol w="569880"/>
                <a:gridCol w="3375000"/>
                <a:gridCol w="857160"/>
                <a:gridCol w="826920"/>
                <a:gridCol w="855720"/>
                <a:gridCol w="835200"/>
                <a:gridCol w="9097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в балл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тягивание на перекладин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ра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жимание на брусьях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ра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ъем переворотом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ра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ние ног на перекладин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ра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5" name="Rectangle 319"/>
          <p:cNvSpPr/>
          <p:nvPr/>
        </p:nvSpPr>
        <p:spPr>
          <a:xfrm>
            <a:off x="543600" y="548640"/>
            <a:ext cx="78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нормативы для оценки силовой подгото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дентов ву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900000" y="691560"/>
            <a:ext cx="75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нормативы для оценки быстроты и скоростно-силовой подготовленности студентов ву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68360" y="1844640"/>
          <a:ext cx="8229600" cy="2881440"/>
        </p:xfrm>
        <a:graphic>
          <a:graphicData uri="http://schemas.openxmlformats.org/drawingml/2006/table">
            <a:tbl>
              <a:tblPr/>
              <a:tblGrid>
                <a:gridCol w="581040"/>
                <a:gridCol w="3359160"/>
                <a:gridCol w="866880"/>
                <a:gridCol w="825480"/>
                <a:gridCol w="844560"/>
                <a:gridCol w="844560"/>
                <a:gridCol w="907920"/>
              </a:tblGrid>
              <a:tr h="75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в балл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100 м,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ок в длину с мест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 Прыжок в длину с разбега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ок в высоту с разбега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7 240 365 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0 220 350 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0 205 325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9 190 300 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7 180 280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1403280" y="25992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нормативы для оценки силовой выносливости студентов ву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4360" y="2060640"/>
          <a:ext cx="7570800" cy="3489120"/>
        </p:xfrm>
        <a:graphic>
          <a:graphicData uri="http://schemas.openxmlformats.org/drawingml/2006/table">
            <a:tbl>
              <a:tblPr/>
              <a:tblGrid>
                <a:gridCol w="523800"/>
                <a:gridCol w="3100320"/>
                <a:gridCol w="787320"/>
                <a:gridCol w="758880"/>
                <a:gridCol w="787320"/>
                <a:gridCol w="766800"/>
                <a:gridCol w="846360"/>
              </a:tblGrid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в балл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300 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5000 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лыжах   на 5 к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на лыжах на 10 к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вание на 50 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/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вание на 100 м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468360" y="692280"/>
          <a:ext cx="8229600" cy="4547880"/>
        </p:xfrm>
        <a:graphic>
          <a:graphicData uri="http://schemas.openxmlformats.org/drawingml/2006/table">
            <a:tbl>
              <a:tblPr/>
              <a:tblGrid>
                <a:gridCol w="1677960"/>
                <a:gridCol w="3376440"/>
                <a:gridCol w="860400"/>
                <a:gridCol w="1413000"/>
                <a:gridCol w="90180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 подгото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х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30 м,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-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ордин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лночный бег 3x10,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—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о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ок в длину с места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—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нос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минутный бег,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0—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бк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лон вперед из по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оя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—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л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тягивание на высо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кладине из виса, 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1" name="Line 298"/>
          <p:cNvSpPr/>
          <p:nvPr/>
        </p:nvSpPr>
        <p:spPr>
          <a:xfrm>
            <a:off x="468360" y="1197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1280" y="70920"/>
            <a:ext cx="9001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рально-психологически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инская деятельность сегодня носит ярко выраженный коллективный характер. Использование современных технических средств не только предполагает распределение функций между членами отделения, расчета, экипажа, взвода, роты и т. д., но и требует полной согласованности их действий в процессе боевой работы. Первостепенное значение приобретают вопросы психологической совместимости военнослужащих. Поэтому в большинстве случаев военнослужащему недостаточно лишь умения и готовности качественно исполнить непосредственные обязанности, он должен еще обладать способностью работать в коллективе, эффективно взаимодействовать с другими членами экипажа (номерами боевого расчета), иметь внутреннюю направленность на коллектив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ческую основу взаимоотношений военнослужащих в коллективе составляют уставные взаимоотношения между ними, которые складываются в процессе совместной службы и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42920" y="7092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еннослужащие, входящие в состав отделения, расчета, экипажа, связываются друг с другом прежде всего функционально, на основе выполнения единой воинской деятельности. При этом разделение действий военнослужащих в воинском коллективе на индивидуальные обязанности осуществляется так, чтобы обеспечивалась возможность эффективно выполнять единую общую зада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обходимо отметить, что в процессе совместной жизнедеятельности военнослужащие постоянно взаимодействуют друг с другом не только в ходе коллективного выполнения задач боевой подготовки, но и в столовой, у телевизора, на спортивной площадке, при совместном проведении свободного от службы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процессе практически постоянного взаимодействия членов воинского коллектива между ними неизбежно могут возникнуть самые различные противоречия, которые при определенных условиях могут перерасти в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онфликт.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юбой конфликт всегда отрицательно влияет на взаимоотношения в группе, а следовательно, и на уровень боеспособности и боеготовности отделения, экипажа, расче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092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конфликт является одним из крайних способов разрешения значимых противоречий, возникающих в процессе взаимодействия как отдельных военнослужащих, так и и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авильной организации взаимоотношений в воинском коллективе противоречия, возникшие между его военнослужащими, могут быть разрешены путем взаимного компромисса между ними. Умение жить бесконфликтно — это одно из требований воинской деятельности. Но само оно не приходит, ему надо учиться и учитывать, что общая задача воинского коллектива — уровень боеспособности и боеготовности — выше личных запросов. При этом надо помнить, что любые компромиссы не должны унижать личное достоинств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астую конфликтные ситуации между военнослужащими да и молодыми людьми возникают из-за личных взглядов и убеждений, которые не всегда бывают правильными. Поэтому каждому человеку не помешает знать о себе, конфликтная ли он л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енная служ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первая ступень, где проверяется уровень подготовки человека к взрослой жизни, где жестко, без скидок и условностей каждый получает оценку уровня своей подготовленности к жизни, которого достигает за прожитые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служба всегда была для человека испытанием его духовных и физических сил и величайшей школой подготовки к жизни. В настоящее время эти положения стали более значимыми. Современный уровень оснащенности Вооруженных Сил новыми видами вооружения и военной техники не только повышает требования к общеобразовательному уровню, физической подготовленности и морально-психологическим качествам призывников, но и позволит им в процессе прохождения военной службы приобрести профессиональные знания, навыки и качества, необходимые в жизни после военной службы. Это знания конструкций, правил эксплуатации и ремонта различных видов техники, агрегатов и устройств, навыки в правилах поведения в различных воинских коллективах, позволяющих строить бесконфликтные взаимоотношения с военнослужащими и успешно решать самые сложные коллективные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14200" y="0"/>
            <a:ext cx="8786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подготовка молодого человека к военной службе, по сути дела, подготовка его к взрослой жизни. Она наиболее эффективна и целенаправленна, так как требования к призывнику четко обознач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2" descr="kadet_04.jpg"/>
          <p:cNvPicPr/>
          <p:nvPr/>
        </p:nvPicPr>
        <p:blipFill>
          <a:blip r:embed="rId1"/>
          <a:stretch/>
        </p:blipFill>
        <p:spPr>
          <a:xfrm>
            <a:off x="142920" y="2357280"/>
            <a:ext cx="4286160" cy="32101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" descr="178_3112_1.jpg"/>
          <p:cNvPicPr/>
          <p:nvPr/>
        </p:nvPicPr>
        <p:blipFill>
          <a:blip r:embed="rId2"/>
          <a:stretch/>
        </p:blipFill>
        <p:spPr>
          <a:xfrm>
            <a:off x="4703760" y="2357280"/>
            <a:ext cx="4297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092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Общие требования воинск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ализ видов воинской деятельности с позиции ее конечного предназначения — приведение и поддержание Вооруженных Сил РФ на уровне, обеспечивающем надежную защиту страны от агрессии и вооруженную защиту целостности и неприкосновенности ее территории, а также выполнение задач по защите ее интересов — свидетельствует о постоянном возрастании требований воинской деятельности к уровню подготовки призывник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условиях повышения технической оснащенности Вооруженных Сил государства, сокращения времени, необходимого для развертывания войск и приведения их в готовность вступить в бой, возросли требования к уровню морально-психологической, профессиональной и физической подготовки как каждого военнослужащего, так и подразделений и частей в цел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092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собое значение приобретают такие качества военнослужащих, как устойчивость внимания, скорость и точность восприятия окружающей обстановки, быстрота и гибкость мышления. Важное значение имеют также личностные качества: самостоятельность, ответственность, способность принимать решение в условиях жесткого дефицита времени, эмоционально-волевая устойчивость, готовность к самопожертвованию во имя защиты Отечеств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иболее полно перечисленные качества проявились в годы Великой Отечественной войны. Верные своему народу, Родине, советские воины в боях с врагом проявляли высокие образцы героизма, сплоченности, стойкости и взаимовыручки. Каждый боец в минуту смертельной опасности действовал самоотверженно, шел на подвиг ради достижения победы в бо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ведем несколько известных примеров, характеризующих наших воинов во время Великой Отечественной вой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0920" y="14292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Курской битвы 5 июля со стороны Белгорода немцы ввели в бой 700 танков и большие силы пехоты. В итоге первого дня боев противнику удалось продвинуться на 4—6 км, на узком участке форсировать Северный Донец северо-восточнее Белгорода и овладеть небольшим плацдармом. Для удержания второй полосы обороны была выдвинута 1-я гвардейская танковая армия. Отразив до восьми атак противника, воины армии удержали вторую полосу обороны. Яркий героический подвиг в этом бою совершили воины танкового батальона, которым командовал майор Вовченко. Имея всего 10 танков, батальон вел героическую борьбу с 70 танками противника. В течение двух часов воины батальона уничтожили 24 вражеских танка (в том числе 14 «тигров»). Самоотверженно сражался в этом бою экипаж танка лейтенанта Шаландина. Роту, в которой он действовал, стала обходить группа вражеских танков. Лейтенант Шаландин и члены его экипажа — старшие сержанты Кустов, Лекомцев и сержант Зеленин — смело вступили в бой с численно превосходящим противник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256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ействуя из засады, они подпустили вражеские танки на дистанцию прямого выстрела, а затем, ударив по бортам, подожгли два танка «тигр» и один средний танк. Танк Шаландина также был подбит и загорелся. На горящем танке экипаж решил пойти на таран и с ходу врезался в борт «тигра». Вражеский танк загорелся, но погиб и весь экипаж Шаландина. Одновременно с боями на земле во время Курской битвы шли ожесточенные сражения с воздуха. Бессмертный подвиг совершил здесь летчик гвардии лейтенант Горовец. 6 июля в составе эскадрильи на самолете Ла-5 он прикрывал наши войска. Возвращаясь с задания, Горовец увидел большую группу вражеских бомбардировщиков и атаковал их. В ходе боя отважный летчик сбил 9 вражеских бомбардировщиков, но и сам поги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092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 чтобы более реально определить пути, с чего начать молодому человеку при подготовке к военной службе, да и не только к военной, но и к гражданской службе Отечеству, обратимся к статистике, определяющей уровень подготовленности молодежи призывного возраста к военной службе и к полноценной жизни вообще. Для этого воспользуемся анализом, сделанным в Генеральном штабе Вооруженных Сил России в мае 1997 г., по организации и проведению весеннего призыва на военную службу в 199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меющейся в Генеральном штабе информации, в апреле 1997 г. на военную службу было призвано более 120 тыс. юношей. Практика работы призывных комиссий выявила ряд проблем в ходе проведения весеннего призыва. Прежде всего это — состояние здоровья призывников. Отмечено, что почти каждый третий юноша освобождается от призыва на военную службу по состоянию здоровья. Низок уровень физической подготовленности юношей призывного возраста. Снизился уровень и их общеобразовательной подгот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256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ое состояние уровня подготовленности молодого поколения к реальной жизни, в том числе и к военной службе, свидетельствует не только об отрицательном влиянии социально-экономических факторов, но и о безответственном отношении молодежи к своему здоровью, физической закалке и образовани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обходимость подготовки юношей к военной службе не нова, она существовала еще в древние времена. Для примера можно ознакомиться с системой воспитания готовности к защите Отечества в Древней Греции. В древнегреческих государствах Афинах и Спарте существовала государственная организация — эфебия, предназначенная для подготовки юношей от 18 до 20 лет к военной и гражданской служ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 описаниям старинных источников, молодой грек к 18 годам был хорошо подготовлен в общеобразовательной, гимнастической и музыкальной школах. Он умел читать, писать, знал наизусть поэмы Гомера и Гесиода, хорошо плавал, владел основными приемами борьбы, бокса, имел достаточно развитое мышление благодаря обязательному изучению философи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0920" y="7092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зачисления в эфебию юноше надо было пройти сложную процедуру различных испытаний. Подготовка эфебов включала разнообразные интенсивные гимнастические тренировки и военные упражнения с боевым оружием. Кроме того, большое внимание уделялось театральным репетициям и углубленному изучению философ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готовка афинских юношей в эфебии к защите государства строилась на основе принципа всестороннего гармоничного развития духа и тела, формировала личность патриота и гражданина, верного идеалам демократии, личной свободы и ответственности, умеющего сражаться в самых сложных условиях, готового отдать свою жизнь за свободу и родину своих предк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ы подготовки эфебов к военной службе не потеряли своей значимости и в наши дни. Как и во все времена, подготовка к военной службе и военная служба требуют от человека напряжения его духовных и физических си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42560" y="14292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новные требования для успешного исполнения обязанностей воинской деятельности сегодня определены в Уставе внутренней службы Вооруженных Сил РФ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десь изложены требования к воинской деятельности каждого военнослужащего, соблюдение которых обеспечит успешное выполнение конституционного долга и обязанности гражданина Российской Федерации по защите Отечест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подготовке к военной службе с учетом общих требований воинской деятельности каждому юноше следует особое внимание обратить на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физическую подготовку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работку необходимых физических качеств, обеспечивающих успешное исполнение воинских обязанностей и стойкое перенесение трудностей военной службы. Учитывая резкое снижение организации физической подготовки в общеобразовательных учреждениях и разрушение спортивной базы, молодым людям надо самим больше внимания уделять занятиям физической культурой и спортом для развития таких жизненно необходимых качеств, как сила, быстрота, выносливость, гибкость. Все эти качества нужны человеку в процессе его повседневной жизнедеятельности и при его подготовке к военной службе в особеннос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4:39:13Z</dcterms:created>
  <dc:creator>Nik</dc:creator>
  <dc:description/>
  <dc:language>en-US</dc:language>
  <cp:lastModifiedBy>Геннадий</cp:lastModifiedBy>
  <dcterms:modified xsi:type="dcterms:W3CDTF">2009-08-14T19:15:34Z</dcterms:modified>
  <cp:revision>11</cp:revision>
  <dc:subject/>
  <dc:title>5.3. Требования воинской деятельности, предъявляемые к моральным и индивидуально-психологическим качествам гражданина</dc:title>
</cp:coreProperties>
</file>