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537-0A0E-4EA5-8868-7AA2210D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F30-26CA-4E43-88A5-3F166CA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12C-583F-4ED7-B6DD-09788B06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43C-1B09-4DD4-8854-D7317341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35FF-70AE-466E-A38E-2E8931D3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D199-1228-49D3-9BE5-574E577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EF6-8544-4784-AF65-45C1525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DBD-10AF-4A24-872E-82AA64DA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4CB2-95FC-4424-AC9B-EF9A8FBE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0478-3EAB-45BA-A15C-63F9747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F6B0-A9BE-43D4-B68B-3F2773E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0C2-E19B-451D-B90B-ACD14AC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7BEF-1E5A-4CE0-86F6-A8959B5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DFC5-611A-4055-8E41-F7B41AA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9316-2515-4A8F-BDAB-7F89285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687-3090-4790-8A8E-30D4704B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C720-CA81-4A62-B437-3843E4D8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9134-017A-4FB5-81A8-DDCE1149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8C08-7B48-43ED-AA11-2C2C4FF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C822-CEF8-4FBE-92FC-C67E794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BC94-817A-4EF6-8A97-0486DA3C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C064-1A28-4AF5-BB8B-9343BE28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438-302D-4D2A-B50E-5CD586CC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B58B-C5DB-4DB7-BCFB-C6F23FA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2365-D575-4433-A472-A40A377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4C12-DB14-4D4B-91A5-26CA93F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15BF-D264-4AD4-95E5-599BA14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4C56-F6D1-48BA-A962-D83F5E4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4C76-14F6-4DD4-9D69-F68FEC1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F15D-ED2B-4DDE-996A-8EC6A299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037-BC08-4EFF-B22C-AD5CA9E9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D32-B712-4A02-8DF6-7500ABF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B2F-E231-423F-8123-969752E7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CD0-6D2C-4339-ADA6-E759A59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6DD-849D-4806-8F04-F5AE54E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896-1E9F-4FFF-ABD0-F4ADDDE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45B-0147-4E1E-8018-CC38A0AD7D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DC5-3948-476A-B075-467F6A8ED7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A7FB-F1AC-4382-8AF8-C3B69B838B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ебования воинской деятельности, предъявляемые к моральным и индивидуально-психологическим качествам гражданин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E:\Фотки ВСРС\1636360[1].jpg"/>
          <p:cNvPicPr/>
          <p:nvPr/>
        </p:nvPicPr>
        <p:blipFill>
          <a:blip r:embed="rId1"/>
          <a:stretch/>
        </p:blipFill>
        <p:spPr>
          <a:xfrm>
            <a:off x="642960" y="3071880"/>
            <a:ext cx="4311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звития этих качеств рекомендуются систематические занятия физической культурой и спортом, основу которых должны составлять самостоятельные занятия, эффективное использование учебного времени на уроках физической культуры, занятия в спортивных секция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оценки уровня своей физической подготовки можно воспользоваться нормативными данными по подготовленности студентов вузов и учащихся общеобразовательных учреждений в возрасте 17 ле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равни свои показатели в физической подготовке с приведенными нормативами, определи уровень подготовленности и пути повышения и укрепления своего физического здоровь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24000" y="1628640"/>
          <a:ext cx="8229600" cy="4281480"/>
        </p:xfrm>
        <a:graphic>
          <a:graphicData uri="http://schemas.openxmlformats.org/drawingml/2006/table">
            <a:tbl>
              <a:tblPr/>
              <a:tblGrid>
                <a:gridCol w="569880"/>
                <a:gridCol w="3375000"/>
                <a:gridCol w="857160"/>
                <a:gridCol w="826920"/>
                <a:gridCol w="855720"/>
                <a:gridCol w="835200"/>
                <a:gridCol w="909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перекладин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жимание на брусьях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ъем переворотом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ног на перекладин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5" name="Rectangle 319"/>
          <p:cNvSpPr/>
          <p:nvPr/>
        </p:nvSpPr>
        <p:spPr>
          <a:xfrm>
            <a:off x="543600" y="54864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силовой подгото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900000" y="691560"/>
            <a:ext cx="75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быстроты и скоростно-силовой подготовленности 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1844640"/>
          <a:ext cx="8229600" cy="2881440"/>
        </p:xfrm>
        <a:graphic>
          <a:graphicData uri="http://schemas.openxmlformats.org/drawingml/2006/table">
            <a:tbl>
              <a:tblPr/>
              <a:tblGrid>
                <a:gridCol w="581040"/>
                <a:gridCol w="3359160"/>
                <a:gridCol w="866880"/>
                <a:gridCol w="825480"/>
                <a:gridCol w="844560"/>
                <a:gridCol w="844560"/>
                <a:gridCol w="907920"/>
              </a:tblGrid>
              <a:tr h="75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100 м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длину с мест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 Прыжок в длину с разбег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высоту с разбег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 240 365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0 220 350 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0 205 325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9 190 300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7 180 280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403280" y="25992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силовой выносливости 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4360" y="2060640"/>
          <a:ext cx="7570800" cy="3489120"/>
        </p:xfrm>
        <a:graphic>
          <a:graphicData uri="http://schemas.openxmlformats.org/drawingml/2006/table">
            <a:tbl>
              <a:tblPr/>
              <a:tblGrid>
                <a:gridCol w="523800"/>
                <a:gridCol w="3100320"/>
                <a:gridCol w="787320"/>
                <a:gridCol w="758880"/>
                <a:gridCol w="787320"/>
                <a:gridCol w="766800"/>
                <a:gridCol w="846360"/>
              </a:tblGrid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3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50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лыжах   на 5 к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лыжах на 10 к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 на 5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/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 на 1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68360" y="692280"/>
          <a:ext cx="8229600" cy="4547880"/>
        </p:xfrm>
        <a:graphic>
          <a:graphicData uri="http://schemas.openxmlformats.org/drawingml/2006/table">
            <a:tbl>
              <a:tblPr/>
              <a:tblGrid>
                <a:gridCol w="1677960"/>
                <a:gridCol w="3376440"/>
                <a:gridCol w="860400"/>
                <a:gridCol w="1413000"/>
                <a:gridCol w="90180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 подгот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30 м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ордин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лночный бег 3x10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—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длину с мест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—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нос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минутный бег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0—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лон вперед из по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я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—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высо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кладине из виса, 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Line 298"/>
          <p:cNvSpPr/>
          <p:nvPr/>
        </p:nvSpPr>
        <p:spPr>
          <a:xfrm>
            <a:off x="468360" y="1197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1280" y="70920"/>
            <a:ext cx="900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ально-психологически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ая деятельность сегодня носит ярко выраженный коллективный характер. Использование современных технических средств не только предполагает распределение функций между членами отделения, расчета, экипажа, взвода, роты и т. д., но и требует полной согласованности их действий в процессе боевой работы. Первостепенное значение приобретают вопросы психологической совместимости военнослужащих. Поэтому в большинстве случаев военнослужащему недостаточно лишь умения и готовности качественно исполнить непосредственные обязанности, он должен еще обладать способностью работать в коллективе, эффективно взаимодействовать с другими членами экипажа (номерами боевого расчета), иметь внутреннюю направленность на коллектив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ую основу взаимоотношений военнослужащих в коллективе составляют уставные взаимоотношения между ними, которые складываются в процессе совместной службы и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42920" y="7092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еннослужащие, входящие в состав отделения, расчета, экипажа, связываются друг с другом прежде всего функционально, на основе выполнения единой воинской деятельности. При этом разделение действий военнослужащих в воинском коллективе на индивидуальные обязанности осуществляется так, чтобы обеспечивалась возможность эффективно выполнять единую общую зада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обходимо отметить, что в процессе совместной жизнедеятельности военнослужащие постоянно взаимодействуют друг с другом не только в ходе коллективного выполнения задач боевой подготовки, но и в столовой, у телевизора, на спортивной площадке, при совместном проведении свободного от службы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процессе практически постоянного взаимодействия членов воинского коллектива между ними неизбежно могут возникнуть самые различные противоречия, которые при определенных условиях могут перерасти в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онфликт.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юбой конфликт всегда отрицательно влияет на взаимоотношения в группе, а следовательно, и на уровень боеспособности и боеготовности отделения, экипажа, расче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конфликт является одним из крайних способов разрешения значимых противоречий, возникающих в процессе взаимодействия как отдельных военнослужащих, так и 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авильной организации взаимоотношений в воинском коллективе противоречия, возникшие между его военнослужащими, могут быть разрешены путем взаимного компромисса между ними. Умение жить бесконфликтно — это одно из требований воинской деятельности. Но само оно не приходит, ему надо учиться и учитывать, что общая задача воинского коллектива — уровень боеспособности и боеготовности — выше личных запросов. При этом надо помнить, что любые компромиссы не должны унижать личное достоинств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астую конфликтные ситуации между военнослужащими да и молодыми людьми возникают из-за личных взглядов и убеждений, которые не всегда бывают правильными. Поэтому каждому человеку не помешает знать о себе, конфликтная ли он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енная служ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ервая ступень, где проверяется уровень подготовки человека к взрослой жизни, где жестко, без скидок и условностей каждый получает оценку уровня своей подготовленности к жизни, которого достигает за прожитые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служба всегда была для человека испытанием его духовных и физических сил и величайшей школой подготовки к жизни. В настоящее время эти положения стали более значимыми. Современный уровень оснащенности Вооруженных Сил новыми видами вооружения и военной техники не только повышает требования к общеобразовательному уровню, физической подготовленности и морально-психологическим качествам призывников, но и позволит им в процессе прохождения военной службы приобрести профессиональные знания, навыки и качества, необходимые в жизни после военной службы. Это знания конструкций, правил эксплуатации и ремонта различных видов техники, агрегатов и устройств, навыки в правилах поведения в различных воинских коллективах, позволяющих строить бесконфликтные взаимоотношения с военнослужащими и успешно решать самые сложные коллективны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786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подготовка молодого человека к военной службе, по сути дела, подготовка его к взрослой жизни. Она наиболее эффективна и целенаправленна, так как требования к призывнику четко обознач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2" descr="kadet_04.jpg"/>
          <p:cNvPicPr/>
          <p:nvPr/>
        </p:nvPicPr>
        <p:blipFill>
          <a:blip r:embed="rId1"/>
          <a:stretch/>
        </p:blipFill>
        <p:spPr>
          <a:xfrm>
            <a:off x="142920" y="2357280"/>
            <a:ext cx="4286160" cy="32101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178_3112_1.jpg"/>
          <p:cNvPicPr/>
          <p:nvPr/>
        </p:nvPicPr>
        <p:blipFill>
          <a:blip r:embed="rId2"/>
          <a:stretch/>
        </p:blipFill>
        <p:spPr>
          <a:xfrm>
            <a:off x="4703760" y="2357280"/>
            <a:ext cx="4297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Общие требования воинск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ализ видов воинской деятельности с позиции ее конечного предназначения — приведение и поддержание Вооруженных Сил РФ на уровне, обеспечивающем надежную защиту страны от агрессии и вооруженную защиту целостности и неприкосновенности ее территории, а также выполнение задач по защите ее интересов — свидетельствует о постоянном возрастании требований воинской деятельности к уровню подготовки призыв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словиях повышения технической оснащенности Вооруженных Сил государства, сокращения времени, необходимого для развертывания войск и приведения их в готовность вступить в бой, возросли требования к уровню морально-психологической, профессиональной и физической подготовки как каждого военнослужащего, так и подразделений и частей в цел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собое значение приобретают такие качества военнослужащих, как устойчивость внимания, скорость и точность восприятия окружающей обстановки, быстрота и гибкость мышления. Важное значение имеют также личностные качества: самостоятельность, ответственность, способность принимать решение в условиях жесткого дефицита времени, эмоционально-волевая устойчивость, готовность к самопожертвованию во имя защиты Отечес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иболее полно перечисленные качества проявились в годы Великой Отечественной войны. Верные своему народу, Родине, советские воины в боях с врагом проявляли высокие образцы героизма, сплоченности, стойкости и взаимовыручки. Каждый боец в минуту смертельной опасности действовал самоотверженно, шел на подвиг ради достижения победы в бо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ем несколько известных примеров, характеризующих наших воинов во время Великой Отечественной вой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0920" y="14292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Курской битвы 5 июля со стороны Белгорода немцы ввели в бой 700 танков и большие силы пехоты. В итоге первого дня боев противнику удалось продвинуться на 4—6 км, на узком участке форсировать Северный Донец северо-восточнее Белгорода и овладеть небольшим плацдармом. Для удержания второй полосы обороны была выдвинута 1-я гвардейская танковая армия. Отразив до восьми атак противника, воины армии удержали вторую полосу обороны. Яркий героический подвиг в этом бою совершили воины танкового батальона, которым командовал майор Вовченко. Имея всего 10 танков, батальон вел героическую борьбу с 70 танками противника. В течение двух часов воины батальона уничтожили 24 вражеских танка (в том числе 14 «тигров»). Самоотверженно сражался в этом бою экипаж танка лейтенанта Шаландина. Роту, в которой он действовал, стала обходить группа вражеских танков. Лейтенант Шаландин и члены его экипажа — старшие сержанты Кустов, Лекомцев и сержант Зеленин — смело вступили в бой с численно превосходящим противни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256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ействуя из засады, они подпустили вражеские танки на дистанцию прямого выстрела, а затем, ударив по бортам, подожгли два танка «тигр» и один средний танк. Танк Шаландина также был подбит и загорелся. На горящем танке экипаж решил пойти на таран и с ходу врезался в борт «тигра». Вражеский танк загорелся, но погиб и весь экипаж Шаландина. Одновременно с боями на земле во время Курской битвы шли ожесточенные сражения с воздуха. Бессмертный подвиг совершил здесь летчик гвардии лейтенант Горовец. 6 июля в составе эскадрильи на самолете Ла-5 он прикрывал наши войска. Возвращаясь с задания, Горовец увидел большую группу вражеских бомбардировщиков и атаковал их. В ходе боя отважный летчик сбил 9 вражеских бомбардировщиков, но и сам поги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092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более реально определить пути, с чего начать молодому человеку при подготовке к военной службе, да и не только к военной, но и к гражданской службе Отечеству, обратимся к статистике, определяющей уровень подготовленности молодежи призывного возраста к военной службе и к полноценной жизни вообще. Для этого воспользуемся анализом, сделанным в Генеральном штабе Вооруженных Сил России в мае 1997 г., по организации и проведению весеннего призыва на военную службу в 199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меющейся в Генеральном штабе информации, в апреле 1997 г. на военную службу было призвано более 120 тыс. юношей. Практика работы призывных комиссий выявила ряд проблем в ходе проведения весеннего призыва. Прежде всего это — состояние здоровья призывников. Отмечено, что почти каждый третий юноша освобождается от призыва на военную службу по состоянию здоровья. Низок уровень физической подготовленности юношей призывного возраста. Снизился уровень и их общеобразовательной подго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256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ое состояние уровня подготовленности молодого поколения к реальной жизни, в том числе и к военной службе, свидетельствует не только об отрицательном влиянии социально-экономических факторов, но и о безответственном отношении молодежи к своему здоровью, физической закалке и образовани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обходимость подготовки юношей к военной службе не нова, она существовала еще в древние времена. Для примера можно ознакомиться с системой воспитания готовности к защите Отечества в Древней Греции. В древнегреческих государствах Афинах и Спарте существовала государственная организация — эфебия, предназначенная для подготовки юношей от 18 до 20 лет к военной и гражданской служ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описаниям старинных источников, молодой грек к 18 годам был хорошо подготовлен в общеобразовательной, гимнастической и музыкальной школах. Он умел читать, писать, знал наизусть поэмы Гомера и Гесиода, хорошо плавал, владел основными приемами борьбы, бокса, имел достаточно развитое мышление благодаря обязательному изучению философ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зачисления в эфебию юноше надо было пройти сложную процедуру различных испытаний. Подготовка эфебов включала разнообразные интенсивные гимнастические тренировки и военные упражнения с боевым оружием. Кроме того, большое внимание уделялось театральным репетициям и углубленному изучению философ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готовка афинских юношей в эфебии к защите государства строилась на основе принципа всестороннего гармоничного развития духа и тела, формировала личность патриота и гражданина, верного идеалам демократии, личной свободы и ответственности, умеющего сражаться в самых сложных условиях, готового отдать свою жизнь за свободу и родину своих предк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ы подготовки эфебов к военной службе не потеряли своей значимости и в наши дни. Как и во все времена, подготовка к военной службе и военная служба требуют от человека напряжения его духовных и физических си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42560" y="14292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ые требования для успешного исполнения обязанностей воинской деятельности сегодня определены в Уставе внутренней службы Вооруженных Сил РФ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десь изложены требования к воинской деятельности каждого военнослужащего, соблюдение которых обеспечит успешное выполнение конституционного долга и обязанности гражданина Российской Федерации по защите Отече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подготовке к военной службе с учетом общих требований воинской деятельности каждому юноше следует особое внимание обратить на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физическую подготовку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работку необходимых физических качеств, обеспечивающих успешное исполнение воинских обязанностей и стойкое перенесение трудностей военной службы. Учитывая резкое снижение организации физической подготовки в общеобразовательных учреждениях и разрушение спортивной базы, молодым людям надо самим больше внимания уделять занятиям физической культурой и спортом для развития таких жизненно необходимых качеств, как сила, быстрота, выносливость, гибкость. Все эти качества нужны человеку в процессе его повседневной жизнедеятельности и при его подготовке к военной службе в особен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39:13Z</dcterms:created>
  <dc:creator>Nik</dc:creator>
  <dc:description/>
  <dc:language>en-US</dc:language>
  <cp:lastModifiedBy>Геннадий</cp:lastModifiedBy>
  <dcterms:modified xsi:type="dcterms:W3CDTF">2009-08-14T19:15:34Z</dcterms:modified>
  <cp:revision>11</cp:revision>
  <dc:subject/>
  <dc:title>5.3. Требования воинской деятельности, предъявляемые к моральным и индивидуально-психологическим качествам гражданина</dc:title>
</cp:coreProperties>
</file>