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9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wmf" ContentType="image/x-wmf"/>
  <Override PartName="/ppt/media/image4.wmf" ContentType="image/x-wmf"/>
  <Override PartName="/ppt/media/image3.wmf" ContentType="image/x-wmf"/>
  <Override PartName="/ppt/media/image24.jpeg" ContentType="image/jpeg"/>
  <Override PartName="/ppt/media/image23.wmf" ContentType="image/x-wmf"/>
  <Override PartName="/ppt/media/image22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15.gif" ContentType="image/gif"/>
  <Override PartName="/ppt/media/image1.png" ContentType="image/png"/>
  <Override PartName="/ppt/media/image17.gif" ContentType="image/gif"/>
  <Override PartName="/ppt/media/image16.jpeg" ContentType="image/jpeg"/>
  <Override PartName="/ppt/media/image14.wmf" ContentType="image/x-wmf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7776-B956-4570-B6D0-9F21E824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931-2DF2-4ACC-8175-AF0FC9CF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65F-3AD4-4B65-AEEE-CCC3AD54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4E86-AF5F-4104-B99D-4E7887E6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5C52-91E9-4A5C-95CE-7E68391B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1B98-84FF-4558-BC24-3D0ACF57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E1AE-21A0-444E-9728-831689E5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2E58-2095-4106-863D-1974F52A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928B-A91C-4595-97A7-91A1A569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7E89-3208-453C-81FF-18FD6E4E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01A9-AD80-4645-A3EC-7C508377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9602-4BBE-49AF-9FE4-E2766CB8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78F5-A954-4630-B2E9-A11A1384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3305-3A7F-40CA-B150-5E781B43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C323-D376-4467-8694-5BD99A9E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D8FD-E936-483E-9684-8247C78B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563F-E37B-43B4-8C39-D196B242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8F1C-FC77-4A9C-B729-2B3A0E1F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91CD-614F-4ACE-9572-5F73CE35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1D2-60BC-4EB5-9A88-CC7D01F7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E696-4431-41B3-BF25-32C172BF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04D1-DCB1-4AFB-AF3A-4782FFE8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FF79-2FB1-43B4-ABE0-862E9D48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D74-37B4-41A7-8DE3-3B7D47F7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D645-D31C-4FCD-BC18-A7B86AC650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5EE4-3239-4966-979A-5A8FB19599C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Arial Rounded MT Bold"/>
              </a:rPr>
              <a:t>Правовые основы воинской служб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78920" y="4435200"/>
            <a:ext cx="8713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Rounded MT Bol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 Rounded MT Bold"/>
              </a:rPr>
              <a:t>Конституцией Российской Федерации Президенту Российской Федерации дано право: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 Rounded MT Bold"/>
              </a:rPr>
              <a:t>формировать и возглавлять Совет безопасности РФ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 Rounded MT Bold"/>
              </a:rPr>
              <a:t>утверждать военную доктрину РФ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 Rounded MT Bold"/>
              </a:rPr>
              <a:t>назначать и освобождать высшее командование Вооруженных Сил РФ (статья 83)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 Rounded MT Bold"/>
              </a:rPr>
              <a:t>Президент Российской Федерации является Верховным Главнокомандующим Вооруженными Силами и в случае агрессии против Российской Федерации или непосредственной угрозы агрессии вводит на территории страны или в отдельных ее местностях военное положение (статья 87)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 Rounded MT Bold"/>
              </a:rPr>
              <a:t>Меры по обеспечению обороны страны и государственной безопасности осуществляет Правительство Российской Федерации (статья 114)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6" descr="j0232168"/>
          <p:cNvPicPr/>
          <p:nvPr/>
        </p:nvPicPr>
        <p:blipFill>
          <a:blip r:embed="rId1"/>
          <a:stretch/>
        </p:blipFill>
        <p:spPr>
          <a:xfrm>
            <a:off x="8101080" y="5084640"/>
            <a:ext cx="8348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34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На основании положений Конституции РФ разрабатываются и принимаются законодательные акты, в которых детально определяются правовые вопросы, касающиеся обороны и военного строительства. Базовым правовым актом военного законодательства является </a:t>
            </a:r>
            <a:r>
              <a:rPr b="0" i="1" lang="ru-RU" sz="1400" spc="-1" strike="noStrike">
                <a:solidFill>
                  <a:srgbClr val="ffffff"/>
                </a:solidFill>
                <a:latin typeface="Arial Rounded MT Bold"/>
              </a:rPr>
              <a:t>Федеральный закон Российской Федерации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 Rounded MT Bold"/>
              </a:rPr>
              <a:t>       </a:t>
            </a:r>
            <a:r>
              <a:rPr b="0" i="1" lang="ru-RU" sz="1400" spc="-1" strike="noStrike">
                <a:solidFill>
                  <a:srgbClr val="ffffff"/>
                </a:solidFill>
                <a:latin typeface="Arial Rounded MT Bold"/>
              </a:rPr>
              <a:t>«Об обороне», </a:t>
            </a: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в котором определены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основы и организация обороны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полномочия органов государственной власти Российской Федерации в области обороны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функции органов исполнительной власти субъектов Российской Федерации, органов местного самоуправления и организаций, обязанности должностных лиц, права и обязанности граждан в области обороны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предназначение Вооруженных Сил РФ, их комплектование и руководство, функции Министерства обороны и Генерального штаба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основные положения — состояние войны, военное положение, мобилизация, гражданская оборона, территориальная оборона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положение об ограничении деятельности политических партий и общественных объединений в Вооруженных Силах РФ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4" descr="j0415188"/>
          <p:cNvPicPr/>
          <p:nvPr/>
        </p:nvPicPr>
        <p:blipFill>
          <a:blip r:embed="rId1"/>
          <a:stretch/>
        </p:blipFill>
        <p:spPr>
          <a:xfrm>
            <a:off x="4284720" y="1700280"/>
            <a:ext cx="485928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Rounded MT Bold"/>
              </a:rPr>
              <a:t>Федеральный закон Российской Федерации «О статусе военнослужащих» </a:t>
            </a: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определяет права, обязанности и ответственность военнослужащих, основы правовой и социальной защиты военнослужащи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Порядок организации воинского учета граждан, подготовки их к военной службе, призыва на военную службу и ее прохождения определен в </a:t>
            </a:r>
            <a:r>
              <a:rPr b="0" i="1" lang="ru-RU" sz="2000" spc="-1" strike="noStrike">
                <a:solidFill>
                  <a:srgbClr val="ffffff"/>
                </a:solidFill>
                <a:latin typeface="Arial Rounded MT Bold"/>
              </a:rPr>
              <a:t>Федеральном законе Российской Федерации «О воинской обязанности и военной службе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4" descr="j0410435"/>
          <p:cNvPicPr/>
          <p:nvPr/>
        </p:nvPicPr>
        <p:blipFill>
          <a:blip r:embed="rId1"/>
          <a:stretch/>
        </p:blipFill>
        <p:spPr>
          <a:xfrm>
            <a:off x="4468680" y="836640"/>
            <a:ext cx="46753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Повседневная деятельность военнослужащих, их жизнь, быт, несение службы, подготовка к выполнению должностных обязанностей регламентируются уставами, которые подразделяются на боевые и общевоински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Rounded MT Bold"/>
              </a:rPr>
              <a:t>Общевоинские уставы </a:t>
            </a: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устанавливают общие для всех видов Вооруженных Сил положения, определяющие взаимоотношения между военнослужащими, их общие и должностные обязанности и права, порядок несения внутренней, гарнизонной и караульной служб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К общевоинским уставам относятся: </a:t>
            </a:r>
            <a:r>
              <a:rPr b="0" i="1" lang="ru-RU" sz="2000" spc="-1" strike="noStrike">
                <a:solidFill>
                  <a:srgbClr val="ffffff"/>
                </a:solidFill>
                <a:latin typeface="Arial Rounded MT Bold"/>
              </a:rPr>
              <a:t>Устав внутренней службы Вооруженных Сил Российской Федерации, Дисциплинарный устав Вооруженных Сил Российской Федерации, Устав гарнизонной и караульной служб Вооруженных Сил Российской Федерации, Строевой устав Вооруженных Сил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5" descr="j0344091"/>
          <p:cNvPicPr/>
          <p:nvPr/>
        </p:nvPicPr>
        <p:blipFill>
          <a:blip r:embed="rId1"/>
          <a:stretch/>
        </p:blipFill>
        <p:spPr>
          <a:xfrm>
            <a:off x="4168800" y="4500720"/>
            <a:ext cx="40672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Arial Rounded MT Bold"/>
              </a:rPr>
              <a:t>Статус военнослужащих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4920" y="1125360"/>
            <a:ext cx="82580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Статус — это совокупность прав и обязанностей граждан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Статус военнослужащего определен Федеральным законом РФ «О статусе военнослужащих»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Статус военнослужащих есть совокупность прав, свобод, гарантированных государством, а также обязанностей и ответственности военнослужащих. Военнослужащие обладают правами и свободами человека и гражданина с некоторыми ограничениями, установленными законами РФ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На военнослужащих возлагаются обязанности по подготовке к вооруженной защите и вооруженная защита Российской Федерации, которые связаны с необходимостью беспрекословного выполнения поставленных задач в любых условиях, в том числе с риском для жизн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В связи с особым характером обязанностей, возложенных на военнослужащих, им предоставляются льготы, гарантии и компенса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Граждане приобретают статус военнослужащего с началом военной службы и утрачивают его с ее окончание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Arial Rounded MT Bold"/>
              </a:rPr>
              <a:t>Права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b9efee"/>
                </a:solidFill>
                <a:latin typeface="Arial Rounded MT Bold"/>
              </a:rPr>
              <a:t>военнослужащих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4757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Rounded MT Bold"/>
              </a:rPr>
              <a:t>Военнослужащие пользуются установленными законодательством Российской Федерации правами и свободами наравне с другими гражданами. Но с учетом особого характера обязанностей военнослужащих существуют некоторые ограничения их в общегражданских правах и свобода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6" descr="j0318664"/>
          <p:cNvPicPr/>
          <p:nvPr/>
        </p:nvPicPr>
        <p:blipFill>
          <a:blip r:embed="rId1"/>
          <a:stretch/>
        </p:blipFill>
        <p:spPr>
          <a:xfrm>
            <a:off x="5364000" y="2133720"/>
            <a:ext cx="33372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13840" y="285480"/>
            <a:ext cx="86439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- право на свободу передвижения (правила передвижения военнослужащих в расположении воинской части, их выезда за пределы гарнизона, на территории которого они проходят военную службу, определяются общевоинскими уставами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- право на свободу слова, выражения своих мнений и убеждений, на доступ к получению и распространению информации (не имеют права разглашать государственную и военную тайну, обсуждать и критиковать приказы командира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- запрет участия в забастовках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- право участвовать в богослужениях и религиозных церемониях (в свободное от военной службы время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- не допускается создание религиозных объединений в воинской час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- право избирать и быть избранными в органы государственной власти и органы местного самоуправлени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- военнослужащие могут состоять в общественных объединениях, не преследующих политические цели, и участвовать в их деятельности в свободное от исполнения обязанностей военной службы врем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- право на труд (прохождение военной службы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24000" y="26028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Характер служебной деятельности и перемещения по службе военнослужащих, определяются квалификацией и служебной необходимостью. Военнослужащие имеют право заниматься исключением педагогической, научной и другой творческой деятельностью (если она не препятствуют исполнению обязанностей военной службы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Продолжительность служебного времени военнослужащих, проходящих военную службу по призыву, определяется распорядком дня воинской части (ежедневно не менее восьми часов для сна и двух часов для личных потребностей, за исключением боевого дежурства, внутренней службы и др.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Дни отдыха предоставляются военнослужащим в выходные и праздничные дни. Военнослужащим может быть предоставле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отпуск по личным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обстоятельствам до десяти суток (в случа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тяжелого состояни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здоровья или смерти близкого родственник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пожар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или другого стихийного бедствия, постигшего семью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или близкого родственника военнослужащего, и в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других исключительных случаях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6" descr="j0283993"/>
          <p:cNvPicPr/>
          <p:nvPr/>
        </p:nvPicPr>
        <p:blipFill>
          <a:blip r:embed="rId1"/>
          <a:stretch/>
        </p:blipFill>
        <p:spPr>
          <a:xfrm>
            <a:off x="6805440" y="3716280"/>
            <a:ext cx="172908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14200" y="214200"/>
            <a:ext cx="55101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Rounded MT Bold"/>
              </a:rPr>
              <a:t>Кроме общегражданских прав и свобод, военнослужащие имеют права, обусловленные военной службо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К числу таких прав относится право на материальное обеспечение военнослужащего в период состояния его на военной службе (денежное довольствие, продовольственное и вещевое обеспечение, предоставление жилых помещений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00000"/>
              </a:lnSpc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Денежное довольствие военнослужащих состоит из месячного оклада в соответствии с занимаемой воинской должностью и месячного оклада в соответствии с присвоением воинского звания, которые составляют оклад месячного денежного содержа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00000"/>
              </a:lnSpc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Размеры окладов определяются Правительством Российской Федераци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00000"/>
              </a:lnSpc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Военнослужащие обеспечиваются вещевым имуществом и банно-прачечным обслуживанием в зависимости от условий прохождения военной службы по установленным норма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9" descr="1184676400_480_big"/>
          <p:cNvPicPr/>
          <p:nvPr/>
        </p:nvPicPr>
        <p:blipFill>
          <a:blip r:embed="rId1"/>
          <a:stretch/>
        </p:blipFill>
        <p:spPr>
          <a:xfrm>
            <a:off x="5796000" y="3500280"/>
            <a:ext cx="3024000" cy="2941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j0283470"/>
          <p:cNvPicPr/>
          <p:nvPr/>
        </p:nvPicPr>
        <p:blipFill>
          <a:blip r:embed="rId2"/>
          <a:stretch/>
        </p:blipFill>
        <p:spPr>
          <a:xfrm>
            <a:off x="5796000" y="692280"/>
            <a:ext cx="252108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Arial Rounded MT Bold"/>
              </a:rPr>
              <a:t>Льготы военнослужащих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000080"/>
            <a:ext cx="889308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едоставление жилых помещений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создание благоприятных условий воинской службы, быта и системой мер по ограничению опасных факторов военной службы (при убытии в отпуск по болезни выплата дотации на лечение производится в размере четырех установленных Федеральным законом «О статусе военнослужащих» минимальных размеров оплаты труда)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курсанты военных учреждений профессионального образования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пользовании воинскими туристскими базами оплачивают не более 30% стоимости путев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аво на обучение в военных учреждениях профессионального образования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аво на поступление в государственные образовательные учреждения высшего и среднего профессионального образования и на подготовительные отделения образовательных учреждений высшего профессионального образования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аво внеконкурсного зачисления при условии получения ими положительных оценок на вступительных экзаменах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право на  льготы при посещении платных мероприятий, организуемых учреждениями культуры и спорта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аво на бесплатный проезд железнодорожным, воздушным, водным и автомобильным транспортом.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аво на бесплатную пересылку писем, отправляемых воинскими частям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аво на  пособие, равное установленному Федеральным законом одному минимальному размеру оплаты труд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77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77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0" dur="77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2" dur="77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77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1" dur="77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3" dur="77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5" dur="77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Введ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Военная служба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это особый вид федеральной государственной службы. Она заключается в повседневном выполнении гражданами воинских обязанностей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Исполнение обязанностей военной службы в Вооруженных Силах Российской Федерации предусматривает непосредственное участие в боевых действиях, повседневную боевую подготовку, другие виды подготовки и обучения, постоянное совершенствование каждым военнослужащим своего воинского мастерства, несение боевого дежурства, гарнизонной и внутренней службы, соблюдение требований воинской дисциплины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10" descr="j0284140"/>
          <p:cNvPicPr/>
          <p:nvPr/>
        </p:nvPicPr>
        <p:blipFill>
          <a:blip r:embed="rId1"/>
          <a:stretch/>
        </p:blipFill>
        <p:spPr>
          <a:xfrm>
            <a:off x="5003640" y="1700280"/>
            <a:ext cx="3411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Arial Rounded MT Bold"/>
              </a:rPr>
              <a:t>«Право войны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«Право войны» — это совокупность договорных и обычных юридических норм, применяемых воюющими сторонами в ходе вооруженных конфликтов, регулирующих применение средств и методов ведения вооруженной борьбы, обеспечивающих защиту раненых, больных, военнопленных и гражданского населения, устанавливающих международно-правовую ответственность государств и уголовную ответственность отдельных лиц за их наруше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«Право войны» призвано ограничить и облегчить, насколько это возможно, бедствия войн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традиционно существуют две группы соглашений в рамках «Права войны»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1)   Гаагские конвенции, регулирующие в целом правила боевых действий (ведение боевых действий, понятия оккупации и нейтралитета)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2)  Женевские конвенции, содержащие положения: о защите жертв вооруженных конфликтов (военнопленных, раненых, больных, потерпевших кораблекрушение, погибших), о защите гражданского населения, об отношении к лицам, оказывающим помощь жертвам вооруженных конфликтов, в частности к медицинским служба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Основные Гаагские конвенции датируются 1907 г., Женевские конвенции — 1949 г., Гаагская конвенция о культурных ценностях — 1954 г., дополнительные протоколы к Женевским конвенциям и Конвенция о запрещении использования некоторых видов обычных вооружений соответственно 1977 и 1980 гг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j0289992"/>
          <p:cNvPicPr/>
          <p:nvPr/>
        </p:nvPicPr>
        <p:blipFill>
          <a:blip r:embed="rId1"/>
          <a:stretch/>
        </p:blipFill>
        <p:spPr>
          <a:xfrm>
            <a:off x="7566120" y="0"/>
            <a:ext cx="1292040" cy="1366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pe01853_"/>
          <p:cNvPicPr/>
          <p:nvPr/>
        </p:nvPicPr>
        <p:blipFill>
          <a:blip r:embed="rId2"/>
          <a:stretch/>
        </p:blipFill>
        <p:spPr>
          <a:xfrm>
            <a:off x="324000" y="0"/>
            <a:ext cx="16459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8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1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4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7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0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3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Arial Rounded MT Bold"/>
              </a:rPr>
              <a:t>Международные правила поведения в бою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Веди боевые действия только против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енных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Нападай только на военные объект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Щади гражданское население и его имущество. Относись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к гражданским лицам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с уважением, защищай их от дурного обращения. Помни, чт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акты мести и взятие заложников запрещен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Не разрушай больше, чем того требует боевая задач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Если неприятел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 сд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тся в плен, пощади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го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, разоружи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го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, обеспечь гуманное отношение к н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, к его 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званию, доставь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го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 к своему команд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Гуманно относись к больным и раненым. Подбери их, окажи им необходимую помощь, защити их, доставь их к своему командиру или в ближайший медицинский пункт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Надо знать и помнить, что международное право предоставляет особую защиту определенным категориям лиц и объектов, которые имеют специальные отличительные задач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6" descr="j0406591"/>
          <p:cNvPicPr/>
          <p:nvPr/>
        </p:nvPicPr>
        <p:blipFill>
          <a:blip r:embed="rId1"/>
          <a:stretch/>
        </p:blipFill>
        <p:spPr>
          <a:xfrm>
            <a:off x="4643280" y="5445000"/>
            <a:ext cx="4248360" cy="114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j0335912"/>
          <p:cNvPicPr/>
          <p:nvPr/>
        </p:nvPicPr>
        <p:blipFill>
          <a:blip r:embed="rId2"/>
          <a:stretch/>
        </p:blipFill>
        <p:spPr>
          <a:xfrm>
            <a:off x="7164360" y="836640"/>
            <a:ext cx="14162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7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9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2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Arial Rounded MT Bold"/>
              </a:rPr>
              <a:t>Международное право на особую защиту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1.  Военная и гражданская медицинская службы; военный духовный персонал; гражданский духовный персонал (только в составе гражданской медицинской службы и гражданской обороны)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Отличительным знаком медицинской службы является красный крест на белом поле или равноценная ему эмблема в виде красного полумесяца на белом фоне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2.  Гражданская оборона. Гражданская оборона обозначает систему мероприятий по защите и выживанию гражданского населени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Отличительным знаком гражданской обороны является равносторонний темно-синий треугольник на оранжевом фоне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3.  Обозначенные культурные ценности под общей защитой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Отличительный знак культурных ценностей под общей защитой представляет собой бело-голубоватый щит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4. Обозначенные культурные ценности под особой защитой. Отличительный знак культурных ценностей под особой защитой обозначается тремя знаками, расположенными треугольником (один знак внизу)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5. Установки и сооружения, содержащие опасные силы: плотины, дамбы, атомные электростанци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Отличительный знак установок и сооружений, содержащих опасные силы, представляет собой группу из трех ярко-оранжевых кругов, расположенных на одной ос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6. Белый флаг (флаг перемирия, используемый для переговоров или капитуляции)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5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1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4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7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0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3" dur="1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6" dur="1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9" dur="10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2" dur="10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00720" y="285840"/>
            <a:ext cx="41860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ru-RU" sz="2000" spc="-1" strike="noStrike">
                <a:solidFill>
                  <a:srgbClr val="ffffff"/>
                </a:solidFill>
                <a:latin typeface="Arial Rounded MT Bold"/>
              </a:rPr>
              <a:t>Серьезные нарушения «Права войны» квалифицируются как военные преступления. В отношении их установлены санкции уголовного характер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Как серьезные нарушения квалифицируются следующие действия, направленные против люде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—  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преднамеренное убийство, пытки, бесчеловечное обращение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—   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преднамеренное причинение тяжелых страданий, нанесение ущерба здоровью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—  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бесчеловечное и унижающее обращение, сопровождающееся оскорблением человеческого достоинства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— 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взятие заложников и др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5" descr="i"/>
          <p:cNvPicPr/>
          <p:nvPr/>
        </p:nvPicPr>
        <p:blipFill>
          <a:blip r:embed="rId1"/>
          <a:stretch/>
        </p:blipFill>
        <p:spPr>
          <a:xfrm>
            <a:off x="324000" y="2421000"/>
            <a:ext cx="3924000" cy="4032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j0410367"/>
          <p:cNvPicPr/>
          <p:nvPr/>
        </p:nvPicPr>
        <p:blipFill>
          <a:blip r:embed="rId2"/>
          <a:stretch/>
        </p:blipFill>
        <p:spPr>
          <a:xfrm>
            <a:off x="468360" y="549360"/>
            <a:ext cx="352728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0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34671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 Rounded MT Bold"/>
              </a:rPr>
              <a:t>Военная служба в России всегда считалась почетной обязанностью, </a:t>
            </a:r>
            <a:r>
              <a:rPr b="0" i="1" lang="ru-RU" sz="2500" spc="-1" strike="noStrike">
                <a:solidFill>
                  <a:srgbClr val="ffffff"/>
                </a:solidFill>
                <a:latin typeface="Arial Rounded MT Bold"/>
              </a:rPr>
              <a:t>священным долгом</a:t>
            </a:r>
            <a:r>
              <a:rPr b="0" lang="ru-RU" sz="2500" spc="-1" strike="noStrike">
                <a:solidFill>
                  <a:srgbClr val="ffffff"/>
                </a:solidFill>
                <a:latin typeface="Arial Rounded MT Bold"/>
              </a:rPr>
              <a:t>, исключительным по важности и необходимости.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4" descr="j0400812"/>
          <p:cNvPicPr/>
          <p:nvPr/>
        </p:nvPicPr>
        <p:blipFill>
          <a:blip r:embed="rId1"/>
          <a:stretch/>
        </p:blipFill>
        <p:spPr>
          <a:xfrm>
            <a:off x="4067280" y="1700280"/>
            <a:ext cx="4752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Главной задачей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военной службы является постоянная целенаправленная подготовка к вооруженной защите или вооруженная защита территории РФ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Военная служба имеет ряд существенных отличий по сравнению с другими видами государственной службы. Она требует от военнослужащих полной самоотдачи, высокой профессиональной подготовки, особой ответственности за исполнение обязанностей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К гражданам, проходящим военную службу, предъявляются повышенные требования к состоянию здоровья, образовательному уровню, морально-психологическим качествам и уровню физической подготовленности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9" descr="j0410441"/>
          <p:cNvPicPr/>
          <p:nvPr/>
        </p:nvPicPr>
        <p:blipFill>
          <a:blip r:embed="rId1"/>
          <a:stretch/>
        </p:blipFill>
        <p:spPr>
          <a:xfrm>
            <a:off x="1547640" y="189000"/>
            <a:ext cx="4753080" cy="2038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j0232168"/>
          <p:cNvPicPr/>
          <p:nvPr/>
        </p:nvPicPr>
        <p:blipFill>
          <a:blip r:embed="rId2"/>
          <a:stretch/>
        </p:blipFill>
        <p:spPr>
          <a:xfrm>
            <a:off x="7596360" y="333360"/>
            <a:ext cx="96336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Одной из особенностей военной службы является обязательное принятие каждым гражданином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Военной присяги. Граждане принимают Военную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присягу на верность своей Родине —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Российской Федерации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Отличительной чертой военной службы является высокая степень обязательности и ответственности за исполнение каждым военнослужащим своих служебных обязанностей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За нарушения, допущенные при исполнении служебных обязанностей или уклонении от их исполнения, к военнослужащим предусмотрены более строгие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меры воздействия, чем за аналогичные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нарушения к гражданам, состоящим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на государственной службе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Наиболее характерной особенностью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военной службы является беспрекословность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служебного подчинен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5" descr="j0333304"/>
          <p:cNvPicPr/>
          <p:nvPr/>
        </p:nvPicPr>
        <p:blipFill>
          <a:blip r:embed="rId1"/>
          <a:stretch/>
        </p:blipFill>
        <p:spPr>
          <a:xfrm>
            <a:off x="8018640" y="3789360"/>
            <a:ext cx="1125360" cy="181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j0333304"/>
          <p:cNvPicPr/>
          <p:nvPr/>
        </p:nvPicPr>
        <p:blipFill>
          <a:blip r:embed="rId2"/>
          <a:stretch/>
        </p:blipFill>
        <p:spPr>
          <a:xfrm>
            <a:off x="7596360" y="4149720"/>
            <a:ext cx="1125360" cy="1819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j0333304"/>
          <p:cNvPicPr/>
          <p:nvPr/>
        </p:nvPicPr>
        <p:blipFill>
          <a:blip r:embed="rId3"/>
          <a:stretch/>
        </p:blipFill>
        <p:spPr>
          <a:xfrm>
            <a:off x="7164360" y="4581360"/>
            <a:ext cx="1125720" cy="1819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j0333304"/>
          <p:cNvPicPr/>
          <p:nvPr/>
        </p:nvPicPr>
        <p:blipFill>
          <a:blip r:embed="rId4"/>
          <a:stretch/>
        </p:blipFill>
        <p:spPr>
          <a:xfrm>
            <a:off x="8018640" y="0"/>
            <a:ext cx="112536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4920" y="907560"/>
            <a:ext cx="8218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Rounded MT Bold"/>
              </a:rPr>
              <a:t>Отличительной чертой военной службы также является установление взаимоотношений между военнослужащими, которые по степени подчиненности характеризуются как по должности, так и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 Rounded MT Bold"/>
              </a:rPr>
              <a:t>по возможному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 Rounded MT Bold"/>
              </a:rPr>
              <a:t>званию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4" descr="j0344091"/>
          <p:cNvPicPr/>
          <p:nvPr/>
        </p:nvPicPr>
        <p:blipFill>
          <a:blip r:embed="rId1"/>
          <a:stretch/>
        </p:blipFill>
        <p:spPr>
          <a:xfrm>
            <a:off x="3492360" y="3284640"/>
            <a:ext cx="543564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Одним из принципов строительства Вооруженных Сил Российской Федерации является </a:t>
            </a:r>
            <a:r>
              <a:rPr b="0" i="1" lang="ru-RU" sz="1600" spc="-1" strike="noStrike">
                <a:solidFill>
                  <a:srgbClr val="ffffff"/>
                </a:solidFill>
                <a:latin typeface="Arial Rounded MT Bold"/>
              </a:rPr>
              <a:t>единоначалие. 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Оно заключается в наделении командира (начальника) всей полнотой распорядительной власти по отношению к подчиненным и возложении на него персональной ответственности перед государством за все стороны жизни и деятельности воинской части, подразделения и каждого военнослужащего. Единоначалие выражается в праве командира (начальника) единолично принимать решения, отдавать приказы в строгом соответствии с требованиями законов и воинских уставов и обеспечивать их выполнение. Обсуждение приказа недопустимо, а неповиновение или другое неисполнение приказа является воинским преступление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5" descr="j0350461"/>
          <p:cNvPicPr/>
          <p:nvPr/>
        </p:nvPicPr>
        <p:blipFill>
          <a:blip r:embed="rId1"/>
          <a:stretch/>
        </p:blipFill>
        <p:spPr>
          <a:xfrm>
            <a:off x="7812000" y="549360"/>
            <a:ext cx="935280" cy="1341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j0231086"/>
          <p:cNvPicPr/>
          <p:nvPr/>
        </p:nvPicPr>
        <p:blipFill>
          <a:blip r:embed="rId2"/>
          <a:stretch/>
        </p:blipFill>
        <p:spPr>
          <a:xfrm>
            <a:off x="4572000" y="2060640"/>
            <a:ext cx="424980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4500720" cy="59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Военнослужащие при исполнении обязанностей военной службы, а при необходимости и во внеслужебное время имеют право на хранение, ношение, применение и использование оруж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Организация и исполнение обязанностей военной службы как составной части воинской обязанности граждан строго регламентированы Федеральными законами и другими нормативно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правовыми актами Российской Федерации, касающимися обороны государств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j0415190"/>
          <p:cNvPicPr/>
          <p:nvPr/>
        </p:nvPicPr>
        <p:blipFill>
          <a:blip r:embed="rId1"/>
          <a:stretch/>
        </p:blipFill>
        <p:spPr>
          <a:xfrm>
            <a:off x="4375080" y="981000"/>
            <a:ext cx="47689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53276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По своему служебному положению и воинскому званию одни военнослужащие по отношению к другим могут быть </a:t>
            </a:r>
            <a:r>
              <a:rPr b="0" i="1" lang="ru-RU" sz="1800" spc="-1" strike="noStrike">
                <a:solidFill>
                  <a:srgbClr val="ffffff"/>
                </a:solidFill>
                <a:latin typeface="Arial Rounded MT Bold"/>
              </a:rPr>
              <a:t>начальниками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или </a:t>
            </a:r>
            <a:r>
              <a:rPr b="0" i="1" lang="ru-RU" sz="1800" spc="-1" strike="noStrike">
                <a:solidFill>
                  <a:srgbClr val="ffffff"/>
                </a:solidFill>
                <a:latin typeface="Arial Rounded MT Bold"/>
              </a:rPr>
              <a:t>подчиненными.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Начальники, которым военнослужащие под­чинены по службе, являю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 Rounded MT Bold"/>
              </a:rPr>
              <a:t>прямыми начальникам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По своему воинскому званию начальниками являются состоящие на военной службе: маршал Российской Федерации, генералы армии, адмиралы флота, генералы, адмиралы, старшие и младшие офицеры. Сержанты и старшины являются начальниками для солдат и матросов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одной с ними ча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Начальник имеет право отдавать подчиненному приказы и требовать их выполнения. Подчиненные обязаны беспрекословно выполнять приказы начальник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Для военнослужащих устанавливаю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 Rounded MT Bold"/>
              </a:rPr>
              <a:t>военная форма одежды и знаки различ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Военная форма одежды и знаки различия по воинским званиям военнослужащих Вооруженных Сил Российской Федерации утверждаются Президентом Российской Федераци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31" descr="j0428083"/>
          <p:cNvPicPr/>
          <p:nvPr/>
        </p:nvPicPr>
        <p:blipFill>
          <a:blip r:embed="rId1"/>
          <a:stretch/>
        </p:blipFill>
        <p:spPr>
          <a:xfrm>
            <a:off x="5435640" y="1700280"/>
            <a:ext cx="3500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560" y="2565000"/>
            <a:ext cx="8497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Rounded MT Bold"/>
              </a:rPr>
              <a:t>Конституцией установлено, что защита Отечества является долгом и обязанностью гражданина Российской Федерации (статья 59). Главой государства является Президент Российской Федерации. При вступлении в должность Президент Российской Федерации приносит народу присягу, в которой клянется при осуществлении своих полномочий уважать и охранять права и свободы человека и гражданина, соблюдать и защищать Конституцию, защищать суверенитет и независимость, безопасность и целостность государства, верно служить народу (статьи 80, 82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4" descr="j0178279"/>
          <p:cNvPicPr/>
          <p:nvPr/>
        </p:nvPicPr>
        <p:blipFill>
          <a:blip r:embed="rId1"/>
          <a:stretch/>
        </p:blipFill>
        <p:spPr>
          <a:xfrm>
            <a:off x="468360" y="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j0178279"/>
          <p:cNvPicPr/>
          <p:nvPr/>
        </p:nvPicPr>
        <p:blipFill>
          <a:blip r:embed="rId2"/>
          <a:stretch/>
        </p:blipFill>
        <p:spPr>
          <a:xfrm>
            <a:off x="3203640" y="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j0178279"/>
          <p:cNvPicPr/>
          <p:nvPr/>
        </p:nvPicPr>
        <p:blipFill>
          <a:blip r:embed="rId3"/>
          <a:stretch/>
        </p:blipFill>
        <p:spPr>
          <a:xfrm>
            <a:off x="6084720" y="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1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8:38:24Z</dcterms:created>
  <dc:creator>DeEcember</dc:creator>
  <dc:description/>
  <dc:language>en-US</dc:language>
  <cp:lastModifiedBy>User</cp:lastModifiedBy>
  <dcterms:modified xsi:type="dcterms:W3CDTF">2020-04-10T13:13:10Z</dcterms:modified>
  <cp:revision>29</cp:revision>
  <dc:subject/>
  <dc:title>Правовые основы воинской службы</dc:title>
</cp:coreProperties>
</file>