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EF6C-BB6E-449D-918A-6E2CF00AC1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8380-E369-475B-A84A-31632D6D7A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A378-E4F4-4080-BC18-91D05054F42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0F7A-8F88-4D37-A1B3-959A413DBBF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624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4ADE-15F7-4C51-96E8-667322629F0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93D3-D9D6-4E92-A45E-57BE17500C3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B6AD-3B3D-4A1F-AF85-A191D9FC74C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24A-ACFF-44B0-B252-0BC77AD7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6F2-939B-4D39-BAEE-4A630E92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D94-A6CE-4BE8-A2DE-1344D922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E44-6536-4239-8214-FEDA1204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F9E7-8242-45BD-BEC6-D9E769FB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17F3-A1A5-4289-9A2A-64A16C23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9190-4BDB-4CB0-9BF4-7BC2CF1C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32BD-6079-4309-B676-214F5A8A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0C65-00D6-4F52-9508-B14DB1BE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02FC-2082-446D-9862-D06BE55C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AFB8-40FB-4D6B-959F-B64B267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396-4E6B-4B83-A6FA-38C5A205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6FB6-319B-40FB-B660-4221DC3E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78B0-36AE-4E86-8961-B61926F6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8741-8BCE-4EE4-80CD-8A851AEF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E46F-4D7E-440A-A5F2-22D7FC4D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7496-565C-46AA-8A24-D4FF26F9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B3C-8A69-4270-8D8B-64C334ED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7FC-AA68-4858-A73C-F1DA33CD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337-16F4-4D34-A791-038EF80C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081-3A3C-472E-8A3D-DED805D5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B1D-7E7F-4CBF-AFDC-902427DE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BE1-C91B-4134-9B7A-5CF412E8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D91-E828-400C-A512-D0D1A4CC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2078-8B31-4401-905C-D3FA83333D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4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" name="6 Imagen" descr="Dibujo.bmp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061F-FD18-43DA-AD98-F245780C81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901800" y="549360"/>
            <a:ext cx="7413480" cy="1298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39560" y="5444640"/>
            <a:ext cx="773892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539640" y="1571760"/>
            <a:ext cx="79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еинфекционные заболевания как глобальна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проблема здоровья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и их профилакт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69800" y="676440"/>
            <a:ext cx="8277480" cy="927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94920" y="1806480"/>
            <a:ext cx="773892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539640" y="2492280"/>
            <a:ext cx="814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лана действий на 2008–2013 годы по осуществлению Глобальной стратегии ВОЗ по профилактике неинфекционных болезней и борьбе с ними, Это план действий был утвержден Всемирной ассамблеей здравоохранения в 2008 году. Он служит для стран дорожной картой действий, включающих повышение приоритетности борьбы против неинфекционных болезней, улучшение эпидемиологического надзора за заболеваниями, обеспечение правительствам возможности принимать комплексные меры против этих заболеваний и защиту стран, особенно развивающихся, от бремени эпидем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324000" y="628560"/>
            <a:ext cx="8423280" cy="1121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78920" y="1773360"/>
            <a:ext cx="842508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НИБ ставят под угрозу прогресс на пути достижения выдвинутых ООН Целей тысячелетия в области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ищета тесно связана с НИБ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По прогнозам, быстрый рост бремени НИБ препятствует проведению инициатив по уменьшению масштабов нищеты в странах с низким уровнем дохода, особенно в связи с возрастанием расходов семей на медицинскую помощ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Уязвимые и социально обездоленные люди болеют больше и умирают раньше, чем люди, занимающие более высокое социальное положение, особенно из-за того, что они подвергаются более высокому риску воздействия со стороны таких вредных продуктов, как табак или нездоровые пищевые продукты, и имеют ограниченный доступ к службам здравоохра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69800" y="603360"/>
            <a:ext cx="7662960" cy="1152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50560" y="1700280"/>
            <a:ext cx="8281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Принятие странами антитабачных мер, изложенных в "Рамочной конвенции ВОЗ по борьбе против табака", может способствовать значительному уменьшению воздействия табака на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Разработанная ВОЗ Глобальная стратегия по питанию, физической активности и здоровью направлена на укрепление и защиту здоровья путем предоставления отдельным сообществам возможностей для снижения показателей заболеваемости и смертности, связанных с нездоровым питанием и недостаточной физической активн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Разработанная ВОЗ Глобальная стратегия по уменьшению вредного употребления алкоголя предлагает меры и определяет приоритетные области действий для защиты людей от вредного употребления алкого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24000" y="1806480"/>
            <a:ext cx="8496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ронические неинфекционные заболевания являются одной из основных причин заболеваемости, инвалидизации и смертности населения в большинстве стран м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Опыт развитых стран убедительно свидетельствует: результатом энергичных мер по ограничению распространенности факторов риска неинфекционных заболеваний является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увеличение средней продолжительности жизни населения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39640" y="61272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324000" y="328680"/>
            <a:ext cx="7808760" cy="1731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50560" y="2133360"/>
            <a:ext cx="849780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Сложившуюся ситуацию красочно иллюстрирует шутка, прозвучавшая по ради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«Собери 100 пачек от сигарет, 100 крышечек от водки, 100 крышечек от пива, 100 крышечек от коньяка, и ты получишь бесплатное место на кладбище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Должна существовать строгая цензура рекламы, необходим категорический запрет на рекламу спиртных напитков и табачных изделий, на проведение с рекламной целью разного рода необдуманных акций в нашей стра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901800" y="695160"/>
            <a:ext cx="7119720" cy="920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324000" y="1916280"/>
            <a:ext cx="864072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Первичная профилактик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ключает рациональный режим труда и отдыха, рекомендации по увеличению физической нагрузки, ограничение поваренной соли, отказ от алкоголя и курения, снижение калорийности пищи и массы тела. По сути, именно первичная профилактика позволяет сохранить рациональные условия жизнедеятельности чело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Arial"/>
              </a:rPr>
              <a:t>Вторичная (медикаментозная) профилактик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проводится дифференцированно в группах больных хроническими неинфекционными заболеваниями с целью предупреждения рецидивов заболевания, развития осложнений у лиц с реализовавшимися факторами риска, снижения заболеваемости и смертности от этих болезней, улучшения качества жизни больных в соответствии с методическими рекомендациями Комитета экспертов ВОЗ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1026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070920" cy="993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28600" y="1371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Глобальная стратегия ВОЗ по профилактике  и контролю за НИЗ (Ассамблея ВОЗ 2000 г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028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Приоритет получают Н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Особое  внимание  уделяется их профилакти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Интегрированная профилак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Действия, направленные на борьбу с главными факторами риск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-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таба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-  нездоровой диет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-  недостаточной физической активность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1030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294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042920" y="289080"/>
            <a:ext cx="70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Arial"/>
                <a:ea typeface="Arial"/>
              </a:rPr>
              <a:t>Здоровый образ жизн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68360" y="1839960"/>
            <a:ext cx="838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  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  <a:ea typeface="Arial"/>
              </a:rPr>
              <a:t>для индивидума</a:t>
            </a:r>
            <a:r>
              <a:rPr b="1" lang="en-GB" sz="2800" spc="-1" strike="noStrike">
                <a:solidFill>
                  <a:srgbClr val="00b0f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эффективный путь предотвратить болезни и обеспечить себе здоровое быт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  <a:ea typeface="Arial"/>
              </a:rPr>
              <a:t>для обществ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эффективный по стоимости и непрерывный путь по улучшению общественного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294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8000" y="1125360"/>
            <a:ext cx="8712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Эпидемиологические: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неинфекционные болезни опережают инфекционные; в развивающихся странах их количество в 2 раза превышает число других болез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В стиле жизни: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ет потребление табака и алкоголя, быстро меняются диеты, падает физическая активность, в большинстве стран растет число таких заболеваний как ожирение, диабет, гипертония; при этом серьезной проблемой остается плохое питание и голод во многих странах третьего ми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Демографические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 старе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Глобализационные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растет влияние глоб.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4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"/>
              </a:rPr>
              <a:t>Изменения в мировом здоровь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38160">
            <a:solidFill>
              <a:srgbClr val="294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609480" y="-231840"/>
            <a:ext cx="7991640" cy="1146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632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еинфекционные заболевания (НИЗ) приводят к 60 % смертей, составляя 43 %  общего количества заболеваний в мир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очти 79 % всех НИЗ приходится на развивающиеся стра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 2020 году количество смертей из-за НИЗ вырастет до 73%, а  доля этих заболеваний в общем количестве болезней составит 60%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оловина таких смертей приходится на сердечно-сосудистые заболева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 долю Индии или Китая приходится большее количество смертей от сердечно-сосудистых заболеваний, чем на все развитые страны вместе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38160">
            <a:solidFill>
              <a:srgbClr val="294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468360" y="333360"/>
            <a:ext cx="820728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дущие причины НИЗ (НИБ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России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рение, повышенное артериальное давление (АД), гиперхолестеринемия, злоупотребление алкоголем, недостаточная физическая активность и нездоровое пит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ад этих факторов в общую смертность населения страны колеблется от 9 до 35%, а в общие потери по нетрудоспособности — от 5 до 16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ное АД, высокие уровни холестерина и курение приводят к 75% всех смертей в РФ. В то же время ведущее место среди причин потерь вследствие нетрудоспособности занимает злоупотребление алкоголе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коголь — важный фактор риска травм и несчастных случаев: дорожно-транспортные происшествия, а также травмы, связанные с падением, зависят от количества употребленного алкого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1011240" y="334800"/>
            <a:ext cx="7121520" cy="100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306360" y="1341360"/>
            <a:ext cx="8298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1042920" y="334800"/>
            <a:ext cx="7126200" cy="92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0" y="1484280"/>
            <a:ext cx="896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4000" y="1557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Calibri"/>
              </a:rPr>
              <a:t>НИБ распространены во всех возрастных группах и всех регионах. НИБ часто связывают с пожилыми возрастными группами, но фактические данные свидетельствуют о том, что 9 миллионов людей, умирающих от НИБ, входят в состав возрастной группы до 60 ле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Calibri"/>
              </a:rPr>
              <a:t>90% этих случаев "преждевременной" смерти происходит в странах с низким и средним уровнем дох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Calibri"/>
              </a:rPr>
              <a:t>Дети, взрослые и пожилые люди – все уязвимы перед факторами риска, способствующими развитию неинфекционных болезней, такими как нездоровое питание, недостаточная физическая активность, воздействие табачного дыма или вредное употребление алкогол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94920" y="1806480"/>
            <a:ext cx="820908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Употребление табака, недостаточная физическая активность, нездоровое питание и вредное употребление алкоголя повышают риск развития или приводят к большинству НИ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Ежегодно табак приводит почти к 6 миллионам случаев смерти (5,1 миллиона случаев происходит в результате непосредственного курения табака и 600 000 случаев в результате воздействия вторичного табачного дыма) и, по прогнозам, это число возрастет к 2030 г. до 8 миллионов случаев, что составит 10% всех ежегодных случаев смер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Около 3,2 миллиона ежегодных случаев смерти могут быть связаны с недостаточной физической активность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римерно 1,7 миллиона случаев смерти обусловлено низким уровнем потребления фруктов и овощ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оловина из 2,3 миллиона 1 ежегодных случаев смерти от вредного употребления алкоголя происходит от НИ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324000" y="585720"/>
            <a:ext cx="8710560" cy="1170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94920" y="162828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основным фактором риска развития НИБ в глобальных масштабах являетс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повышенное кровяное давление, с которым связано 13% глобальных случаев смер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употребление табака (9%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повышенное содержание глюкозы в крови (6%)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недостаточная физическая активность (6%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излишний вес и ожирение (5%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libri"/>
              </a:rPr>
              <a:t>В странах с низким и средним уровнем дохода наблюдается самый быстрый рост числа детей раннего возраста с излишним вес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8:58:09Z</dcterms:created>
  <dc:creator>cmiro</dc:creator>
  <dc:description/>
  <dc:language>en-US</dc:language>
  <cp:lastModifiedBy>User</cp:lastModifiedBy>
  <dcterms:modified xsi:type="dcterms:W3CDTF">2020-04-10T13:31:56Z</dcterms:modified>
  <cp:revision>23</cp:revision>
  <dc:subject/>
  <dc:title>Презентация PowerPoint</dc:title>
</cp:coreProperties>
</file>