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8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4F6-A52D-494A-96EF-FBE2A3C2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CDB-4AB9-4920-9316-AD9753B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EF5-790E-4B79-A55C-87A2AD07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CA5-2018-4E6C-AB46-3DD362D7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2A3-3838-4391-A2B8-9F1945DB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1FC2-FABB-4D06-A082-68E3600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628-153C-4944-BF83-D04F3DC3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F5F-2567-4BA8-A1BD-F3B5B72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1B0-F393-4069-923F-F20ABC0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EF58-7152-42AC-8DBB-51631B22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8A32-E805-4AAC-86E0-6A68E28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DCE-D71C-4894-A2DC-95DE711E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698-A2D8-4E09-AA30-058E3BE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5AC3-4E5E-4E6F-9ED4-8D66BFAE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0DB3-8739-47A9-8E4D-C793381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8BBB-345F-43C7-B6C7-213DEF09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8E1A-13EB-4C2D-8728-4313C1DE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4275-A7FD-49BE-B25C-3C2631D3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7533-43BE-44B6-8B38-8AEFC44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F8B4-4424-46C0-B8CC-9EA6D29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D4DA-28BD-4E9B-B6E9-54D8D57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D449-7411-4CA7-B1C8-F4BC698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C9E-36AD-44E6-87D3-E8D29A5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D205-3BB1-4E06-A82C-457410CC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B5D7-3041-4C2A-A04C-266D4E2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DDD4-D0F6-4645-80ED-327BACA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B22B-2F75-4FBC-A952-DB3CD6C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7569-6F99-4348-B360-45D414DB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3FFF-23EC-42BE-ADB7-7FB79951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B9BD-DC5A-424C-B931-696CFF60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2E7B-62EF-4630-BAE5-0235099C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CC98-CEB9-49EA-98B9-915E999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CA0C-CD0A-4459-9E21-A751EEA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914-50C9-4030-8E80-6FFAA3A4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D16D-484C-4DFC-9B6F-FA9F9756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2DD4-B305-4C77-AE2C-1825136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DFBF-618E-4BD2-9B4D-DDB69962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0DB0-3F26-4BA6-A74A-DF4A3E2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83B9-A618-4397-B1A6-928A66A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1A27-95F2-48B4-B0B8-7B78DF1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2A75-1C56-4351-8230-BC9CA464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2CCD-D1F1-4ED6-8734-EAA8AEA6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71DA-E929-499B-96D4-E0A1E37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CEA-0FE8-498E-8FC9-5BABD19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B6D-25F6-4473-BF0E-F2475113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D92-8C1A-4765-9883-F8DF025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0F4-4B06-4699-BE6D-8B946C3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8A4-D128-4224-B0FC-87B5B6E4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906-31D0-4EFD-AD94-92C99E3C7A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5E4-80C0-4E0D-9B14-6C30FC213A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0053-EA77-4366-A268-BFF482A583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54A-E12B-4A9A-B153-705F22E8F47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4.jpeg"/><Relationship Id="rId3" Type="http://schemas.openxmlformats.org/officeDocument/2006/relationships/slide" Target="slide4.xml"/><Relationship Id="rId4" Type="http://schemas.openxmlformats.org/officeDocument/2006/relationships/image" Target="../media/image15.jpeg"/><Relationship Id="rId5" Type="http://schemas.openxmlformats.org/officeDocument/2006/relationships/slide" Target="slide10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780000" y="5105520"/>
            <a:ext cx="536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0" y="1844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1489f"/>
                </a:solidFill>
                <a:latin typeface="Arial"/>
              </a:rPr>
              <a:t>Презентация </a:t>
            </a: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на тему : </a:t>
            </a:r>
            <a:br>
              <a:rPr sz="6000"/>
            </a:br>
            <a:r>
              <a:rPr b="1" lang="ru-RU" sz="6000" spc="-1" strike="noStrike">
                <a:solidFill>
                  <a:srgbClr val="31489f"/>
                </a:solidFill>
                <a:latin typeface="Arial"/>
              </a:rPr>
              <a:t>«Вредные привычки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47640" y="404640"/>
            <a:ext cx="6409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688000" cy="101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Это надо знать!</a:t>
            </a:r>
            <a:endParaRPr b="1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619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2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ение поражает органы дыхания, сердечно-сосудистую систему (</a:t>
            </a: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атеросклероз и инфаркт миокарда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), желудочно-кишечный трак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2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2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ение увеличивает вероятность других видов злокачественных опухолей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2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ение способствует развитию инфекционных заболеваний органов дыхани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2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ение увеличивает вероятность рака лёгких у окружающих (пассивное курение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4" descr="1010"/>
          <p:cNvPicPr/>
          <p:nvPr/>
        </p:nvPicPr>
        <p:blipFill>
          <a:blip r:embed="rId1"/>
          <a:stretch/>
        </p:blipFill>
        <p:spPr>
          <a:xfrm>
            <a:off x="6227640" y="0"/>
            <a:ext cx="1905120" cy="19051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240" name="Picture 5" descr="db3c0276-6e20-4c86-9bcf-39a6921ef004"/>
          <p:cNvPicPr/>
          <p:nvPr/>
        </p:nvPicPr>
        <p:blipFill>
          <a:blip r:embed="rId2"/>
          <a:stretch/>
        </p:blipFill>
        <p:spPr>
          <a:xfrm>
            <a:off x="6804000" y="2060640"/>
            <a:ext cx="2340000" cy="185580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241" name="Picture 3" descr="24"/>
          <p:cNvPicPr/>
          <p:nvPr/>
        </p:nvPicPr>
        <p:blipFill>
          <a:blip r:embed="rId3"/>
          <a:stretch/>
        </p:blipFill>
        <p:spPr>
          <a:xfrm>
            <a:off x="6372360" y="4076640"/>
            <a:ext cx="1985760" cy="251928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900000" y="189000"/>
            <a:ext cx="7702560" cy="7538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Arial"/>
              </a:rPr>
              <a:t>О вреде ку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4360" y="90792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704960" y="2773440"/>
            <a:ext cx="100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448240" y="3324240"/>
          <a:ext cx="1657440" cy="76212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13"/>
          <p:cNvSpPr/>
          <p:nvPr/>
        </p:nvSpPr>
        <p:spPr>
          <a:xfrm>
            <a:off x="4163760" y="1095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Рисунок1"/>
          <p:cNvPicPr/>
          <p:nvPr/>
        </p:nvPicPr>
        <p:blipFill>
          <a:blip r:embed="rId1"/>
          <a:stretch/>
        </p:blipFill>
        <p:spPr>
          <a:xfrm>
            <a:off x="971640" y="1916280"/>
            <a:ext cx="71690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95280" y="333360"/>
            <a:ext cx="874872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тистические данны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бакокурение снижает продолжительность жизни на 10-15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данным ВОЗ, каждый третий умирающий в мире – жертва алкоголя, а каждый пятый – жертва таба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России курит половина мужчин и десятая часть женщ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ксичность табачного дыма в 4,5 раза превышает токсичность выхлопных газов автомоб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табакокурении: 25% вредных веществ табачного дыма сгорают, 25% поглощает сам курильщик, 50% - отравляют воздух в помещ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ий возраст умерших от сердечных приступов – 67 лет, а у курильщиков – 47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100 больных туберкулезом: 95 – курильщ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в семье курят оба родителя, то дети вдыхают такое количество никотина, которое получали бы, если бы сами выкуривали по 80 сигарет в г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ны курильщиков живут на 4 года меньше, чем жены некурящих мужч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курящему достаточно 1 час провести в накуренном помещении, чтобы в его организм попали все вредные вещества в количестве, которое содержится в одной выкуренной сигар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56c7a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56944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rebuchet MS"/>
              </a:rPr>
              <a:t>Позитивные изменения при отказе от курения</a:t>
            </a:r>
            <a:endParaRPr b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</a:rPr>
              <a:t>через 2 часа никотин начинает удаляться из организма;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</a:rPr>
              <a:t>через 12 часов окись углерода от курения выйдет из организма полностью, лёгкие начнут функционировать лучше, пройдёт чувство нехватки воздуха;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</a:rPr>
              <a:t>через 2 дня вкусовая чувствительность и обоняние станут более острыми;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</a:rPr>
              <a:t>через 12 недель система кровообращения улучшается, что позволяет легче ходить и бегать;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0" y="281160"/>
            <a:ext cx="8229600" cy="1169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spcBef>
                <a:spcPts val="52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100" spc="-1" strike="noStrike">
                <a:solidFill>
                  <a:srgbClr val="404040"/>
                </a:solidFill>
                <a:latin typeface="Trebuchet MS"/>
              </a:rPr>
              <a:t>На любую просьбу, которая противоречит Вашим интересам и здравому смыслу, Вы отвечаете отказом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26920" y="2565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745"/>
                </a:solidFill>
                <a:latin typeface="Garamond"/>
              </a:rPr>
              <a:t>Фразы отказа от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84360" y="3573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асибо, нет. Я знаю, что это опасно для мен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асибо, нет. Я уже пробовал, и это мне не понравилос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асибо, нет. Я не хочу конфликтов с родителями, учителя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асибо, нет. Это не в моем стил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асибо, нет. Мне надо на тренировк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33cc33"/>
                </a:solidFill>
                <a:latin typeface="Trebuchet MS"/>
              </a:rPr>
              <a:t>Алкоголь</a:t>
            </a:r>
            <a:endParaRPr b="1" lang="en-US" sz="1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4" descr="39"/>
          <p:cNvPicPr/>
          <p:nvPr/>
        </p:nvPicPr>
        <p:blipFill>
          <a:blip r:embed="rId1"/>
          <a:stretch/>
        </p:blipFill>
        <p:spPr>
          <a:xfrm>
            <a:off x="2484360" y="2565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rebuchet MS"/>
              </a:rPr>
              <a:t>    </a:t>
            </a:r>
            <a:r>
              <a:rPr b="1" lang="ru-RU" sz="3200" spc="-1" strike="noStrike">
                <a:solidFill>
                  <a:srgbClr val="33cc33"/>
                </a:solidFill>
                <a:latin typeface="Trebuchet MS"/>
              </a:rPr>
              <a:t>Алкоголизм -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разновидность зависимости, характеризующаяся болезненным пристрастием к употреблению алкогольных напитков и поражением внутренних органов в случае хронического злоупотребления спиртным.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 В большинстве случаев при алкоголизме происходит деградация человека как личности;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отеря своего внутреннего "Я"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иво вызывает </a:t>
            </a:r>
            <a:r>
              <a:rPr b="1" lang="ru-RU" sz="2400" spc="-1" strike="noStrike">
                <a:solidFill>
                  <a:srgbClr val="33cc33"/>
                </a:solidFill>
                <a:latin typeface="Trebuchet MS"/>
              </a:rPr>
              <a:t>зависимость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и становится ступенькой к потреблению водки. Выпитое в большом количестве пиво </a:t>
            </a:r>
            <a:r>
              <a:rPr b="1" lang="ru-RU" sz="2400" spc="-1" strike="noStrike">
                <a:solidFill>
                  <a:srgbClr val="33cc33"/>
                </a:solidFill>
                <a:latin typeface="Trebuchet MS"/>
              </a:rPr>
              <a:t>расслабляет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человека и может побудить его попробовать легкие, а затем тяжелые наркотики. От пивного алкоголизма </a:t>
            </a:r>
            <a:r>
              <a:rPr b="1" lang="ru-RU" sz="2400" spc="-1" strike="noStrike">
                <a:solidFill>
                  <a:srgbClr val="33cc33"/>
                </a:solidFill>
                <a:latin typeface="Trebuchet MS"/>
              </a:rPr>
              <a:t>один шаг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до наркотико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Picture 3" descr="pivo_234"/>
          <p:cNvPicPr/>
          <p:nvPr/>
        </p:nvPicPr>
        <p:blipFill>
          <a:blip r:embed="rId1"/>
          <a:stretch/>
        </p:blipFill>
        <p:spPr>
          <a:xfrm>
            <a:off x="5003640" y="3500280"/>
            <a:ext cx="3780000" cy="284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69"/>
          <p:cNvPicPr/>
          <p:nvPr/>
        </p:nvPicPr>
        <p:blipFill>
          <a:blip r:embed="rId2"/>
          <a:stretch/>
        </p:blipFill>
        <p:spPr>
          <a:xfrm>
            <a:off x="971640" y="3573360"/>
            <a:ext cx="388764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9640" y="33300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 algn="ctr">
              <a:lnSpc>
                <a:spcPct val="6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1489f"/>
                </a:solidFill>
                <a:latin typeface="Trebuchet MS"/>
              </a:rPr>
              <a:t>Приведем примеры статистики, связанной с употреблением алкоголя подростками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60000"/>
              </a:lnSpc>
              <a:spcBef>
                <a:spcPts val="1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60000"/>
              </a:lnSpc>
              <a:spcBef>
                <a:spcPts val="1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60000"/>
              </a:lnSpc>
              <a:spcBef>
                <a:spcPts val="1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 algn="just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одители приобщают детей к алкоголю в 60,5% случаев, преимущественно в возрасте до 10 лет, приобщение к выпивке среди друзей обычно происходит в более позднем возрасте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 algn="just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Девочки пробуют спиртное в раннем возрасте в 4 раза реже, в сравнении с мальчиками. Приобщение к алкоголю девочек происходит не так быстро. Наибольшее приобщение к алкогольным напиткам происходит у девочек в более позднем возрасте – в 15-16 лет (у мальчиков в 13-14 лет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 algn="just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76,9% подростков, систематически принимающих алкоголь, учатся плохо, 23% учатся на среднем уровне и лишь около 1,5% показывают результаты немного лучше среднего уровня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 algn="just">
              <a:lnSpc>
                <a:spcPct val="6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91% семей, где подростки регулярно употребляют алкоголь, социально неустойчивые семь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5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b050"/>
                </a:solidFill>
                <a:latin typeface="Trebuchet MS"/>
              </a:rPr>
              <a:t>Цель:</a:t>
            </a:r>
            <a:endParaRPr b="0" lang="en-US" sz="6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5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показать пагубное влияние курения, алкоголя и наркотиков на организм подростка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Заставить задуматься над вопросом, а стоят ли увлекаться вредными привычками, которые оказывают последствия на организм человека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66640" y="404640"/>
            <a:ext cx="857736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мерно 50% подростков, употребляющих алкогольные напитки, мало читают, при этом 19% из них не читают книг вообще. И это в том возрасте, когда интенсивность чтения у человека самая больша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семьях подростков, часто принимающих алкоголь, примерно в 6% случаев алкоголь употребляют оба родителя, в 58% семей алкоголь употребляет только отец, и нет ни одной семьи, где алкогольные изделия бы не употреблялись вообщ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3% детей, принимающих спиртное, не имеют достаточного контроля и внимания со стороны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54,1% семей подростков, употребляющих спиртное, родители имеют только начальное или неполное среднее образ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 данным науки, 51,7% семей подростков, часто употребляющих алкоголь, характеризуются напряженным психологическим климатом, между родителями происходят постоянные ссоры, скандалы и даже драк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семьях подростков, употребляющих спиртные напитки, процент неполных семей или повторных браков отмечается в 27-50% случаев. Неполная семья, наличие отчима (мачехи) встречается у подростков, часто употребляющих спиртное, в 2,5 раза чаще, чем у подростков, не потребляющих алкогол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1474920" y="0"/>
            <a:ext cx="6510240" cy="1639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619280" y="2204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Случайное употребление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Интерес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Традиционные праздник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СМИ(телевидение,радио)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Взаимоотношения в семье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rebuchet MS"/>
              </a:rPr>
              <a:t>Наследство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7997760" cy="1212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8000" y="1125360"/>
            <a:ext cx="839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Бесплодие и неспособность выносить, родить и воспитать полноценное потомство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Сексуальные контакты подростков без контрацепции приводят к ранним абортам, и дальнейшим серьезным осложнения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Возникает большая опасность заражения венерическими болезнями или инфекциями, передаваемыми половым путем, гепатитами В или С, ВИЧ-инфекцией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аблюдаются сбои в работе желудочно-кишечного тракта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Характерно повреждение печени, развитие гепатита, цирроза печени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арушения в работе поджелудочной железы (панкреатит, перитонит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Нарушение деятельности сердечно-сосудистой системы (тахикардия, проблемы с артериальным давлением и др.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Развиваются воспалительные заболевания почек и мочевыводящих путей (уретрит, цистит)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66640" y="549360"/>
            <a:ext cx="8577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явление различных воспалительных заболеваний в легких, бронхах, гортани, носоглотке (хронический бронхит, пневмосклероз, туберкулез легких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нижение иммунной защиты организма, что ведет к повышенной восприимчивости к инфекционным заболевания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лкоголь наносит непоправимый вред эндокринной системе подрост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озможное развитие и очень сложное протекание сахарного диабет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зменение состава крови, анемия и т.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блюдаются разнообразные расстройства, преимущественно в эмоциональной и волевой сфере, падает общественная активность, угасают трудовые навыки, страдают здоровое честолюбие и нравственные качества. На первый план выступают такие эмоциональные нарушения, как огрубение, взрывчатость, беспечность, безынициативность, внушаемос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0" y="176832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филактика алкоголизма на уровне семьи: создание здорового образа жизни, отказ от злоупотребления алкоголем в семье, рациональное питание, соблюдение режима дня и сна, антиалкогольное воспитание в семье и т.п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филактика алкоголизма на уровне школы: педагогический такт, установление контакта учителя с учащимися, приобщение к активному занятию физкультурой и спортом, организованная работа школьного врача по профилактике алкоголизма, осуществление санитарно-просветительской работы и т. п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филактика со стороны государства: запрет продажи алкогольной продукции детям моложе 18 лет; запрет рекламирования пива по телевидению до 21:00; предусмотрение строгой уголовной ответственности за вовлечение несовершеннолетних в пьянство, доведение до состояния алкогольного опьянения; запрет приема несовершеннолетних на работу, связанную с производством, хранением и торговлей спиртными напитками и т.п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glaz_shpricc"/>
          <p:cNvPicPr/>
          <p:nvPr/>
        </p:nvPicPr>
        <p:blipFill>
          <a:blip r:embed="rId1"/>
          <a:stretch/>
        </p:blipFill>
        <p:spPr>
          <a:xfrm>
            <a:off x="2843280" y="2276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195640" y="69228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22e2"/>
                </a:solidFill>
                <a:latin typeface="Verdana"/>
                <a:ea typeface="Arial"/>
              </a:rPr>
              <a:t>Нарко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19280" y="764640"/>
            <a:ext cx="8424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022e2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d022e2"/>
                </a:solidFill>
                <a:latin typeface="Comic Sans MS"/>
              </a:rPr>
              <a:t>Наркомания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- мировая социальная проблема, война, уносящая миллионы жизней, и, как любая другая война, уничтожающая генофонды нац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omic Sans MS"/>
              </a:rPr>
              <a:t>Наркотики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убивают, разрушают психику молодежи, уничтожают духовность нации. Это знают все. То, что наркоманы заражают окружающих ВИЧ-инфекцией, вирусными гепатитами, половыми инфекциями, знают не все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just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faces1"/>
          <p:cNvPicPr/>
          <p:nvPr/>
        </p:nvPicPr>
        <p:blipFill>
          <a:blip r:embed="rId2"/>
          <a:stretch/>
        </p:blipFill>
        <p:spPr>
          <a:xfrm>
            <a:off x="755640" y="1557360"/>
            <a:ext cx="7920000" cy="4989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faces6"/>
          <p:cNvPicPr/>
          <p:nvPr/>
        </p:nvPicPr>
        <p:blipFill>
          <a:blip r:embed="rId1"/>
          <a:stretch/>
        </p:blipFill>
        <p:spPr>
          <a:xfrm>
            <a:off x="1295280" y="1125360"/>
            <a:ext cx="7848720" cy="4918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faces5"/>
          <p:cNvPicPr/>
          <p:nvPr/>
        </p:nvPicPr>
        <p:blipFill>
          <a:blip r:embed="rId1"/>
          <a:stretch/>
        </p:blipFill>
        <p:spPr>
          <a:xfrm>
            <a:off x="1152360" y="1052640"/>
            <a:ext cx="7991640" cy="5006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1" descr=""/>
          <p:cNvPicPr/>
          <p:nvPr/>
        </p:nvPicPr>
        <p:blipFill>
          <a:blip r:embed="rId1"/>
          <a:stretch/>
        </p:blipFill>
        <p:spPr>
          <a:xfrm>
            <a:off x="165240" y="500040"/>
            <a:ext cx="9009000" cy="39798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" descr=""/>
          <p:cNvPicPr/>
          <p:nvPr/>
        </p:nvPicPr>
        <p:blipFill>
          <a:blip r:embed="rId2"/>
          <a:stretch/>
        </p:blipFill>
        <p:spPr>
          <a:xfrm>
            <a:off x="6827760" y="4664160"/>
            <a:ext cx="18036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faces8"/>
          <p:cNvPicPr/>
          <p:nvPr/>
        </p:nvPicPr>
        <p:blipFill>
          <a:blip r:embed="rId1"/>
          <a:stretch/>
        </p:blipFill>
        <p:spPr>
          <a:xfrm>
            <a:off x="1366920" y="1197000"/>
            <a:ext cx="7777080" cy="49006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newface1"/>
          <p:cNvPicPr/>
          <p:nvPr/>
        </p:nvPicPr>
        <p:blipFill>
          <a:blip r:embed="rId1"/>
          <a:stretch/>
        </p:blipFill>
        <p:spPr>
          <a:xfrm>
            <a:off x="0" y="620640"/>
            <a:ext cx="7345440" cy="55101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ctangle 2" descr=""/>
          <p:cNvPicPr/>
          <p:nvPr/>
        </p:nvPicPr>
        <p:blipFill>
          <a:blip r:embed="rId1"/>
          <a:stretch/>
        </p:blipFill>
        <p:spPr>
          <a:xfrm>
            <a:off x="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Наркотики заводят в ловушку зависимост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ртятся отношения с родным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рах отношений с любимым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лохая успеваемост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онец карьер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теря самоуваже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блемы с милицией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Нарушение психик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Разрушение здоровь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мерть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5" name="Picture 4" descr="0"/>
          <p:cNvPicPr/>
          <p:nvPr/>
        </p:nvPicPr>
        <p:blipFill>
          <a:blip r:embed="rId1"/>
          <a:stretch/>
        </p:blipFill>
        <p:spPr>
          <a:xfrm>
            <a:off x="395280" y="1484280"/>
            <a:ext cx="8559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00040" y="17859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редные привычки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распространённые действия, которые люди повторяют вновь и вновь, несмотря на то, что они не полезны и даже вред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826920" y="333360"/>
            <a:ext cx="7345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2411280" y="333360"/>
            <a:ext cx="4248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latin typeface="Arial"/>
              </a:rPr>
              <a:t>КУРЕНИЕ 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latin typeface="Arial"/>
              <a:ea typeface="Arial"/>
            </a:endParaRPr>
          </a:p>
        </p:txBody>
      </p:sp>
      <p:pic>
        <p:nvPicPr>
          <p:cNvPr id="224" name="Picture 5" descr="foto-ryki-mychinu3"/>
          <p:cNvPicPr/>
          <p:nvPr/>
        </p:nvPicPr>
        <p:blipFill>
          <a:blip r:embed="rId1"/>
          <a:stretch/>
        </p:blipFill>
        <p:spPr>
          <a:xfrm>
            <a:off x="1908000" y="1700280"/>
            <a:ext cx="61596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642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урение является социальной проблемой общества, как для его курящей, так и для некурящей части населени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7" descr="пассивное курение"/>
          <p:cNvPicPr/>
          <p:nvPr/>
        </p:nvPicPr>
        <p:blipFill>
          <a:blip r:embed="rId1"/>
          <a:stretch/>
        </p:blipFill>
        <p:spPr>
          <a:xfrm>
            <a:off x="1116000" y="1700280"/>
            <a:ext cx="68407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сигареты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10080" y="4343400"/>
            <a:ext cx="3346560" cy="2165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реб и си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838080"/>
            <a:ext cx="2347920" cy="3505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n-smok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8120" y="2895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716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733920" y="16765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ему молодые люди начинают ку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611280" y="1700280"/>
            <a:ext cx="835812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 любопы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все мои друзья ку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мне нравится ку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я чувствую себя беспокой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463680"/>
            <a:ext cx="80773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В дыме табака содержится более 30 ядовитых веществ: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Никотин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Углекислый газ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Окись углерода  10-23 м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Синильная кислот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Аммиак 50-130 м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Смолистые веще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Органические кислоты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Фенол 60-100 м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Ацетон 100-250 мк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Радиоактивный полоний 0.03 -1.0 нК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04040"/>
                </a:solidFill>
                <a:latin typeface="Times New Roman"/>
              </a:rPr>
              <a:t>Цианистый водород 400-500 мк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3566709kb3[1]"/>
          <p:cNvPicPr/>
          <p:nvPr/>
        </p:nvPicPr>
        <p:blipFill>
          <a:blip r:embed="rId1"/>
          <a:stretch/>
        </p:blipFill>
        <p:spPr>
          <a:xfrm>
            <a:off x="5651640" y="1844640"/>
            <a:ext cx="2627280" cy="17827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36" name="Picture 5" descr="3566722jrh[1]"/>
          <p:cNvPicPr/>
          <p:nvPr/>
        </p:nvPicPr>
        <p:blipFill>
          <a:blip r:embed="rId2"/>
          <a:stretch/>
        </p:blipFill>
        <p:spPr>
          <a:xfrm>
            <a:off x="7020000" y="3933720"/>
            <a:ext cx="1859040" cy="2592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34:39Z</dcterms:created>
  <dc:creator>Lenovo</dc:creator>
  <dc:description/>
  <dc:language>en-US</dc:language>
  <cp:lastModifiedBy>1</cp:lastModifiedBy>
  <dcterms:modified xsi:type="dcterms:W3CDTF">2019-05-16T12:01:24Z</dcterms:modified>
  <cp:revision>14</cp:revision>
  <dc:subject/>
  <dc:title>Презентация  на тему :  « Вредные привычки»</dc:title>
</cp:coreProperties>
</file>