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217B-9EB0-4E1D-8896-E9F36D39F9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7E33-3E8F-4D7C-8B92-DAAD704DA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233-7C42-440D-9B95-25C0FB04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3B3-08D3-46F9-84E3-3746E06F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3DD-B5CE-4D5D-AFBA-3F37F4F8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016-36AC-4101-9706-7DF4A60C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55C3-2D8F-4160-97D5-A85FA998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B9BB-7BD0-4A67-985D-A3326012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03A8-09C1-4735-8886-F5928E9B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8E29-74E4-4B78-9CFF-D88F1916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3F89-41EF-4B8B-8F47-12AE1549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221D-A496-494A-A124-534FACCA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82BF-C0CE-47F5-9CBF-21D060DB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1B8-E128-4550-87E2-C2E31D20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887C-79E2-4561-8552-B3B322E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0D5C-A543-4377-AA43-77D411C2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F7FA-E706-4EB2-A0DD-58190C59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7BA1-BD89-4D58-9E28-748E070C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7256-DB02-4648-9332-0DC7EE7A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016-D33A-4041-B7D1-DC1EA7C2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0A9-8084-42F8-8B95-FB0B6637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305-B9FA-48D4-807C-FA816420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F6C-5B09-4469-94CD-4BD1CAAA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47B-FC87-43ED-BDC5-42AE73D1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D61-F8E3-4E41-B5A6-D796773A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4C5-2930-4090-B34D-6D338120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563C-5A3D-440C-8A59-FDA0C4F396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0"/>
              <a:ext cx="1203120" cy="684684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8800"/>
                <a:chOff x="8381880" y="-360"/>
                <a:chExt cx="762120" cy="22788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6560" y="139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6560" y="2016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5080" y="177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9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9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3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3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7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8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8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86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8480"/>
                <a:ext cx="828720" cy="4701960"/>
                <a:chOff x="7848720" y="1608480"/>
                <a:chExt cx="828720" cy="47019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84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2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1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93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58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21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8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03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0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7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7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4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8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1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3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1480"/>
              <a:ext cx="1190520" cy="1936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1080"/>
              <a:ext cx="1219320" cy="19965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4200"/>
              <a:ext cx="1231920" cy="403020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3840"/>
              <a:ext cx="979560" cy="21808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7400"/>
              <a:ext cx="914400" cy="50400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2520"/>
              <a:ext cx="909720" cy="306648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0"/>
              <a:ext cx="576360" cy="33469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2240"/>
              <a:ext cx="300240" cy="33472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2240"/>
              <a:ext cx="88920" cy="68468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1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9720" y="3321360"/>
              <a:ext cx="684684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BA8E-941E-40AD-8766-8617A1E75B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4" descr="F:\KORZENNIKOVA\Современный подросток\CAUM5XGD.jpg"/>
          <p:cNvPicPr/>
          <p:nvPr/>
        </p:nvPicPr>
        <p:blipFill>
          <a:blip r:embed="rId1"/>
          <a:stretch/>
        </p:blipFill>
        <p:spPr>
          <a:xfrm>
            <a:off x="357120" y="3643200"/>
            <a:ext cx="2500560" cy="27860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D:\СВЕТИК\работа с педагогами\i.j12.jpg"/>
          <p:cNvPicPr/>
          <p:nvPr/>
        </p:nvPicPr>
        <p:blipFill>
          <a:blip r:embed="rId2"/>
          <a:stretch/>
        </p:blipFill>
        <p:spPr>
          <a:xfrm>
            <a:off x="5214960" y="3714840"/>
            <a:ext cx="2486160" cy="27302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2" name="WordArt 8"/>
          <p:cNvSpPr txBox="1"/>
          <p:nvPr/>
        </p:nvSpPr>
        <p:spPr>
          <a:xfrm>
            <a:off x="500040" y="785880"/>
            <a:ext cx="7240680" cy="40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8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Умение слушать. Виды слушания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Техника активного слуш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3840" y="227160"/>
            <a:ext cx="748188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729"/>
                </a:solidFill>
                <a:latin typeface="Arial"/>
              </a:rPr>
              <a:t>Тест «Умеете ли вы слушать?»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85840" y="2356920"/>
            <a:ext cx="73641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етесь ли вы закончить беседу, если тема или собеседник неинтересны для в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ли вас раздражать манеры собесед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неудачное выражение спровоцировать вас на резкость или груб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егаете ли выступать в беседу с неизвестным или малознакомым человеком, даже когда он стремиться к это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е ли вы привычку перебивать собесед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214200" y="857160"/>
            <a:ext cx="7481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очти всегда – 2 бал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 большинстве случаев – 4 бал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Иногда – 6 бал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едко  - 8 бал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очти никогда – 1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13840" y="142920"/>
            <a:ext cx="73645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очти всегда – 2 бал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 большинстве случаев – 4 бал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Иногда – 6 бал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едко  - 8 балл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очти никогда – 1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одержимое 2"/>
          <p:cNvSpPr/>
          <p:nvPr/>
        </p:nvSpPr>
        <p:spPr>
          <a:xfrm>
            <a:off x="357120" y="1643040"/>
            <a:ext cx="7221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те ли вид, что внимательно слушаете, а сами думаете          совсем о друг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ются ли ваш тон, голос, выражение лица, лексикон в зависимости от того, кто ваш собесед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ете ли тему разговора, если собеседник коснулся щекотливой для вас 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авляете ли собеседника, если он неправильно произносит слова, названия, термины, употребляет вульгариз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у вас быть в общении снисходительный, менторской тон, с оттенком пренебрежения в иро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7120" y="356760"/>
            <a:ext cx="729288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Свыше 62 бал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аше умение слушать выше среднего уровня, и вообще, чем выше баллы, тем в большей степени развито умение слу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2" descr="D:\СВЕТИК\работа с педагогами\CA35SEEO.jpg"/>
          <p:cNvPicPr/>
          <p:nvPr/>
        </p:nvPicPr>
        <p:blipFill>
          <a:blip r:embed="rId1"/>
          <a:stretch/>
        </p:blipFill>
        <p:spPr>
          <a:xfrm>
            <a:off x="2500200" y="3357720"/>
            <a:ext cx="28576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729"/>
                </a:solidFill>
                <a:latin typeface="Arial"/>
              </a:rPr>
              <a:t>Правила хорошего слушания!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2560" y="857160"/>
            <a:ext cx="7715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тарайся сконцентрироваться на человеке, который обращается к т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бращай внимание не только на слово, но и на звук голоса, мимику, жест, позу 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кажи говорящему, как ты его понимаешь. Это можно сделать, повторяя своими словами то, что услышал, или смысл того, что тебе сказ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 давай оц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 давай советов. Оценки и советы, даже когда они даются из самых лучших побуждений, обычно ограничивают свободу высказывания говорящего, мешают ему выделить наиболее существенные моменты в своих сло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Прямоугольник 3" descr=""/>
          <p:cNvPicPr/>
          <p:nvPr/>
        </p:nvPicPr>
        <p:blipFill>
          <a:blip r:embed="rId1"/>
          <a:stretch/>
        </p:blipFill>
        <p:spPr>
          <a:xfrm>
            <a:off x="208080" y="1596960"/>
            <a:ext cx="77230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840" y="227160"/>
            <a:ext cx="748188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729"/>
                </a:solidFill>
                <a:latin typeface="Bookman Old Style"/>
              </a:rPr>
              <a:t>Если человек лишен способности слышать…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лучить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знать, как что-либо делае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нять, что кому-нибудь нуж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знать, как кто-либо себя чувству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звлечься (телевизор, музыка, ки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ыяснить, что вам нужно (разрешение на участие в поездк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делиться с друзьями (проблемы, радости и т. п.), общаться с теми, кто вам нрави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щититься от опасности (услышать сигнал автомобиля при переходе улиц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729"/>
                </a:solidFill>
                <a:latin typeface="Bookman Old Style"/>
              </a:rPr>
              <a:t>Признаки «неслушающего» поведения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63520" y="1428840"/>
            <a:ext cx="73864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обеседник смотрит в сторон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обеседник скучае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обеседник перебивает говорящег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обеседник смотрит на час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обеседник смеется не к мест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729"/>
                </a:solidFill>
                <a:latin typeface="Bookman Old Style"/>
              </a:rPr>
              <a:t>Признаки хорошего слушания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63520" y="1428840"/>
            <a:ext cx="73864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беседник поддерживает визуальный контакт с говорящ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беседник сидит лицом к партнеру, кивает, улыбается 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беседник не перебивает говорящ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беседник задает вопросы, помогающие лучше понять пробл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беседник отражает чувства говорящего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беседник показывает, что признает ценность чувств, проблемы, усилия говоря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4912"/>
                </a:solidFill>
                <a:latin typeface="Bookman Old Style"/>
              </a:rPr>
              <a:t>Виды слушания: </a:t>
            </a:r>
            <a:br>
              <a:rPr sz="4000"/>
            </a:b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0" name="Содержимое 3" descr=""/>
          <p:cNvPicPr/>
          <p:nvPr/>
        </p:nvPicPr>
        <p:blipFill>
          <a:blip r:embed="rId1"/>
          <a:stretch/>
        </p:blipFill>
        <p:spPr>
          <a:xfrm>
            <a:off x="79200" y="1206360"/>
            <a:ext cx="885672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4" descr="1253705491_otkrytka_den_uchitelia_8"/>
          <p:cNvPicPr/>
          <p:nvPr/>
        </p:nvPicPr>
        <p:blipFill>
          <a:blip r:embed="rId1"/>
          <a:srcRect l="0" t="16005" r="-378" b="0"/>
          <a:stretch/>
        </p:blipFill>
        <p:spPr>
          <a:xfrm>
            <a:off x="357120" y="5072040"/>
            <a:ext cx="286884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Documents and Settings\4\Мои документы\света\рисунки\CHLD319.jpg"/>
          <p:cNvPicPr/>
          <p:nvPr/>
        </p:nvPicPr>
        <p:blipFill>
          <a:blip r:embed="rId2"/>
          <a:stretch/>
        </p:blipFill>
        <p:spPr>
          <a:xfrm>
            <a:off x="5143680" y="4000680"/>
            <a:ext cx="2557440" cy="2557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3840" y="226800"/>
            <a:ext cx="74818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729"/>
                </a:solidFill>
                <a:latin typeface="Arial"/>
              </a:rPr>
              <a:t>Пассивное слушание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785520"/>
            <a:ext cx="73864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ассивное слуш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рименяется в ситуациях общения с человеком, находящимся в состоянии сильного эмоционального возб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о предполаг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демонстрацию заинтересованного отношения к собеседни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оддерживающие реакции («да-да», «угу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уточняющие вопросы, помогающие «выговориться» собеседн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(«И что она вам ответила?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C:\Documents and Settings\4\Мои документы\света\рисунки\PE000295.jpg"/>
          <p:cNvPicPr/>
          <p:nvPr/>
        </p:nvPicPr>
        <p:blipFill>
          <a:blip r:embed="rId1"/>
          <a:stretch/>
        </p:blipFill>
        <p:spPr>
          <a:xfrm>
            <a:off x="4786200" y="36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729"/>
                </a:solidFill>
                <a:latin typeface="Arial"/>
              </a:rPr>
              <a:t>Активное слушание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13840" y="1071720"/>
            <a:ext cx="74358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Активное слуш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– вид слушания, в котором проявляется отражение информац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о предполаг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Заинтересованное отношение к собеседнику, демонстрируемое при помощи невербальных средств общения (поза, доброжелательный взгляд, направленный на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Уточняющие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Вопросы построенный по тип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«Правильно ли я понял, что…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олучение ответа на свой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729"/>
                </a:solidFill>
                <a:latin typeface="Arial"/>
              </a:rPr>
              <a:t>Эмпатическое слушание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5840" y="1142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Эмпатическое слуш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– вид слушания, содержанием которого является точное отражение чувств собесед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предполаг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Избегание оценок и толкований, скрытых от собеседника мотивов его поведения (вместо привычного:»Ты сам виноват, что с тобой это случилось. У тебя трудный характер», спросим: «Ты расстроен? Тебя раздражает твоя вспыльчивость?...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Точное отражение пережи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чувства, эмоции собеседник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демонстрацией их понима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и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C:\Documents and Settings\4\Мои документы\света\рисунки\12.jpg"/>
          <p:cNvPicPr/>
          <p:nvPr/>
        </p:nvPicPr>
        <p:blipFill>
          <a:blip r:embed="rId4"/>
          <a:stretch/>
        </p:blipFill>
        <p:spPr>
          <a:xfrm>
            <a:off x="4637160" y="4286160"/>
            <a:ext cx="30844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Documents and Settings\4\Мои документы\света\рисунки\DESKBOUN.jpg"/>
          <p:cNvPicPr/>
          <p:nvPr/>
        </p:nvPicPr>
        <p:blipFill>
          <a:blip r:embed="rId1"/>
          <a:stretch/>
        </p:blipFill>
        <p:spPr>
          <a:xfrm>
            <a:off x="4786200" y="36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729"/>
                </a:solidFill>
                <a:latin typeface="Arial"/>
              </a:rPr>
              <a:t>Каким слушателем вы себя считаете?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85840" y="1500120"/>
            <a:ext cx="7429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деаль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ше среднего уров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уждаюсь в дополнительном обучении и практике в умении слуш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важным, так как мног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ообщения воспринима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искаженном вид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 вникая в смыс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4:34:13Z</dcterms:created>
  <dc:creator>User</dc:creator>
  <dc:description/>
  <dc:language>en-US</dc:language>
  <cp:lastModifiedBy>4</cp:lastModifiedBy>
  <dcterms:modified xsi:type="dcterms:W3CDTF">2012-01-12T04:00:56Z</dcterms:modified>
  <cp:revision>36</cp:revision>
  <dc:subject/>
  <dc:title> </dc:title>
</cp:coreProperties>
</file>