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52E49-589A-4B21-9823-BE122C716D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00FC1-BC9C-4263-AB65-303A05B6FC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A15C9-05AF-4ED0-8E36-7DA10119DC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98FFD-8966-420F-83BF-716E5C37D4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AF6D7-15B5-421C-BFBA-2A8AA1A7BC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A5F86-5516-4483-A35D-7BFC197710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83158-2A76-4723-9A0C-B40C866E01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BE13B-CE45-4979-B290-D25502D739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3384720" y="2063520"/>
            <a:ext cx="1511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ru-RU" sz="3200" spc="-1" strike="noStrike">
                <a:solidFill>
                  <a:srgbClr val="4c1900"/>
                </a:solidFill>
                <a:latin typeface="Arial"/>
                <a:ea typeface="Microsoft YaHei"/>
              </a:rPr>
              <a:t>Мар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E8158-165D-4E5B-B91A-D64CD57562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F0CB4-A8E8-4D47-A532-09817F997A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AE624-45A3-4624-ABC8-054B86E906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C8998-CEA6-4B05-9913-8464B2E714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6C939-A860-4A49-AEB2-66456E354B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C9DB-F20E-4CD2-91A6-3FAC71A0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1F2-9621-406B-8942-50CB0575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2EA-1687-415C-B5F5-7F6236ED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DFC-CF2D-4146-8433-542B6BA3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A24-6E9E-40D6-BCC1-8A86C976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8C3-BF64-47EC-9136-DAAB8175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FCF-384C-4FF5-8FA5-CD5D1172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184-212A-483C-94D0-286F030E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572-2B67-4BB1-9AB4-AE3808DF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BEC-89C8-4092-B4CB-44E4A717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BC6-52E4-4B9C-B549-A8C27734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EFBC-55F4-4508-B161-2BF09C78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18911-6027-46C1-8A81-7F98DFAC23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6480" y="6480"/>
            <a:ext cx="10129680" cy="7567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576360" y="2592360"/>
            <a:ext cx="89992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c1900"/>
                </a:solidFill>
                <a:latin typeface="Arial"/>
              </a:rPr>
              <a:t>А. Плещеев «Травка зеленеет…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c1900"/>
                </a:solidFill>
                <a:latin typeface="Arial"/>
              </a:rPr>
              <a:t>А. Майков «Ласточка примчалась …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480" y="6480"/>
            <a:ext cx="10129680" cy="75675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2303640" y="1177920"/>
            <a:ext cx="727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4c1900"/>
                </a:solidFill>
                <a:latin typeface="Times New Roman"/>
              </a:rPr>
              <a:t>– </a:t>
            </a:r>
            <a:r>
              <a:rPr b="0" i="1" lang="ru-RU" sz="3200" spc="-1" strike="noStrike">
                <a:solidFill>
                  <a:srgbClr val="4c1900"/>
                </a:solidFill>
                <a:latin typeface="Times New Roman"/>
              </a:rPr>
              <a:t>Какое настроение передаёт авт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4c1900"/>
                </a:solidFill>
                <a:latin typeface="Times New Roman"/>
              </a:rPr>
              <a:t>– </a:t>
            </a:r>
            <a:r>
              <a:rPr b="0" i="1" lang="ru-RU" sz="3200" spc="-1" strike="noStrike">
                <a:solidFill>
                  <a:srgbClr val="4c1900"/>
                </a:solidFill>
                <a:latin typeface="Times New Roman"/>
              </a:rPr>
              <a:t>Нравится ли весна поэ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4c1900"/>
                </a:solidFill>
                <a:latin typeface="Times New Roman"/>
              </a:rPr>
              <a:t>– </a:t>
            </a:r>
            <a:r>
              <a:rPr b="0" i="1" lang="ru-RU" sz="3200" spc="-1" strike="noStrike">
                <a:solidFill>
                  <a:srgbClr val="4c1900"/>
                </a:solidFill>
                <a:latin typeface="Times New Roman"/>
              </a:rPr>
              <a:t>Какие слова говорят о том, что поэт радуется и ждёт вес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4c1900"/>
                </a:solidFill>
                <a:latin typeface="Times New Roman"/>
              </a:rPr>
              <a:t>– </a:t>
            </a:r>
            <a:r>
              <a:rPr b="0" i="1" lang="ru-RU" sz="3200" spc="-1" strike="noStrike">
                <a:solidFill>
                  <a:srgbClr val="4c1900"/>
                </a:solidFill>
                <a:latin typeface="Times New Roman"/>
              </a:rPr>
              <a:t>С какой просьбой обращается автор к ласточ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4c1900"/>
                </a:solidFill>
                <a:latin typeface="Times New Roman"/>
              </a:rPr>
              <a:t>– </a:t>
            </a:r>
            <a:r>
              <a:rPr b="0" i="1" lang="ru-RU" sz="3200" spc="-1" strike="noStrike">
                <a:solidFill>
                  <a:srgbClr val="4c1900"/>
                </a:solidFill>
                <a:latin typeface="Times New Roman"/>
              </a:rPr>
              <a:t>Прочтите стихотворение вырази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6480" y="6480"/>
            <a:ext cx="10129680" cy="7567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3240000" y="1717560"/>
            <a:ext cx="567540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c1900"/>
                </a:solidFill>
                <a:latin typeface="Arial"/>
              </a:rPr>
              <a:t>Ласточка прим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c1900"/>
                </a:solidFill>
                <a:latin typeface="Arial"/>
              </a:rPr>
              <a:t>Из-за бела мор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c1900"/>
                </a:solidFill>
                <a:latin typeface="Arial"/>
              </a:rPr>
              <a:t>Села и запел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c1900"/>
                </a:solidFill>
                <a:latin typeface="Arial"/>
              </a:rPr>
              <a:t>Как февраль ни зли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c1900"/>
                </a:solidFill>
                <a:latin typeface="Arial"/>
              </a:rPr>
              <a:t>Как ты, март, ни хмурь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c1900"/>
                </a:solidFill>
                <a:latin typeface="Arial"/>
              </a:rPr>
              <a:t>Будь хоть снег, хоть дождик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c1900"/>
                </a:solidFill>
                <a:latin typeface="Arial"/>
              </a:rPr>
              <a:t>Всё весною пахнет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160720" y="792000"/>
            <a:ext cx="77752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Arial"/>
              </a:rPr>
              <a:t>А. Майкова «Ласточка примчалась…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6480" y="6480"/>
            <a:ext cx="10129680" cy="7567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871640" y="2592360"/>
            <a:ext cx="777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c1900"/>
                </a:solidFill>
                <a:latin typeface="Arial"/>
              </a:rPr>
              <a:t>при-мча-лась – примчала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c1900"/>
                </a:solidFill>
                <a:latin typeface="Arial"/>
              </a:rPr>
              <a:t>хмурь-ся – хмур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480" y="6480"/>
            <a:ext cx="10129680" cy="7567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2808360" y="1368360"/>
            <a:ext cx="784836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4c1900"/>
                </a:solidFill>
                <a:latin typeface="Arial"/>
              </a:rPr>
              <a:t>Зазвенели ручь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4c1900"/>
                </a:solidFill>
                <a:latin typeface="Arial"/>
              </a:rPr>
              <a:t>Прилетели гра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4c1900"/>
                </a:solidFill>
                <a:latin typeface="Arial"/>
              </a:rPr>
              <a:t>В дом свой – улей – пч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4c1900"/>
                </a:solidFill>
                <a:latin typeface="Arial"/>
              </a:rPr>
              <a:t>Первый мёд принес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4c1900"/>
                </a:solidFill>
                <a:latin typeface="Arial"/>
              </a:rPr>
              <a:t>Кто скажет, кто зн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4c1900"/>
                </a:solidFill>
                <a:latin typeface="Arial"/>
              </a:rPr>
              <a:t>Когда это быв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480" y="6480"/>
            <a:ext cx="10129680" cy="7567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527280" y="216000"/>
            <a:ext cx="3888000" cy="251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503280" y="3222720"/>
            <a:ext cx="4273560" cy="268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4"/>
          <a:stretch/>
        </p:blipFill>
        <p:spPr>
          <a:xfrm>
            <a:off x="5256360" y="3252960"/>
            <a:ext cx="410364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6480" y="22320"/>
            <a:ext cx="10129680" cy="7567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3513240" y="216000"/>
            <a:ext cx="3887640" cy="251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503280" y="3222720"/>
            <a:ext cx="4273560" cy="268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5256360" y="3252960"/>
            <a:ext cx="4103640" cy="2651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2016000" y="5904000"/>
            <a:ext cx="18734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ru-RU" sz="4000" spc="-1" strike="noStrike">
                <a:solidFill>
                  <a:srgbClr val="4c1900"/>
                </a:solidFill>
                <a:latin typeface="Times New Roman"/>
              </a:rPr>
              <a:t>Апр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751280" y="2592360"/>
            <a:ext cx="2160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ru-RU" sz="4000" spc="-1" strike="noStrike">
                <a:solidFill>
                  <a:srgbClr val="4c1900"/>
                </a:solidFill>
                <a:latin typeface="Times New Roman"/>
              </a:rPr>
              <a:t>Ма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551640" y="5904000"/>
            <a:ext cx="20718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ru-RU" sz="4000" spc="-1" strike="noStrike">
                <a:solidFill>
                  <a:srgbClr val="4c1900"/>
                </a:solidFill>
                <a:latin typeface="Times New Roman"/>
              </a:rPr>
              <a:t>М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480" y="6480"/>
            <a:ext cx="10129680" cy="75675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728720" y="2664000"/>
            <a:ext cx="7920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240" bIns="45000" anchor="t">
            <a:noAutofit/>
          </a:bodyPr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4c1900"/>
                </a:solidFill>
                <a:latin typeface="Times New Roman"/>
              </a:rPr>
              <a:t>21 марта – день весеннего равноденств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-66600" y="22320"/>
            <a:ext cx="10129680" cy="75675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448000" y="804960"/>
            <a:ext cx="741528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Traditional Arabic"/>
              </a:rPr>
              <a:t>Та-та-та – у нас дома чист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Traditional Arabic"/>
              </a:rPr>
              <a:t>Ты-ты-ты – сметану съели всю к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Traditional Arabic"/>
              </a:rPr>
              <a:t>Ти-ти-ти – съели кашу всю поч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Traditional Arabic"/>
              </a:rPr>
              <a:t>Тё-тё-тё – отложили мы шить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Traditional Arabic"/>
              </a:rPr>
              <a:t>То-то-то – стали мы играть в ло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Traditional Arabic"/>
              </a:rPr>
              <a:t>Ать-ать-ать – мы идем гу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Traditional Arabic"/>
              </a:rPr>
              <a:t>Ат-ат-ат – берем с собой самок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480" y="6480"/>
            <a:ext cx="10129680" cy="756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2268360" y="398520"/>
            <a:ext cx="7307280" cy="5289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290600" y="6235560"/>
            <a:ext cx="6845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4c1900"/>
                </a:solidFill>
                <a:latin typeface="Arial"/>
              </a:rPr>
              <a:t>И. Левитан «Март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480" y="6480"/>
            <a:ext cx="10129680" cy="75675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3583080" y="1496880"/>
            <a:ext cx="4481280" cy="55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Arial"/>
              </a:rPr>
              <a:t>Травка зелене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Arial"/>
              </a:rPr>
              <a:t>Солнышко блести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Arial"/>
              </a:rPr>
              <a:t>Ласточка с весно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Arial"/>
              </a:rPr>
              <a:t>В сени к нам лет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Arial"/>
              </a:rPr>
              <a:t>С нею солнце кра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Arial"/>
              </a:rPr>
              <a:t>И весна милей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Arial"/>
              </a:rPr>
              <a:t>Прощебечь с до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Arial"/>
              </a:rPr>
              <a:t>Нам привет скорей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Arial"/>
              </a:rPr>
              <a:t>Дам тебе я зере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Arial"/>
              </a:rPr>
              <a:t>А ты песню сп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Arial"/>
              </a:rPr>
              <a:t>Что из стран дале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Arial"/>
              </a:rPr>
              <a:t>Принесла с собо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19280" y="503280"/>
            <a:ext cx="691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c1900"/>
                </a:solidFill>
                <a:latin typeface="Arial"/>
              </a:rPr>
              <a:t>А. Плещеев «Травка зеленеет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6480" y="6480"/>
            <a:ext cx="10129680" cy="7567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664000" y="1584360"/>
            <a:ext cx="7056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5000b"/>
                </a:solidFill>
                <a:latin typeface="Arial"/>
              </a:rPr>
              <a:t>Сен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4c1900"/>
                </a:solidFill>
                <a:latin typeface="Arial"/>
              </a:rPr>
              <a:t>– прихожая в изб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5000b"/>
                </a:solidFill>
                <a:latin typeface="Arial"/>
              </a:rPr>
              <a:t>Краш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4c1900"/>
                </a:solidFill>
                <a:latin typeface="Arial"/>
              </a:rPr>
              <a:t>– красив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5000b"/>
                </a:solidFill>
                <a:latin typeface="Arial"/>
              </a:rPr>
              <a:t>Мил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4c1900"/>
                </a:solidFill>
                <a:latin typeface="Arial"/>
              </a:rPr>
              <a:t>– больше всего нрави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8T15:50:48Z</dcterms:created>
  <dc:creator/>
  <dc:description/>
  <dc:language>en-US</dc:language>
  <cp:lastModifiedBy>АРСЕНТЬЕВЫ</cp:lastModifiedBy>
  <dcterms:modified xsi:type="dcterms:W3CDTF">2020-04-10T09:21:30Z</dcterms:modified>
  <cp:revision>3</cp:revision>
  <dc:subject/>
  <dc:title>Презентация PowerPoint</dc:title>
</cp:coreProperties>
</file>