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24.jpeg" ContentType="image/jpeg"/>
  <Override PartName="/ppt/media/image3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11CC-7821-4EFA-B453-A86F09DDD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2165040"/>
            <a:ext cx="9069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770360"/>
            <a:ext cx="9069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C797-2AB6-483D-8BB0-B244BDFAC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2165040"/>
            <a:ext cx="44258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2165040"/>
            <a:ext cx="44258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770360"/>
            <a:ext cx="44258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770360"/>
            <a:ext cx="44258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3123-612C-44F7-BAE0-0CD05E8FF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2165040"/>
            <a:ext cx="29199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2165040"/>
            <a:ext cx="29199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2165040"/>
            <a:ext cx="29199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770360"/>
            <a:ext cx="29199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770360"/>
            <a:ext cx="29199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770360"/>
            <a:ext cx="29199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D1C4-50E6-4AAE-B34F-91691D159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9C8E8-2FFD-4DD4-8D58-43B33F22B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2165040"/>
            <a:ext cx="9069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64A1A-4176-44C9-AA67-7EA67AFBD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2165040"/>
            <a:ext cx="9069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87A13-A71C-44A0-A615-AABA47AF1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2165040"/>
            <a:ext cx="442584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2165040"/>
            <a:ext cx="442584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0B638-C8FB-4042-A473-825E6F2C4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26964-588B-436C-BFDE-33BB81212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0DD5E-A488-4DDE-88BA-A2DAECA79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2165040"/>
            <a:ext cx="44258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2165040"/>
            <a:ext cx="442584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770360"/>
            <a:ext cx="44258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2EB6E-A2B4-45D8-B762-9D6DCD172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2165040"/>
            <a:ext cx="9069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96BB-04A2-41B9-8088-B44074C44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2165040"/>
            <a:ext cx="442584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2165040"/>
            <a:ext cx="44258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4770360"/>
            <a:ext cx="44258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2E53A-F9EB-4996-BCA4-875590ACA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2165040"/>
            <a:ext cx="44258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2165040"/>
            <a:ext cx="44258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770360"/>
            <a:ext cx="9069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D2865-A867-4B2E-A779-18BA8B4DF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2165040"/>
            <a:ext cx="9069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770360"/>
            <a:ext cx="9069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A84B9-C730-46A7-9A58-FB79A2F89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2165040"/>
            <a:ext cx="44258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2165040"/>
            <a:ext cx="44258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770360"/>
            <a:ext cx="44258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4770360"/>
            <a:ext cx="44258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2948D-A24A-48BB-ADE2-8F87A7945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2165040"/>
            <a:ext cx="29199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2165040"/>
            <a:ext cx="29199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2165040"/>
            <a:ext cx="29199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770360"/>
            <a:ext cx="29199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770360"/>
            <a:ext cx="29199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4770360"/>
            <a:ext cx="29199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9209D-8C54-497B-B5F5-1136D03E8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2165040"/>
            <a:ext cx="9069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EEC0-D29F-40F2-8710-78DF5CBB3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2165040"/>
            <a:ext cx="442584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2165040"/>
            <a:ext cx="442584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64FB-9B8C-4ED8-99F0-35FB8FD6D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00CA-BCAB-4B78-BB6A-9C178D842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5A08-59C4-4E12-A507-38623F7A2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2165040"/>
            <a:ext cx="44258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2165040"/>
            <a:ext cx="442584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770360"/>
            <a:ext cx="44258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91BB-C11E-47C4-AE09-B80E6EF5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2165040"/>
            <a:ext cx="442584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2165040"/>
            <a:ext cx="44258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770360"/>
            <a:ext cx="44258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CFA1-83B1-4BA9-95E7-AB3F74338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2165040"/>
            <a:ext cx="44258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2165040"/>
            <a:ext cx="44258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770360"/>
            <a:ext cx="9069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CCB7-BB8C-46EC-8A34-E815806D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2364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431640" indent="-323640"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431640" indent="-32364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431640" indent="-323640"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431640" indent="-323640"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431640" indent="-323640"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8CE9C2-393B-4181-A0FA-5DE3D7B2F1C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2165040"/>
            <a:ext cx="9069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31640" indent="-323640">
              <a:spcAft>
                <a:spcPts val="1426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431640" indent="-323640"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431640" indent="-323640">
              <a:spcAft>
                <a:spcPts val="1426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431640" indent="-323640"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431640" indent="-32364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431640" indent="-32364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994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994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994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CE382D-5C9E-4C81-BE0B-DC4F3D85DD0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КОСМОНАВТИКА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16000" y="4680000"/>
            <a:ext cx="964872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из греческог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КОСМОС — Вселенна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НАВТИКА — искусство кораблевожде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2920" y="30600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Исследование Луны и планет Солнечной системы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8920" y="1800000"/>
            <a:ext cx="9899640" cy="57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С 1959 — АМС серии «Луна», фотографии обратной стороны Луны, доставка лунного грунта на Землю, «Луноходы»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С 1961 — АМС серии «Венера», фотографии поверхности Венеры, изучение грунта и атмосферы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С 1963 — АМС серии «Марс» и «Маринер», исследование грунта и атмосферы, фото и видео съёмка, марсоходы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С 1972 — АМС серии «Пионер» и «Вояджер» исследуют планеты-гиганты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С 1974 — АМС «Маринер-10», фотосъёмка поверхности Меркурия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59280" y="360360"/>
            <a:ext cx="4897440" cy="489744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Люди на Луне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4360" y="1871640"/>
            <a:ext cx="4680000" cy="53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21 июля 1969 — американский астронавт Нил Армстронг стал первым человеком, ступившим на поверхность Луны. Произнесённая им фраза: «Маленький шаг для человека, но гигантский скачок для всего человечества», — вошла в историю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Всего на Луне люди побывали пять раз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6545160" y="4967280"/>
            <a:ext cx="3359160" cy="25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319640" y="345600"/>
            <a:ext cx="525600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Марс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2920" y="173160"/>
            <a:ext cx="3816360" cy="3786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37960" y="3693960"/>
            <a:ext cx="4981680" cy="3686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5040360" y="1727280"/>
            <a:ext cx="4933800" cy="49338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400720" y="7020000"/>
            <a:ext cx="4500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Марсоход «Спирит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3816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Венера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73080" y="2411280"/>
            <a:ext cx="9720360" cy="45435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5508720" y="179280"/>
            <a:ext cx="4500360" cy="45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2920" y="30600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Планеты-гиганты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(Юпитер, Сатурн)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608360" y="1908000"/>
            <a:ext cx="5400720" cy="54007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44360" y="2484360"/>
            <a:ext cx="4343400" cy="34196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60360" y="5940360"/>
            <a:ext cx="37800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Юпитер и И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08360" y="6804000"/>
            <a:ext cx="3240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атурн и Тит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2920" y="30600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Планеты-гиганты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(Уран, Нептун)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040360" y="1871640"/>
            <a:ext cx="4967280" cy="49672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61920" y="1862280"/>
            <a:ext cx="479736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Орбитальные станции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8920" y="2111040"/>
            <a:ext cx="97203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71-1991 — станции серии «Салют» (1-7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73 — американская станция «Скайлэб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86-2001 — первая в Мире многомодульная станция «Мир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 1998 — МКС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208480" y="3970440"/>
            <a:ext cx="4756320" cy="28540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580000" y="7020000"/>
            <a:ext cx="41403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«Салют-7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6600" y="177840"/>
            <a:ext cx="4792680" cy="72007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0" y="141120"/>
            <a:ext cx="63705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МКС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4680000" y="1963800"/>
            <a:ext cx="5280120" cy="39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Начало космической эры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8920" y="1835280"/>
            <a:ext cx="414036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4 октября 1957 — запущен первый искусственный спутник Земли (Спутник-1, СССР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Масса — 83,6 кг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Диаметр — 58 см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Спутник летал 92 дня, до 4 января 1958 года, совершив 1440 оборотов вокруг Земли (60 млн км)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405320" y="2124000"/>
            <a:ext cx="5494320" cy="45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«Космические» собаки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9280" y="1849320"/>
            <a:ext cx="3600720" cy="53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 ноября 1957 — первый полёт в космос живого существа на корабле «Спутник-2», собака Лай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 августа 1960 — на корабле «Спутник-5» полёт в космос совершили собаки Белка и Стрелк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782880" y="1979640"/>
            <a:ext cx="611820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Первый космонавт Земли — Юрий Алексеевич Гагарин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60360" y="2160720"/>
            <a:ext cx="540072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одился 9 марта 1934, в д. Клушино, Смоленской об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гиб 27 марта 1968, около города Киржач Владимирской обл. при выполнении тренировочного полё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119640" y="1879560"/>
            <a:ext cx="3780000" cy="558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2 апреля 1961 года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7480" y="2149560"/>
            <a:ext cx="3422520" cy="45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ервый полёт человека в космос на корабле «Восток-1» продолжался 108 минут (один виток вокруг Земл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218120" y="2055960"/>
            <a:ext cx="5681520" cy="46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Целые сутки в космосе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9280" y="2165400"/>
            <a:ext cx="558000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-7 августа 1961 года Герман Титов совершил космический полёт продолжительностью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сутки 1 час, сделав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7 витков вокруг Земли, пролетев более 700 тысяч километр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265800" y="1979640"/>
            <a:ext cx="3635280" cy="48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Первая женщина-космонавт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9280" y="2165400"/>
            <a:ext cx="612000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6-18 июня 1963 — полёт женщины-космонавта Валентины Терешковой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 корабле «Восток-6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лёт продолжался трое суток, корабль совершил 48 витков вокруг Земли, пройдя почти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млн. к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761160" y="1906560"/>
            <a:ext cx="3103560" cy="486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Человек в открытом космосе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000" y="2079720"/>
            <a:ext cx="6156360" cy="50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—19 марта 1965 года Алексей Леонов совместно с Павлом Беляевым совершил полёт в космос на космическом корабле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Восход-2» и первый в истории космонавтики выход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открытый космос продолжительностью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2 минут 9 секун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499080" y="1871640"/>
            <a:ext cx="3484800" cy="500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237600"/>
            <a:ext cx="10080720" cy="13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Наша Земля глазами космонавта</a:t>
            </a:r>
            <a:br>
              <a:rPr sz="44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(картина А. Леонова «Над Чёрным морем»)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81200" y="1800360"/>
            <a:ext cx="8611920" cy="5580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evaz</cp:lastModifiedBy>
  <dcterms:modified xsi:type="dcterms:W3CDTF">2012-04-03T17:30:43Z</dcterms:modified>
  <cp:revision>2</cp:revision>
  <dc:subject/>
  <dc:title>КОСМОНАВТИКА</dc:title>
</cp:coreProperties>
</file>