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78FF-08C0-40B8-BBFE-D2B1CBC4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F6A7-F90E-42D7-A26F-D85FC0A1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ACB0-DF8E-4CA5-BE57-7E82DB23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9C54-20F4-4D37-9D62-099BB0E9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7718-F80D-4985-B276-B80CCE2A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FA4-4A16-4EC0-8F20-AA3C4C5F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1ACD-5A15-44EB-B84A-6A0B50A5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5497-C1B6-4D55-ACD4-5F708B21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2355-F0F5-4B83-93F8-279FA82A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BF2B-3820-4742-B318-53EF77D8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E308-F32B-4E25-A370-505967CA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4D6D-3D55-4699-9B53-1B901229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AF07-3A4A-42B1-91A5-4F2E6CBB87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671508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Поиграем в доктор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https://i.pinimg.com/736x/2a/aa/4a/2aaa4a666d88166775f81dc913821e17--hospitals-clipart.jpg"/>
          <p:cNvPicPr/>
          <p:nvPr/>
        </p:nvPicPr>
        <p:blipFill>
          <a:blip r:embed="rId1"/>
          <a:stretch/>
        </p:blipFill>
        <p:spPr>
          <a:xfrm>
            <a:off x="2428920" y="2143080"/>
            <a:ext cx="3214800" cy="42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PIC_0035-1"/>
          <p:cNvPicPr/>
          <p:nvPr/>
        </p:nvPicPr>
        <p:blipFill>
          <a:blip r:embed="rId1"/>
          <a:srcRect l="10692" t="15854" r="0" b="0"/>
          <a:stretch/>
        </p:blipFill>
        <p:spPr>
          <a:xfrm>
            <a:off x="0" y="601560"/>
            <a:ext cx="5580000" cy="44402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5472000" y="2492280"/>
            <a:ext cx="367200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Доктор, - молвила корова,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, наверно, нездор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-то всё болит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рогов и до копы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Да-а, вам нужно подлечи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зу-ка вас в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БОЛЬНИЦ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м попровитесь в два счё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йдете на работ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357120" y="214200"/>
            <a:ext cx="828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лагаем Вашему малышу поиграть в «Больницу»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285840" y="1285920"/>
            <a:ext cx="357192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ложите малышу надеть повязку(она сейчас есть в каждом доме), дайте атрибуты для игры: бинт, шпатель для горла(можно ложечку, палочку от мороженого) и т.д, все что найдется в доме- главное безопасное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ушки-пациенты, а можете и сами принять участие! Удачи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s://thumbs.dreamstime.com/b/%D0%B4%D0%BE%D0%BA%D1%82%D0%BE%D1%80-%D0%BC%D0%B0-%D0%B5%D0%BD%D1%8C%D0%BA%D0%BE%D0%B9-%D0%B5%D0%B2%D0%BE%D1%87%D0%BA%D0%B8-%D0%BE%D0%B1%D1%80%D0%B0%D0%B1%D0%B0%D1%82%D1%8B%D0%B2%D0%B0%D0%B5%D1%82-%D0%B8%D1%85-%D0%B8%D0%B3%D1%80%D1%83%D1%88%D0%BA%D0%B8-79319246.jpg"/>
          <p:cNvPicPr/>
          <p:nvPr/>
        </p:nvPicPr>
        <p:blipFill>
          <a:blip r:embed="rId1"/>
          <a:stretch/>
        </p:blipFill>
        <p:spPr>
          <a:xfrm>
            <a:off x="4143240" y="1785960"/>
            <a:ext cx="45007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28800" y="2707920"/>
            <a:ext cx="8215200" cy="25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b050"/>
                </a:solidFill>
                <a:latin typeface="Arial"/>
              </a:rPr>
              <a:t>БУДЬТЕ ЗДОРОВЫ!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9:10:33Z</dcterms:created>
  <dc:creator>Alexsandr</dc:creator>
  <dc:description/>
  <dc:language>en-US</dc:language>
  <cp:lastModifiedBy>Computer</cp:lastModifiedBy>
  <dcterms:modified xsi:type="dcterms:W3CDTF">2020-04-09T06:44:38Z</dcterms:modified>
  <cp:revision>21</cp:revision>
  <dc:subject/>
  <dc:title>Слайд 1</dc:title>
</cp:coreProperties>
</file>