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52FE-D02C-4A65-A5E1-5F73143A2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B228-3349-468E-9CD7-BB0F431FD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1DC0-E358-43CA-BAE7-2C43DEC85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E3C5-15CE-4F58-B916-CD09F7265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54EF-92D3-4AC0-B707-9DBA5F17C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9B3B-1A61-478A-8930-251326B63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7FB6-D760-4A86-A24C-ED54B9379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CA2E-832B-4B9F-969A-308F89B72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A887-4AB0-4ED5-9A37-F953DE90D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A0F7-321C-4FDD-821E-DEBC4BE5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423A-2D0E-4B9B-97A6-2248B413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42E9-FF2E-4301-ADC3-4F8AB59B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BC0D1-408B-40FE-BAE6-B6B25778DA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50000">
              <a:srgbClr val="ffff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6800" y="357120"/>
            <a:ext cx="671508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Поиграем в доктора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9" descr="https://i.pinimg.com/736x/2a/aa/4a/2aaa4a666d88166775f81dc913821e17--hospitals-clipart.jpg"/>
          <p:cNvPicPr/>
          <p:nvPr/>
        </p:nvPicPr>
        <p:blipFill>
          <a:blip r:embed="rId1"/>
          <a:stretch/>
        </p:blipFill>
        <p:spPr>
          <a:xfrm>
            <a:off x="2428920" y="2143080"/>
            <a:ext cx="3214800" cy="424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PIC_0035-1"/>
          <p:cNvPicPr/>
          <p:nvPr/>
        </p:nvPicPr>
        <p:blipFill>
          <a:blip r:embed="rId1"/>
          <a:srcRect l="10692" t="15854" r="0" b="0"/>
          <a:stretch/>
        </p:blipFill>
        <p:spPr>
          <a:xfrm>
            <a:off x="0" y="601560"/>
            <a:ext cx="5580000" cy="44402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5472000" y="2492280"/>
            <a:ext cx="3672000" cy="33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Доктор, - молвила корова,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, наверно, нездор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чему-то всё болит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рогов и до копыт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Да-а, вам нужно подлечить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зу-ка вас в 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БОЛЬНИЦ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м попровитесь в два счё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пойдете на работу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3"/>
          <p:cNvSpPr/>
          <p:nvPr/>
        </p:nvSpPr>
        <p:spPr>
          <a:xfrm>
            <a:off x="357120" y="214200"/>
            <a:ext cx="8286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едлагаем Вашему малышу поиграть в «Больницу»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4"/>
          <p:cNvSpPr/>
          <p:nvPr/>
        </p:nvSpPr>
        <p:spPr>
          <a:xfrm>
            <a:off x="285840" y="1285920"/>
            <a:ext cx="3571920" cy="59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дложите малышу надеть повязку(она сейчас есть в каждом доме), дайте атрибуты для игры: бинт, шпатель для горла(можно ложечку, палочку от мороженого) и т.д, все что найдется в доме- главное безопасное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грушки-пациенты, а можете и сами принять участие! Удачи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https://thumbs.dreamstime.com/b/%D0%B4%D0%BE%D0%BA%D1%82%D0%BE%D1%80-%D0%BC%D0%B0-%D0%B5%D0%BD%D1%8C%D0%BA%D0%BE%D0%B9-%D0%B5%D0%B2%D0%BE%D1%87%D0%BA%D0%B8-%D0%BE%D0%B1%D1%80%D0%B0%D0%B1%D0%B0%D1%82%D1%8B%D0%B2%D0%B0%D0%B5%D1%82-%D0%B8%D1%85-%D0%B8%D0%B3%D1%80%D1%83%D1%88%D0%BA%D0%B8-79319246.jpg"/>
          <p:cNvPicPr/>
          <p:nvPr/>
        </p:nvPicPr>
        <p:blipFill>
          <a:blip r:embed="rId1"/>
          <a:stretch/>
        </p:blipFill>
        <p:spPr>
          <a:xfrm>
            <a:off x="4143240" y="1785960"/>
            <a:ext cx="450072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928800" y="2707920"/>
            <a:ext cx="8215200" cy="25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b050"/>
                </a:solidFill>
                <a:latin typeface="Arial"/>
              </a:rPr>
              <a:t>БУДЬТЕ ЗДОРОВЫ!!!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5T19:10:33Z</dcterms:created>
  <dc:creator>Alexsandr</dc:creator>
  <dc:description/>
  <dc:language>en-US</dc:language>
  <cp:lastModifiedBy>Computer</cp:lastModifiedBy>
  <dcterms:modified xsi:type="dcterms:W3CDTF">2020-04-09T06:44:38Z</dcterms:modified>
  <cp:revision>21</cp:revision>
  <dc:subject/>
  <dc:title>Слайд 1</dc:title>
</cp:coreProperties>
</file>